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22C-6D24-4EA9-9DB7-66790140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4F3-489C-4AF0-BE7B-E76F5803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50B2-13B6-4E34-90ED-CA5F6552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D22E-841E-4B97-80D9-EDB685AA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BD6D-1659-4638-B8F1-95BAEEE6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A05C-ED96-46BF-98FC-A5FF278F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E7D0-AAFF-477E-AB87-A84C6D4F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DE7B-FE84-4DA2-9440-44857564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914A-733D-4418-9514-5FBFBD69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2190-DA64-4300-AA76-9EAA855F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10F9-5DFA-4232-B633-78B0C758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6B44-901B-4B80-B128-C9F05718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44CA-C9CF-418E-82C5-E07ED8E8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7928-831D-480B-82CF-D0A64A42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C912-5B36-4BDB-ABA7-BEBBA481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008F-0F70-414F-AA93-F41F641A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4653-3FCD-4E27-9740-BE8031AC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C4A-84E2-478E-957E-36901890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76D-4622-4C26-AB09-C795A15D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E45-ADFA-4DBA-9147-C626E159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AF5D-9B47-4FA1-AA38-5465E891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C0AA-14F3-40AD-BC78-441DE22C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2402-C467-4ED8-B09F-C9FD23A7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AEF7-C2FD-4C88-803B-9F3354F8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CE1B-5EF8-4273-BE35-8428F77816B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5109-9108-4E1B-B8C4-0AB64DCB706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179280" y="1557360"/>
            <a:ext cx="496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.А. СТОЛЫП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162"/>
          <p:cNvPicPr/>
          <p:nvPr/>
        </p:nvPicPr>
        <p:blipFill>
          <a:blip r:embed="rId1"/>
          <a:stretch/>
        </p:blipFill>
        <p:spPr>
          <a:xfrm>
            <a:off x="5292720" y="476280"/>
            <a:ext cx="3446640" cy="540072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85840" y="4286160"/>
            <a:ext cx="492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МОУ СОШ №39 г.Саран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ашкина Светла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684360" y="620640"/>
            <a:ext cx="792000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арная реформа: ее цели, суть, на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проведения реформы и ее ит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гие реформы и планы Столып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 Государственной Ду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468360" y="549360"/>
            <a:ext cx="777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1280" y="333360"/>
            <a:ext cx="8064360" cy="63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НОЯБРЯ 1906 Г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 О РАЗРЕШЕНИИ ВЫХОДА КРЕСТЬЯН ИЗ ОБ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 РЕФОРМЫ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общины и формирование в деревне класса собствен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МЕРОПРИЯТ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общины, создание хуторов и отру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еленческая пол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84360" y="549360"/>
            <a:ext cx="79200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часток земли, выделенный крестьянину при выходе его из общины с переселением из деревни на свой учас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участок земли, выделенный крестьянину при выходе из общины с сохранением его двора в дерев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ъединение лиц некоторых профессий для совместной работы с участием в общих доходах и общей ответствен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ОПЕРАТИ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изводственная или торгово-закупочная организация, созданная для совместного ведения хозяйства несколькими участниками или организациями, а также для получения прибыли в интересах всех участников объеди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684360" y="404640"/>
            <a:ext cx="8064360" cy="57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И АГРАРНОЙ РЕФОР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ое расслоение крестья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олнение рядов рабочего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 посевных площадей, увеличение экспорта хлеба, закупок сельхозмаш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оение переселенцами более 30 млн. десятин пустующих земель в Сиби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рождение сельскохозяйственной ко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! Помещичья земля осталась нетрону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84360" y="549360"/>
            <a:ext cx="8064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7 апреля – 8 июля 1906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ь Думы - кадет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А.Муром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с"/>
          <p:cNvPicPr/>
          <p:nvPr/>
        </p:nvPicPr>
        <p:blipFill>
          <a:blip r:embed="rId1"/>
          <a:stretch/>
        </p:blipFill>
        <p:spPr>
          <a:xfrm>
            <a:off x="1481040" y="2637000"/>
            <a:ext cx="34257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539640" y="476280"/>
            <a:ext cx="813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февраля – 2 июня 1907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ь Думы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дет Ф.А.Голов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ф"/>
          <p:cNvPicPr/>
          <p:nvPr/>
        </p:nvPicPr>
        <p:blipFill>
          <a:blip r:embed="rId1"/>
          <a:stretch/>
        </p:blipFill>
        <p:spPr>
          <a:xfrm>
            <a:off x="611280" y="2060640"/>
            <a:ext cx="29829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50920" y="476280"/>
            <a:ext cx="889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июня 1907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новый избирательный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ноября 1907 – 9 июня 19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и Думы – октябр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А.Хомяков, А.И.Гучков, М.В.Родзя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хомяков н"/>
          <p:cNvPicPr/>
          <p:nvPr/>
        </p:nvPicPr>
        <p:blipFill>
          <a:blip r:embed="rId1"/>
          <a:stretch/>
        </p:blipFill>
        <p:spPr>
          <a:xfrm>
            <a:off x="1116000" y="4005360"/>
            <a:ext cx="166068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а"/>
          <p:cNvPicPr/>
          <p:nvPr/>
        </p:nvPicPr>
        <p:blipFill>
          <a:blip r:embed="rId2"/>
          <a:stretch/>
        </p:blipFill>
        <p:spPr>
          <a:xfrm>
            <a:off x="3708360" y="4005360"/>
            <a:ext cx="173376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родзянко м"/>
          <p:cNvPicPr/>
          <p:nvPr/>
        </p:nvPicPr>
        <p:blipFill>
          <a:blip r:embed="rId3"/>
          <a:stretch/>
        </p:blipFill>
        <p:spPr>
          <a:xfrm>
            <a:off x="6516720" y="3933720"/>
            <a:ext cx="16635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755640" y="692280"/>
            <a:ext cx="777708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6,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устный развернутый ответ на вопрос «Каковы цели, содержание и значение аграрной реформы П.А.Столыпина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ь задания в РТ к параграфам 6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 3, 5 после параграфа 7 у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9:40:10Z</dcterms:created>
  <dc:creator>Света</dc:creator>
  <dc:description/>
  <dc:language>en-US</dc:language>
  <cp:lastModifiedBy>Home</cp:lastModifiedBy>
  <dcterms:modified xsi:type="dcterms:W3CDTF">2012-02-26T07:21:36Z</dcterms:modified>
  <cp:revision>3</cp:revision>
  <dc:subject/>
  <dc:title>Слайд 1</dc:title>
</cp:coreProperties>
</file>