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768-A33C-4AA5-AA9D-05BE7829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496-DCB3-49B0-A1D3-A46932C1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660-21BE-4E12-8EBD-FA4306CA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AB5-A1F5-463D-BEFD-066914ED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A874-035D-4476-AC75-8F9CBCD1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6849-C74C-4D24-960F-511A5699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435F-237D-405A-992D-ADB820FB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DB60-9C77-437E-9690-39E98D65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44CF-361B-4A9F-AF88-10EE4DC0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C96C-C0CC-48B4-AC4B-49A6CAA5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7DD6-70B9-4529-B31C-B8D4AF19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2CA-EF82-40D0-8C01-6BEF4641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50C8-680B-4DFF-A3AF-48DF2812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CDF2-7BA3-4E09-8B47-44CF202F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60DB-AF55-4FA9-9AB3-F7DED64C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3486-A12E-443A-8B82-C4CF7786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215E-170D-44B3-AED8-AE61B0F0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D4C-1B39-4628-A85C-9913CA76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7E8-528C-4E37-9D35-C45BC46B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26E-F6C9-4AFA-807F-5188A84D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CD1-C652-4F9A-AA0B-80037857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8FA-FAD0-45B8-9111-F53A7865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B29-A5DB-4B3F-97B1-94D3CD1C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FCF-655C-44A1-88A9-AE24A776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801F-380F-4DA3-8870-A23C6B74961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0D9A-4833-4329-8D15-95913A09B32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79280" y="1557360"/>
            <a:ext cx="496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.А. СТОЛЫП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62"/>
          <p:cNvPicPr/>
          <p:nvPr/>
        </p:nvPicPr>
        <p:blipFill>
          <a:blip r:embed="rId1"/>
          <a:stretch/>
        </p:blipFill>
        <p:spPr>
          <a:xfrm>
            <a:off x="5292720" y="476280"/>
            <a:ext cx="344664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85840" y="428616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ОУ СОШ №39 г.Сара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шкин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84360" y="620640"/>
            <a:ext cx="792000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реформа: ее цели, суть, 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ведения реформы и ее ит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еформы и планы Столып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Государственной Ду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549360"/>
            <a:ext cx="777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333360"/>
            <a:ext cx="806436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НОЯБРЯ 1906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 О РАЗРЕШЕНИИ ВЫХОДА КРЕСТЬЯН ИЗ ОБ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Ы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 и формирование в деревне класса собстве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РОПРИ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, создание хуторов и отр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лен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549360"/>
            <a:ext cx="79200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ок земли, выделенный крестьянину при выходе его из общины с переселением из деревни на свой уча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часток земли, выделенный крестьянину при выходе из общины с сохранением его двора в дере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ъединение лиц некоторых профессий для совместной работы с участием в общих доходах и общей ответ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изводственная или торгово-закупочная организация, созданная для совместного ведения хозяйства несколькими участниками или организациями, а также для получения прибыли в интересах всех участников объ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4360" y="404640"/>
            <a:ext cx="806436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АГРАРНОЙ РЕФОР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е расслоение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рядов рабоче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посевных площадей, увеличение экспорта хлеба, закупок сельхозма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переселенцами более 30 млн. десятин пустующих земель в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ождение сельскохозяйственной ко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! Помещичья земля осталась нетрону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549360"/>
            <a:ext cx="806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 апреля – 8 июля 19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- кадет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А.Муром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"/>
          <p:cNvPicPr/>
          <p:nvPr/>
        </p:nvPicPr>
        <p:blipFill>
          <a:blip r:embed="rId1"/>
          <a:stretch/>
        </p:blipFill>
        <p:spPr>
          <a:xfrm>
            <a:off x="1481040" y="2637000"/>
            <a:ext cx="3425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9640" y="47628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февраля – 2 июня 190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дет Ф.А.Голо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ф"/>
          <p:cNvPicPr/>
          <p:nvPr/>
        </p:nvPicPr>
        <p:blipFill>
          <a:blip r:embed="rId1"/>
          <a:stretch/>
        </p:blipFill>
        <p:spPr>
          <a:xfrm>
            <a:off x="611280" y="2060640"/>
            <a:ext cx="2982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76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июня 1907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овый избирательны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ноября 1907 – 9 июня 19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и Думы – октябр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А.Хомяков, А.И.Гучков, М.В.Родзя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хомяков н"/>
          <p:cNvPicPr/>
          <p:nvPr/>
        </p:nvPicPr>
        <p:blipFill>
          <a:blip r:embed="rId1"/>
          <a:stretch/>
        </p:blipFill>
        <p:spPr>
          <a:xfrm>
            <a:off x="1116000" y="4005360"/>
            <a:ext cx="16606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а"/>
          <p:cNvPicPr/>
          <p:nvPr/>
        </p:nvPicPr>
        <p:blipFill>
          <a:blip r:embed="rId2"/>
          <a:stretch/>
        </p:blipFill>
        <p:spPr>
          <a:xfrm>
            <a:off x="3708360" y="4005360"/>
            <a:ext cx="17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одзянко м"/>
          <p:cNvPicPr/>
          <p:nvPr/>
        </p:nvPicPr>
        <p:blipFill>
          <a:blip r:embed="rId3"/>
          <a:stretch/>
        </p:blipFill>
        <p:spPr>
          <a:xfrm>
            <a:off x="6516720" y="3933720"/>
            <a:ext cx="1663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692280"/>
            <a:ext cx="7777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6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устный развернутый ответ на вопрос «Каковы цели, содержание и значение аграрной реформы П.А.Столыпин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задания в РТ к параграфам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3, 5 после параграфа 7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9:40:10Z</dcterms:created>
  <dc:creator>Света</dc:creator>
  <dc:description/>
  <dc:language>en-US</dc:language>
  <cp:lastModifiedBy>Home</cp:lastModifiedBy>
  <dcterms:modified xsi:type="dcterms:W3CDTF">2012-02-26T07:21:36Z</dcterms:modified>
  <cp:revision>3</cp:revision>
  <dc:subject/>
  <dc:title>Слайд 1</dc:title>
</cp:coreProperties>
</file>