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20F9-8122-4A00-ABD6-3EC0B099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DEA4-D163-4993-9AA9-E1668101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FFF1-2840-4599-8D19-2EBD7695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7D9C-1AFB-4409-A981-147403BE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E089-CF6F-4289-8D64-011F25FB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CF8B-252F-4F3F-96EB-8B4F702F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E12C-C4C2-4638-8516-441C6289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E98C-2E36-402A-95F3-83B9520C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5B3A-01EA-4662-B734-52576A0F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63F5-63EB-421B-B7C2-9745D273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BB4A-34B3-4F6D-9B21-1762A782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E5D-AB8A-43A4-BDFE-84617034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E790-C687-4BFA-91B4-9976EBD2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831C-82B5-4489-AE66-0FD7DD34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C6FB-445E-4CED-9289-D722AC70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51AD-667C-475A-9415-1975FFF3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A401-8DF4-40DC-8752-ECDA8FD6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223D5-C6F8-41D7-BE8F-441DA167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38B40-0558-4845-91DD-33157C10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DAD53-368A-4FE3-AAD2-BF8C13B2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487BC-00D2-491D-835B-2A05B016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36436-C333-4719-9297-ED01DD78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36A-B27F-43E6-82A3-CBF51B77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3A452-1B34-4CA0-B3E2-DA04DA8E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1A6E7-A283-4DF8-A26A-356E7590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50ECC-1524-41D5-89B9-9CFD15F4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51029-6F6C-4706-AD8F-844F1AF1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A80D1-54AC-4189-B94F-C4591106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C31FF-DEC7-487F-A2AC-172E4015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D41DD-6CC3-4267-ACA0-FABB2322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8830B-8190-40B9-B7D6-9624AEE4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92567-F8D8-4FFB-BC69-91F69D08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E8B57-24D5-48B6-A10A-C24D9792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4AB2-2E04-4412-8979-C82D84E2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16568-87CA-41BB-97B6-A40904A3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39335-5719-4A1D-A8CB-ED37F33D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9950D-AF3A-4CF6-ABFC-9D6AC435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C52E9-E761-4998-8491-E932FC69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13544-152D-4337-8835-753C5063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6F54B-58D7-405E-B154-7565BCFC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2320E-E6CC-4C1E-A11F-D79CAD93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3B13D-0834-4A1D-AA77-F748A47F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8BA3D-07CE-4CBE-BE13-784FE0B4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1DB18-DBFE-4C26-8183-039ADFFE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09F8-A6DA-4053-A41A-2911B51D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B9AD6-559D-4104-B9C0-54B5A943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8EFB4-22A3-4D3C-885D-B826781F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418D9-B0D1-461E-B576-B6CE6883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3792F-FF95-4781-B3FA-4ECB057C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B635B-A2EB-49B6-BBF5-DB975A89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8612E-B8D7-438B-BC83-C68E5315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41A74-BC5B-4F00-B671-A1DB705F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1CD98-B52A-4AF8-852B-5EB51EEF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2458F-9657-4868-8449-5F51EC89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3EFDA-FABE-42E6-94A3-3ECA7F94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33A-A94F-4661-88AD-60B6EB5D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8394C-BC27-44EB-98EE-13BEC2D7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4FB0-DB6A-4534-A9FB-3E4869E2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B3E8-F07E-4BDF-BDA0-515EBC6A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AB91-449D-4A59-A43C-6F1BA0B4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B74D-333A-44FF-B61B-70FFADC2032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8850-0B9F-4018-AECC-7D4CD9FCC99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D345-6F98-4B49-B802-4311DD23657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A259-C575-483E-AAAA-080AFC12EE1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0027-99AB-45AC-BC22-1C1DC5F35A1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428760" y="1785960"/>
            <a:ext cx="850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74d26"/>
                </a:solidFill>
                <a:latin typeface="Arial"/>
              </a:rPr>
              <a:t>НИКОЛАЕВСКАЯ РОСС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2428920" y="485784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Учитель истории и обществознания МОУ СОШ №39 гор.Саранска Республики Морд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Барашкина Светла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928800" y="785880"/>
            <a:ext cx="742932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СОЦИАЛЬНО-ЭКОНОМИЧЕСКОЕ РАЗВИТИЕ РОССИИ В НАЧАЛЕ </a:t>
            </a: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Российская империя была ….. Страной, так как большую часть населения составляли ….. . В стране существовала сложившаяся ранее феодально-крепостническая система землевладения, при которой собственниками земли являлись ….., а работали ….. крестьяне, находившиеся в полной собственности ….. . За пользование землей крестьяне несли повинности: платили ….. и отрабатывали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районная специализация сельского хозяйства. Появляются крестьяне- ….. , временно уходившие на заработки в город или на сельскохозяйственные работы. Отходничество было более развито в ….. губерниях.  Главной повинностью крепостных крестьян, уходивших на заработки, был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также расслоение крестьянства. Из крестьянской среды выделяются так называемые ….. крестьяне,  которые занимались предприним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первой половине </a:t>
            </a:r>
            <a:r>
              <a:rPr b="0" lang="en-US" sz="16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 века феодально-крепостническая система вступает в стадию разложения и появляются элементы капиталистической системы. ….. , ….. крестьянства свидетельствуют о разложении феод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1785960" y="928800"/>
            <a:ext cx="600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10, 11, ВОПРОС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1071720" y="857160"/>
            <a:ext cx="735804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Личность Николая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Начало нового царств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Кодификация зако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Строгость политического режима –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I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 Отделение и цензу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пытка решения крестьянского воп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N1"/>
          <p:cNvPicPr/>
          <p:nvPr/>
        </p:nvPicPr>
        <p:blipFill>
          <a:blip r:embed="rId1"/>
          <a:stretch/>
        </p:blipFill>
        <p:spPr>
          <a:xfrm>
            <a:off x="755640" y="549360"/>
            <a:ext cx="4191120" cy="58323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5286240" y="1071720"/>
            <a:ext cx="35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НИКОЛАЙ </a:t>
            </a:r>
            <a:r>
              <a:rPr b="0" lang="en-US" sz="40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 – 1825 - 18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5286240" y="2786040"/>
            <a:ext cx="3429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743a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674d26"/>
                </a:solidFill>
                <a:latin typeface="Arial"/>
              </a:rPr>
              <a:t>АПОГЕЙ САМОДЕРЖАВИЯ» – наиболее полное проявление абсолютизма, неограниченной власти монарха во всех сферах общественной и политической жизни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1071720" y="785880"/>
            <a:ext cx="72864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РЯДОК, КОТОРЫЙ ДОЛЖЕН БЫТЬ УСТАНОВЛЕН В СТРАН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строгая централизация, т.е. подчинение одному цент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полное единоначалие на всех уровнях упр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безоговорочное подчинение низших выс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642960" y="785880"/>
            <a:ext cx="792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РОТИВОРЕЧИВОСТЬ В ПОЛИТИКЕ НИКОЛАЯ </a:t>
            </a:r>
            <a:r>
              <a:rPr b="0" lang="en-US" sz="3200" spc="-1" strike="noStrike">
                <a:solidFill>
                  <a:srgbClr val="674d26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стоянная борьба с революционным движением, гонения на все передовое  и прогрессивное в стр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пытка проведения мероприятий, которые искоренили бы недостатки существующей системы и решили наиболее острые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4"/>
          <p:cNvSpPr/>
          <p:nvPr/>
        </p:nvSpPr>
        <p:spPr>
          <a:xfrm>
            <a:off x="2571840" y="642960"/>
            <a:ext cx="3714840" cy="16430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бственная Его Императорского Величества Канцеля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5"/>
          <p:cNvSpPr/>
          <p:nvPr/>
        </p:nvSpPr>
        <p:spPr>
          <a:xfrm flipV="1" rot="10800000">
            <a:off x="857160" y="3143160"/>
            <a:ext cx="1857600" cy="25005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Представляло царю поступающие на его имя бумаги и исполняло его личные поручен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3643200" y="3143160"/>
            <a:ext cx="185760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Создано в 1826 г. Во главе – М.М.Сперанский. Занималось кодификацией законов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6286680" y="3143160"/>
            <a:ext cx="185724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Орган политического сыска и контроля за умонастроениям. Во главе – А.Х.Бенкендо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трелка вниз 9"/>
          <p:cNvSpPr/>
          <p:nvPr/>
        </p:nvSpPr>
        <p:spPr>
          <a:xfrm rot="2473800">
            <a:off x="1934640" y="2168640"/>
            <a:ext cx="484200" cy="10540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трелка вниз 10"/>
          <p:cNvSpPr/>
          <p:nvPr/>
        </p:nvSpPr>
        <p:spPr>
          <a:xfrm>
            <a:off x="4357800" y="2286000"/>
            <a:ext cx="484200" cy="835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трелка вниз 11"/>
          <p:cNvSpPr/>
          <p:nvPr/>
        </p:nvSpPr>
        <p:spPr>
          <a:xfrm rot="19457400">
            <a:off x="635796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571680" y="857160"/>
            <a:ext cx="8072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ЦЕНЗУРА – система государственного надзора за печатью, проверка материалов, готовящихся к публ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1826 г. – «Устав о цензуре», названный «чугунны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428760" y="64296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.Д.КИСЕЛЕВУ поручена подготовка реформы государственной деревни. Для этого было созд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Отделение Собственной его императорского величества канцеля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ЦЕЛИ РЕФОРМЫ ГОСУДАРСТВЕННЫХ КРЕСТЬЯ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овысить уровень жизни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Обеспечить исправную уплату налогов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Дать помещикам пример возможного улучшения жизни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571680" y="857160"/>
            <a:ext cx="8001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РЕФОРМА ГОСУДАРСТВЕННОЙ ДЕРЕВНИ ПРЕДУСМАТРИВ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пределять размеры оброка с учетом доходности крестьянского над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для устранения малоземелья часть крестьян переселили в менее населенные местности; другим давали зем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о избежание голода, на случай неурожая создавалась так называемая «общественная запашка» – участок земли, на котором работали все крестьяне данной общины; урожай с него хранили на случай гол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 государственных деревнях открывались школы; к 1854 г. Было открыто 26 тыс. школ со 110 тыс. учащими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ткрывались медицинские и ветеринарные пун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09:34:10Z</dcterms:created>
  <dc:creator>Светлана</dc:creator>
  <dc:description/>
  <dc:language>en-US</dc:language>
  <cp:lastModifiedBy>Home</cp:lastModifiedBy>
  <dcterms:modified xsi:type="dcterms:W3CDTF">2012-02-26T07:06:36Z</dcterms:modified>
  <cp:revision>42</cp:revision>
  <dc:subject/>
  <dc:title>Слайд 1</dc:title>
</cp:coreProperties>
</file>