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98F-AB15-4E28-B675-90E3C387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99B-60B6-4C9E-B009-1F8E568E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251-B8AD-4ADE-8ED6-23841F53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4AB-D4CA-4C97-A963-B6ED19A2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043D-87C7-4E4C-9945-9946F7F4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ACA0-007F-4845-8466-F1B3A87D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D34D-41AF-4291-9988-51CCB147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79B6-889C-4A48-AFD8-A2AEE392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5D2A-4844-4E6B-8347-D7DA8613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E8AF-7334-460C-9CCE-653A3C3B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DAA9-6214-45AE-A99E-E635AF51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602-6CF3-45A7-B3C6-DFD0908E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3BB9-5171-4BCE-A274-B71C2B87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BF54-DF4E-4633-9A31-0A32BB42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FA5F-4731-405D-A2B7-FB477EC1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B808-3958-4047-B76B-14389686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FCF0-01E6-46F7-BB73-E33306BE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AA544-9EB3-4639-B2A1-9A33E184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221C7-B80D-43E2-B52D-5C31F02D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D0995-8A36-4AD0-902F-D92DA766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3DA98-18D3-43DA-B79A-AE9D5073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306FD-BBF5-4BFA-81A6-418C5E6E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440-C330-4E66-805A-3C05676D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EC2A6-A015-40C1-9C36-F865B210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5C825-2E3E-4534-A87B-558BD104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DB9DB-7855-4CF5-B89D-E140A2D7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75BBB-AA8E-48BD-AFF8-AC7FCF12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EB51B-60C3-46DF-9755-085BC0FE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29921-386E-45A1-AC62-657FA6E6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866AB-AB7B-4F69-8545-66881652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45A24-5FC5-42E1-9A8C-10EFB8E6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4C7D6-9589-47E7-BAD4-BA19504C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B6709-932E-409A-AEE5-4C8416CD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1AA5-7BAD-477A-AC11-AD5A3DF5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FBF0A-AF0D-43BA-A0EF-E1C96D6D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A82C2-A7A9-46FD-8333-D5BCB5A8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E7593-C5CC-4B5F-8196-C078722B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A87FB-AB60-4CAC-B2F2-0E447C3D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DFA55-5318-45D7-852D-06E9A955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82335-33C5-4170-BB2D-70A9A55B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4B8E2-D30B-4664-A8E6-50887348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812D3-BD36-47D4-A122-A296FA7D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DD9BF-C349-4D5C-81D6-DB1CC5B9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9D684-6817-48CC-BFA1-5B1415C8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775-BB99-4689-8511-03D941E2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1172B-204A-4440-80B6-FD80059F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95249-4E1E-4125-B530-415ED6B7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257B7-CDAA-4339-85B8-F9E45038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6A2FB-FE29-4375-9BE7-A3B4250D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FE1C6-A214-4BC8-BFE7-B4EC1CDC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20D2F-E2D7-4BD3-80F6-2BE12DDC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82D7B-AC4A-40FD-A3AC-1F134F1C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80E72-A311-4E48-8D02-76F8757C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3FFCF-0093-47C5-A811-79C477E5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3DD20-9AFA-4C29-BDDE-38E4C50E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22C8-F17E-40D1-BA4B-456B12D3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C5523-8024-412E-85D6-B406F7A2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EAA-FC60-46BC-A28D-882EF19E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14B-5513-4D4D-ADD9-5BE55B13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D88-69B8-413A-B5AB-74D9ED11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3D29-9613-4A29-99CC-08AF89EAFC7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C2FA-F61E-40C0-92A1-8579F81B647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9D12-B0F7-4FA2-9E0E-276655E5CC2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0409-CD3A-4CDB-8CAD-0C584894CD5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9940-19B4-4F43-8535-648ABAD64EC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428760" y="178596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74d26"/>
                </a:solidFill>
                <a:latin typeface="Arial"/>
              </a:rPr>
              <a:t>НИКОЛАЕВСКАЯ РОСС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2428920" y="485784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Учитель истории и обществознания МОУ СОШ №39 гор.Саранска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Барашкина Светла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928800" y="785880"/>
            <a:ext cx="742932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СОЦИАЛЬНО-ЭКОНОМИЧЕСКОЕ РАЗВИТИЕ РОССИИ В НАЧАЛЕ </a:t>
            </a: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Российская империя была ….. Страной, так как большую часть населения составляли ….. . В стране существовала сложившаяся ранее феодально-крепостническая система землевладения, при которой собственниками земли являлись ….., а работали ….. крестьяне, находившиеся в полной собственности ….. . За пользование землей крестьяне несли повинности: платили ….. и отрабатывали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районная специализация сельского хозяйства. Появляются крестьяне- ….. , временно уходившие на заработки в город или на сельскохозяйственные работы. Отходничество было более развито в ….. губерниях.  Главной повинностью крепостных крестьян, уходивших на заработки, был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также расслоение крестьянства. Из крестьянской среды выделяются так называемые ….. крестьяне,  которые занимались предприним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первой половине </a:t>
            </a:r>
            <a:r>
              <a:rPr b="0" lang="en-US" sz="16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 века феодально-крепостническая система вступает в стадию разложения и появляются элементы капиталистической системы. ….. , ….. крестьянства свидетельствуют о разложении феод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1785960" y="92880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10, 11, ВОПРОС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1071720" y="857160"/>
            <a:ext cx="735804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Личность Николая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Начало нового царств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Кодификация зако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Строгость политического режима –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 Отделение и цензу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пытка решения крестьянского во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N1"/>
          <p:cNvPicPr/>
          <p:nvPr/>
        </p:nvPicPr>
        <p:blipFill>
          <a:blip r:embed="rId1"/>
          <a:stretch/>
        </p:blipFill>
        <p:spPr>
          <a:xfrm>
            <a:off x="755640" y="549360"/>
            <a:ext cx="4191120" cy="5832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286240" y="1071720"/>
            <a:ext cx="35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НИКОЛАЙ </a:t>
            </a:r>
            <a:r>
              <a:rPr b="0" lang="en-US" sz="40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 – 1825 - 18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5286240" y="2786040"/>
            <a:ext cx="3429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743a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674d26"/>
                </a:solidFill>
                <a:latin typeface="Arial"/>
              </a:rPr>
              <a:t>АПОГЕЙ САМОДЕРЖАВИЯ» – наиболее полное проявление абсолютизма, неограниченной власти монарха во всех сферах общественной и политической жизни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071720" y="785880"/>
            <a:ext cx="7286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РЯДОК, КОТОРЫЙ ДОЛЖЕН БЫТЬ УСТАНОВЛЕН В СТРАН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строгая централизация, т.е. подчинение одному цент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полное единоначалие на всех уровнях 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безоговорочное подчинение низших выс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642960" y="785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РОТИВОРЕЧИВОСТЬ В ПОЛИТИКЕ НИКОЛАЯ </a:t>
            </a:r>
            <a:r>
              <a:rPr b="0" lang="en-US" sz="3200" spc="-1" strike="noStrike">
                <a:solidFill>
                  <a:srgbClr val="674d26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стоянная борьба с революционным движением, гонения на все передовое  и прогрессивное в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пытка проведения мероприятий, которые искоренили бы недостатки существующей системы и решили наиболее острые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4"/>
          <p:cNvSpPr/>
          <p:nvPr/>
        </p:nvSpPr>
        <p:spPr>
          <a:xfrm>
            <a:off x="2571840" y="642960"/>
            <a:ext cx="3714840" cy="1643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бственная Его Императорского Величества Канцеля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 flipV="1" rot="10800000">
            <a:off x="857160" y="3143160"/>
            <a:ext cx="1857600" cy="25005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Представляло царю поступающие на его имя бумаги и исполняло его личные поручен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3643200" y="3143160"/>
            <a:ext cx="185760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Создано в 1826 г. Во главе – М.М.Сперанский. Занималось кодификацией законов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6286680" y="3143160"/>
            <a:ext cx="185724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Орган политического сыска и контроля за умонастроениям. Во главе – А.Х.Бенкендо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трелка вниз 9"/>
          <p:cNvSpPr/>
          <p:nvPr/>
        </p:nvSpPr>
        <p:spPr>
          <a:xfrm rot="2473800">
            <a:off x="1934640" y="2168640"/>
            <a:ext cx="484200" cy="10540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низ 10"/>
          <p:cNvSpPr/>
          <p:nvPr/>
        </p:nvSpPr>
        <p:spPr>
          <a:xfrm>
            <a:off x="4357800" y="2286000"/>
            <a:ext cx="484200" cy="835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низ 11"/>
          <p:cNvSpPr/>
          <p:nvPr/>
        </p:nvSpPr>
        <p:spPr>
          <a:xfrm rot="19457400">
            <a:off x="635796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571680" y="85716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ЦЕНЗУРА – система государственного надзора за печатью, проверка материалов, готовящихся к публ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1826 г. – «Устав о цензуре», названный «чугун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428760" y="64296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.Д.КИСЕЛЕВУ поручена подготовка реформы государственной деревни. Для этого было созд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Отделение Собственной его императорского величества канцеля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ЦЕЛИ РЕФОРМЫ ГОСУДАРСТВЕННЫХ КРЕСТЬЯ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овысить уровень жизни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Обеспечить исправную уплату налогов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Дать помещикам пример возможного улучшения жизни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571680" y="857160"/>
            <a:ext cx="8001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РЕФОРМА ГОСУДАРСТВЕННОЙ ДЕРЕВНИ ПРЕДУСМАТРИ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пределять размеры оброка с учетом доходности крестьянского над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для устранения малоземелья часть крестьян переселили в менее населенные местности; другим давали зем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о избежание голода, на случай неурожая создавалась так называемая «общественная запашка» – участок земли, на котором работали все крестьяне данной общины; урожай с него хранили на случай гол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 государственных деревнях открывались школы; к 1854 г. Было открыто 26 тыс. школ со 110 тыс.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ткрывались медицинские и ветеринарные пун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9:34:10Z</dcterms:created>
  <dc:creator>Светлана</dc:creator>
  <dc:description/>
  <dc:language>en-US</dc:language>
  <cp:lastModifiedBy>Home</cp:lastModifiedBy>
  <dcterms:modified xsi:type="dcterms:W3CDTF">2012-02-26T07:06:36Z</dcterms:modified>
  <cp:revision>42</cp:revision>
  <dc:subject/>
  <dc:title>Слайд 1</dc:title>
</cp:coreProperties>
</file>