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2853-A8C6-4CAE-94D8-B2875CC2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2D82-CA00-4A82-88DF-447AD8ED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5D95-BF36-4547-BC7A-C8680EDC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E5D-0CEF-4AB9-AB06-8A2E5038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25EE-DFDB-4763-B1F2-17ADD1A8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2442-8691-4E82-9040-6A9992EE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6DA3-B297-4D50-AE8B-879CAD67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04F7-D446-487D-B3F5-E311A492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4986-F47E-422D-854D-77614E69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9150-5848-4F92-87FC-0F7DADDD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D6C3-58AB-45C9-8A3A-C2E56AE4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BCE-B454-476C-8311-589CB82C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ABD5-8484-49D3-930C-F55EADC7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79DC-AF58-4943-AA4B-AEB26BF8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9079-A3D8-441D-99DF-D848EDDF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2633-024E-4BB6-8E14-0CA2524C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9D90-8F70-41BF-A676-1134D21F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988BE-C8F8-467F-ACDC-6DE83D02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49CB2-57D8-4468-803A-718071EB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66BB3-15BF-452A-9C5B-F4B746BC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5998E-FA84-4B64-93D8-DDF66C9B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E630E-D7AA-42C6-914A-A29CB28A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C0F-8B5A-4F65-8710-94973F7B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3D86D-D3BA-4963-9EE3-AAEE1952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8A5E8-2043-48C9-99C4-58FC3590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141AF-0FC7-44AD-831E-66977542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71EE4-6BC7-4E28-9BD7-D5FB18D7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DE3ED-128A-428B-9EB5-1D2000CB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606C1-61FC-4115-9B53-D5086C73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5F13B-7FDF-4954-A132-3BBAD65A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F2A46-6FC0-4C7E-BB59-B2886171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087C3-94D6-468A-9ECB-FD06DE2C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4E12A-5FD3-4F94-88DB-3EB17FDE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F7FD-2F3C-4040-B29F-D185367C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258EA-E6A1-4BD1-BA40-CE89873B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DA02D-8FDA-40D4-8A68-03A34FAA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9F9B2-7A9F-4E24-A6DF-DF86A234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7F8A6-7A56-42B4-90BF-DF95F897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DADF5-70AB-4E9B-8FE8-D4C0266D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E4F46-6B29-4C93-B637-7C0985E7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8DA36-C16A-4DD9-B97A-1BF48458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8E257-9113-4869-8C60-D796C9B1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4C897-8003-4903-9BF7-09785DC5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2296E-358A-4755-A660-6B053E9C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26DA-2CAB-48A8-A949-B690B068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92AD0-502B-4678-AB9E-65E71247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6AA7F-6E83-4E55-A646-4B7DE0FA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97E93-8642-43E1-8A95-DCE286C4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C6C18-186B-4CD3-8BBC-74F1A082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D6A51-C778-4DD2-A944-74565504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57521-150E-4751-9C2D-495EF54E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B56C5-E546-44C1-843D-EE3300A8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424E7-B003-420C-8BF0-1D99D6A3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342B8-6BBA-4ED7-95DF-071FA9C0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13FE3-E3A6-4C97-A09A-BE0E633E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B297-F130-4F88-8938-3C2056A7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BEC84-51FC-4468-9C07-97698139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D2AE-07D2-4DB1-A81A-E44CBFBD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A91-9969-4377-BABB-D6EF3FCC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6D98-9D87-488B-8950-B8F5BF2D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D08E-6EA8-4DEA-9C8A-2BF60DB9C03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E358-695F-47C0-917B-3502CA21838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BC1D-5305-4842-9A52-1FE69218392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F963-95EF-4E56-8366-0B2BC74ADA2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AF83-A0C8-45A0-842C-720506CEDB3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428760" y="1785960"/>
            <a:ext cx="850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74d26"/>
                </a:solidFill>
                <a:latin typeface="Arial"/>
              </a:rPr>
              <a:t>НИКОЛАЕВСКАЯ РОСС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2428920" y="485784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Учитель истории и обществознания МОУ СОШ №39 гор.Саранска Республики Морд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Барашкина Светла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928800" y="785880"/>
            <a:ext cx="742932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СОЦИАЛЬНО-ЭКОНОМИЧЕСКОЕ РАЗВИТИЕ РОССИИ В НАЧАЛЕ </a:t>
            </a: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Российская империя была ….. Страной, так как большую часть населения составляли ….. . В стране существовала сложившаяся ранее феодально-крепостническая система землевладения, при которой собственниками земли являлись ….., а работали ….. крестьяне, находившиеся в полной собственности ….. . За пользование землей крестьяне несли повинности: платили ….. и отрабатывали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районная специализация сельского хозяйства. Появляются крестьяне- ….. , временно уходившие на заработки в город или на сельскохозяйственные работы. Отходничество было более развито в ….. губерниях.  Главной повинностью крепостных крестьян, уходивших на заработки, был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также расслоение крестьянства. Из крестьянской среды выделяются так называемые ….. крестьяне,  которые занимались предприниматель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первой половине </a:t>
            </a:r>
            <a:r>
              <a:rPr b="0" lang="en-US" sz="16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 века феодально-крепостническая система вступает в стадию разложения и появляются элементы капиталистической системы. ….. , ….. крестьянства свидетельствуют о разложении феод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1785960" y="928800"/>
            <a:ext cx="600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Ы 10, 11, ВОПРОС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1071720" y="857160"/>
            <a:ext cx="735804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Личность Николая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Начало нового царств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Кодификация зако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Строгость политического режима –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I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 Отделение и цензу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пытка решения крестьянского воп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N1"/>
          <p:cNvPicPr/>
          <p:nvPr/>
        </p:nvPicPr>
        <p:blipFill>
          <a:blip r:embed="rId1"/>
          <a:stretch/>
        </p:blipFill>
        <p:spPr>
          <a:xfrm>
            <a:off x="755640" y="549360"/>
            <a:ext cx="4191120" cy="58323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5286240" y="1071720"/>
            <a:ext cx="350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НИКОЛАЙ </a:t>
            </a:r>
            <a:r>
              <a:rPr b="0" lang="en-US" sz="40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 – 1825 - 18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5286240" y="2786040"/>
            <a:ext cx="3429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743a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674d26"/>
                </a:solidFill>
                <a:latin typeface="Arial"/>
              </a:rPr>
              <a:t>АПОГЕЙ САМОДЕРЖАВИЯ» – наиболее полное проявление абсолютизма, неограниченной власти монарха во всех сферах общественной и политической жизни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1071720" y="785880"/>
            <a:ext cx="728640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РЯДОК, КОТОРЫЙ ДОЛЖЕН БЫТЬ УСТАНОВЛЕН В СТРАН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строгая централизация, т.е. подчинение одному цент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полное единоначалие на всех уровнях управ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безоговорочное подчинение низших выс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642960" y="785880"/>
            <a:ext cx="792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РОТИВОРЕЧИВОСТЬ В ПОЛИТИКЕ НИКОЛАЯ </a:t>
            </a:r>
            <a:r>
              <a:rPr b="0" lang="en-US" sz="3200" spc="-1" strike="noStrike">
                <a:solidFill>
                  <a:srgbClr val="674d26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стоянная борьба с революционным движением, гонения на все передовое  и прогрессивное в стра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пытка проведения мероприятий, которые искоренили бы недостатки существующей системы и решили наиболее острые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4"/>
          <p:cNvSpPr/>
          <p:nvPr/>
        </p:nvSpPr>
        <p:spPr>
          <a:xfrm>
            <a:off x="2571840" y="642960"/>
            <a:ext cx="3714840" cy="16430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бственная Его Императорского Величества Канцеля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5"/>
          <p:cNvSpPr/>
          <p:nvPr/>
        </p:nvSpPr>
        <p:spPr>
          <a:xfrm flipV="1" rot="10800000">
            <a:off x="857160" y="3143160"/>
            <a:ext cx="1857600" cy="25005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Представляло царю поступающие на его имя бумаги и исполняло его личные поручен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3643200" y="3143160"/>
            <a:ext cx="185760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Создано в 1826 г. Во главе – М.М.Сперанский. Занималось кодификацией законов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7"/>
          <p:cNvSpPr/>
          <p:nvPr/>
        </p:nvSpPr>
        <p:spPr>
          <a:xfrm>
            <a:off x="6286680" y="3143160"/>
            <a:ext cx="185724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Орган политического сыска и контроля за умонастроениям. Во главе – А.Х.Бенкендо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трелка вниз 9"/>
          <p:cNvSpPr/>
          <p:nvPr/>
        </p:nvSpPr>
        <p:spPr>
          <a:xfrm rot="2473800">
            <a:off x="1934640" y="2168640"/>
            <a:ext cx="484200" cy="105408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трелка вниз 10"/>
          <p:cNvSpPr/>
          <p:nvPr/>
        </p:nvSpPr>
        <p:spPr>
          <a:xfrm>
            <a:off x="4357800" y="2286000"/>
            <a:ext cx="484200" cy="835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трелка вниз 11"/>
          <p:cNvSpPr/>
          <p:nvPr/>
        </p:nvSpPr>
        <p:spPr>
          <a:xfrm rot="19457400">
            <a:off x="6357960" y="22147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571680" y="857160"/>
            <a:ext cx="8072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ЦЕНЗУРА – система государственного надзора за печатью, проверка материалов, готовящихся к публ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1826 г. – «Устав о цензуре», названный «чугунны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428760" y="64296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.Д.КИСЕЛЕВУ поручена подготовка реформы государственной деревни. Для этого было созд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Отделение Собственной его императорского величества канцеля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ЦЕЛИ РЕФОРМЫ ГОСУДАРСТВЕННЫХ КРЕСТЬЯ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овысить уровень жизни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Обеспечить исправную уплату налогов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Дать помещикам пример возможного улучшения жизни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571680" y="857160"/>
            <a:ext cx="80010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РЕФОРМА ГОСУДАРСТВЕННОЙ ДЕРЕВНИ ПРЕДУСМАТРИВ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пределять размеры оброка с учетом доходности крестьянского над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для устранения малоземелья часть крестьян переселили в менее населенные местности; другим давали земл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о избежание голода, на случай неурожая создавалась так называемая «общественная запашка» – участок земли, на котором работали все крестьяне данной общины; урожай с него хранили на случай гол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 государственных деревнях открывались школы; к 1854 г. Было открыто 26 тыс. школ со 110 тыс. учащими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ткрывались медицинские и ветеринарные пун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09:34:10Z</dcterms:created>
  <dc:creator>Светлана</dc:creator>
  <dc:description/>
  <dc:language>en-US</dc:language>
  <cp:lastModifiedBy>Home</cp:lastModifiedBy>
  <dcterms:modified xsi:type="dcterms:W3CDTF">2012-02-26T07:06:36Z</dcterms:modified>
  <cp:revision>42</cp:revision>
  <dc:subject/>
  <dc:title>Слайд 1</dc:title>
</cp:coreProperties>
</file>