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962A-9D52-4286-A03A-0FCA5AAAC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3DD0-21D7-4EDA-AEDB-4E796D041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5308-C151-41F6-B064-CF43F09F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A04-38D4-4A7D-9DE4-8E20D67E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4F41-7383-4D24-9DB5-C8A08E53D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654B-4B10-4C0C-B478-6AFB410D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7EBD-96AD-4F0F-86B0-85EED260C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59B5-4C4D-44DE-8C1C-80F36C51B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02D4-1A54-438A-9D75-4DC4B1CB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163D-850F-450A-BBDC-80F9233C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0DB5-487B-4039-AD4A-21DF80F0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CC68-67D2-440F-B66B-B47BD8D1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65D5-6E4F-4124-A0B3-00655D50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26175-6D06-486D-A7F8-64F2E207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053E6-D0BA-4089-A549-1520EF34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426A-6C87-467E-B242-8C869F43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A5DA8-A5E0-45D2-84BC-6A03FD58D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16248-4DA4-4EC1-93DD-6DB6D908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BE868-227C-49D9-A525-4A7F24EB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FEB0F-941D-41F6-8B7C-D18A51AF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075C1-0C86-4968-B2EE-406C8CA5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691BD-A0F0-402B-B31F-99597B23A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563-E56B-4118-BD9B-405A5505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A72A7-CDBC-433F-990F-36C3FD07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DC2D7-EDE1-4A16-B2C9-A8C6EF1B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11212-3449-4E73-BFD0-A60CE180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E2B77-B67E-4F42-A6FF-BA6012BF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E30F6-5A02-4AB4-8EEC-3EF09A14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6A20C-D758-4C1C-9F43-BC6C16C1B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50B70-CC74-4B0F-8A55-393966FE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877D8-FF30-4A00-8793-FB199670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C34B0-9E25-4028-AAD0-30E3D1EF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CED74-89C0-47D6-B69B-5520DD43F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7F6-EA7C-44E6-9E94-F49F458E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EA8F4-097C-4C0A-B1F4-2730D40F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8A062-CEEB-4288-B609-680E6FCB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9D3CD-2B5C-4B7D-AEB0-C8E72BD3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84EC11-7415-413C-AACA-52ADB483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CEAB6-3117-4816-BAB1-C1EF0C4E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90215-91A4-4C45-AE83-E9F6EA9D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CB831-382E-4199-A971-E279C5CA2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966D9-BAB2-432B-A4D6-E0B4A55B1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4BB459-C995-4690-ACC5-A12CE44D4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FDC03-3BFF-443E-8976-5F1467E9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2F9E-38BD-4D03-8453-1ADD421D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E6F14-A5ED-4AD9-ACA3-FF5BA7741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D1F6E-B0CA-4983-A4A4-1FFDC192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43E14-82CD-4F22-9DD4-8EDC34085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01071-CD39-41AC-8CBF-7A02FF4F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C5819-D934-4655-8635-A5B48DDD2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53BAA-21D2-401F-8AD8-9960973E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091AF-EF61-4DD0-9731-1E4B2E7F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70A09-CB83-4649-8586-60632B78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915C7-C91C-4415-B1FF-159108D7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348C7B-E463-4DA5-B863-E7ECE8409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E173-4C59-4B93-8C8A-B56F1926B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6E13A7-9120-4245-812D-2B8B0B0BE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B9A4-2001-4470-8455-3C52DCCF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5FD1-EF75-4788-BDB4-13E8245C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59B-5EEF-439B-BFCC-44E5B9146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149D-42C7-4B1D-B707-BFA9FCF4B8C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1632-06DB-4464-9478-E0C5D3FC572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2DDA-2500-4CCF-8BAD-A65609422C9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1B92-D65A-4A4B-9747-A6F381D47C70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EB7D-61AC-4871-B13B-1D94B8F018B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428760" y="178596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74d26"/>
                </a:solidFill>
                <a:latin typeface="Arial"/>
              </a:rPr>
              <a:t>НИКОЛАЕВСКАЯ РОС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2428920" y="48578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Учитель истории и обществознания МОУ СОШ №39 гор.Саранск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Барашкина Светл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928800" y="785880"/>
            <a:ext cx="742932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СОЦИАЛЬНО-ЭКОНОМИЧЕСКОЕ РАЗВИТИЕ РОССИИ В НАЧАЛЕ </a:t>
            </a: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Российская империя была ….. Страной, так как большую часть населения составляли ….. . В стране существовала сложившаяся ранее феодально-крепостническая система землевладения, при которой собственниками земли являлись ….., а работали ….. крестьяне, находившиеся в полной собственности ….. . За пользование землей крестьяне несли повинности: платили ….. и отрабатывали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районная специализация сельского хозяйства. Появляются крестьяне- ….. , временно уходившие на заработки в город или на сельскохозяйственные работы. Отходничество было более развито в ….. губерниях.  Главной повинностью крепостных крестьян, уходивших на заработки, был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также расслоение крестьянства. Из крестьянской среды выделяются так называемые ….. крестьяне,  которые занимались предприним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первой половине </a:t>
            </a:r>
            <a:r>
              <a:rPr b="0" lang="en-US" sz="16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 века феодально-крепостническая система вступает в стадию разложения и появляются элементы капиталистической системы. ….. , ….. крестьянства свидетельствуют о разложении феод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785960" y="92880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10, 11, ВОПРОС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071720" y="857160"/>
            <a:ext cx="73580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Личность Николая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Начало нового царств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Кодификация зако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Строгость политического режима –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 Отделение и цензу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пытка решения крестьянского во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N1"/>
          <p:cNvPicPr/>
          <p:nvPr/>
        </p:nvPicPr>
        <p:blipFill>
          <a:blip r:embed="rId1"/>
          <a:stretch/>
        </p:blipFill>
        <p:spPr>
          <a:xfrm>
            <a:off x="755640" y="549360"/>
            <a:ext cx="4191120" cy="5832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286240" y="107172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НИКОЛАЙ </a:t>
            </a:r>
            <a:r>
              <a:rPr b="0" lang="en-US" sz="40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 – 1825 - 18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286240" y="278604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674d26"/>
                </a:solidFill>
                <a:latin typeface="Arial"/>
              </a:rPr>
              <a:t>АПОГЕЙ САМОДЕРЖАВИЯ» – наиболее полное проявление абсолютизма, неограниченной власти монарха во всех сферах общественной и политической жизни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071720" y="785880"/>
            <a:ext cx="7286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РЯДОК, КОТОРЫЙ ДОЛЖЕН БЫТЬ УСТАНОВЛЕН В СТРАН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строгая централизация, т.е. подчинение одному цент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полное единоначалие на всех уровнях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безоговорочное подчинение низших выс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64296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РОТИВОРЕЧИВОСТЬ В ПОЛИТИКЕ НИКОЛАЯ </a:t>
            </a:r>
            <a:r>
              <a:rPr b="0" lang="en-US" sz="3200" spc="-1" strike="noStrike">
                <a:solidFill>
                  <a:srgbClr val="674d26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стоянная борьба с революционным движением, гонения на все передовое  и прогрессивное в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пытка проведения мероприятий, которые искоренили бы недостатки существующей системы и решили наиболее острые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2571840" y="642960"/>
            <a:ext cx="3714840" cy="1643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ственная Его Императорского Величества Канцеля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 flipV="1" rot="10800000">
            <a:off x="857160" y="3143160"/>
            <a:ext cx="1857600" cy="2500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Представляло царю поступающие на его имя бумаги и исполняло его личные пору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3643200" y="3143160"/>
            <a:ext cx="185760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Создано в 1826 г. Во главе – М.М.Сперанский. Занималось кодификацией законов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286680" y="3143160"/>
            <a:ext cx="185724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Орган политического сыска и контроля за умонастроениям. Во главе – А.Х.Бенкендо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9"/>
          <p:cNvSpPr/>
          <p:nvPr/>
        </p:nvSpPr>
        <p:spPr>
          <a:xfrm rot="2473800">
            <a:off x="1934640" y="2168640"/>
            <a:ext cx="484200" cy="1054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10"/>
          <p:cNvSpPr/>
          <p:nvPr/>
        </p:nvSpPr>
        <p:spPr>
          <a:xfrm>
            <a:off x="4357800" y="2286000"/>
            <a:ext cx="484200" cy="835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1"/>
          <p:cNvSpPr/>
          <p:nvPr/>
        </p:nvSpPr>
        <p:spPr>
          <a:xfrm rot="19457400">
            <a:off x="635796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571680" y="85716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ЦЕНЗУРА – система государственного надзора за печатью, проверка материалов, готовящихся к публ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1826 г. – «Устав о цензуре», названный «чугу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428760" y="6429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.Д.КИСЕЛЕВУ поручена подготовка реформы государственной деревни. Для этого было созд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Отделение Собственной его императорского величества канцеля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ЦЕЛИ РЕФОРМЫ ГОСУДАРСТВЕННЫХ КРЕСТЬЯ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овысить уровень жизни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Обеспечить исправную уплату налогов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Дать помещикам пример возможного улучшения жизни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71680" y="857160"/>
            <a:ext cx="8001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РЕФОРМА ГОСУДАРСТВЕННОЙ ДЕРЕВНИ ПРЕДУСМАТРИ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пределять размеры оброка с учетом доходности крестьянского на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для устранения малоземелья часть крестьян переселили в менее населенные местности; другим давали зем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о избежание голода, на случай неурожая создавалась так называемая «общественная запашка» – участок земли, на котором работали все крестьяне данной общины; урожай с него хранили на случай гол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 государственных деревнях открывались школы; к 1854 г. Было открыто 26 тыс. школ со 110 тыс.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ткрывались медицинские и ветеринарные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34:10Z</dcterms:created>
  <dc:creator>Светлана</dc:creator>
  <dc:description/>
  <dc:language>en-US</dc:language>
  <cp:lastModifiedBy>Home</cp:lastModifiedBy>
  <dcterms:modified xsi:type="dcterms:W3CDTF">2012-02-26T07:06:36Z</dcterms:modified>
  <cp:revision>42</cp:revision>
  <dc:subject/>
  <dc:title>Слайд 1</dc:title>
</cp:coreProperties>
</file>