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44D-F86E-40A4-ADE2-47CA4D8F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155-BB07-49F9-8327-F332A8ED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08B-0AEF-4C76-829A-E38CA3A5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5FB-FA9D-4644-9D37-633D81AA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E6B1-514D-4F8E-959D-4D86877E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23DA-55CB-4DC1-A354-86730458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8A9A-4B35-4E9C-B6EF-A82F6391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7709-5C67-4762-8B8E-B7782D3B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7B28-0DAD-43ED-8434-6842BF2E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EE4D-EED8-4C9C-8A34-F3F19ED3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E61D-E871-4F85-AC49-374D6BBA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D2D-EA71-4FE8-A707-0B717BC6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8F94-872C-417C-BC94-F98CE272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838D-ED9E-4566-9B20-331971E7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9BD6-FDC6-4B2C-BC39-50FAFEC6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0369-68A7-46AB-B26C-25E5E5AF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F816-156F-49A9-99DC-92210556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7987-D5C0-4451-BA57-F0CD378F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191EF-1DB2-4EA0-AF53-B87C8F65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7BCF4-5051-44AD-9C45-D909070C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30EC-3505-45B3-A4C9-55505159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EE82A-B337-4A4D-9D66-75F4FF3B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21C-8255-46AE-8574-116F7928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98E9C-2C9E-4DE5-AD17-5E3F15BC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0218F-6590-4E9D-899B-6F7E2685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34D64-83B8-482F-A318-36D77554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8694-DD9F-46FA-B3A9-CEB7042F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A856-8EBF-44D7-AA34-1E5250DF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673F8-229A-4F66-96EF-F403609F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D32F0-9624-40BE-AA0C-81B04758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0EA3D-623C-406D-876F-240FE567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4ED71-1466-4D59-A75D-745B46DF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1C06B-9813-4304-B079-002687B3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AE5-F129-444B-8468-6A2DEF41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716A9-2EDD-4C68-AD18-76C3E845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02785-B96E-4D8F-880F-A4E675EB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C4D05-119F-42C1-BA0F-9A4BC53F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9BFEC-66E0-482F-98C2-1652EE47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98582-9D82-4F70-87E9-C3CB7C2A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5496F-A245-4F8A-8450-0624195B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13CCC-0203-42D4-9000-76A22BBB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20389-6C17-44ED-90A8-64CE64A1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1967A-B36B-4933-8B04-B848B1F7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86082-5D26-4A99-BE40-91467F1F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312-6B0D-4805-92AD-F67A565E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9C948-D641-4B00-826B-EE2A9183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FC467-C04B-4CF4-AAF0-EE3DC960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61BE2-FDA7-402D-846E-82AED66C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15770-4482-4CDF-9122-6E103780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01012-6AED-4C2B-A4F5-A1C36D3C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26DE8-E314-49F6-B243-F24B0146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90267-579A-4CC4-ADC7-CB8E877A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02EA3-261B-440E-AE33-584A7DB7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D52F7-ADFF-48FC-8F8A-F5AE7EAE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4F2B7-7411-4DEF-B867-E174EA0D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106-8174-4461-B977-A5949652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F2381-B7BB-4C10-B244-BFEDC04A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B31-505D-475E-B1EA-5BD28738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B80-F138-41E7-8CA9-80D4BD08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A13-2070-4EBD-A9D7-966800C6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5AEB-909C-4E00-965A-6CD3D2CFACB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42AE-14AE-4378-B249-2CF11672559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694E-925D-4B6A-A271-A39007C354E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7D96-386B-497B-A0D5-68EBCD4FC91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EA9D-E416-4A9E-B098-8CB0069830D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428760" y="178596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74d26"/>
                </a:solidFill>
                <a:latin typeface="Arial"/>
              </a:rPr>
              <a:t>НИКОЛАЕВСКАЯ РОС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2428920" y="48578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Учитель истории и обществознания МОУ СОШ №39 гор.Саранск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Барашкина Светл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928800" y="785880"/>
            <a:ext cx="742932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СОЦИАЛЬНО-ЭКОНОМИЧЕСКОЕ РАЗВИТИЕ РОССИИ В НАЧАЛЕ </a:t>
            </a: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Российская империя была ….. Страной, так как большую часть населения составляли ….. . В стране существовала сложившаяся ранее феодально-крепостническая система землевладения, при которой собственниками земли являлись ….., а работали ….. крестьяне, находившиеся в полной собственности ….. . За пользование землей крестьяне несли повинности: платили ….. и отрабатывали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районная специализация сельского хозяйства. Появляются крестьяне- ….. , временно уходившие на заработки в город или на сельскохозяйственные работы. Отходничество было более развито в ….. губерниях.  Главной повинностью крепостных крестьян, уходивших на заработки, был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также расслоение крестьянства. Из крестьянской среды выделяются так называемые ….. крестьяне,  которые занимались предприним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первой половине </a:t>
            </a:r>
            <a:r>
              <a:rPr b="0" lang="en-US" sz="16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 века феодально-крепостническая система вступает в стадию разложения и появляются элементы капиталистической системы. ….. , ….. крестьянства свидетельствуют о разложении феод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785960" y="92880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10, 11, ВОПРОС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071720" y="857160"/>
            <a:ext cx="73580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Личность Николая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Начало нового царств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Кодификация зако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Строгость политического режима –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 Отделение и цензу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пытка решения крестьянского во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N1"/>
          <p:cNvPicPr/>
          <p:nvPr/>
        </p:nvPicPr>
        <p:blipFill>
          <a:blip r:embed="rId1"/>
          <a:stretch/>
        </p:blipFill>
        <p:spPr>
          <a:xfrm>
            <a:off x="755640" y="549360"/>
            <a:ext cx="4191120" cy="5832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286240" y="107172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НИКОЛАЙ </a:t>
            </a:r>
            <a:r>
              <a:rPr b="0" lang="en-US" sz="40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 – 1825 - 18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286240" y="278604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674d26"/>
                </a:solidFill>
                <a:latin typeface="Arial"/>
              </a:rPr>
              <a:t>АПОГЕЙ САМОДЕРЖАВИЯ» – наиболее полное проявление абсолютизма, неограниченной власти монарха во всех сферах общественной и политической жизни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071720" y="785880"/>
            <a:ext cx="7286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РЯДОК, КОТОРЫЙ ДОЛЖЕН БЫТЬ УСТАНОВЛЕН В СТРАН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строгая централизация, т.е. подчинение одному цент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полное единоначалие на всех уровнях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безоговорочное подчинение низших выс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64296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РОТИВОРЕЧИВОСТЬ В ПОЛИТИКЕ НИКОЛАЯ </a:t>
            </a:r>
            <a:r>
              <a:rPr b="0" lang="en-US" sz="3200" spc="-1" strike="noStrike">
                <a:solidFill>
                  <a:srgbClr val="674d26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стоянная борьба с революционным движением, гонения на все передовое  и прогрессивное в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пытка проведения мероприятий, которые искоренили бы недостатки существующей системы и решили наиболее острые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2571840" y="642960"/>
            <a:ext cx="3714840" cy="1643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ственная Его Императорского Величества Канцеля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 flipV="1" rot="10800000">
            <a:off x="857160" y="3143160"/>
            <a:ext cx="1857600" cy="2500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Представляло царю поступающие на его имя бумаги и исполняло его личные пору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3643200" y="3143160"/>
            <a:ext cx="185760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Создано в 1826 г. Во главе – М.М.Сперанский. Занималось кодификацией законов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286680" y="3143160"/>
            <a:ext cx="185724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Орган политического сыска и контроля за умонастроениям. Во главе – А.Х.Бенкендо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9"/>
          <p:cNvSpPr/>
          <p:nvPr/>
        </p:nvSpPr>
        <p:spPr>
          <a:xfrm rot="2473800">
            <a:off x="1934640" y="2168640"/>
            <a:ext cx="484200" cy="1054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10"/>
          <p:cNvSpPr/>
          <p:nvPr/>
        </p:nvSpPr>
        <p:spPr>
          <a:xfrm>
            <a:off x="4357800" y="2286000"/>
            <a:ext cx="484200" cy="835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1"/>
          <p:cNvSpPr/>
          <p:nvPr/>
        </p:nvSpPr>
        <p:spPr>
          <a:xfrm rot="19457400">
            <a:off x="635796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571680" y="85716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ЦЕНЗУРА – система государственного надзора за печатью, проверка материалов, готовящихся к публ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1826 г. – «Устав о цензуре», названный «чугу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428760" y="6429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.Д.КИСЕЛЕВУ поручена подготовка реформы государственной деревни. Для этого было созд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Отделение Собственной его императорского величества канцеля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ЦЕЛИ РЕФОРМЫ ГОСУДАРСТВЕННЫХ КРЕСТЬЯ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овысить уровень жизни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Обеспечить исправную уплату налогов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Дать помещикам пример возможного улучшения жизни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71680" y="857160"/>
            <a:ext cx="8001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РЕФОРМА ГОСУДАРСТВЕННОЙ ДЕРЕВНИ ПРЕДУСМАТРИ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пределять размеры оброка с учетом доходности крестьянского на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для устранения малоземелья часть крестьян переселили в менее населенные местности; другим давали зем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о избежание голода, на случай неурожая создавалась так называемая «общественная запашка» – участок земли, на котором работали все крестьяне данной общины; урожай с него хранили на случай гол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 государственных деревнях открывались школы; к 1854 г. Было открыто 26 тыс. школ со 110 тыс.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ткрывались медицинские и ветеринарные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34:10Z</dcterms:created>
  <dc:creator>Светлана</dc:creator>
  <dc:description/>
  <dc:language>en-US</dc:language>
  <cp:lastModifiedBy>Home</cp:lastModifiedBy>
  <dcterms:modified xsi:type="dcterms:W3CDTF">2012-02-26T07:06:36Z</dcterms:modified>
  <cp:revision>42</cp:revision>
  <dc:subject/>
  <dc:title>Слайд 1</dc:title>
</cp:coreProperties>
</file>