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D8A-3E88-4C9A-9AC7-76CD8E38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AEA4-5E87-46C0-A0BD-49722BD8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BFEF-6770-45DA-B662-76B8EB74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21E-5BDB-4332-9AD0-4ABE8B3C9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F4D-BF98-458F-9B50-27205E4AE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5802-36CF-4C79-AC45-7BC8FF8E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0916-3849-48C4-8900-7CB8D8F4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8C2-8554-4637-8A6D-724C9E36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605C-A7A2-4011-888D-B3BF8EEB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5945-4BD0-48E9-8E4A-7D50F62C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DADB-94EF-4043-A0AA-0EF84839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F119-09B4-496F-8A32-4E602185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8FCB-B590-463D-915F-7642907CE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www.snpltd.ru/mountain_skiing/italy/&amp;bi=http%3A//www.snpltd.ru/i/pic/italy_mapb.jpg&amp;i=http%3A//media4.picsearch.com/is%3FEJmr7ND7snLgBSJsit-cajO31Xv03QZjHBH7OGjEvkk&amp;w=128&amp;h=95&amp;f=93&amp;q=&#1048;&#1090;&#1072;&#1083;&#1080;&#1103;&amp;p=2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images.rambler.ru/pic_cache?url=http%3A//www.kydapoehat.ru/country/italy/&amp;bi=http%3A//www.kydapoehat.ru/images/site/itmap.jpg&amp;i=http%3A//media1.picsearch.com/is%3FKKPAr9KnyF6yhIA4L1KC4BmRGSw7VH8hLr9VTZcOOlI&amp;w=119&amp;h=128&amp;f=64&amp;q=&#1048;&#1090;&#1072;&#1083;&#1080;&#1103;&amp;p=2" TargetMode="Externa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rambler.ru/pic_cache?url=http%3A//mbelgor.narod.ru/port/Hitler.htm&amp;bi=http%3A//mbelgor.narod.ru/port/Hitler_and_Mussolini.jpg&amp;i=http%3A//media2.picsearch.com/is%3Fri_IjhCFH-yRGNWgaFDtZJv87l7ijpBi-0N274WJWTI&amp;w=91&amp;h=128&amp;f=14&amp;q=&#1041;.%20&#1052;&#1091;&#1089;&#1089;&#1086;&#1083;&#1080;&#1085;&#1080;&amp;p=1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400" y="2552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Arial"/>
              </a:rPr>
              <a:t>« Италия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91120" y="5029200"/>
            <a:ext cx="4647960" cy="1143000"/>
          </a:xfrm>
          <a:prstGeom prst="rect">
            <a:avLst/>
          </a:prstGeom>
          <a:solidFill>
            <a:srgbClr val="a7a7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у выполнила учитель ис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удинской О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тоненкова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еш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Либерализация мировой торгов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табилизация мировой финансовой сист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омощь по плану Маршал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Внутрен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Наличие дешёвой рабочей си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редприимчивость италья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Освобождение общества от тоталитарн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ктивная роль государственного сек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Скупка Италией лицензий и патентов на новейшие технологии и изобре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380880"/>
            <a:ext cx="8001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чины итальянского « экономического чу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нерешённость многих проблем  объяснялась фактической монополией на власть ХДП и отстранением от государственного руководства мощных левых оппозиционных партий – коммунистической и социалистической. В 1960-х гг. в стране назрел политический  кризис. Часть руководства ХДП искала поддержки в парламенте со стороны неофашистов. В ИСП также проходили изменения – часть партийного руководства « поправела», претендуя на участие в правитель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. 225 - 2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304920"/>
            <a:ext cx="845820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работаем по учебни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733560" y="533160"/>
            <a:ext cx="52578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ился в Милане  29 сентября  1936 года в семье банковского служащего. В 1961 году с отличием закончил юридический факультет Миланского университета. В 1961 году начал заниматься бизнесом. Основав строительную компанию, осуществил строительство жилых комплексов близ Милана. С конца 70-х годов начал заниматься средствами массовой информации: приобрел часть акций газеты «Джорнале», затем три телевизионных канала — «Канал-5», «Италия-1», «Рете-4», впоследствии превратившиеся в гигантский холдинг «Медиасет». В 1986 году купил  футбольный клуб «Милан», а в 1988 году стал владельцем сети самых крупных универмагов в Италии «La Stando». С 1990 года— совладелец издательского треста «Арнольдо Мондадори эдиторе». Кроме СМИ в его «империю» входят страховые компании, магазины, инвестиционные и пенсионные фо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Файл:Silvio Berlusconi (2010).jpg"/>
          <p:cNvPicPr/>
          <p:nvPr/>
        </p:nvPicPr>
        <p:blipFill>
          <a:blip r:embed="rId2"/>
          <a:stretch/>
        </p:blipFill>
        <p:spPr>
          <a:xfrm>
            <a:off x="380880" y="609480"/>
            <a:ext cx="3400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литика строилась на базе неоконсерватизма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) поощрение частной инициативы ры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) Снижение на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)Отменён налог на наслед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) Снижены налоги для предпринима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)Но рост оставался на отметке « нуль», выросла безработиц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) Провел политическую реформу                                   ( пропорциональная система выборов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) Его правительство разработало реформу государственного устройства стра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отсутствие экономических успехов и высокая безработица подорвали доверие избирателей к пра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 "/>
          <p:cNvPicPr/>
          <p:nvPr/>
        </p:nvPicPr>
        <p:blipFill>
          <a:blip r:embed="rId2"/>
          <a:stretch/>
        </p:blipFill>
        <p:spPr>
          <a:xfrm>
            <a:off x="4800600" y="2438280"/>
            <a:ext cx="3809880" cy="30657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80880" y="304920"/>
            <a:ext cx="853452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авительство С. Берлуск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 2001-2006 гг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4 – 15 апреля 2008 года Сильвио Берлускони одержал победу на досрочных выборах в парламент Италии. Предыдущий хозяин дворца Кидж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Романо Прод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нимал его всего 18 меся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 мая 2008 официально назначен Председателем Совета министров Италии. 12 ноября 2011 года ушел в отстав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457200"/>
            <a:ext cx="792504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звращение в полит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2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492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граф 25, записи, вопросы и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120" y="457200"/>
            <a:ext cx="7315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знакомимся с послевоенным положением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проходило становление республики в Итал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ясним, как влияла на раскладку политической ситуации многопартийност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80880"/>
            <a:ext cx="6019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4572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752480"/>
            <a:ext cx="8534520" cy="4876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овозглашение республ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 экономическо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Левоцентризм и его кризи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Провал идеи « третьей фазы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 Развал прежн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олитической систем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90720" y="770040"/>
            <a:ext cx="3581280" cy="2658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 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724280" y="2895480"/>
            <a:ext cx="26211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82296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Провозглашение республ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676520"/>
            <a:ext cx="4343400" cy="4876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Движение Сопротивления игр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ольшую роль в освобожд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еверной Италии от германских вой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Свержение Б. Муссол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 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15000" y="1676520"/>
            <a:ext cx="2490840" cy="35049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5638680" y="5486400"/>
            <a:ext cx="259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. Муссолин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Адольф Гитле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3520" y="304920"/>
            <a:ext cx="81532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оры в Италии привели 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кой расстановке сил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838080" y="1600200"/>
          <a:ext cx="6934320" cy="398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600200"/>
                    <a:ext cx="69343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 txBox="1"/>
          <p:nvPr/>
        </p:nvSpPr>
        <p:spPr>
          <a:xfrm>
            <a:off x="762120" y="5486400"/>
            <a:ext cx="71625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Италии  утвердилась парламентская республи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 многопартийность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обенностью итальянской партийно – политической системы было господствующее положение на протяжении 50 лет Христианско – демократической парт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нтриз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120400">
            <a:off x="3048120" y="2803680"/>
            <a:ext cx="485640" cy="1249200"/>
          </a:xfrm>
          <a:prstGeom prst="downArrow">
            <a:avLst>
              <a:gd name="adj1" fmla="val 50000"/>
              <a:gd name="adj2" fmla="val 64307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19556400">
            <a:off x="5181120" y="2803680"/>
            <a:ext cx="486000" cy="1249200"/>
          </a:xfrm>
          <a:prstGeom prst="downArrow">
            <a:avLst>
              <a:gd name="adj1" fmla="val 50000"/>
              <a:gd name="adj2" fmla="val 6425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3962520"/>
            <a:ext cx="36576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крайне правом фланг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аняли место неофашист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циона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ар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962520"/>
            <a:ext cx="3200400" cy="182880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ппозиционный левы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ланг был представл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муниста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циалис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олитика, отвергавшая союзы  и с левыми, и с правым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228600"/>
            <a:ext cx="746784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Центриз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ти два десятилетия итальянская экономика развивалась высокими и устойчивыми темпами – в среднем 5,7 % в год ( для сравнения в прошедшие годы – 2%).За это время Италия из аграрно – индустриальной превратилась в высокоразвитую страну Этот скачок и получил название итальянское                    « экономическое чуд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228600"/>
            <a:ext cx="8458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льянское «экономическое чудо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3:06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