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7E85-72A8-47CD-9667-7FC122FA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C542-0651-435A-914F-736DD580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8375-134C-4E80-B568-6C99B21B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940B-8B73-47D0-BFDD-AEE4761E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29A4-5E21-4BC1-82D1-F4346346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63B7-A2D6-4995-82AA-A031EA3D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71CC-444E-409D-888A-F8A0212D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0074-2004-4E90-802A-CC326FE5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232E-95F0-43D1-9443-412E11F2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AE88-5E46-4DF1-9999-74732D2E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A4FF-98FD-4570-8CA7-0E0E9210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FCD3-27C4-47B4-A6C8-B1524A95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2C38-4BA4-4EC4-88A8-DE4D087D5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rambler.ru/pic_cache?url=http%3A//www.snpltd.ru/mountain_skiing/italy/&amp;bi=http%3A//www.snpltd.ru/i/pic/italy_mapb.jpg&amp;i=http%3A//media4.picsearch.com/is%3FEJmr7ND7snLgBSJsit-cajO31Xv03QZjHBH7OGjEvkk&amp;w=128&amp;h=95&amp;f=93&amp;q=&#1048;&#1090;&#1072;&#1083;&#1080;&#1103;&amp;p=2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rambler.ru/pic_cache?url=http%3A//www.kydapoehat.ru/country/italy/&amp;bi=http%3A//www.kydapoehat.ru/images/site/itmap.jpg&amp;i=http%3A//media1.picsearch.com/is%3FKKPAr9KnyF6yhIA4L1KC4BmRGSw7VH8hLr9VTZcOOlI&amp;w=119&amp;h=128&amp;f=64&amp;q=&#1048;&#1090;&#1072;&#1083;&#1080;&#1103;&amp;p=2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rambler.ru/pic_cache?url=http%3A//mbelgor.narod.ru/port/Hitler.htm&amp;bi=http%3A//mbelgor.narod.ru/port/Hitler_and_Mussolini.jpg&amp;i=http%3A//media2.picsearch.com/is%3Fri_IjhCFH-yRGNWgaFDtZJv87l7ijpBi-0N274WJWTI&amp;w=91&amp;h=128&amp;f=14&amp;q=&#1041;.%20&#1052;&#1091;&#1089;&#1089;&#1086;&#1083;&#1080;&#1085;&#1080;&amp;p=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2552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« Италия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5029200"/>
            <a:ext cx="4647960" cy="1143000"/>
          </a:xfrm>
          <a:prstGeom prst="rect">
            <a:avLst/>
          </a:prstGeom>
          <a:solidFill>
            <a:srgbClr val="a7a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у выполнила учитель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динской О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тоненкова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Внеш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Либерализация мировой торгов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табилизация мировой финансовой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мощь по плану Марш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Внутрен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личие дешёвой рабочей си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едприимчивость итальян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свобождение общества от тоталитарного контр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ктивная роль государственного сек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купка Италией лицензий и патентов на новейшие технологии и изобре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80880"/>
            <a:ext cx="80010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чины итальянского « экономического чу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нерешённость многих проблем  объяснялась фактической монополией на власть ХДП и отстранением от государственного руководства мощных левых оппозиционных партий – коммунистической и социалистической. В 1960-х гг. в стране назрел политический  кризис. Часть руководства ХДП искала поддержки в парламенте со стороны неофашистов. В ИСП также проходили изменения – часть партийного руководства « поправела», претендуя на участие в правительств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тальянское «экономическое чуд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. 225 - 2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304920"/>
            <a:ext cx="84582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учебник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733560" y="533160"/>
            <a:ext cx="5257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дился в Милане  29 сентября  1936 года в семье банковского служащего. В 1961 году с отличием закончил юридический факультет Миланского университета. В 1961 году начал заниматься бизнесом. Основав строительную компанию, осуществил строительство жилых комплексов близ Милана. С конца 70-х годов начал заниматься средствами массовой информации: приобрел часть акций газеты «Джорнале», затем три телевизионных канала — «Канал-5», «Италия-1», «Рете-4», впоследствии превратившиеся в гигантский холдинг «Медиасет». В 1986 году купил  футбольный клуб «Милан», а в 1988 году стал владельцем сети самых крупных универмагов в Италии «La Stando». С 1990 года— совладелец издательского треста «Арнольдо Мондадори эдиторе». Кроме СМИ в его «империю» входят страховые компании, магазины, инвестиционные и пенсионные фон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Файл:Silvio Berlusconi (2010).jpg"/>
          <p:cNvPicPr/>
          <p:nvPr/>
        </p:nvPicPr>
        <p:blipFill>
          <a:blip r:embed="rId2"/>
          <a:stretch/>
        </p:blipFill>
        <p:spPr>
          <a:xfrm>
            <a:off x="380880" y="609480"/>
            <a:ext cx="3400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итика строилась на базе неоконсерватизм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) поощрение частной инициативы ры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) Снижение налог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)Отменён налог на наслед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) Снижены налоги для предпринима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)Но рост оставался на отметке « нуль», выросла безработиц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) Провел политическую реформу                                   ( пропорциональная система выбор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) Его правительство разработало реформу государственного устройства стр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отсутствие экономических успехов и высокая безработица подорвали доверие избирателей к пра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 "/>
          <p:cNvPicPr/>
          <p:nvPr/>
        </p:nvPicPr>
        <p:blipFill>
          <a:blip r:embed="rId2"/>
          <a:stretch/>
        </p:blipFill>
        <p:spPr>
          <a:xfrm>
            <a:off x="4800600" y="2438280"/>
            <a:ext cx="3809880" cy="3065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0880" y="304920"/>
            <a:ext cx="853452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тельство С. Берлуско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2001-2006 гг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4 – 15 апреля 2008 года Сильвио Берлускони одержал победу на досрочных выборах в парламент Италии. Предыдущий хозяин дворца Кидж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мано Прод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нимал его всего 18 меся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мая 2008 официально назначен Председателем Совета министров Италии. 12 ноября 2011 года ушел в отстав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457200"/>
            <a:ext cx="792504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звращение в полити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ы на стр. 2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304920"/>
            <a:ext cx="8229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граф 25, записи, вопросы и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457200"/>
            <a:ext cx="7315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знакомимся с послевоенным положением Итал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ясним, как проходило становление республики в Итал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ясним, как влияла на раскладку политической ситуации многопартий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380880"/>
            <a:ext cx="6019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457200"/>
            <a:ext cx="8458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лан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752480"/>
            <a:ext cx="8534520" cy="487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возглашение республ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ентриз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тальянское « экономическ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уд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Левоцентризм и его кризи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Провал идеи « третьей фаз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Развал прежн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литической систе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770040"/>
            <a:ext cx="3581280" cy="2658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 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2895480"/>
            <a:ext cx="2621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380880"/>
            <a:ext cx="8229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ровозглашение республ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676520"/>
            <a:ext cx="4343400" cy="487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Движение Сопротивления игр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ьшую роль в освобожд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верной Италии от германских вой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Свержение Б. Муссол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5000" y="1676520"/>
            <a:ext cx="2490840" cy="3504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5638680" y="5486400"/>
            <a:ext cx="259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. Муссолин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Адольф Гитле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304920"/>
            <a:ext cx="81532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оры в Италии привели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кой расстановке с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38080" y="1600200"/>
          <a:ext cx="6934320" cy="398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600200"/>
                    <a:ext cx="69343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 txBox="1"/>
          <p:nvPr/>
        </p:nvSpPr>
        <p:spPr>
          <a:xfrm>
            <a:off x="762120" y="5486400"/>
            <a:ext cx="7162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Италии  утвердилась парламентская республи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 многопартийностью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обенностью итальянской партийно – политической системы было господствующее положение на протяжении 50 лет Христианско – демократической парт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28600"/>
            <a:ext cx="7467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тр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120400">
            <a:off x="3048120" y="2803680"/>
            <a:ext cx="485640" cy="1249200"/>
          </a:xfrm>
          <a:prstGeom prst="downArrow">
            <a:avLst>
              <a:gd name="adj1" fmla="val 50000"/>
              <a:gd name="adj2" fmla="val 6430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9556400">
            <a:off x="5181120" y="2803680"/>
            <a:ext cx="486000" cy="1249200"/>
          </a:xfrm>
          <a:prstGeom prst="downArrow">
            <a:avLst>
              <a:gd name="adj1" fmla="val 50000"/>
              <a:gd name="adj2" fmla="val 6425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962520"/>
            <a:ext cx="3657600" cy="1828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крайне правом фланг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няли место неофашисты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цион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р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3962520"/>
            <a:ext cx="3200400" cy="1828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позиционный ле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ланг был представ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мунистам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ис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олитика, отвергавшая союзы  и с левыми, и с правы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228600"/>
            <a:ext cx="7467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Центриз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ти два десятилетия итальянская экономика развивалась высокими и устойчивыми темпами – в среднем 5,7 % в год ( для сравнения в прошедшие годы – 2%).За это время Италия из аграрно – индустриальной превратилась в высокоразвитую страну Этот скачок и получил название итальянское                    « экономическое чуд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228600"/>
            <a:ext cx="8458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тальянское «экономическое чуд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06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