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7F5-8EF6-401B-B29F-5A5DB5FD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56D-5CCC-4652-B7D2-6803D66F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889-2061-43DD-8CBC-5D773E6C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5B6-6176-4800-A2E3-3A1918CE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805-1EB4-4C1F-8237-86C7FFF6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A3A-02BD-410A-84DD-04559AEE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FB9-B3A1-48DE-8A26-5D316546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25A-CC2B-4C3F-A8B8-B47B5341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BEC-09B8-4A98-AE5E-52BD6811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A8A-EA23-41B4-BFE4-35BD44C9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BE2-D956-49E6-9112-3F026868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688-175D-43CA-A8B6-90408E4E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F852-C2CB-4026-8EF4-FF32C8DAA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www.snpltd.ru/mountain_skiing/italy/&amp;bi=http%3A//www.snpltd.ru/i/pic/italy_mapb.jpg&amp;i=http%3A//media4.picsearch.com/is%3FEJmr7ND7snLgBSJsit-cajO31Xv03QZjHBH7OGjEvkk&amp;w=128&amp;h=95&amp;f=93&amp;q=&#1048;&#1090;&#1072;&#1083;&#1080;&#1103;&amp;p=2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rambler.ru/pic_cache?url=http%3A//www.kydapoehat.ru/country/italy/&amp;bi=http%3A//www.kydapoehat.ru/images/site/itmap.jpg&amp;i=http%3A//media1.picsearch.com/is%3FKKPAr9KnyF6yhIA4L1KC4BmRGSw7VH8hLr9VTZcOOlI&amp;w=119&amp;h=128&amp;f=64&amp;q=&#1048;&#1090;&#1072;&#1083;&#1080;&#1103;&amp;p=2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mbelgor.narod.ru/port/Hitler.htm&amp;bi=http%3A//mbelgor.narod.ru/port/Hitler_and_Mussolini.jpg&amp;i=http%3A//media2.picsearch.com/is%3Fri_IjhCFH-yRGNWgaFDtZJv87l7ijpBi-0N274WJWTI&amp;w=91&amp;h=128&amp;f=14&amp;q=&#1041;.%20&#1052;&#1091;&#1089;&#1089;&#1086;&#1083;&#1080;&#1085;&#1080;&amp;p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« Итал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5029200"/>
            <a:ext cx="4647960" cy="1143000"/>
          </a:xfrm>
          <a:prstGeom prst="rect">
            <a:avLst/>
          </a:prstGeom>
          <a:solidFill>
            <a:srgbClr val="a7a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оненк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еш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иберализация миро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абилизация мировой финансов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щь по плану Марш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личие дешёвой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приимчивость италья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вобождение общества от тоталитарн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ктивная роль государственного се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купка Италией лицензий и патентов на новейшие технологии и изобре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80880"/>
            <a:ext cx="80010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 итальянского « экономического чу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нерешённость многих проблем  объяснялась фактической монополией на власть ХДП и отстранением от государственного руководства мощных левых оппозиционных партий – коммунистической и социалистической. В 1960-х гг. в стране назрел политический  кризис. Часть руководства ХДП искала поддержки в парламенте со стороны неофашистов. В ИСП также проходили изменения – часть партийного руководства « поправела», претендуя на участие в правитель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225 - 2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920"/>
            <a:ext cx="8458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33560" y="533160"/>
            <a:ext cx="5257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ился в Милане  29 сентября  1936 года в семье банковского служащего. В 1961 году с отличием закончил юридический факультет Миланского университета. В 1961 году начал заниматься бизнесом. Основав строительную компанию, осуществил строительство жилых комплексов близ Милана. С конца 70-х годов начал заниматься средствами массовой информации: приобрел часть акций газеты «Джорнале», затем три телевизионных канала — «Канал-5», «Италия-1», «Рете-4», впоследствии превратившиеся в гигантский холдинг «Медиасет». В 1986 году купил  футбольный клуб «Милан», а в 1988 году стал владельцем сети самых крупных универмагов в Италии «La Stando». С 1990 года— совладелец издательского треста «Арнольдо Мондадори эдиторе». Кроме СМИ в его «империю» входят страховые компании, магазины, инвестиционные и пенсионные фо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Файл:Silvio Berlusconi (2010).jpg"/>
          <p:cNvPicPr/>
          <p:nvPr/>
        </p:nvPicPr>
        <p:blipFill>
          <a:blip r:embed="rId2"/>
          <a:stretch/>
        </p:blipFill>
        <p:spPr>
          <a:xfrm>
            <a:off x="380880" y="609480"/>
            <a:ext cx="3400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итика строилась на базе неоконсерватизм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поощрение частной инициативы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Снижение на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Отменён налог на насле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 Снижены налоги для предприним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Но рост оставался на отметке « нуль», выросла безработи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) Провел политическую реформу                                   ( пропорциональная система выбор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) Его правительство разработало реформу государственного устройства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отсутствие экономических успехов и высокая безработица подорвали доверие избирателей к пра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 "/>
          <p:cNvPicPr/>
          <p:nvPr/>
        </p:nvPicPr>
        <p:blipFill>
          <a:blip r:embed="rId2"/>
          <a:stretch/>
        </p:blipFill>
        <p:spPr>
          <a:xfrm>
            <a:off x="4800600" y="2438280"/>
            <a:ext cx="3809880" cy="3065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304920"/>
            <a:ext cx="85345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тельство С. Берлуск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2001-2006 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 – 15 апреля 2008 года Сильвио Берлускони одержал победу на досрочных выборах в парламент Италии. Предыдущий хозяин дворца Кидж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мано Про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нимал его всего 18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мая 2008 официально назначен Председателем Совета министров Италии. 12 ноября 2011 года ушел в отст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57200"/>
            <a:ext cx="7925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вращение в полит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2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5, записи, 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57200"/>
            <a:ext cx="7315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мся с послевоенным положением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проходило становление республики в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влияла на раскладку политической ситуации многопартий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80880"/>
            <a:ext cx="6019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853452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озглашение респуб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 эконом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Левоцентризм и его кризи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Провал идеи « третьей фаз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Развал прежн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итическ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770040"/>
            <a:ext cx="3581280" cy="265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95480"/>
            <a:ext cx="2621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озглашение республ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76520"/>
            <a:ext cx="434340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Движение Сопротивления игр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ую роль в освобожд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Италии от герман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Свержение Б. Муссо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676520"/>
            <a:ext cx="2490840" cy="350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638680" y="54864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. Муссол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Адольф Гитл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1532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оры в Италии привели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ой расстановке 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6934320" cy="39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69343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7621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Италии  утвердилась парламентская республ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многопартийност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ью итальянской партийно – политической системы было господствующее положение на протяжении 50 лет Христианско – демократической 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20400">
            <a:off x="3048120" y="2803680"/>
            <a:ext cx="485640" cy="1249200"/>
          </a:xfrm>
          <a:prstGeom prst="downArrow">
            <a:avLst>
              <a:gd name="adj1" fmla="val 50000"/>
              <a:gd name="adj2" fmla="val 643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556400">
            <a:off x="5181120" y="2803680"/>
            <a:ext cx="486000" cy="1249200"/>
          </a:xfrm>
          <a:prstGeom prst="downArrow">
            <a:avLst>
              <a:gd name="adj1" fmla="val 50000"/>
              <a:gd name="adj2" fmla="val 642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962520"/>
            <a:ext cx="36576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райне правом флан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ли место неофашис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962520"/>
            <a:ext cx="32004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позиционный 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анг был предста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ст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литика, отвергавшая союзы  и с левыми, и с правы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нтр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и два десятилетия итальянская экономика развивалась высокими и устойчивыми темпами – в среднем 5,7 % в год ( для сравнения в прошедшие годы – 2%).За это время Италия из аграрно – индустриальной превратилась в высокоразвитую страну Этот скачок и получил название итальянское                    « экономическое чу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286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06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