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E63B-80F9-4156-AC33-F5D2C6DEB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E829-2CB7-47C1-813D-0112B97A3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8584-193B-4613-94F6-99DCF5050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32D9-0F07-45B0-AEAF-919DDF64B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C0722-E0A6-465E-8477-63CB4AA38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FBC50-20F4-48D7-9AB6-1451BDE10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608EE-B378-4407-9ED9-6A5611FFD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4D0F0-AC07-4964-9FAC-98EEB0B87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7F7D8-6A64-4B1C-BFEA-29AC20FE0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B8795-1587-4368-96C0-371526A67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EB278-A56D-48F8-9F9E-21AD0F569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9879-5451-447A-9534-2348D4FD9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38ABC-68FB-4B68-A30D-8C7EEF334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ECBA5-04E3-4378-8E8C-B7AB621CB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7E844-A914-4469-B739-96C099DA0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C1D5C-7B73-4066-82DB-E79C6437E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DADB2-A795-4DD5-B88E-51E0C8F40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C1B7-0F0C-4CD6-8F9E-D4FEC0E6A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229F-37C2-49F4-B12C-0375CBE53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B2C1-A3CA-4940-9391-99CF3FCAE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D0D6-36D1-4F4B-9039-B395024E6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81C1-CC91-44F5-A0F4-8A7536F89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356B-A243-4B7D-AECF-A11EDDD1D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0240-DAFC-4C86-9A75-F7D40BE7F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570B4-7402-429C-BEE3-F8422D1F56F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A43B6-F9DA-4B95-92D7-63918919B37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chernoemore.com.ua/uploads/posts/2009-04/1240405122_karta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avialine.com/img/repphotos/repphoto_4271_3560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tarhankut.net.ua/rest-in-crimea/rest-in-crimea-08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Черное море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готовила Кускова Анастас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Картинка 34 из 15096"/>
          <p:cNvPicPr/>
          <p:nvPr/>
        </p:nvPicPr>
        <p:blipFill>
          <a:blip r:embed="rId1"/>
          <a:stretch/>
        </p:blipFill>
        <p:spPr>
          <a:xfrm>
            <a:off x="1619280" y="1628640"/>
            <a:ext cx="6408720" cy="42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Картинка 46 из 15096"/>
          <p:cNvPicPr/>
          <p:nvPr/>
        </p:nvPicPr>
        <p:blipFill>
          <a:blip r:embed="rId1"/>
          <a:stretch/>
        </p:blipFill>
        <p:spPr>
          <a:xfrm>
            <a:off x="1763640" y="1413000"/>
            <a:ext cx="5688000" cy="44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Картинка 50 из 15096"/>
          <p:cNvPicPr/>
          <p:nvPr/>
        </p:nvPicPr>
        <p:blipFill>
          <a:blip r:embed="rId1"/>
          <a:stretch/>
        </p:blipFill>
        <p:spPr>
          <a:xfrm>
            <a:off x="826920" y="765000"/>
            <a:ext cx="7488360" cy="556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Черное море – замёрзло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веро-западная акватория Черного моря в районе Одессы замерзла впервые за 30 лет в результате аномально холодной погоды, установившейся в регионе. Толщина льда на пляжах, как сообщил инженерно-технологический центр «СканЭкс», уже превышает 40 сантимет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гласно спутниковым данным на 7 февраля северо-западная часть акватории Черного моря покрыта льдом на протяжении 13 километров от берега, а в 100 метрах от берега можно наблюдать небольшие «айсберги». Спасатели Румынии, Болгарии и Украины объявили на побережьях желтый и оранжевый уровни опасности, призывая население не выходить на лед. Работа украинских морских портов приостановлена до 15 февраля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Черное море замерзло впервые за 30 лет"/>
          <p:cNvPicPr/>
          <p:nvPr/>
        </p:nvPicPr>
        <p:blipFill>
          <a:blip r:embed="rId1"/>
          <a:stretch/>
        </p:blipFill>
        <p:spPr>
          <a:xfrm>
            <a:off x="1143000" y="1333440"/>
            <a:ext cx="68580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Обледеневший корабль у берегов Евпатории"/>
          <p:cNvPicPr/>
          <p:nvPr/>
        </p:nvPicPr>
        <p:blipFill>
          <a:blip r:embed="rId1"/>
          <a:stretch/>
        </p:blipFill>
        <p:spPr>
          <a:xfrm>
            <a:off x="250920" y="620640"/>
            <a:ext cx="857232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Замерзшее Черное море у берегов Евпатории"/>
          <p:cNvPicPr/>
          <p:nvPr/>
        </p:nvPicPr>
        <p:blipFill>
          <a:blip r:embed="rId1"/>
          <a:stretch/>
        </p:blipFill>
        <p:spPr>
          <a:xfrm>
            <a:off x="285840" y="609480"/>
            <a:ext cx="857232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едовое чудо, образовавшееся во время сильных морозов в Одессе, не перестает удивлять. Корка льда на море простирается на сотни метров. У берегов же образовались мини-айсберги. Они трутся друг о друга и об пирсы и издают устрашающий скрип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акже интересно наблюдать за тем как море "дышит" - подо льдом все же пытаются пробиться волны. Тогда ледяная корка начинает двигаться, будто тая под собой нечт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Замерзшее Черное море около Констанцы, Румыния"/>
          <p:cNvPicPr/>
          <p:nvPr/>
        </p:nvPicPr>
        <p:blipFill>
          <a:blip r:embed="rId1"/>
          <a:stretch/>
        </p:blipFill>
        <p:spPr>
          <a:xfrm>
            <a:off x="285840" y="285840"/>
            <a:ext cx="857232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Покрытый льдом берег Черного моря около румынской Констанцы"/>
          <p:cNvPicPr/>
          <p:nvPr/>
        </p:nvPicPr>
        <p:blipFill>
          <a:blip r:embed="rId1"/>
          <a:stretch/>
        </p:blipFill>
        <p:spPr>
          <a:xfrm>
            <a:off x="395280" y="620640"/>
            <a:ext cx="8572680" cy="59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Местоположение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35859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ерно море – самое теплое и приветливое из наших морей, внутреннее море бассейна Атлантического океана на юге России. По поверхности Черного моря проходит водная граница между Европой и Аз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Картинка 15 из 8012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27640" y="1989000"/>
            <a:ext cx="4427280" cy="36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684360" y="2133720"/>
            <a:ext cx="6875280" cy="201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за винимание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Происхождение названия Черного моря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 поводу названия моря Черным существует несколько версий. По одной из них море так названо в результате своей штормливости - а штормы здесь бывают жестокие до 8 баллов. Во время такого шторма цвет воды вдали от берега приобретает черный цвет, а разрушительная сила волн полностью оправдывает его название. По другой теории море так названо потому, что металлические предметы, опущенные на большую глубину, а затем поднятые на поверхность приобретают чёрный цвет, например, якоря. Есть и мифологическая теория. Она связана с представлением у восточных народов об окраске сторон света. По этим представлениям всё, что находится на юге,- белое и красное, а на севере - черное. Эта теория подтверждается и в настоящее время - турки до сих пор называют Черное море Кара Дениз - море Черное, а Средиземное море, цвет воды которого намного темнее черноморской - Ак Дениз - Море Белое, только потому, что оно расположено южнее. Единой научной теории по этому вопросу н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Картинка 72 из 1191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42920" y="476280"/>
            <a:ext cx="7515360" cy="56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_shtorm2"/>
          <p:cNvPicPr/>
          <p:nvPr/>
        </p:nvPicPr>
        <p:blipFill>
          <a:blip r:embed="rId1"/>
          <a:stretch/>
        </p:blipFill>
        <p:spPr>
          <a:xfrm>
            <a:off x="684360" y="1268280"/>
            <a:ext cx="7848360" cy="45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Происхождение котловины Черного моря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57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геологическом отношении Черное море молодое. Происхождение котловины относят к концу четвертичного периода, когда образовались горы Крыма, Кавказа и Малой Азии. По краям впадины сейчас продолжаются движением земной коры, сопровождаемое землетрясен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Картинка 33 из 47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56000" y="1844640"/>
            <a:ext cx="478800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Природа Черного мор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441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лимат – мягкий средиземноморский субтропическ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стительный мир – зеленые, бурые и красные водоросли, фитопланкт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глубинных слоях обитают только сероводородные бакте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верхнем слое Черного моря много ры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Картинка 14 из 46874"/>
          <p:cNvPicPr/>
          <p:nvPr/>
        </p:nvPicPr>
        <p:blipFill>
          <a:blip r:embed="rId1"/>
          <a:stretch/>
        </p:blipFill>
        <p:spPr>
          <a:xfrm>
            <a:off x="4356000" y="2060640"/>
            <a:ext cx="4354560" cy="32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Значение Черного  мор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начение Черного  моря велико: рыболовство, судоходство, стратегическое и военное значение. Новороссийск – крупнейший порт России, а черноморское побережье Кавказа – важнейшая рекреационная зона на юге Росс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Экология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0920" y="1599840"/>
            <a:ext cx="8064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 последние 15 лет экологическая обстановка на Черном море ухудшила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новной вид загрязнения Черного моря – нефтепродук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ревогу вызывает строительство новых нефтяных терминалов, работа газопровода «Голубой поток», строительство аммиачного трубопровода, дорог и сооружений к Олимпийским играм в Со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07:22:20Z</dcterms:created>
  <dc:creator>пк</dc:creator>
  <dc:description/>
  <dc:language>en-US</dc:language>
  <cp:lastModifiedBy>пк</cp:lastModifiedBy>
  <dcterms:modified xsi:type="dcterms:W3CDTF">2012-02-14T08:48:47Z</dcterms:modified>
  <cp:revision>2</cp:revision>
  <dc:subject/>
  <dc:title>Черное мор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40a0000000000010250300207f7000400038000</vt:lpwstr>
  </property>
</Properties>
</file>