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0CD3-76FD-4E97-8B1B-8DE1BD408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FF3A-A65A-49B9-9AB6-821DE6C5F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F56B-51F1-4022-9226-422CCD97F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01AF-B14D-4FB5-9869-1E1FA1E4B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8CEB3-16C5-4E0B-8D07-96648B0EF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558FA-2D6C-4136-A31A-86D0B4CFB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212B8-70E0-4A1E-B61B-7376E9B95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97A94-588C-4A39-B048-D22CD2FB9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CDC23-3541-4BB2-9490-8301DDDBA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F9736-93C9-41A5-8646-2478103A8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78995-354F-47D3-A994-4A884B7A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63D7-DCA4-4B76-94BC-39E280BB3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93AC4-2DE9-4380-957C-D166920D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EC6DF-0391-409D-838D-D3720EF5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6F53C-7483-4C5D-A1C5-F5BC58840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E55B0-E6EE-4697-8133-46204372E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63FA8-F3CE-4BA0-9002-154C04217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5855-46A3-41AD-AEEF-C826B783A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6A76-5ED2-4ECD-BD44-5308B96C2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0377-CE7D-4574-A6D0-8C044B76E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5D40-8AB5-4B01-B1A6-9B97DCE7F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1D51-29A3-4E19-8E53-AA10E889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8D7D-9EB9-4B1F-8F20-3250F098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C5D9-7BE8-4763-899E-A62602C1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2D959-FBC7-441C-8811-B21E9B9494E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33414-9226-427D-832E-D29576DE232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hernoemore.com.ua/uploads/posts/2009-04/1240405122_karta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vialine.com/img/repphotos/repphoto_4271_3560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tarhankut.net.ua/rest-in-crimea/rest-in-crimea-08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Черное море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готовила Кускова Анаста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Картинка 34 из 15096"/>
          <p:cNvPicPr/>
          <p:nvPr/>
        </p:nvPicPr>
        <p:blipFill>
          <a:blip r:embed="rId1"/>
          <a:stretch/>
        </p:blipFill>
        <p:spPr>
          <a:xfrm>
            <a:off x="1619280" y="1628640"/>
            <a:ext cx="640872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Картинка 46 из 15096"/>
          <p:cNvPicPr/>
          <p:nvPr/>
        </p:nvPicPr>
        <p:blipFill>
          <a:blip r:embed="rId1"/>
          <a:stretch/>
        </p:blipFill>
        <p:spPr>
          <a:xfrm>
            <a:off x="1763640" y="1413000"/>
            <a:ext cx="5688000" cy="44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Картинка 50 из 15096"/>
          <p:cNvPicPr/>
          <p:nvPr/>
        </p:nvPicPr>
        <p:blipFill>
          <a:blip r:embed="rId1"/>
          <a:stretch/>
        </p:blipFill>
        <p:spPr>
          <a:xfrm>
            <a:off x="826920" y="765000"/>
            <a:ext cx="7488360" cy="556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Черное море – замёрзло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веро-западная акватория Черного моря в районе Одессы замерзла впервые за 30 лет в результате аномально холодной погоды, установившейся в регионе. Толщина льда на пляжах, как сообщил инженерно-технологический центр «СканЭкс», уже превышает 40 сантимет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гласно спутниковым данным на 7 февраля северо-западная часть акватории Черного моря покрыта льдом на протяжении 13 километров от берега, а в 100 метрах от берега можно наблюдать небольшие «айсберги». Спасатели Румынии, Болгарии и Украины объявили на побережьях желтый и оранжевый уровни опасности, призывая население не выходить на лед. Работа украинских морских портов приостановлена до 15 февраля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Черное море замерзло впервые за 30 лет"/>
          <p:cNvPicPr/>
          <p:nvPr/>
        </p:nvPicPr>
        <p:blipFill>
          <a:blip r:embed="rId1"/>
          <a:stretch/>
        </p:blipFill>
        <p:spPr>
          <a:xfrm>
            <a:off x="1143000" y="1333440"/>
            <a:ext cx="6858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Обледеневший корабль у берегов Евпатории"/>
          <p:cNvPicPr/>
          <p:nvPr/>
        </p:nvPicPr>
        <p:blipFill>
          <a:blip r:embed="rId1"/>
          <a:stretch/>
        </p:blipFill>
        <p:spPr>
          <a:xfrm>
            <a:off x="250920" y="620640"/>
            <a:ext cx="857232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Замерзшее Черное море у берегов Евпатории"/>
          <p:cNvPicPr/>
          <p:nvPr/>
        </p:nvPicPr>
        <p:blipFill>
          <a:blip r:embed="rId1"/>
          <a:stretch/>
        </p:blipFill>
        <p:spPr>
          <a:xfrm>
            <a:off x="285840" y="609480"/>
            <a:ext cx="857232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довое чудо, образовавшееся во время сильных морозов в Одессе, не перестает удивлять. Корка льда на море простирается на сотни метров. У берегов же образовались мини-айсберги. Они трутся друг о друга и об пирсы и издают устрашающий скрип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кже интересно наблюдать за тем как море "дышит" - подо льдом все же пытаются пробиться волны. Тогда ледяная корка начинает двигаться, будто тая под собой нечт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Замерзшее Черное море около Констанцы, Румыния"/>
          <p:cNvPicPr/>
          <p:nvPr/>
        </p:nvPicPr>
        <p:blipFill>
          <a:blip r:embed="rId1"/>
          <a:stretch/>
        </p:blipFill>
        <p:spPr>
          <a:xfrm>
            <a:off x="285840" y="285840"/>
            <a:ext cx="857232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Покрытый льдом берег Черного моря около румынской Констанцы"/>
          <p:cNvPicPr/>
          <p:nvPr/>
        </p:nvPicPr>
        <p:blipFill>
          <a:blip r:embed="rId1"/>
          <a:stretch/>
        </p:blipFill>
        <p:spPr>
          <a:xfrm>
            <a:off x="395280" y="620640"/>
            <a:ext cx="8572680" cy="59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Местоположение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35859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рно море – самое теплое и приветливое из наших морей, внутреннее море бассейна Атлантического океана на юге России. По поверхности Черного моря проходит водная граница между Европой и Аз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Картинка 15 из 8012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27640" y="1989000"/>
            <a:ext cx="442728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684360" y="2133720"/>
            <a:ext cx="6875280" cy="201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винимание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Происхождение названия Черного моря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 поводу названия моря Черным существует несколько версий. По одной из них море так названо в результате своей штормливости - а штормы здесь бывают жестокие до 8 баллов. Во время такого шторма цвет воды вдали от берега приобретает черный цвет, а разрушительная сила волн полностью оправдывает его название. По другой теории море так названо потому, что металлические предметы, опущенные на большую глубину, а затем поднятые на поверхность приобретают чёрный цвет, например, якоря. Есть и мифологическая теория. Она связана с представлением у восточных народов об окраске сторон света. По этим представлениям всё, что находится на юге,- белое и красное, а на севере - черное. Эта теория подтверждается и в настоящее время - турки до сих пор называют Черное море Кара Дениз - море Черное, а Средиземное море, цвет воды которого намного темнее черноморской - Ак Дениз - Море Белое, только потому, что оно расположено южнее. Единой научной теории по этому вопросу 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Картинка 72 из 1191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476280"/>
            <a:ext cx="7515360" cy="56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_shtorm2"/>
          <p:cNvPicPr/>
          <p:nvPr/>
        </p:nvPicPr>
        <p:blipFill>
          <a:blip r:embed="rId1"/>
          <a:stretch/>
        </p:blipFill>
        <p:spPr>
          <a:xfrm>
            <a:off x="684360" y="1268280"/>
            <a:ext cx="7848360" cy="45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Происхождение котловины Черного моря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57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геологическом отношении Черное море молодое. Происхождение котловины относят к концу четвертичного периода, когда образовались горы Крыма, Кавказа и Малой Азии. По краям впадины сейчас продолжаются движением земной коры, сопровождаемое землетрясе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Картинка 33 из 47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56000" y="1844640"/>
            <a:ext cx="478800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рирода Черного мор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441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имат – мягкий средиземноморский субтропичес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тительный мир – зеленые, бурые и красные водоросли, фитопланкт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глубинных слоях обитают только сероводородные бакте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верхнем слое Черного моря много ры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Картинка 14 из 46874"/>
          <p:cNvPicPr/>
          <p:nvPr/>
        </p:nvPicPr>
        <p:blipFill>
          <a:blip r:embed="rId1"/>
          <a:stretch/>
        </p:blipFill>
        <p:spPr>
          <a:xfrm>
            <a:off x="4356000" y="2060640"/>
            <a:ext cx="4354560" cy="32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Значение Черного  мор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чение Черного  моря велико: рыболовство, судоходство, стратегическое и военное значение. Новороссийск – крупнейший порт России, а черноморское побережье Кавказа – важнейшая рекреационная зона на юге Ро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Экология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8064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 последние 15 лет экологическая обстановка на Черном море ухудшила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новной вид загрязнения Черного моря – нефтепродук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евогу вызывает строительство новых нефтяных терминалов, работа газопровода «Голубой поток», строительство аммиачного трубопровода, дорог и сооружений к Олимпийским играм в Со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07:22:20Z</dcterms:created>
  <dc:creator>пк</dc:creator>
  <dc:description/>
  <dc:language>en-US</dc:language>
  <cp:lastModifiedBy>пк</cp:lastModifiedBy>
  <dcterms:modified xsi:type="dcterms:W3CDTF">2012-02-14T08:48:47Z</dcterms:modified>
  <cp:revision>2</cp:revision>
  <dc:subject/>
  <dc:title>Черное мор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40a0000000000010250300207f7000400038000</vt:lpwstr>
  </property>
</Properties>
</file>