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442-5180-4409-A476-0226B790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0249-5612-40D6-8AA9-481FC3D6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2BAC-37B8-404C-8665-657AE930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A199-AC13-4E25-B620-4A28B8BE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70D3-2058-44B5-B83D-837CEA52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6585-F37E-4BE0-89C7-CB7412B0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7DD0-97BC-4AC3-AA8B-0CCBABB6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E036-9064-4D6D-B35C-94A075CF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88FC-1226-4F16-94B4-B8D6F58A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A194-1C25-4081-99E4-330437E9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63C0-4564-4AEA-90A4-88CCD458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6ED-9588-4CC7-890B-15819FDF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339F-CD55-4387-94AC-A23B5481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CB3B-2CE2-42C8-97E3-4F92790D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A1B1-6838-4411-B540-015EEC95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C31D-EA16-4BD2-B494-C2E0937D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77EB-AFE0-45EA-92A9-C9D4FF77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BABC-2FAB-4019-8FEA-515B71C8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9F69-6142-4962-AD29-6456E1DA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EE1C-5DC5-4B79-90BB-44F62B0D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E5F5-1C1F-4763-A261-78C62D93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F1B3-FDF8-4DE4-9333-5BCBC2A5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A1EE-92A4-4AD1-98E4-ADFFCDE3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C2A-5673-46F8-BB7E-C0F44538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72CD-77A2-4D56-85D1-E6BECA04BD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A5B0-83F3-4985-BF83-357215C353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ernoemore.com.ua/uploads/posts/2009-04/1240405122_kart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ialine.com/img/repphotos/repphoto_4271_356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arhankut.net.ua/rest-in-crimea/rest-in-crimea-08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Черное мор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готовила Куск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Картинка 34 из 15096"/>
          <p:cNvPicPr/>
          <p:nvPr/>
        </p:nvPicPr>
        <p:blipFill>
          <a:blip r:embed="rId1"/>
          <a:stretch/>
        </p:blipFill>
        <p:spPr>
          <a:xfrm>
            <a:off x="1619280" y="1628640"/>
            <a:ext cx="64087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Картинка 46 из 15096"/>
          <p:cNvPicPr/>
          <p:nvPr/>
        </p:nvPicPr>
        <p:blipFill>
          <a:blip r:embed="rId1"/>
          <a:stretch/>
        </p:blipFill>
        <p:spPr>
          <a:xfrm>
            <a:off x="1763640" y="1413000"/>
            <a:ext cx="5688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Картинка 50 из 15096"/>
          <p:cNvPicPr/>
          <p:nvPr/>
        </p:nvPicPr>
        <p:blipFill>
          <a:blip r:embed="rId1"/>
          <a:stretch/>
        </p:blipFill>
        <p:spPr>
          <a:xfrm>
            <a:off x="826920" y="765000"/>
            <a:ext cx="7488360" cy="55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Черное море – замёрзл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веро-западная акватория Черного моря в районе Одессы замерзла впервые за 30 лет в результате аномально холодной погоды, установившейся в регионе. Толщина льда на пляжах, как сообщил инженерно-технологический центр «СканЭкс», уже превышает 40 санти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спутниковым данным на 7 февраля северо-западная часть акватории Черного моря покрыта льдом на протяжении 13 километров от берега, а в 100 метрах от берега можно наблюдать небольшие «айсберги». Спасатели Румынии, Болгарии и Украины объявили на побережьях желтый и оранжевый уровни опасности, призывая население не выходить на лед. Работа украинских морских портов приостановлена до 15 февра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Черное море замерзло впервые за 30 лет"/>
          <p:cNvPicPr/>
          <p:nvPr/>
        </p:nvPicPr>
        <p:blipFill>
          <a:blip r:embed="rId1"/>
          <a:stretch/>
        </p:blipFill>
        <p:spPr>
          <a:xfrm>
            <a:off x="1143000" y="1333440"/>
            <a:ext cx="6858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Обледеневший корабль у берегов Евпатории"/>
          <p:cNvPicPr/>
          <p:nvPr/>
        </p:nvPicPr>
        <p:blipFill>
          <a:blip r:embed="rId1"/>
          <a:stretch/>
        </p:blipFill>
        <p:spPr>
          <a:xfrm>
            <a:off x="250920" y="620640"/>
            <a:ext cx="85723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Замерзшее Черное море у берегов Евпатории"/>
          <p:cNvPicPr/>
          <p:nvPr/>
        </p:nvPicPr>
        <p:blipFill>
          <a:blip r:embed="rId1"/>
          <a:stretch/>
        </p:blipFill>
        <p:spPr>
          <a:xfrm>
            <a:off x="285840" y="609480"/>
            <a:ext cx="8572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довое чудо, образовавшееся во время сильных морозов в Одессе, не перестает удивлять. Корка льда на море простирается на сотни метров. У берегов же образовались мини-айсберги. Они трутся друг о друга и об пирсы и издают устрашающий скрип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же интересно наблюдать за тем как море "дышит" - подо льдом все же пытаются пробиться волны. Тогда ледяная корка начинает двигаться, будто тая под собой неч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Замерзшее Черное море около Констанцы, Румыния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Покрытый льдом берег Черного моря около румынской Констанцы"/>
          <p:cNvPicPr/>
          <p:nvPr/>
        </p:nvPicPr>
        <p:blipFill>
          <a:blip r:embed="rId1"/>
          <a:stretch/>
        </p:blipFill>
        <p:spPr>
          <a:xfrm>
            <a:off x="395280" y="620640"/>
            <a:ext cx="857268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естоположени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585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но море – самое теплое и приветливое из наших морей, внутреннее море бассейна Атлантического океана на юге России. По поверхности Черного моря проходит водная граница между Европой и Аз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15 из 80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989000"/>
            <a:ext cx="442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4360" y="2133720"/>
            <a:ext cx="6875280" cy="20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иним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названия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поводу названия моря Черным существует несколько версий. По одной из них море так названо в результате своей штормливости - а штормы здесь бывают жестокие до 8 баллов. Во время такого шторма цвет воды вдали от берега приобретает черный цвет, а разрушительная сила волн полностью оправдывает его название. По другой теории море так названо потому, что металлические предметы, опущенные на большую глубину, а затем поднятые на поверхность приобретают чёрный цвет, например, якоря. Есть и мифологическая теория. Она связана с представлением у восточных народов об окраске сторон света. По этим представлениям всё, что находится на юге,- белое и красное, а на севере - черное. Эта теория подтверждается и в настоящее время - турки до сих пор называют Черное море Кара Дениз - море Черное, а Средиземное море, цвет воды которого намного темнее черноморской - Ак Дениз - Море Белое, только потому, что оно расположено южнее. Единой научной теории по этому вопросу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Картинка 72 из 119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476280"/>
            <a:ext cx="751536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_shtorm2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котловины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57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еологическом отношении Черное море молодое. Происхождение котловины относят к концу четвертичного периода, когда образовались горы Крыма, Кавказа и Малой Азии. По краям впадины сейчас продолжаются движением земной коры, сопровождаемое землетряс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33 из 4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1844640"/>
            <a:ext cx="4788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рода Черного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441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мат – мягкий средиземноморский субтроп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ительный мир – зеленые, бурые и красные водоросли, фитопланк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лубинных слоях обитают только сероводородные бакт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верхнем слое Черного моря много ры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Картинка 14 из 46874"/>
          <p:cNvPicPr/>
          <p:nvPr/>
        </p:nvPicPr>
        <p:blipFill>
          <a:blip r:embed="rId1"/>
          <a:stretch/>
        </p:blipFill>
        <p:spPr>
          <a:xfrm>
            <a:off x="4356000" y="2060640"/>
            <a:ext cx="435456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начение Черного 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е Черного  моря велико: рыболовство, судоходство, стратегическое и военное значение. Новороссийск – крупнейший порт России, а черноморское побережье Кавказа – важнейшая рекреационная зона на юге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Экологи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последние 15 лет экологическая обстановка на Черном море ухудши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ой вид загрязнения Черного моря – нефтепрод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вогу вызывает строительство новых нефтяных терминалов, работа газопровода «Голубой поток», строительство аммиачного трубопровода, дорог и сооружений к Олимпийским играм в Со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22:20Z</dcterms:created>
  <dc:creator>пк</dc:creator>
  <dc:description/>
  <dc:language>en-US</dc:language>
  <cp:lastModifiedBy>пк</cp:lastModifiedBy>
  <dcterms:modified xsi:type="dcterms:W3CDTF">2012-02-14T08:48:47Z</dcterms:modified>
  <cp:revision>2</cp:revision>
  <dc:subject/>
  <dc:title>Черное мо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a0000000000010250300207f7000400038000</vt:lpwstr>
  </property>
</Properties>
</file>