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35CF-6E8F-49A9-B7E3-6FE55905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01FF-92E5-4824-A6D7-8091DE70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178D-4F52-480A-9540-AC4267106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DCF6-3AEE-4BAB-BA87-117500559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F8AE-FD89-405E-8023-9497EF508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C779-8B00-478F-B001-68CCD183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5EB1-887A-4115-ACA7-5044613D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E3ED-6209-436D-8D00-0213D213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C8DB-E0CF-4097-8DE8-F330C54A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6C26-26E3-41DF-9DE1-14DE40D0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FFBC-FBAD-4F41-9D07-064E11E8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9F08-BD5D-45DA-A71B-2ADC37F0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F0E6-B43B-470D-81E8-CBE0730F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6DFA-CC3F-4F6D-BB9A-BF29037C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8C75-3702-40CD-BF2C-F5E49F3D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135E-566D-4070-AAF4-5564AC7BC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CA6C-D7B5-47E6-AFD9-C16FAE2C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C353-9484-4B3B-9FC3-44B37837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4ECB-191B-40D6-9B10-EEF9C08B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E5F6-6EF9-4367-ABEB-8EDAC669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EC0D-873B-49F8-9946-24FAD734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1F59-3068-4991-8132-BB6D1F2A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D5F5-FB7F-4D72-B48C-A8876ACA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AA55-9B78-4B9B-9F5D-0D3BA1F5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B245-CE10-4175-875E-C96D557BE7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89CE-1225-4D2B-AAA5-110F56A6F4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hernoemore.com.ua/uploads/posts/2009-04/1240405122_karta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vialine.com/img/repphotos/repphoto_4271_3560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arhankut.net.ua/rest-in-crimea/rest-in-crimea-08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Черное море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готовила Кускова Анаста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Картинка 34 из 15096"/>
          <p:cNvPicPr/>
          <p:nvPr/>
        </p:nvPicPr>
        <p:blipFill>
          <a:blip r:embed="rId1"/>
          <a:stretch/>
        </p:blipFill>
        <p:spPr>
          <a:xfrm>
            <a:off x="1619280" y="1628640"/>
            <a:ext cx="640872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Картинка 46 из 15096"/>
          <p:cNvPicPr/>
          <p:nvPr/>
        </p:nvPicPr>
        <p:blipFill>
          <a:blip r:embed="rId1"/>
          <a:stretch/>
        </p:blipFill>
        <p:spPr>
          <a:xfrm>
            <a:off x="1763640" y="1413000"/>
            <a:ext cx="56880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Картинка 50 из 15096"/>
          <p:cNvPicPr/>
          <p:nvPr/>
        </p:nvPicPr>
        <p:blipFill>
          <a:blip r:embed="rId1"/>
          <a:stretch/>
        </p:blipFill>
        <p:spPr>
          <a:xfrm>
            <a:off x="826920" y="765000"/>
            <a:ext cx="7488360" cy="556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Черное море – замёрзло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веро-западная акватория Черного моря в районе Одессы замерзла впервые за 30 лет в результате аномально холодной погоды, установившейся в регионе. Толщина льда на пляжах, как сообщил инженерно-технологический центр «СканЭкс», уже превышает 40 санти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гласно спутниковым данным на 7 февраля северо-западная часть акватории Черного моря покрыта льдом на протяжении 13 километров от берега, а в 100 метрах от берега можно наблюдать небольшие «айсберги». Спасатели Румынии, Болгарии и Украины объявили на побережьях желтый и оранжевый уровни опасности, призывая население не выходить на лед. Работа украинских морских портов приостановлена до 15 феврал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Черное море замерзло впервые за 30 лет"/>
          <p:cNvPicPr/>
          <p:nvPr/>
        </p:nvPicPr>
        <p:blipFill>
          <a:blip r:embed="rId1"/>
          <a:stretch/>
        </p:blipFill>
        <p:spPr>
          <a:xfrm>
            <a:off x="1143000" y="1333440"/>
            <a:ext cx="6858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Обледеневший корабль у берегов Евпатории"/>
          <p:cNvPicPr/>
          <p:nvPr/>
        </p:nvPicPr>
        <p:blipFill>
          <a:blip r:embed="rId1"/>
          <a:stretch/>
        </p:blipFill>
        <p:spPr>
          <a:xfrm>
            <a:off x="250920" y="620640"/>
            <a:ext cx="8572320" cy="56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Замерзшее Черное море у берегов Евпатории"/>
          <p:cNvPicPr/>
          <p:nvPr/>
        </p:nvPicPr>
        <p:blipFill>
          <a:blip r:embed="rId1"/>
          <a:stretch/>
        </p:blipFill>
        <p:spPr>
          <a:xfrm>
            <a:off x="285840" y="609480"/>
            <a:ext cx="85723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довое чудо, образовавшееся во время сильных морозов в Одессе, не перестает удивлять. Корка льда на море простирается на сотни метров. У берегов же образовались мини-айсберги. Они трутся друг о друга и об пирсы и издают устрашающий скрип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же интересно наблюдать за тем как море "дышит" - подо льдом все же пытаются пробиться волны. Тогда ледяная корка начинает двигаться, будто тая под собой нечт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Замерзшее Черное море около Констанцы, Румыния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Покрытый льдом берег Черного моря около румынской Констанцы"/>
          <p:cNvPicPr/>
          <p:nvPr/>
        </p:nvPicPr>
        <p:blipFill>
          <a:blip r:embed="rId1"/>
          <a:stretch/>
        </p:blipFill>
        <p:spPr>
          <a:xfrm>
            <a:off x="395280" y="620640"/>
            <a:ext cx="8572680" cy="59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Местоположение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35859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рно море – самое теплое и приветливое из наших морей, внутреннее море бассейна Атлантического океана на юге России. По поверхности Черного моря проходит водная граница между Европой и Аз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Картинка 15 из 801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7640" y="1989000"/>
            <a:ext cx="442728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84360" y="2133720"/>
            <a:ext cx="6875280" cy="20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инимание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роисхождение названия Черного мор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поводу названия моря Черным существует несколько версий. По одной из них море так названо в результате своей штормливости - а штормы здесь бывают жестокие до 8 баллов. Во время такого шторма цвет воды вдали от берега приобретает черный цвет, а разрушительная сила волн полностью оправдывает его название. По другой теории море так названо потому, что металлические предметы, опущенные на большую глубину, а затем поднятые на поверхность приобретают чёрный цвет, например, якоря. Есть и мифологическая теория. Она связана с представлением у восточных народов об окраске сторон света. По этим представлениям всё, что находится на юге,- белое и красное, а на севере - черное. Эта теория подтверждается и в настоящее время - турки до сих пор называют Черное море Кара Дениз - море Черное, а Средиземное море, цвет воды которого намного темнее черноморской - Ак Дениз - Море Белое, только потому, что оно расположено южнее. Единой научной теории по этому вопросу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Картинка 72 из 119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476280"/>
            <a:ext cx="751536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_shtorm2"/>
          <p:cNvPicPr/>
          <p:nvPr/>
        </p:nvPicPr>
        <p:blipFill>
          <a:blip r:embed="rId1"/>
          <a:stretch/>
        </p:blipFill>
        <p:spPr>
          <a:xfrm>
            <a:off x="684360" y="1268280"/>
            <a:ext cx="784836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роисхождение котловины Черного мор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57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геологическом отношении Черное море молодое. Происхождение котловины относят к концу четвертичного периода, когда образовались горы Крыма, Кавказа и Малой Азии. По краям впадины сейчас продолжаются движением земной коры, сопровождаемое землетряс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Картинка 33 из 4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1844640"/>
            <a:ext cx="4788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ирода Черного мо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441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имат – мягкий средиземноморский субтропиче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тительный мир – зеленые, бурые и красные водоросли, фитопланкт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глубинных слоях обитают только сероводородные бакте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верхнем слое Черного моря много ры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Картинка 14 из 46874"/>
          <p:cNvPicPr/>
          <p:nvPr/>
        </p:nvPicPr>
        <p:blipFill>
          <a:blip r:embed="rId1"/>
          <a:stretch/>
        </p:blipFill>
        <p:spPr>
          <a:xfrm>
            <a:off x="4356000" y="2060640"/>
            <a:ext cx="435456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Значение Черного  мор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чение Черного  моря велико: рыболовство, судоходство, стратегическое и военное значение. Новороссийск – крупнейший порт России, а черноморское побережье Кавказа – важнейшая рекреационная зона на юге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Экология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8064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 последние 15 лет экологическая обстановка на Черном море ухудшила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ой вид загрязнения Черного моря – нефтепродук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ревогу вызывает строительство новых нефтяных терминалов, работа газопровода «Голубой поток», строительство аммиачного трубопровода, дорог и сооружений к Олимпийским играм в Со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22:20Z</dcterms:created>
  <dc:creator>пк</dc:creator>
  <dc:description/>
  <dc:language>en-US</dc:language>
  <cp:lastModifiedBy>пк</cp:lastModifiedBy>
  <dcterms:modified xsi:type="dcterms:W3CDTF">2012-02-14T08:48:47Z</dcterms:modified>
  <cp:revision>2</cp:revision>
  <dc:subject/>
  <dc:title>Черное мор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a0000000000010250300207f7000400038000</vt:lpwstr>
  </property>
</Properties>
</file>