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AFA0-1859-4239-917D-42C24FB7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7A99-1669-44A9-9B46-BEA7EED3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8E2F-9F9F-4516-81E5-29C386D8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CC1A-F228-4BE7-9DEE-94660791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38F9-CB0D-48AB-B782-92CF7B46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3A4A-A683-4921-BF25-B2404E92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C4C5-4B3B-40B8-87AF-E3CE0E55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4E79-5BBF-49EB-B676-A8F6A0D2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518F-6F38-4F68-89E8-B197238E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1443-351F-48A3-A2FE-89064656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9090-CEF3-401C-B47A-123F0F68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62D9-CFD7-40DC-94B9-8B8C9B82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515F-2FA1-4B5A-8A14-D65BC065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FBD6-9DC8-4FA6-9140-849A72D4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E786-E8C3-4FA4-B5B7-6CC82843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74D0-C279-4715-BC62-AF5F72B2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8C1B-F2C0-4F2C-AF5D-27B6B321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609A-AC66-4772-829C-0121AFDE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4D8A-2A99-482D-AB92-381A0290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F762-8727-4E40-AD7C-D1D1346D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35F7-A0EC-4611-9951-00865DAF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E894-9EEB-4931-A85C-94E6ED23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67CE-D4B9-4D9E-B4CB-72CDC401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AD1F-60E8-4BE0-87C4-199EF8A5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9C7A-9E12-4FC0-94D9-54BEB37682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871F-7E90-4CFB-A2DD-526CAE3800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hernoemore.com.ua/uploads/posts/2009-04/1240405122_kart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vialine.com/img/repphotos/repphoto_4271_356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arhankut.net.ua/rest-in-crimea/rest-in-crimea-08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Черное мор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готовила Кускова Анаста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Картинка 34 из 15096"/>
          <p:cNvPicPr/>
          <p:nvPr/>
        </p:nvPicPr>
        <p:blipFill>
          <a:blip r:embed="rId1"/>
          <a:stretch/>
        </p:blipFill>
        <p:spPr>
          <a:xfrm>
            <a:off x="1619280" y="1628640"/>
            <a:ext cx="640872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Картинка 46 из 15096"/>
          <p:cNvPicPr/>
          <p:nvPr/>
        </p:nvPicPr>
        <p:blipFill>
          <a:blip r:embed="rId1"/>
          <a:stretch/>
        </p:blipFill>
        <p:spPr>
          <a:xfrm>
            <a:off x="1763640" y="1413000"/>
            <a:ext cx="56880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Картинка 50 из 15096"/>
          <p:cNvPicPr/>
          <p:nvPr/>
        </p:nvPicPr>
        <p:blipFill>
          <a:blip r:embed="rId1"/>
          <a:stretch/>
        </p:blipFill>
        <p:spPr>
          <a:xfrm>
            <a:off x="826920" y="765000"/>
            <a:ext cx="7488360" cy="55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Черное море – замёрзло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веро-западная акватория Черного моря в районе Одессы замерзла впервые за 30 лет в результате аномально холодной погоды, установившейся в регионе. Толщина льда на пляжах, как сообщил инженерно-технологический центр «СканЭкс», уже превышает 40 санти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спутниковым данным на 7 февраля северо-западная часть акватории Черного моря покрыта льдом на протяжении 13 километров от берега, а в 100 метрах от берега можно наблюдать небольшие «айсберги». Спасатели Румынии, Болгарии и Украины объявили на побережьях желтый и оранжевый уровни опасности, призывая население не выходить на лед. Работа украинских морских портов приостановлена до 15 феврал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Черное море замерзло впервые за 30 лет"/>
          <p:cNvPicPr/>
          <p:nvPr/>
        </p:nvPicPr>
        <p:blipFill>
          <a:blip r:embed="rId1"/>
          <a:stretch/>
        </p:blipFill>
        <p:spPr>
          <a:xfrm>
            <a:off x="1143000" y="1333440"/>
            <a:ext cx="6858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Обледеневший корабль у берегов Евпатории"/>
          <p:cNvPicPr/>
          <p:nvPr/>
        </p:nvPicPr>
        <p:blipFill>
          <a:blip r:embed="rId1"/>
          <a:stretch/>
        </p:blipFill>
        <p:spPr>
          <a:xfrm>
            <a:off x="250920" y="620640"/>
            <a:ext cx="857232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Замерзшее Черное море у берегов Евпатории"/>
          <p:cNvPicPr/>
          <p:nvPr/>
        </p:nvPicPr>
        <p:blipFill>
          <a:blip r:embed="rId1"/>
          <a:stretch/>
        </p:blipFill>
        <p:spPr>
          <a:xfrm>
            <a:off x="285840" y="609480"/>
            <a:ext cx="8572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довое чудо, образовавшееся во время сильных морозов в Одессе, не перестает удивлять. Корка льда на море простирается на сотни метров. У берегов же образовались мини-айсберги. Они трутся друг о друга и об пирсы и издают устрашающий скрип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же интересно наблюдать за тем как море "дышит" - подо льдом все же пытаются пробиться волны. Тогда ледяная корка начинает двигаться, будто тая под собой неч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Замерзшее Черное море около Констанцы, Румыния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Покрытый льдом берег Черного моря около румынской Констанцы"/>
          <p:cNvPicPr/>
          <p:nvPr/>
        </p:nvPicPr>
        <p:blipFill>
          <a:blip r:embed="rId1"/>
          <a:stretch/>
        </p:blipFill>
        <p:spPr>
          <a:xfrm>
            <a:off x="395280" y="620640"/>
            <a:ext cx="857268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естоположение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3585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рно море – самое теплое и приветливое из наших морей, внутреннее море бассейна Атлантического океана на юге России. По поверхности Черного моря проходит водная граница между Европой и Аз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Картинка 15 из 801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1989000"/>
            <a:ext cx="44272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4360" y="2133720"/>
            <a:ext cx="6875280" cy="20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иним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исхождение названия Черного мо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поводу названия моря Черным существует несколько версий. По одной из них море так названо в результате своей штормливости - а штормы здесь бывают жестокие до 8 баллов. Во время такого шторма цвет воды вдали от берега приобретает черный цвет, а разрушительная сила волн полностью оправдывает его название. По другой теории море так названо потому, что металлические предметы, опущенные на большую глубину, а затем поднятые на поверхность приобретают чёрный цвет, например, якоря. Есть и мифологическая теория. Она связана с представлением у восточных народов об окраске сторон света. По этим представлениям всё, что находится на юге,- белое и красное, а на севере - черное. Эта теория подтверждается и в настоящее время - турки до сих пор называют Черное море Кара Дениз - море Черное, а Средиземное море, цвет воды которого намного темнее черноморской - Ак Дениз - Море Белое, только потому, что оно расположено южнее. Единой научной теории по этому вопросу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Картинка 72 из 119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476280"/>
            <a:ext cx="751536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_shtorm2"/>
          <p:cNvPicPr/>
          <p:nvPr/>
        </p:nvPicPr>
        <p:blipFill>
          <a:blip r:embed="rId1"/>
          <a:stretch/>
        </p:blipFill>
        <p:spPr>
          <a:xfrm>
            <a:off x="684360" y="1268280"/>
            <a:ext cx="784836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исхождение котловины Черного мо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57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геологическом отношении Черное море молодое. Происхождение котловины относят к концу четвертичного периода, когда образовались горы Крыма, Кавказа и Малой Азии. По краям впадины сейчас продолжаются движением земной коры, сопровождаемое землетряс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Картинка 33 из 4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1844640"/>
            <a:ext cx="4788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рода Черного мо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441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мат – мягкий средиземноморский субтропи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тительный мир – зеленые, бурые и красные водоросли, фитопланк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глубинных слоях обитают только сероводородные бакте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верхнем слое Черного моря много ры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Картинка 14 из 46874"/>
          <p:cNvPicPr/>
          <p:nvPr/>
        </p:nvPicPr>
        <p:blipFill>
          <a:blip r:embed="rId1"/>
          <a:stretch/>
        </p:blipFill>
        <p:spPr>
          <a:xfrm>
            <a:off x="4356000" y="2060640"/>
            <a:ext cx="435456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начение Черного  мо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ение Черного  моря велико: рыболовство, судоходство, стратегическое и военное значение. Новороссийск – крупнейший порт России, а черноморское побережье Кавказа – важнейшая рекреационная зона на юге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Экологи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06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последние 15 лет экологическая обстановка на Черном море ухудшила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ой вид загрязнения Черного моря – нефтепроду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вогу вызывает строительство новых нефтяных терминалов, работа газопровода «Голубой поток», строительство аммиачного трубопровода, дорог и сооружений к Олимпийским играм в Со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22:20Z</dcterms:created>
  <dc:creator>пк</dc:creator>
  <dc:description/>
  <dc:language>en-US</dc:language>
  <cp:lastModifiedBy>пк</cp:lastModifiedBy>
  <dcterms:modified xsi:type="dcterms:W3CDTF">2012-02-14T08:48:47Z</dcterms:modified>
  <cp:revision>2</cp:revision>
  <dc:subject/>
  <dc:title>Черное мо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a0000000000010250300207f7000400038000</vt:lpwstr>
  </property>
</Properties>
</file>