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BAF-7162-4251-AC66-73052C11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572-EA2F-4603-B053-31318AEF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105-3BA2-4B07-B63D-A0060DD3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D99-28E2-43D0-8864-CECC413E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D1E7-EF99-4A8C-A0E3-296B4218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C631-5C8C-4015-A41A-B5CF8427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46FE-F3FD-4F4E-9E80-5693B957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4F62-777E-4147-B4B1-79B2C0C1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5FC9-1F61-4F8D-A457-DBC234FD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CAB9-4FFA-4711-AC32-10107B90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4863-F32F-4EF6-B550-6B5AF36C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2C8-1BF6-45FF-91AB-6A90FD64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35D7-4519-45B3-B65A-9428FE61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BE32-C0B1-40FC-9C54-0357005A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B320-20F9-4E82-B920-263BBF5B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A33A-636A-4B9A-9C99-13781D7E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74D2-885C-4C55-AFA7-46D6B395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C71-2FC8-4DDA-A952-CF2A84CF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CFB-0497-41C6-B9CB-2C43B106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AD0-0F51-4DFC-8869-4A360450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BB5-E369-4870-8929-2A19CB13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AB4-5922-41A5-B8F9-E33F46AB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0EC-0C52-4CC4-9B14-FB1707F5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ACD7-C3F7-4D52-A2E5-FC60759F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0081-F1C3-4C07-AAEB-006748ED97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A1EC-B8BA-47B0-A835-1575125E23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rnoemore.com.ua/uploads/posts/2009-04/1240405122_kart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aline.com/img/repphotos/repphoto_4271_356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rhankut.net.ua/rest-in-crimea/rest-in-crimea-0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Черное мор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отов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34 из 15096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Картинка 46 из 15096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50 из 15096"/>
          <p:cNvPicPr/>
          <p:nvPr/>
        </p:nvPicPr>
        <p:blipFill>
          <a:blip r:embed="rId1"/>
          <a:stretch/>
        </p:blipFill>
        <p:spPr>
          <a:xfrm>
            <a:off x="826920" y="765000"/>
            <a:ext cx="7488360" cy="55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ерное море – замёрзл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еро-западная акватория Черного моря в районе Одессы замерзла впервые за 30 лет в результате аномально холодной погоды, установившейся в регионе. Толщина льда на пляжах, как сообщил инженерно-технологический центр «СканЭкс», уже превышает 40 санти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спутниковым данным на 7 февраля северо-западная часть акватории Черного моря покрыта льдом на протяжении 13 километров от берега, а в 100 метрах от берега можно наблюдать небольшие «айсберги». Спасатели Румынии, Болгарии и Украины объявили на побережьях желтый и оранжевый уровни опасности, призывая население не выходить на лед. Работа украинских морских портов приостановлена до 15 февра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Черное море замерзло впервые за 30 лет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Обледеневший корабль у берегов Евпатории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Замерзшее Черное море у берегов Евпатории"/>
          <p:cNvPicPr/>
          <p:nvPr/>
        </p:nvPicPr>
        <p:blipFill>
          <a:blip r:embed="rId1"/>
          <a:stretch/>
        </p:blipFill>
        <p:spPr>
          <a:xfrm>
            <a:off x="285840" y="609480"/>
            <a:ext cx="857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довое чудо, образовавшееся во время сильных морозов в Одессе, не перестает удивлять. Корка льда на море простирается на сотни метров. У берегов же образовались мини-айсберги. Они трутся друг о друга и об пирсы и издают устрашающий скрип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интересно наблюдать за тем как море "дышит" - подо льдом все же пытаются пробиться волны. Тогда ледяная корка начинает двигаться, будто тая под собой неч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Замерзшее Черное море около Констанцы, Румыния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Покрытый льдом берег Черного моря около румынской Констанцы"/>
          <p:cNvPicPr/>
          <p:nvPr/>
        </p:nvPicPr>
        <p:blipFill>
          <a:blip r:embed="rId1"/>
          <a:stretch/>
        </p:blipFill>
        <p:spPr>
          <a:xfrm>
            <a:off x="395280" y="620640"/>
            <a:ext cx="85726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стоположе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58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но море – самое теплое и приветливое из наших морей, внутреннее море бассейна Атлантического океана на юге России. По поверхности Черного моря проходит водная граница между Европой и А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5 из 80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42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2133720"/>
            <a:ext cx="6875280" cy="20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и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названия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оводу названия моря Черным существует несколько версий. По одной из них море так названо в результате своей штормливости - а штормы здесь бывают жестокие до 8 баллов. Во время такого шторма цвет воды вдали от берега приобретает черный цвет, а разрушительная сила волн полностью оправдывает его название. По другой теории море так названо потому, что металлические предметы, опущенные на большую глубину, а затем поднятые на поверхность приобретают чёрный цвет, например, якоря. Есть и мифологическая теория. Она связана с представлением у восточных народов об окраске сторон света. По этим представлениям всё, что находится на юге,- белое и красное, а на севере - черное. Эта теория подтверждается и в настоящее время - турки до сих пор называют Черное море Кара Дениз - море Черное, а Средиземное море, цвет воды которого намного темнее черноморской - Ак Дениз - Море Белое, только потому, что оно расположено южнее. Единой научной теории по этому вопросу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72 из 119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76280"/>
            <a:ext cx="7515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_shtorm2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котловины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57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еологическом отношении Черное море молодое. Происхождение котловины относят к концу четвертичного периода, когда образовались горы Крыма, Кавказа и Малой Азии. По краям впадины сейчас продолжаются движением земной коры, сопровождаемое землетряс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3 из 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Черного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мат – мягкий средиземноморский субтроп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ительный мир – зеленые, бурые и красные водоросли, фитопланк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лубинных слоях обитают только сероводородные бакт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ерхнем слое Черного моря много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4 из 46874"/>
          <p:cNvPicPr/>
          <p:nvPr/>
        </p:nvPicPr>
        <p:blipFill>
          <a:blip r:embed="rId1"/>
          <a:stretch/>
        </p:blipFill>
        <p:spPr>
          <a:xfrm>
            <a:off x="4356000" y="2060640"/>
            <a:ext cx="43545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начение Черного 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 Черного  моря велико: рыболовство, судоходство, стратегическое и военное значение. Новороссийск – крупнейший порт России, а черноморское побережье Кавказа – важнейшая рекреационная зона на юге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лог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последние 15 лет экологическая обстановка на Черном море ухудш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й вид загрязнения Черного моря – нефте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вогу вызывает строительство новых нефтяных терминалов, работа газопровода «Голубой поток», строительство аммиачного трубопровода, дорог и сооружений к Олимпийским играм в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22:20Z</dcterms:created>
  <dc:creator>пк</dc:creator>
  <dc:description/>
  <dc:language>en-US</dc:language>
  <cp:lastModifiedBy>пк</cp:lastModifiedBy>
  <dcterms:modified xsi:type="dcterms:W3CDTF">2012-02-14T08:48:47Z</dcterms:modified>
  <cp:revision>2</cp:revision>
  <dc:subject/>
  <dc:title>Черн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a0000000000010250300207f7000400038000</vt:lpwstr>
  </property>
</Properties>
</file>