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8.png" ContentType="image/png"/>
  <Override PartName="/ppt/media/image7.jpeg" ContentType="image/jpeg"/>
  <Override PartName="/ppt/media/image26.png" ContentType="image/png"/>
  <Override PartName="/ppt/media/image3.gif" ContentType="image/gif"/>
  <Override PartName="/ppt/media/image12.png" ContentType="image/png"/>
  <Override PartName="/ppt/media/image27.png" ContentType="image/png"/>
  <Override PartName="/ppt/media/image11.png" ContentType="image/png"/>
  <Override PartName="/ppt/media/image9.gif" ContentType="image/gif"/>
  <Override PartName="/ppt/media/image5.wmf" ContentType="image/x-wmf"/>
  <Override PartName="/ppt/media/image6.jpeg" ContentType="image/jpeg"/>
  <Override PartName="/ppt/media/image10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4.png" ContentType="image/png"/>
  <Override PartName="/ppt/media/image34.png" ContentType="image/png"/>
  <Override PartName="/ppt/media/image30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gif" ContentType="image/gif"/>
  <Override PartName="/ppt/media/image23.png" ContentType="image/png"/>
  <Override PartName="/ppt/media/image20.jpeg" ContentType="image/jpeg"/>
  <Override PartName="/ppt/media/image19.png" ContentType="image/pn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3998-E62F-4CDA-B1F5-798F89721F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иперссылке (стрелке)после завершения работы или в любой момент переходим к слайду №1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DC24-B885-434E-A8BB-B55DE7FD69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4BF1-C95C-49BF-B529-046E6168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9AA0-222A-45F1-B203-4F9E8657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8FCE-EDE5-4F2E-B735-1FEC20DA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9CB0-4EC1-4750-A83A-FD224533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8F35-E855-4597-9DEC-C9A3F609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2DE-D55B-46FE-9C19-811C0B7C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CD7B-4D30-4C2D-BA02-2F93AA77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8C8B-B407-4F72-925D-35E719F9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9958-FFB2-4E07-8934-8393D972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6985-6266-4D9B-926D-87EBD1A1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4BED-E48E-4587-A5B2-9FE8A6AB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F3DD-7144-4CB1-B03A-6A6AE1EB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2D7C-992E-4E6C-8CED-647412DFAB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3.xml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" Target="slide19.xml"/><Relationship Id="rId14" Type="http://schemas.openxmlformats.org/officeDocument/2006/relationships/image" Target="../media/image28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class-fizika.narod.ru/7_rabota.htm" TargetMode="External"/><Relationship Id="rId2" Type="http://schemas.openxmlformats.org/officeDocument/2006/relationships/hyperlink" Target="http://class-fizika.narod.ru/7_moshnost.htm" TargetMode="External"/><Relationship Id="rId3" Type="http://schemas.openxmlformats.org/officeDocument/2006/relationships/hyperlink" Target="http://4put.ru/pictures/max/190/586563.gif" TargetMode="External"/><Relationship Id="rId4" Type="http://schemas.openxmlformats.org/officeDocument/2006/relationships/hyperlink" Target="http://sosh19.okis.ru/img/sosh19/0_623b1_cda261ad_XL.gif" TargetMode="External"/><Relationship Id="rId5" Type="http://schemas.openxmlformats.org/officeDocument/2006/relationships/hyperlink" Target="http://sosh19.okis.ru/img/sosh19/0_623b1_cda261ad_XL.gif" TargetMode="External"/><Relationship Id="rId6" Type="http://schemas.openxmlformats.org/officeDocument/2006/relationships/hyperlink" Target="http://forum.moya-semya.ru/uploads/av-9276.gif" TargetMode="External"/><Relationship Id="rId7" Type="http://schemas.openxmlformats.org/officeDocument/2006/relationships/hyperlink" Target="http://www.umka.by/modules/thumb/thumb.php?img=%2F.%2Fimages%2Fitems%2F1712_image.jpg&amp;w=400&amp;h=400" TargetMode="External"/><Relationship Id="rId8" Type="http://schemas.openxmlformats.org/officeDocument/2006/relationships/hyperlink" Target="http://www.umka.by/modules/thumb/thumb.php?img=%2F.%2Fimages%2Fitems%2F1712_image.jpg&amp;w=400&amp;h=400" TargetMode="External"/><Relationship Id="rId9" Type="http://schemas.openxmlformats.org/officeDocument/2006/relationships/hyperlink" Target="http://ic.pics.livejournal.com/aurume/15770482/4473/4473_original.gif" TargetMode="External"/><Relationship Id="rId10" Type="http://schemas.openxmlformats.org/officeDocument/2006/relationships/hyperlink" Target="http://www.animated-gifs.eu/sports-skiing/0060.gif" TargetMode="External"/><Relationship Id="rId11" Type="http://schemas.openxmlformats.org/officeDocument/2006/relationships/hyperlink" Target="http://mooreslawnmaintenance.net/images/144_mosquito_graphic2.gif" TargetMode="External"/><Relationship Id="rId12" Type="http://schemas.openxmlformats.org/officeDocument/2006/relationships/hyperlink" Target="http://burn.krasgmu.ru/src/images/depts/194/heart_2_b_crop.gif" TargetMode="External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3/77/849/77849571_pahar.jpg" TargetMode="External"/><Relationship Id="rId2" Type="http://schemas.openxmlformats.org/officeDocument/2006/relationships/hyperlink" Target="http://lvovcity.com/images/stories/news/2013/03/14143.jpg" TargetMode="External"/><Relationship Id="rId3" Type="http://schemas.openxmlformats.org/officeDocument/2006/relationships/hyperlink" Target="http://my-ivanovo.ru/wp-content/uploads/2013/03/850.jpg" TargetMode="External"/><Relationship Id="rId4" Type="http://schemas.openxmlformats.org/officeDocument/2006/relationships/hyperlink" Target="http://image.tsn.ua/media/images2/original/Feb2009/ee110f63cc_110397.jpg" TargetMode="External"/><Relationship Id="rId5" Type="http://schemas.openxmlformats.org/officeDocument/2006/relationships/hyperlink" Target="http://image.tsn.ua/media/images2/original/Feb2009/ee110f63cc_110397.jpg" TargetMode="External"/><Relationship Id="rId6" Type="http://schemas.openxmlformats.org/officeDocument/2006/relationships/hyperlink" Target="http://interboom.ru/fid/aW1hZ2VfbWlkZGxlOjEzMzMyODcvL2ltYWdlX21pZGRsZToxMzMzMjg3" TargetMode="External"/><Relationship Id="rId7" Type="http://schemas.openxmlformats.org/officeDocument/2006/relationships/hyperlink" Target="http://interboom.ru/fid/aW1hZ2VfbWlkZGxlOjEzMzMyODcvL2ltYWdlX21pZGRsZToxMzMzMjg3" TargetMode="External"/><Relationship Id="rId8" Type="http://schemas.openxmlformats.org/officeDocument/2006/relationships/hyperlink" Target="http://gifportal.ru/data/smiles/jivotniea-2705.gif" TargetMode="External"/><Relationship Id="rId9" Type="http://schemas.openxmlformats.org/officeDocument/2006/relationships/hyperlink" Target="http://krabov.net/20460-loshadinaya-sila-41-foto.html" TargetMode="External"/><Relationship Id="rId10" Type="http://schemas.openxmlformats.org/officeDocument/2006/relationships/hyperlink" Target="http://ksyha.narod.ru/dblclick.gif" TargetMode="External"/><Relationship Id="rId11" Type="http://schemas.openxmlformats.org/officeDocument/2006/relationships/hyperlink" Target="http://www.celysvet.cz/skin/smile/s6535.gif" TargetMode="External"/><Relationship Id="rId12" Type="http://schemas.openxmlformats.org/officeDocument/2006/relationships/hyperlink" Target="http://www.planetaskazok.ru/images/stories/oseeva/sinie_listya/img_032.jpg" TargetMode="External"/><Relationship Id="rId13" Type="http://schemas.openxmlformats.org/officeDocument/2006/relationships/hyperlink" Target="http://www.planetaskazok.ru/images/stories/oseeva/sinie_listya/img_032.jpg" TargetMode="External"/><Relationship Id="rId14" Type="http://schemas.openxmlformats.org/officeDocument/2006/relationships/hyperlink" Target="http://www.lesitedeschampions.ca/sport-moto12.gif" TargetMode="External"/><Relationship Id="rId15" Type="http://schemas.openxmlformats.org/officeDocument/2006/relationships/hyperlink" Target="http://www.lesitedeschampions.ca/sport-moto12.gif" TargetMode="External"/><Relationship Id="rId16" Type="http://schemas.openxmlformats.org/officeDocument/2006/relationships/hyperlink" Target="http://img.tootoo.com/mytootoo/upload/47/479578/product/479578_c9a2b63e458867aa51d6b33d980d81c6.jpg" TargetMode="External"/><Relationship Id="rId17" Type="http://schemas.openxmlformats.org/officeDocument/2006/relationships/hyperlink" Target="http://img.tootoo.com/mytootoo/upload/47/479578/product/479578_c9a2b63e458867aa51d6b33d980d81c6.jpg" TargetMode="Externa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boom.ru/fid/aW1hZ2VfbWlkZGxlOjEzMzMyODcvL2ltYWdlX21pZGRsZToxMzMzMjg3" TargetMode="External"/><Relationship Id="rId2" Type="http://schemas.openxmlformats.org/officeDocument/2006/relationships/hyperlink" Target="http://gifportal.ru/data/smiles/jivotniea-2705.gif" TargetMode="External"/><Relationship Id="rId3" Type="http://schemas.openxmlformats.org/officeDocument/2006/relationships/hyperlink" Target="http://krabov.net/20460-loshadinaya-sila-41-foto.html" TargetMode="External"/><Relationship Id="rId4" Type="http://schemas.openxmlformats.org/officeDocument/2006/relationships/hyperlink" Target="http://ksyha.narod.ru/dblclick.gif" TargetMode="External"/><Relationship Id="rId5" Type="http://schemas.openxmlformats.org/officeDocument/2006/relationships/hyperlink" Target="http://www.celysvet.cz/skin/smile/s6535.gif" TargetMode="External"/><Relationship Id="rId6" Type="http://schemas.openxmlformats.org/officeDocument/2006/relationships/hyperlink" Target="http://www.planetaskazok.ru/images/stories/oseeva/sinie_listya/img_032.jpg" TargetMode="External"/><Relationship Id="rId7" Type="http://schemas.openxmlformats.org/officeDocument/2006/relationships/hyperlink" Target="http://www.lesitedeschampions.ca/sport-moto12.gif" TargetMode="External"/><Relationship Id="rId8" Type="http://schemas.openxmlformats.org/officeDocument/2006/relationships/hyperlink" Target="http://img.tootoo.com/mytootoo/upload/47/479578/product/479578_c9a2b63e458867aa51d6b33d980d81c6.jpg" TargetMode="External"/><Relationship Id="rId9" Type="http://schemas.openxmlformats.org/officeDocument/2006/relationships/hyperlink" Target="http://class-fizika.narod.ru/7_class/7_motshnost/mexanika5.gif" TargetMode="External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одзаголовок 2" descr=""/>
          <p:cNvPicPr/>
          <p:nvPr/>
        </p:nvPicPr>
        <p:blipFill>
          <a:blip r:embed="rId1"/>
          <a:stretch/>
        </p:blipFill>
        <p:spPr>
          <a:xfrm>
            <a:off x="2908440" y="3865680"/>
            <a:ext cx="339552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2" descr=""/>
          <p:cNvPicPr/>
          <p:nvPr/>
        </p:nvPicPr>
        <p:blipFill>
          <a:blip r:embed="rId2"/>
          <a:stretch/>
        </p:blipFill>
        <p:spPr>
          <a:xfrm>
            <a:off x="890640" y="542880"/>
            <a:ext cx="7547040" cy="3591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971640" y="55166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МАОУ Гимназия №10 г. Пушки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ршина Людмила Алексе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"/>
          <p:cNvSpPr/>
          <p:nvPr/>
        </p:nvSpPr>
        <p:spPr>
          <a:xfrm>
            <a:off x="611280" y="91440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 Джеймс Уатт (1736 - 1819) пользовался другой единицей мощности - лошадиной силой (1 л. с.), которую он ввел с целью возможности сравнения работоспособности паровой машины и лоша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912760" y="312840"/>
            <a:ext cx="328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ошадиная с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://gifportal.ru/data/smiles/jivotniea-2705.gif"/>
          <p:cNvPicPr/>
          <p:nvPr/>
        </p:nvPicPr>
        <p:blipFill>
          <a:blip r:embed="rId1"/>
          <a:stretch/>
        </p:blipFill>
        <p:spPr>
          <a:xfrm flipH="1">
            <a:off x="3131640" y="2637000"/>
            <a:ext cx="1860840" cy="1217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interboom.ru/fid/aW1hZ2VfbWlkZGxlOjEzMzMyODcvL2ltYWdlX21pZGRsZToxMzMzMjg3"/>
          <p:cNvPicPr/>
          <p:nvPr/>
        </p:nvPicPr>
        <p:blipFill>
          <a:blip r:embed="rId2"/>
          <a:stretch/>
        </p:blipFill>
        <p:spPr>
          <a:xfrm>
            <a:off x="755640" y="2708280"/>
            <a:ext cx="1916280" cy="1441440"/>
          </a:xfrm>
          <a:prstGeom prst="rect">
            <a:avLst/>
          </a:prstGeom>
          <a:ln w="0">
            <a:noFill/>
          </a:ln>
        </p:spPr>
      </p:pic>
      <p:sp>
        <p:nvSpPr>
          <p:cNvPr id="123" name="Полилиния 12"/>
          <p:cNvSpPr/>
          <p:nvPr/>
        </p:nvSpPr>
        <p:spPr>
          <a:xfrm>
            <a:off x="-108000" y="4221000"/>
            <a:ext cx="4727520" cy="7488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олилиния 13"/>
          <p:cNvSpPr/>
          <p:nvPr/>
        </p:nvSpPr>
        <p:spPr>
          <a:xfrm>
            <a:off x="-612720" y="4076640"/>
            <a:ext cx="16778160" cy="25236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олилиния 14"/>
          <p:cNvSpPr/>
          <p:nvPr/>
        </p:nvSpPr>
        <p:spPr>
          <a:xfrm>
            <a:off x="-252360" y="4508640"/>
            <a:ext cx="16994160" cy="21564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олилиния 15"/>
          <p:cNvSpPr/>
          <p:nvPr/>
        </p:nvSpPr>
        <p:spPr>
          <a:xfrm>
            <a:off x="5796000" y="4292640"/>
            <a:ext cx="399960" cy="73080"/>
          </a:xfrm>
          <a:prstGeom prst="pi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олилиния 16"/>
          <p:cNvSpPr/>
          <p:nvPr/>
        </p:nvSpPr>
        <p:spPr>
          <a:xfrm>
            <a:off x="7885080" y="4390920"/>
            <a:ext cx="1236600" cy="46080"/>
          </a:xfrm>
          <a:prstGeom prst="pi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21"/>
          <p:cNvSpPr/>
          <p:nvPr/>
        </p:nvSpPr>
        <p:spPr>
          <a:xfrm>
            <a:off x="5651640" y="3573360"/>
            <a:ext cx="2881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л.с. ≈ 735В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85 -0.00764 L -0.88577 -0.0287 E">
                                      <p:cBhvr>
                                        <p:cTn id="241" dur="5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03 -2.22222E-006 L -0.28229 0.01042 E">
                                      <p:cBhvr>
                                        <p:cTn id="243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35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14722 -0.0243 L -0.97118 -0.00324 E">
                                      <p:cBhvr>
                                        <p:cTn id="245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85185E-006 L -0.94496 0.0368 E">
                                      <p:cBhvr>
                                        <p:cTn id="247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045 0.00023 L -0.68333 0.03172 E">
                                      <p:cBhvr>
                                        <p:cTn id="249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-3636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щность автомобильных двига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3564000" y="1341360"/>
            <a:ext cx="554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100 л. с. – малолитражные автомобил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-200 л. с. – автомобили с двигателем средней мощ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-500 л. с. – спортивные автомобил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л. с. и более – гоночные болиды и суперкары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8" descr="http://img0.liveinternet.ru/images/attach/c/7/96/502/96502876_38.jpg"/>
          <p:cNvPicPr/>
          <p:nvPr/>
        </p:nvPicPr>
        <p:blipFill>
          <a:blip r:embed="rId1"/>
          <a:stretch/>
        </p:blipFill>
        <p:spPr>
          <a:xfrm>
            <a:off x="281160" y="1413000"/>
            <a:ext cx="3138480" cy="2587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&amp;Lcy;&amp;ocy;&amp;shcy;&amp;acy;&amp;dcy;&amp;icy;&amp;ncy;&amp;acy;&amp;yacy; &amp;scy;&amp;icy;&amp;lcy;&amp;acy; (41 &amp;fcy;&amp;ocy;&amp;tcy;&amp;ocy;)"/>
          <p:cNvPicPr/>
          <p:nvPr/>
        </p:nvPicPr>
        <p:blipFill>
          <a:blip r:embed="rId2"/>
          <a:stretch/>
        </p:blipFill>
        <p:spPr>
          <a:xfrm>
            <a:off x="358920" y="4149720"/>
            <a:ext cx="3060720" cy="2016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5"/>
          <p:cNvSpPr/>
          <p:nvPr/>
        </p:nvSpPr>
        <p:spPr>
          <a:xfrm>
            <a:off x="3635280" y="443700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"Лошадиная сила" расположен в самом центре Санкт-Петербург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юшенная площадь, дом №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ирог 3">
            <a:hlinkClick r:id="rId1" action="ppaction://hlinksldjump"/>
          </p:cNvPr>
          <p:cNvSpPr/>
          <p:nvPr/>
        </p:nvSpPr>
        <p:spPr>
          <a:xfrm>
            <a:off x="2916360" y="1700280"/>
            <a:ext cx="3311280" cy="338436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ирог 4">
            <a:hlinkClick r:id="rId2" action="ppaction://hlinksldjump"/>
          </p:cNvPr>
          <p:cNvSpPr/>
          <p:nvPr/>
        </p:nvSpPr>
        <p:spPr>
          <a:xfrm rot="14400000">
            <a:off x="2909520" y="1720080"/>
            <a:ext cx="3321000" cy="3368520"/>
          </a:xfrm>
          <a:prstGeom prst="pi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ирог 5">
            <a:hlinkClick r:id="rId3" action="ppaction://hlinksldjump"/>
          </p:cNvPr>
          <p:cNvSpPr/>
          <p:nvPr/>
        </p:nvSpPr>
        <p:spPr>
          <a:xfrm rot="18142200">
            <a:off x="2883600" y="1718280"/>
            <a:ext cx="3435120" cy="3382920"/>
          </a:xfrm>
          <a:prstGeom prst="pi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ирог 6">
            <a:hlinkClick r:id="rId4" action="ppaction://hlinksldjump"/>
          </p:cNvPr>
          <p:cNvSpPr/>
          <p:nvPr/>
        </p:nvSpPr>
        <p:spPr>
          <a:xfrm rot="7243800">
            <a:off x="2810160" y="1677240"/>
            <a:ext cx="3556080" cy="3402000"/>
          </a:xfrm>
          <a:prstGeom prst="pi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ирог 8">
            <a:hlinkClick r:id="rId5" action="ppaction://hlinksldjump"/>
          </p:cNvPr>
          <p:cNvSpPr/>
          <p:nvPr/>
        </p:nvSpPr>
        <p:spPr>
          <a:xfrm rot="10800000">
            <a:off x="2843280" y="1699920"/>
            <a:ext cx="3457440" cy="3384360"/>
          </a:xfrm>
          <a:prstGeom prst="pi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ирог 9">
            <a:hlinkClick r:id="rId6" action="ppaction://hlinksldjump"/>
          </p:cNvPr>
          <p:cNvSpPr/>
          <p:nvPr/>
        </p:nvSpPr>
        <p:spPr>
          <a:xfrm rot="3523800">
            <a:off x="2896560" y="1639800"/>
            <a:ext cx="3360960" cy="35319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10"/>
          <p:cNvSpPr/>
          <p:nvPr/>
        </p:nvSpPr>
        <p:spPr>
          <a:xfrm>
            <a:off x="2411280" y="549360"/>
            <a:ext cx="720720" cy="71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11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385128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14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15"/>
          <p:cNvSpPr/>
          <p:nvPr/>
        </p:nvSpPr>
        <p:spPr>
          <a:xfrm>
            <a:off x="5292720" y="549360"/>
            <a:ext cx="71928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16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TextBox 17" descr=""/>
          <p:cNvPicPr/>
          <p:nvPr/>
        </p:nvPicPr>
        <p:blipFill>
          <a:blip r:embed="rId7"/>
          <a:stretch/>
        </p:blipFill>
        <p:spPr>
          <a:xfrm>
            <a:off x="2395440" y="530280"/>
            <a:ext cx="781200" cy="68256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 18" descr=""/>
          <p:cNvPicPr/>
          <p:nvPr/>
        </p:nvPicPr>
        <p:blipFill>
          <a:blip r:embed="rId8"/>
          <a:stretch/>
        </p:blipFill>
        <p:spPr>
          <a:xfrm>
            <a:off x="3048120" y="530280"/>
            <a:ext cx="895320" cy="68256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 19" descr=""/>
          <p:cNvPicPr/>
          <p:nvPr/>
        </p:nvPicPr>
        <p:blipFill>
          <a:blip r:embed="rId9"/>
          <a:stretch/>
        </p:blipFill>
        <p:spPr>
          <a:xfrm>
            <a:off x="3840120" y="530280"/>
            <a:ext cx="817560" cy="68256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 20" descr=""/>
          <p:cNvPicPr/>
          <p:nvPr/>
        </p:nvPicPr>
        <p:blipFill>
          <a:blip r:embed="rId10"/>
          <a:stretch/>
        </p:blipFill>
        <p:spPr>
          <a:xfrm>
            <a:off x="4559400" y="530280"/>
            <a:ext cx="798480" cy="68256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 21" descr=""/>
          <p:cNvPicPr/>
          <p:nvPr/>
        </p:nvPicPr>
        <p:blipFill>
          <a:blip r:embed="rId11"/>
          <a:stretch/>
        </p:blipFill>
        <p:spPr>
          <a:xfrm>
            <a:off x="5278320" y="530280"/>
            <a:ext cx="804960" cy="682560"/>
          </a:xfrm>
          <a:prstGeom prst="rect">
            <a:avLst/>
          </a:prstGeom>
          <a:ln w="0">
            <a:noFill/>
          </a:ln>
        </p:spPr>
      </p:pic>
      <p:pic>
        <p:nvPicPr>
          <p:cNvPr id="151" name="TextBox 22" descr=""/>
          <p:cNvPicPr/>
          <p:nvPr/>
        </p:nvPicPr>
        <p:blipFill>
          <a:blip r:embed="rId12"/>
          <a:stretch/>
        </p:blipFill>
        <p:spPr>
          <a:xfrm>
            <a:off x="5999040" y="530280"/>
            <a:ext cx="766800" cy="682560"/>
          </a:xfrm>
          <a:prstGeom prst="rect">
            <a:avLst/>
          </a:prstGeom>
          <a:ln w="0">
            <a:noFill/>
          </a:ln>
        </p:spPr>
      </p:pic>
      <p:sp>
        <p:nvSpPr>
          <p:cNvPr id="152" name="Стрелка вправо 23">
            <a:hlinkClick r:id="rId13" action="ppaction://hlinksldjump"/>
          </p:cNvPr>
          <p:cNvSpPr/>
          <p:nvPr/>
        </p:nvSpPr>
        <p:spPr>
          <a:xfrm rot="5400000">
            <a:off x="8531640" y="548280"/>
            <a:ext cx="504720" cy="360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Овал 24"/>
          <p:cNvSpPr/>
          <p:nvPr/>
        </p:nvSpPr>
        <p:spPr>
          <a:xfrm>
            <a:off x="7164360" y="3141720"/>
            <a:ext cx="432000" cy="43164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Овал 26"/>
          <p:cNvSpPr/>
          <p:nvPr/>
        </p:nvSpPr>
        <p:spPr>
          <a:xfrm>
            <a:off x="1476360" y="3213000"/>
            <a:ext cx="431640" cy="432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Овал 27"/>
          <p:cNvSpPr/>
          <p:nvPr/>
        </p:nvSpPr>
        <p:spPr>
          <a:xfrm>
            <a:off x="1476360" y="4508640"/>
            <a:ext cx="431640" cy="43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Овал 28"/>
          <p:cNvSpPr/>
          <p:nvPr/>
        </p:nvSpPr>
        <p:spPr>
          <a:xfrm>
            <a:off x="7164360" y="1844640"/>
            <a:ext cx="432000" cy="432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Овал 29"/>
          <p:cNvSpPr/>
          <p:nvPr/>
        </p:nvSpPr>
        <p:spPr>
          <a:xfrm>
            <a:off x="7164360" y="4437000"/>
            <a:ext cx="432000" cy="432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Овал 30"/>
          <p:cNvSpPr/>
          <p:nvPr/>
        </p:nvSpPr>
        <p:spPr>
          <a:xfrm>
            <a:off x="1476360" y="1916280"/>
            <a:ext cx="431640" cy="433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25"/>
          <p:cNvSpPr/>
          <p:nvPr/>
        </p:nvSpPr>
        <p:spPr>
          <a:xfrm>
            <a:off x="241128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33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34"/>
          <p:cNvSpPr/>
          <p:nvPr/>
        </p:nvSpPr>
        <p:spPr>
          <a:xfrm>
            <a:off x="5292720" y="549360"/>
            <a:ext cx="71928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5"/>
          <p:cNvSpPr/>
          <p:nvPr/>
        </p:nvSpPr>
        <p:spPr>
          <a:xfrm>
            <a:off x="385128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36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37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31"/>
          <p:cNvSpPr/>
          <p:nvPr/>
        </p:nvSpPr>
        <p:spPr>
          <a:xfrm>
            <a:off x="179280" y="515772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сектор круга, наведите курсор, щелкните левой кнопкой мыши. Выберите правильный ответ. После этого вы получаете право нажать на кнопку того же цвета, что и выбранный Вами сектор, и открыть одну букву слова. Удач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http://ksyha.narod.ru/dblclick.gif"/>
          <p:cNvPicPr/>
          <p:nvPr/>
        </p:nvPicPr>
        <p:blipFill>
          <a:blip r:embed="rId14"/>
          <a:stretch/>
        </p:blipFill>
        <p:spPr>
          <a:xfrm>
            <a:off x="4643280" y="4724280"/>
            <a:ext cx="21225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ршает ли работу сила тяжести, действующая на книгу, лежащую на сто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"/>
          <p:cNvSpPr/>
          <p:nvPr/>
        </p:nvSpPr>
        <p:spPr>
          <a:xfrm>
            <a:off x="826920" y="1916280"/>
            <a:ext cx="216000" cy="217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Овал 3"/>
          <p:cNvSpPr/>
          <p:nvPr/>
        </p:nvSpPr>
        <p:spPr>
          <a:xfrm>
            <a:off x="826920" y="2924280"/>
            <a:ext cx="216000" cy="217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Овал 4"/>
          <p:cNvSpPr/>
          <p:nvPr/>
        </p:nvSpPr>
        <p:spPr>
          <a:xfrm>
            <a:off x="826920" y="4005360"/>
            <a:ext cx="216000" cy="215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Овал 5">
            <a:hlinkClick r:id="rId1" action="ppaction://hlinksldjump"/>
          </p:cNvPr>
          <p:cNvSpPr/>
          <p:nvPr/>
        </p:nvSpPr>
        <p:spPr>
          <a:xfrm>
            <a:off x="826920" y="4941720"/>
            <a:ext cx="216000" cy="216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1327680" y="1773360"/>
            <a:ext cx="62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328760" y="2852640"/>
            <a:ext cx="61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1332000" y="386064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1319040" y="486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10"/>
          <p:cNvSpPr/>
          <p:nvPr/>
        </p:nvSpPr>
        <p:spPr>
          <a:xfrm>
            <a:off x="5076720" y="486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11"/>
          <p:cNvSpPr/>
          <p:nvPr/>
        </p:nvSpPr>
        <p:spPr>
          <a:xfrm>
            <a:off x="1619280" y="5300640"/>
            <a:ext cx="62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971640" y="5805360"/>
            <a:ext cx="129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4"/>
          <p:cNvSpPr/>
          <p:nvPr/>
        </p:nvSpPr>
        <p:spPr>
          <a:xfrm>
            <a:off x="5553000" y="486900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3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43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44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46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50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51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57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58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60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1039320" y="2276640"/>
            <a:ext cx="62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2"/>
          <p:cNvSpPr/>
          <p:nvPr/>
        </p:nvSpPr>
        <p:spPr>
          <a:xfrm>
            <a:off x="1042920" y="328464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3"/>
          <p:cNvSpPr/>
          <p:nvPr/>
        </p:nvSpPr>
        <p:spPr>
          <a:xfrm>
            <a:off x="1116000" y="41497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ртсмен поднимает штангу вверх. Совершает ли при этом работу сила тяже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Овал 6"/>
          <p:cNvSpPr/>
          <p:nvPr/>
        </p:nvSpPr>
        <p:spPr>
          <a:xfrm>
            <a:off x="684360" y="242100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Овал 8"/>
          <p:cNvSpPr/>
          <p:nvPr/>
        </p:nvSpPr>
        <p:spPr>
          <a:xfrm>
            <a:off x="684360" y="429264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Овал 9"/>
          <p:cNvSpPr/>
          <p:nvPr/>
        </p:nvSpPr>
        <p:spPr>
          <a:xfrm>
            <a:off x="684360" y="5229360"/>
            <a:ext cx="215640" cy="21564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11"/>
          <p:cNvSpPr/>
          <p:nvPr/>
        </p:nvSpPr>
        <p:spPr>
          <a:xfrm>
            <a:off x="1174680" y="5084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Овал 13">
            <a:hlinkClick r:id="rId1" action="ppaction://hlinksldjump"/>
          </p:cNvPr>
          <p:cNvSpPr/>
          <p:nvPr/>
        </p:nvSpPr>
        <p:spPr>
          <a:xfrm>
            <a:off x="684360" y="342900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http://www.celysvet.cz/skin/smile/s6535.gif"/>
          <p:cNvPicPr/>
          <p:nvPr/>
        </p:nvPicPr>
        <p:blipFill>
          <a:blip r:embed="rId2"/>
          <a:stretch/>
        </p:blipFill>
        <p:spPr>
          <a:xfrm>
            <a:off x="7437600" y="836640"/>
            <a:ext cx="1617480" cy="1728720"/>
          </a:xfrm>
          <a:prstGeom prst="rect">
            <a:avLst/>
          </a:prstGeom>
          <a:ln w="0">
            <a:noFill/>
          </a:ln>
        </p:spPr>
      </p:pic>
      <p:sp>
        <p:nvSpPr>
          <p:cNvPr id="191" name="Блок-схема: процесс 14"/>
          <p:cNvSpPr/>
          <p:nvPr/>
        </p:nvSpPr>
        <p:spPr>
          <a:xfrm>
            <a:off x="971640" y="5805360"/>
            <a:ext cx="115236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918360" y="58482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3630240" y="3284640"/>
            <a:ext cx="54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лы и движения тела противополож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7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75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6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78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82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3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89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90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611280" y="189000"/>
            <a:ext cx="81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льчик несет ведра с водой, стараясь ее не расплескать. Совершает ли о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ханическую работу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971640" y="188748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042920" y="278136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1029600" y="3645000"/>
            <a:ext cx="43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1030320" y="472428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Овал 9"/>
          <p:cNvSpPr/>
          <p:nvPr/>
        </p:nvSpPr>
        <p:spPr>
          <a:xfrm>
            <a:off x="684360" y="206064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Овал 10"/>
          <p:cNvSpPr/>
          <p:nvPr/>
        </p:nvSpPr>
        <p:spPr>
          <a:xfrm>
            <a:off x="684360" y="292572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Овал 12"/>
          <p:cNvSpPr/>
          <p:nvPr/>
        </p:nvSpPr>
        <p:spPr>
          <a:xfrm>
            <a:off x="684360" y="4869000"/>
            <a:ext cx="215640" cy="21564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Овал 13">
            <a:hlinkClick r:id="rId1" action="ppaction://hlinksldjump"/>
          </p:cNvPr>
          <p:cNvSpPr/>
          <p:nvPr/>
        </p:nvSpPr>
        <p:spPr>
          <a:xfrm>
            <a:off x="684360" y="378936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Блок-схема: процесс 11"/>
          <p:cNvSpPr/>
          <p:nvPr/>
        </p:nvSpPr>
        <p:spPr>
          <a:xfrm>
            <a:off x="971640" y="5805360"/>
            <a:ext cx="122400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971640" y="364500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 действия силы перпендикулярно  направлению движения т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15" descr="http://www.planetaskazok.ru/images/stories/oseeva/sinie_listya/img_032.jpg"/>
          <p:cNvPicPr/>
          <p:nvPr/>
        </p:nvPicPr>
        <p:blipFill>
          <a:blip r:embed="rId2"/>
          <a:stretch/>
        </p:blipFill>
        <p:spPr>
          <a:xfrm>
            <a:off x="7164360" y="765000"/>
            <a:ext cx="18716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93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1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02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03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405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09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10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12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16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17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2"/>
          <p:cNvSpPr/>
          <p:nvPr/>
        </p:nvSpPr>
        <p:spPr>
          <a:xfrm>
            <a:off x="1116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й силой выполнена работа 30 кДж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пути 7,5 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Овал 3"/>
          <p:cNvSpPr/>
          <p:nvPr/>
        </p:nvSpPr>
        <p:spPr>
          <a:xfrm>
            <a:off x="611280" y="177336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Овал 4"/>
          <p:cNvSpPr/>
          <p:nvPr/>
        </p:nvSpPr>
        <p:spPr>
          <a:xfrm>
            <a:off x="611280" y="263700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Овал 6"/>
          <p:cNvSpPr/>
          <p:nvPr/>
        </p:nvSpPr>
        <p:spPr>
          <a:xfrm>
            <a:off x="611280" y="4076640"/>
            <a:ext cx="21564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1122120" y="15987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5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1124640" y="24922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5 000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1123200" y="32130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1122840" y="393372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5 к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Объект 12"/>
              <p:cNvSpPr txBox="1"/>
              <p:nvPr/>
            </p:nvSpPr>
            <p:spPr>
              <a:xfrm>
                <a:off x="3995640" y="1773360"/>
                <a:ext cx="4040280" cy="32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;</m:t>
                        </m:r>
                        <m:r>
                          <m:t xml:space="preserve">⇒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кДж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0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Дж</m:t>
                            </m:r>
                          </m:num>
                          <m:den>
                            <m:r>
                              <m:t xml:space="preserve">7,5</m:t>
                            </m:r>
                            <m:r>
                              <m:t xml:space="preserve">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  <m:r>
                          <m:t xml:space="preserve">Н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Овал 13">
            <a:hlinkClick r:id="rId1" action="ppaction://hlinksldjump"/>
          </p:cNvPr>
          <p:cNvSpPr/>
          <p:nvPr/>
        </p:nvSpPr>
        <p:spPr>
          <a:xfrm>
            <a:off x="611280" y="335772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Блок-схема: процесс 1"/>
          <p:cNvSpPr/>
          <p:nvPr/>
        </p:nvSpPr>
        <p:spPr>
          <a:xfrm>
            <a:off x="971640" y="5805360"/>
            <a:ext cx="129672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щ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рямоугольник 5"/>
          <p:cNvSpPr/>
          <p:nvPr/>
        </p:nvSpPr>
        <p:spPr>
          <a:xfrm>
            <a:off x="99036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420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24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25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427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31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32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34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38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39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Овал 1">
            <a:hlinkClick r:id="rId1" action="ppaction://hlinksldjump"/>
          </p:cNvPr>
          <p:cNvSpPr/>
          <p:nvPr/>
        </p:nvSpPr>
        <p:spPr>
          <a:xfrm>
            <a:off x="684360" y="429264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Овал 2"/>
          <p:cNvSpPr/>
          <p:nvPr/>
        </p:nvSpPr>
        <p:spPr>
          <a:xfrm>
            <a:off x="684360" y="206064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Овал 3"/>
          <p:cNvSpPr/>
          <p:nvPr/>
        </p:nvSpPr>
        <p:spPr>
          <a:xfrm>
            <a:off x="684360" y="278136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Овал 4"/>
          <p:cNvSpPr/>
          <p:nvPr/>
        </p:nvSpPr>
        <p:spPr>
          <a:xfrm>
            <a:off x="684360" y="350028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-18108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ую работу совершает двигатель мотоцик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щностью 25 кВт за 4 мину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1267560" y="1916280"/>
            <a:ext cx="1432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к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50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0 к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6" descr="http://www.lesitedeschampions.ca/sport-moto12.gif"/>
          <p:cNvPicPr/>
          <p:nvPr/>
        </p:nvPicPr>
        <p:blipFill>
          <a:blip r:embed="rId2"/>
          <a:stretch/>
        </p:blipFill>
        <p:spPr>
          <a:xfrm>
            <a:off x="7164360" y="907920"/>
            <a:ext cx="1778040" cy="1440000"/>
          </a:xfrm>
          <a:prstGeom prst="rect">
            <a:avLst/>
          </a:prstGeom>
          <a:ln w="0">
            <a:noFill/>
          </a:ln>
        </p:spPr>
      </p:pic>
      <p:sp>
        <p:nvSpPr>
          <p:cNvPr id="226" name="Блок-схема: процесс 8"/>
          <p:cNvSpPr/>
          <p:nvPr/>
        </p:nvSpPr>
        <p:spPr>
          <a:xfrm>
            <a:off x="971640" y="5805360"/>
            <a:ext cx="122400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мощ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Объект 10"/>
              <p:cNvSpPr txBox="1"/>
              <p:nvPr/>
            </p:nvSpPr>
            <p:spPr>
              <a:xfrm>
                <a:off x="3492360" y="2492280"/>
                <a:ext cx="4759560" cy="26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кВт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мин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с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rPr>
                            <m:lit/>
                            <m:nor/>
                          </m:rPr>
                          <m:t xml:space="preserve">кДж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8" name="TextBox 11"/>
          <p:cNvSpPr/>
          <p:nvPr/>
        </p:nvSpPr>
        <p:spPr>
          <a:xfrm>
            <a:off x="977040" y="58482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47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52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56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7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63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4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70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71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Овал 2">
            <a:hlinkClick r:id="rId1" action="ppaction://hlinksldjump"/>
          </p:cNvPr>
          <p:cNvSpPr/>
          <p:nvPr/>
        </p:nvSpPr>
        <p:spPr>
          <a:xfrm>
            <a:off x="684360" y="270828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Овал 3"/>
          <p:cNvSpPr/>
          <p:nvPr/>
        </p:nvSpPr>
        <p:spPr>
          <a:xfrm>
            <a:off x="684360" y="1916280"/>
            <a:ext cx="215640" cy="2174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Овал 4"/>
          <p:cNvSpPr/>
          <p:nvPr/>
        </p:nvSpPr>
        <p:spPr>
          <a:xfrm>
            <a:off x="684360" y="422100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Овал 5"/>
          <p:cNvSpPr/>
          <p:nvPr/>
        </p:nvSpPr>
        <p:spPr>
          <a:xfrm>
            <a:off x="684360" y="350028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179280" y="24300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ва мощность машины, которая поднимает молот весом 15 кН на высоту 0,8 м за 2 с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1195920" y="1844640"/>
            <a:ext cx="135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0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5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8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Блок-схема: процесс 10"/>
          <p:cNvSpPr/>
          <p:nvPr/>
        </p:nvSpPr>
        <p:spPr>
          <a:xfrm>
            <a:off x="971640" y="5805360"/>
            <a:ext cx="129672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Объект 8"/>
              <p:cNvSpPr txBox="1"/>
              <p:nvPr/>
            </p:nvSpPr>
            <p:spPr>
              <a:xfrm>
                <a:off x="3546360" y="1773360"/>
                <a:ext cx="462600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00</m:t>
                        </m:r>
                        <m:r>
                          <m:t xml:space="preserve">Н</m:t>
                        </m:r>
                        <m:r>
                          <m:t xml:space="preserve">⋅</m:t>
                        </m:r>
                        <m:r>
                          <m:t xml:space="preserve">0,8</m:t>
                        </m:r>
                        <m:r>
                          <m:t xml:space="preserve">м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Дж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с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38" name="Picture 6" descr="http://img.tootoo.com/mytootoo/upload/47/479578/product/479578_c9a2b63e458867aa51d6b33d980d81c6.jpg"/>
          <p:cNvPicPr/>
          <p:nvPr/>
        </p:nvPicPr>
        <p:blipFill>
          <a:blip r:embed="rId2"/>
          <a:stretch/>
        </p:blipFill>
        <p:spPr>
          <a:xfrm>
            <a:off x="3851280" y="1773360"/>
            <a:ext cx="3849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74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78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79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481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85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86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92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93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539640" y="260280"/>
            <a:ext cx="806472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 НА ДОМ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Wingdings"/>
                <a:ea typeface="Wingdings"/>
              </a:rPr>
              <a:t>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§ 53, 54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чая тетрадь: уроки  52 и 53 (работа дом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4" descr="http://class-fizika.narod.ru/7_class/7_motshnost/mexanika5.gif"/>
          <p:cNvPicPr/>
          <p:nvPr/>
        </p:nvPicPr>
        <p:blipFill>
          <a:blip r:embed="rId1"/>
          <a:stretch/>
        </p:blipFill>
        <p:spPr>
          <a:xfrm>
            <a:off x="3684600" y="4005360"/>
            <a:ext cx="1243080" cy="93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урока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8000" y="160020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вести новые физические величины – «механическая работа», «мощность» и их единицы измерения в международной системе единиц С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ять условия, необходимые для совершения механической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ражать мощность в различных единицах, анализировать мощности различных приборов и технических устрой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ать задачи на вычисление работы и мощ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6720" y="69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ВСЕМ ЗА РАБОТУ НА УРОКЕ.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СВИДАНИ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7" descr="http://img-fotki.yandex.ru/get/6516/148561800.19d/0_9c368_caa5b7c0_L.jpg"/>
          <p:cNvPicPr/>
          <p:nvPr/>
        </p:nvPicPr>
        <p:blipFill>
          <a:blip r:embed="rId1"/>
          <a:stretch/>
        </p:blipFill>
        <p:spPr>
          <a:xfrm>
            <a:off x="2484360" y="2852640"/>
            <a:ext cx="287676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2422440" y="115920"/>
            <a:ext cx="43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ые ресур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1"/>
          <p:cNvSpPr/>
          <p:nvPr/>
        </p:nvSpPr>
        <p:spPr>
          <a:xfrm>
            <a:off x="2390760" y="3244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179280" y="765000"/>
            <a:ext cx="8964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Материалы сайта  "Класс!ная физика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ы №1-№6: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class-fizika.narod.ru/7_rabota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ы №8-№9: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class-fizika.narod.ru/7_moshnost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лайд №10: Статья «Лошадиная сила и другие единицы измерения мощности двигателя» Автор: Сергей Громов (Феномены истории. Энциклопедический журнал)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4put.ru/pictures/max/190/586563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отографии и анимац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2: Божья коровк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sosh19.okis.ru/img/sosh19/0_623b1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cda261ad_XL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пашка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forum.moya-semya.ru/uploads/av-9276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4: Паровоз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umka.by/modules/thumb/thumb.php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img=%2F.%2Fimages%2Fitems%2F1712_image.jpg&amp;w=400&amp;h=4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5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ля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ic.pics.livejournal.com/aurume/15770482/4473/4473_original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ыжниц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www.animated-gifs.eu/sports-skiing/0060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6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mooreslawnmaintenance.net/images/144_mosquito_graphic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http://burn.krasgmu.ru/src/images/depts/194/heart_2_b_crop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2"/>
          <p:cNvSpPr/>
          <p:nvPr/>
        </p:nvSpPr>
        <p:spPr>
          <a:xfrm>
            <a:off x="2987640" y="2565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250920" y="512640"/>
            <a:ext cx="871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7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mg1.liveinternet.ru/images/attach/c/3/77/849/77849571_pahar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кто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lvovcity.com/images/stories/news/2013/03/14143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пат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my-ivanovo.ru/wp-content/uploads/2013/03/850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йде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image.tsn.ua/media/images2/original/Feb2009/ee110f63cc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110397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9: Лошади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interboom.ru/fid/aW1hZ2VfbWlkZGxlOjEzM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MyODcvL2ltYWdlX21pZGRsZToxMzMzMjg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gifportal.ru/data/smiles/jivotniea-270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0: Музей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krabov.net/20460-loshadinaya-sila-41-foto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1: Мышь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ksyha.narod.ru/dblclick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3: Штанг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www.celysvet.cz/skin/smile/s653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4: Мальч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http://www.planetaskazok.ru/images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stories/oseeva/sinie_listya/img_032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5: Мотоцикл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"/>
              </a:rPr>
              <a:t>http://www.lesitedeschampions.ca/s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"/>
              </a:rPr>
              <a:t>-moto1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6: Ковочный моло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"/>
              </a:rPr>
              <a:t>http://img.tootoo.com/mytootoo/upload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7"/>
              </a:rPr>
              <a:t>47/479578/product/479578_c9a2b63e458867aa51d6b33d980d81c6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179280" y="333360"/>
            <a:ext cx="8964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8: Лоша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nterboom.ru/fid/aW1hZ2VfbWlkZGxlOjEzMzMyODcvL2ltYWdlX21pZGRsZToxMzMzMjg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gifportal.ru/data/smiles/jivotniea-270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9: Музей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krabov.net/20460-loshadinaya-sila-41-foto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0: Мышь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ksyha.narod.ru/dblclick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2: Штанг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celysvet.cz/skin/smile/s653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3: Мальч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planetaskazok.ru/images/stories/oseeva/sinie_listya/img_032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5: Мотоциклис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esitedeschampions.ca/sport-moto1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6: Ковочный моло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img.tootoo.com/mytootoo/upload/47/479578/product/479578_c9a2b63e458867aa51d6b33d980d81c6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7 : Зубчатая перед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class-fizika.narod.ru/7_class/7_motshnost/mexanika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8: Колокольч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fotki.yandex.ru/get/6516/148561800.19d/0_9c368_caa5b7c0_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250920" y="585720"/>
            <a:ext cx="8642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7 : Зубчатая перед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lass-fizika.narod.ru/7_class/7_motshnost/mexanika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8: Колокольч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fotki.yandex.ru/get/6516/148561800.19d/0_9c368_caa5b7c0_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ртреты уче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3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Джоуль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nergy-etc.ru/image/upload/Jou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Уат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19stoleti.cz/kdojekdo/kdojekdo-000073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Овальная выноска 4"/>
          <p:cNvSpPr/>
          <p:nvPr/>
        </p:nvSpPr>
        <p:spPr>
          <a:xfrm>
            <a:off x="250920" y="1989000"/>
            <a:ext cx="3241440" cy="1440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684360" y="208440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мешай мне работать! Я чита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ик физики!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ьная выноска 5"/>
          <p:cNvSpPr/>
          <p:nvPr/>
        </p:nvSpPr>
        <p:spPr>
          <a:xfrm>
            <a:off x="4859280" y="1989000"/>
            <a:ext cx="3384720" cy="1368720"/>
          </a:xfrm>
          <a:prstGeom prst="wedgeEllipseCallout">
            <a:avLst>
              <a:gd name="adj1" fmla="val 30902"/>
              <a:gd name="adj2" fmla="val 65342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http://img25.dreamies.de/img/942/b/q3ngvtwfmfv.gif"/>
          <p:cNvPicPr/>
          <p:nvPr/>
        </p:nvPicPr>
        <p:blipFill>
          <a:blip r:embed="rId1"/>
          <a:stretch/>
        </p:blipFill>
        <p:spPr>
          <a:xfrm>
            <a:off x="6588000" y="3500280"/>
            <a:ext cx="1816200" cy="1872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684360" y="26352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МЫ ПОНИМАЕМ ПОД СЛОВ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АБОТА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5148720" y="2205000"/>
            <a:ext cx="27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умаешь! Я тож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ю – прыгаю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250920" y="1989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физике "механической работой" называют работу какой-нибудь силы (силы тяжести, упругости, трения и т.д.) над телом, в результате действия которой тело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4put.ru/pictures/max/190/586563.gif"/>
          <p:cNvPicPr/>
          <p:nvPr/>
        </p:nvPicPr>
        <p:blipFill>
          <a:blip r:embed="rId2"/>
          <a:stretch/>
        </p:blipFill>
        <p:spPr>
          <a:xfrm>
            <a:off x="539640" y="3645000"/>
            <a:ext cx="17287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665920" cy="388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395280" y="1052640"/>
            <a:ext cx="8424720" cy="1191240"/>
          </a:xfrm>
          <a:prstGeom prst="rect">
            <a:avLst/>
          </a:prstGeom>
          <a:solidFill>
            <a:srgbClr val="eeece1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ханическая работа - физическая величина, прямо пропорциональная приложенной силе и обратно пропорциональная пройденному телом пу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Объект 4"/>
              <p:cNvSpPr txBox="1"/>
              <p:nvPr/>
            </p:nvSpPr>
            <p:spPr>
              <a:xfrm>
                <a:off x="3132000" y="2492280"/>
                <a:ext cx="25416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Прямоугольник 5"/>
          <p:cNvSpPr/>
          <p:nvPr/>
        </p:nvSpPr>
        <p:spPr>
          <a:xfrm>
            <a:off x="250920" y="3573360"/>
            <a:ext cx="81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 механическая работа,   F - сила,    S - пройденный п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http://shopedu.ru/uploaded_files/shop_images/488.jpg"/>
          <p:cNvPicPr/>
          <p:nvPr/>
        </p:nvPicPr>
        <p:blipFill>
          <a:blip r:embed="rId2"/>
          <a:stretch/>
        </p:blipFill>
        <p:spPr>
          <a:xfrm>
            <a:off x="395280" y="2421000"/>
            <a:ext cx="2082960" cy="28796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3166920" y="4154040"/>
            <a:ext cx="565308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единицу работы принимают работу, совершаемую силой в 1 Н, на пути, равном 1 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1749600" y="252360"/>
            <a:ext cx="57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ЕСКАЯ 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219840" y="5516640"/>
            <a:ext cx="28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: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A]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∙ м =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Дж = 1Н ∙ 1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804000" y="4292640"/>
            <a:ext cx="1992240" cy="19573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395280" y="252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не совершается (т.е. равна 0 ), ес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6732720" y="981000"/>
            <a:ext cx="1974600" cy="1035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1551960" y="1547640"/>
            <a:ext cx="8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трелка вправо 5"/>
          <p:cNvSpPr/>
          <p:nvPr/>
        </p:nvSpPr>
        <p:spPr>
          <a:xfrm>
            <a:off x="2771640" y="4365720"/>
            <a:ext cx="9367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3856320" y="147636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335520" y="950760"/>
            <a:ext cx="5796720" cy="45972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Сила действует, а тело не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324000" y="2781360"/>
            <a:ext cx="835344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Тело перемещается, а сила равна нулю, или все силы скомпенсированы (т.е. равнодействующая этих сил равна 0). Так при движении по инерции работа не совершается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322200" y="5084640"/>
            <a:ext cx="554508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Направление действия силы и направление движения тела взаимно перпендикуляр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1696320" y="414972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3929040" y="414972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трелка вправо 14"/>
          <p:cNvSpPr/>
          <p:nvPr/>
        </p:nvSpPr>
        <p:spPr>
          <a:xfrm>
            <a:off x="2700360" y="1771560"/>
            <a:ext cx="934920" cy="144720"/>
          </a:xfrm>
          <a:prstGeom prst="rightArrow">
            <a:avLst>
              <a:gd name="adj1" fmla="val 50000"/>
              <a:gd name="adj2" fmla="val 4991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Стрелка вниз 12"/>
          <p:cNvSpPr/>
          <p:nvPr/>
        </p:nvSpPr>
        <p:spPr>
          <a:xfrm>
            <a:off x="7956720" y="5587920"/>
            <a:ext cx="287280" cy="86544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трелка влево 16"/>
          <p:cNvSpPr/>
          <p:nvPr/>
        </p:nvSpPr>
        <p:spPr>
          <a:xfrm>
            <a:off x="6659640" y="5445000"/>
            <a:ext cx="1512720" cy="216000"/>
          </a:xfrm>
          <a:prstGeom prst="left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Объект 17"/>
              <p:cNvSpPr txBox="1"/>
              <p:nvPr/>
            </p:nvSpPr>
            <p:spPr>
              <a:xfrm>
                <a:off x="7308720" y="6093000"/>
                <a:ext cx="7621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Объект 18"/>
              <p:cNvSpPr txBox="1"/>
              <p:nvPr/>
            </p:nvSpPr>
            <p:spPr>
              <a:xfrm>
                <a:off x="6659640" y="4724280"/>
                <a:ext cx="431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250920" y="2602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может быть положительной и отрицатель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68360" y="1373400"/>
            <a:ext cx="5616360" cy="155700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Если направление силы и направление движения тела совпадают, совершается положительная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468360" y="3740040"/>
            <a:ext cx="561636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Если направление силы и движения тела противоположны, совершается отрицательная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Стрелка вниз 11"/>
          <p:cNvSpPr/>
          <p:nvPr/>
        </p:nvSpPr>
        <p:spPr>
          <a:xfrm flipH="1" rot="16200000">
            <a:off x="8080920" y="5103720"/>
            <a:ext cx="252360" cy="93492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трелка вниз 12"/>
          <p:cNvSpPr/>
          <p:nvPr/>
        </p:nvSpPr>
        <p:spPr>
          <a:xfrm rot="5400000">
            <a:off x="7002360" y="4959000"/>
            <a:ext cx="252360" cy="1224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Объект 9"/>
              <p:cNvSpPr txBox="1"/>
              <p:nvPr/>
            </p:nvSpPr>
            <p:spPr>
              <a:xfrm>
                <a:off x="6732720" y="5661000"/>
                <a:ext cx="388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Объект 10"/>
              <p:cNvSpPr txBox="1"/>
              <p:nvPr/>
            </p:nvSpPr>
            <p:spPr>
              <a:xfrm>
                <a:off x="7667640" y="2781360"/>
                <a:ext cx="388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Объект 13"/>
              <p:cNvSpPr txBox="1"/>
              <p:nvPr/>
            </p:nvSpPr>
            <p:spPr>
              <a:xfrm>
                <a:off x="8037360" y="5700600"/>
                <a:ext cx="5986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р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Объект 14"/>
              <p:cNvSpPr txBox="1"/>
              <p:nvPr/>
            </p:nvSpPr>
            <p:spPr>
              <a:xfrm>
                <a:off x="8244000" y="2133720"/>
                <a:ext cx="761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Объект 15"/>
              <p:cNvSpPr txBox="1"/>
              <p:nvPr/>
            </p:nvSpPr>
            <p:spPr>
              <a:xfrm>
                <a:off x="1979640" y="5203800"/>
                <a:ext cx="20908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" name="Picture 78" descr="http://www.animated-gifs.eu/sports-skiing/0060.gif"/>
          <p:cNvPicPr/>
          <p:nvPr/>
        </p:nvPicPr>
        <p:blipFill>
          <a:blip r:embed="rId1"/>
          <a:stretch/>
        </p:blipFill>
        <p:spPr>
          <a:xfrm>
            <a:off x="6588000" y="4005360"/>
            <a:ext cx="1878120" cy="1449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ic.pics.livejournal.com/aurume/15770482/4473/4473_original.gif"/>
          <p:cNvPicPr/>
          <p:nvPr/>
        </p:nvPicPr>
        <p:blipFill>
          <a:blip r:embed="rId2"/>
          <a:stretch/>
        </p:blipFill>
        <p:spPr>
          <a:xfrm>
            <a:off x="6443640" y="1413000"/>
            <a:ext cx="1152720" cy="1439640"/>
          </a:xfrm>
          <a:prstGeom prst="rect">
            <a:avLst/>
          </a:prstGeom>
          <a:ln w="0">
            <a:noFill/>
          </a:ln>
        </p:spPr>
      </p:pic>
      <p:sp>
        <p:nvSpPr>
          <p:cNvPr id="97" name="Капля 16"/>
          <p:cNvSpPr/>
          <p:nvPr/>
        </p:nvSpPr>
        <p:spPr>
          <a:xfrm rot="18658200">
            <a:off x="7851600" y="1528560"/>
            <a:ext cx="557280" cy="547560"/>
          </a:xfrm>
          <a:prstGeom prst="pi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Объект 17"/>
              <p:cNvSpPr txBox="1"/>
              <p:nvPr/>
            </p:nvSpPr>
            <p:spPr>
              <a:xfrm>
                <a:off x="1925640" y="3014640"/>
                <a:ext cx="20541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яж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Стрелка вниз 25"/>
          <p:cNvSpPr/>
          <p:nvPr/>
        </p:nvSpPr>
        <p:spPr>
          <a:xfrm>
            <a:off x="8028000" y="1844640"/>
            <a:ext cx="216000" cy="165564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трелка вниз 26"/>
          <p:cNvSpPr/>
          <p:nvPr/>
        </p:nvSpPr>
        <p:spPr>
          <a:xfrm>
            <a:off x="8028000" y="1844640"/>
            <a:ext cx="216000" cy="100800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3532680" y="260280"/>
            <a:ext cx="202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уже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2340000" y="106020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 перелете с большого пальца руки человека на указательный комар совершает работу -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, 000 000 000 000 000 000 000 000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01 Д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 flipV="1" rot="10800000">
            <a:off x="2268360" y="3690720"/>
            <a:ext cx="64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ердце человека за одно сокращение совершает приблизительно 1 Дж работы, что соответствует работе, совершенной при поднятии груза массой 10 кг на высоту 1 с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http://s39.radikal.ru/i084/1008/d9/eab84bdca231.gif"/>
          <p:cNvPicPr/>
          <p:nvPr/>
        </p:nvPicPr>
        <p:blipFill>
          <a:blip r:embed="rId1"/>
          <a:stretch/>
        </p:blipFill>
        <p:spPr>
          <a:xfrm>
            <a:off x="324000" y="3141720"/>
            <a:ext cx="1715760" cy="2808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mooreslawnmaintenance.net/images/144_mosquito_graphic2.gif"/>
          <p:cNvPicPr/>
          <p:nvPr/>
        </p:nvPicPr>
        <p:blipFill>
          <a:blip r:embed="rId2"/>
          <a:stretch/>
        </p:blipFill>
        <p:spPr>
          <a:xfrm>
            <a:off x="324000" y="981000"/>
            <a:ext cx="12808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4105440" cy="2630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3911400" cy="2631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"/>
          <p:cNvPicPr/>
          <p:nvPr/>
        </p:nvPicPr>
        <p:blipFill>
          <a:blip r:embed="rId3"/>
          <a:stretch/>
        </p:blipFill>
        <p:spPr>
          <a:xfrm>
            <a:off x="5580000" y="1916280"/>
            <a:ext cx="3240000" cy="2377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"/>
          <p:cNvPicPr/>
          <p:nvPr/>
        </p:nvPicPr>
        <p:blipFill>
          <a:blip r:embed="rId4"/>
          <a:stretch/>
        </p:blipFill>
        <p:spPr>
          <a:xfrm>
            <a:off x="468360" y="1916280"/>
            <a:ext cx="3914640" cy="2376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537120" y="189000"/>
            <a:ext cx="87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то быстрее совершит одинаковую работ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542520" y="907920"/>
            <a:ext cx="22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95280" y="486900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зическая величина, характеризующая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рость выполнения работы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называется механической мощность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755640" y="18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ЕСКАЯ МОЩ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324000" y="981000"/>
            <a:ext cx="8496000" cy="1191240"/>
          </a:xfrm>
          <a:prstGeom prst="rect">
            <a:avLst/>
          </a:prstGeom>
          <a:solidFill>
            <a:srgbClr val="eeece1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щность (N) – физическая величина, равная отношению работы A к промежутку времени t, в течение которого совершена эта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Объект 3"/>
              <p:cNvSpPr txBox="1"/>
              <p:nvPr/>
            </p:nvSpPr>
            <p:spPr>
              <a:xfrm>
                <a:off x="4067280" y="2421000"/>
                <a:ext cx="3241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2158920" cy="27464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4"/>
          <p:cNvSpPr/>
          <p:nvPr/>
        </p:nvSpPr>
        <p:spPr>
          <a:xfrm>
            <a:off x="4284720" y="515772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: [N] = Дж /c = В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Вт = 1 Дж / 1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3059280" y="3645000"/>
            <a:ext cx="581004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единицу мощности, принята такая  мощность, при которой за  1 с совершается  работа в 1 Д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06:06:51Z</dcterms:created>
  <dc:creator>Fenix</dc:creator>
  <dc:description/>
  <dc:language>en-US</dc:language>
  <cp:lastModifiedBy>OLEG</cp:lastModifiedBy>
  <dcterms:modified xsi:type="dcterms:W3CDTF">2013-09-14T17:58:05Z</dcterms:modified>
  <cp:revision>171</cp:revision>
  <dc:subject/>
  <dc:title>Презентация PowerPoint</dc:title>
</cp:coreProperties>
</file>