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png" ContentType="image/png"/>
  <Override PartName="/ppt/media/image7.jpeg" ContentType="image/jpeg"/>
  <Override PartName="/ppt/media/image26.png" ContentType="image/png"/>
  <Override PartName="/ppt/media/image3.gif" ContentType="image/gif"/>
  <Override PartName="/ppt/media/image12.png" ContentType="image/png"/>
  <Override PartName="/ppt/media/image27.png" ContentType="image/png"/>
  <Override PartName="/ppt/media/image11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4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gif" ContentType="image/gif"/>
  <Override PartName="/ppt/media/image23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BD4A-C6CF-40C2-926F-D917BB4EE4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иперссылке (стрелке)после завершения работы или в любой момент переходим к слайду №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2872-4917-4574-B9A1-A87F29210A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E19F-8F54-4DB6-86E2-5F8E44C4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F1B-E498-49EC-BD6A-8A0C8B9A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084-2FAE-4FB9-9B0E-1E5F80D7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C43-A782-447F-8744-972FF32D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EFA-C732-4196-8F56-79D6BA9E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560-B6DC-465D-ACF6-A5698FE5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47D-828C-4EA8-B369-CFD385CA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693-A104-4CCC-8D4A-3767FEE0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F5B-5112-45DC-B517-AB395A93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FAE-9E66-4EBF-8799-CC10AD84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6A2-DA31-4F15-81BB-BBBFE27D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C86-B3A1-404B-B3F9-37FA7E4D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85D4-9061-4005-864A-B4EC0BDBCB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3.xml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" Target="slide19.xml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lass-fizika.narod.ru/7_rabota.htm" TargetMode="External"/><Relationship Id="rId2" Type="http://schemas.openxmlformats.org/officeDocument/2006/relationships/hyperlink" Target="http://class-fizika.narod.ru/7_moshnost.htm" TargetMode="External"/><Relationship Id="rId3" Type="http://schemas.openxmlformats.org/officeDocument/2006/relationships/hyperlink" Target="http://4put.ru/pictures/max/190/586563.gif" TargetMode="External"/><Relationship Id="rId4" Type="http://schemas.openxmlformats.org/officeDocument/2006/relationships/hyperlink" Target="http://sosh19.okis.ru/img/sosh19/0_623b1_cda261ad_XL.gif" TargetMode="External"/><Relationship Id="rId5" Type="http://schemas.openxmlformats.org/officeDocument/2006/relationships/hyperlink" Target="http://sosh19.okis.ru/img/sosh19/0_623b1_cda261ad_XL.gif" TargetMode="External"/><Relationship Id="rId6" Type="http://schemas.openxmlformats.org/officeDocument/2006/relationships/hyperlink" Target="http://forum.moya-semya.ru/uploads/av-9276.gif" TargetMode="External"/><Relationship Id="rId7" Type="http://schemas.openxmlformats.org/officeDocument/2006/relationships/hyperlink" Target="http://www.umka.by/modules/thumb/thumb.php?img=%2F.%2Fimages%2Fitems%2F1712_image.jpg&amp;w=400&amp;h=400" TargetMode="External"/><Relationship Id="rId8" Type="http://schemas.openxmlformats.org/officeDocument/2006/relationships/hyperlink" Target="http://www.umka.by/modules/thumb/thumb.php?img=%2F.%2Fimages%2Fitems%2F1712_image.jpg&amp;w=400&amp;h=400" TargetMode="External"/><Relationship Id="rId9" Type="http://schemas.openxmlformats.org/officeDocument/2006/relationships/hyperlink" Target="http://ic.pics.livejournal.com/aurume/15770482/4473/4473_original.gif" TargetMode="External"/><Relationship Id="rId10" Type="http://schemas.openxmlformats.org/officeDocument/2006/relationships/hyperlink" Target="http://www.animated-gifs.eu/sports-skiing/0060.gif" TargetMode="External"/><Relationship Id="rId11" Type="http://schemas.openxmlformats.org/officeDocument/2006/relationships/hyperlink" Target="http://mooreslawnmaintenance.net/images/144_mosquito_graphic2.gif" TargetMode="External"/><Relationship Id="rId12" Type="http://schemas.openxmlformats.org/officeDocument/2006/relationships/hyperlink" Target="http://burn.krasgmu.ru/src/images/depts/194/heart_2_b_crop.gif" TargetMode="Externa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7/849/77849571_pahar.jpg" TargetMode="External"/><Relationship Id="rId2" Type="http://schemas.openxmlformats.org/officeDocument/2006/relationships/hyperlink" Target="http://lvovcity.com/images/stories/news/2013/03/14143.jpg" TargetMode="External"/><Relationship Id="rId3" Type="http://schemas.openxmlformats.org/officeDocument/2006/relationships/hyperlink" Target="http://my-ivanovo.ru/wp-content/uploads/2013/03/850.jpg" TargetMode="External"/><Relationship Id="rId4" Type="http://schemas.openxmlformats.org/officeDocument/2006/relationships/hyperlink" Target="http://image.tsn.ua/media/images2/original/Feb2009/ee110f63cc_110397.jpg" TargetMode="External"/><Relationship Id="rId5" Type="http://schemas.openxmlformats.org/officeDocument/2006/relationships/hyperlink" Target="http://image.tsn.ua/media/images2/original/Feb2009/ee110f63cc_110397.jpg" TargetMode="External"/><Relationship Id="rId6" Type="http://schemas.openxmlformats.org/officeDocument/2006/relationships/hyperlink" Target="http://interboom.ru/fid/aW1hZ2VfbWlkZGxlOjEzMzMyODcvL2ltYWdlX21pZGRsZToxMzMzMjg3" TargetMode="External"/><Relationship Id="rId7" Type="http://schemas.openxmlformats.org/officeDocument/2006/relationships/hyperlink" Target="http://interboom.ru/fid/aW1hZ2VfbWlkZGxlOjEzMzMyODcvL2ltYWdlX21pZGRsZToxMzMzMjg3" TargetMode="External"/><Relationship Id="rId8" Type="http://schemas.openxmlformats.org/officeDocument/2006/relationships/hyperlink" Target="http://gifportal.ru/data/smiles/jivotniea-2705.gif" TargetMode="External"/><Relationship Id="rId9" Type="http://schemas.openxmlformats.org/officeDocument/2006/relationships/hyperlink" Target="http://krabov.net/20460-loshadinaya-sila-41-foto.html" TargetMode="External"/><Relationship Id="rId10" Type="http://schemas.openxmlformats.org/officeDocument/2006/relationships/hyperlink" Target="http://ksyha.narod.ru/dblclick.gif" TargetMode="External"/><Relationship Id="rId11" Type="http://schemas.openxmlformats.org/officeDocument/2006/relationships/hyperlink" Target="http://www.celysvet.cz/skin/smile/s6535.gif" TargetMode="External"/><Relationship Id="rId12" Type="http://schemas.openxmlformats.org/officeDocument/2006/relationships/hyperlink" Target="http://www.planetaskazok.ru/images/stories/oseeva/sinie_listya/img_032.jpg" TargetMode="External"/><Relationship Id="rId13" Type="http://schemas.openxmlformats.org/officeDocument/2006/relationships/hyperlink" Target="http://www.planetaskazok.ru/images/stories/oseeva/sinie_listya/img_032.jpg" TargetMode="External"/><Relationship Id="rId14" Type="http://schemas.openxmlformats.org/officeDocument/2006/relationships/hyperlink" Target="http://www.lesitedeschampions.ca/sport-moto12.gif" TargetMode="External"/><Relationship Id="rId15" Type="http://schemas.openxmlformats.org/officeDocument/2006/relationships/hyperlink" Target="http://www.lesitedeschampions.ca/sport-moto12.gif" TargetMode="External"/><Relationship Id="rId16" Type="http://schemas.openxmlformats.org/officeDocument/2006/relationships/hyperlink" Target="http://img.tootoo.com/mytootoo/upload/47/479578/product/479578_c9a2b63e458867aa51d6b33d980d81c6.jpg" TargetMode="External"/><Relationship Id="rId17" Type="http://schemas.openxmlformats.org/officeDocument/2006/relationships/hyperlink" Target="http://img.tootoo.com/mytootoo/upload/47/479578/product/479578_c9a2b63e458867aa51d6b33d980d81c6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boom.ru/fid/aW1hZ2VfbWlkZGxlOjEzMzMyODcvL2ltYWdlX21pZGRsZToxMzMzMjg3" TargetMode="External"/><Relationship Id="rId2" Type="http://schemas.openxmlformats.org/officeDocument/2006/relationships/hyperlink" Target="http://gifportal.ru/data/smiles/jivotniea-2705.gif" TargetMode="External"/><Relationship Id="rId3" Type="http://schemas.openxmlformats.org/officeDocument/2006/relationships/hyperlink" Target="http://krabov.net/20460-loshadinaya-sila-41-foto.html" TargetMode="External"/><Relationship Id="rId4" Type="http://schemas.openxmlformats.org/officeDocument/2006/relationships/hyperlink" Target="http://ksyha.narod.ru/dblclick.gif" TargetMode="External"/><Relationship Id="rId5" Type="http://schemas.openxmlformats.org/officeDocument/2006/relationships/hyperlink" Target="http://www.celysvet.cz/skin/smile/s6535.gif" TargetMode="External"/><Relationship Id="rId6" Type="http://schemas.openxmlformats.org/officeDocument/2006/relationships/hyperlink" Target="http://www.planetaskazok.ru/images/stories/oseeva/sinie_listya/img_032.jpg" TargetMode="External"/><Relationship Id="rId7" Type="http://schemas.openxmlformats.org/officeDocument/2006/relationships/hyperlink" Target="http://www.lesitedeschampions.ca/sport-moto12.gif" TargetMode="External"/><Relationship Id="rId8" Type="http://schemas.openxmlformats.org/officeDocument/2006/relationships/hyperlink" Target="http://img.tootoo.com/mytootoo/upload/47/479578/product/479578_c9a2b63e458867aa51d6b33d980d81c6.jpg" TargetMode="External"/><Relationship Id="rId9" Type="http://schemas.openxmlformats.org/officeDocument/2006/relationships/hyperlink" Target="http://class-fizika.narod.ru/7_class/7_motshnost/mexanika5.gif" TargetMode="External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одзаголовок 2" descr=""/>
          <p:cNvPicPr/>
          <p:nvPr/>
        </p:nvPicPr>
        <p:blipFill>
          <a:blip r:embed="rId1"/>
          <a:stretch/>
        </p:blipFill>
        <p:spPr>
          <a:xfrm>
            <a:off x="2908440" y="3865680"/>
            <a:ext cx="339552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2" descr=""/>
          <p:cNvPicPr/>
          <p:nvPr/>
        </p:nvPicPr>
        <p:blipFill>
          <a:blip r:embed="rId2"/>
          <a:stretch/>
        </p:blipFill>
        <p:spPr>
          <a:xfrm>
            <a:off x="890640" y="542880"/>
            <a:ext cx="7547040" cy="3591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971640" y="5516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611280" y="9144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 Джеймс Уатт (1736 - 1819) пользовался другой единицей мощности - лошадиной силой (1 л. с.), которую он ввел с целью возможности сравнения работоспособности паровой машины и лоша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912760" y="31284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шадиная с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gifportal.ru/data/smiles/jivotniea-2705.gif"/>
          <p:cNvPicPr/>
          <p:nvPr/>
        </p:nvPicPr>
        <p:blipFill>
          <a:blip r:embed="rId1"/>
          <a:stretch/>
        </p:blipFill>
        <p:spPr>
          <a:xfrm flipH="1">
            <a:off x="3131640" y="2637000"/>
            <a:ext cx="1860840" cy="121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nterboom.ru/fid/aW1hZ2VfbWlkZGxlOjEzMzMyODcvL2ltYWdlX21pZGRsZToxMzMzMjg3"/>
          <p:cNvPicPr/>
          <p:nvPr/>
        </p:nvPicPr>
        <p:blipFill>
          <a:blip r:embed="rId2"/>
          <a:stretch/>
        </p:blipFill>
        <p:spPr>
          <a:xfrm>
            <a:off x="755640" y="2708280"/>
            <a:ext cx="1916280" cy="144144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12"/>
          <p:cNvSpPr/>
          <p:nvPr/>
        </p:nvSpPr>
        <p:spPr>
          <a:xfrm>
            <a:off x="-108000" y="4221000"/>
            <a:ext cx="4727520" cy="7488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олилиния 13"/>
          <p:cNvSpPr/>
          <p:nvPr/>
        </p:nvSpPr>
        <p:spPr>
          <a:xfrm>
            <a:off x="-612720" y="4076640"/>
            <a:ext cx="16778160" cy="25236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олилиния 14"/>
          <p:cNvSpPr/>
          <p:nvPr/>
        </p:nvSpPr>
        <p:spPr>
          <a:xfrm>
            <a:off x="-252360" y="4508640"/>
            <a:ext cx="16994160" cy="21564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олилиния 15"/>
          <p:cNvSpPr/>
          <p:nvPr/>
        </p:nvSpPr>
        <p:spPr>
          <a:xfrm>
            <a:off x="5796000" y="4292640"/>
            <a:ext cx="399960" cy="73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олилиния 16"/>
          <p:cNvSpPr/>
          <p:nvPr/>
        </p:nvSpPr>
        <p:spPr>
          <a:xfrm>
            <a:off x="7885080" y="4390920"/>
            <a:ext cx="1236600" cy="46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1"/>
          <p:cNvSpPr/>
          <p:nvPr/>
        </p:nvSpPr>
        <p:spPr>
          <a:xfrm>
            <a:off x="5651640" y="3573360"/>
            <a:ext cx="2881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л.с. ≈ 735В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5 -0.00764 L -0.88577 -0.0287 E">
                                      <p:cBhvr>
                                        <p:cTn id="241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-2.22222E-006 L -0.28229 0.01042 E">
                                      <p:cBhvr>
                                        <p:cTn id="243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4722 -0.0243 L -0.97118 -0.00324 E">
                                      <p:cBhvr>
                                        <p:cTn id="245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94496 0.0368 E">
                                      <p:cBhvr>
                                        <p:cTn id="247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045 0.00023 L -0.68333 0.03172 E">
                                      <p:cBhvr>
                                        <p:cTn id="249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-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щность автомобильных двиг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3564000" y="1341360"/>
            <a:ext cx="55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0 л. с. – малолитраж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 л. с. – автомобили с двигателем средней мощ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-500 л. с. – спортив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л. с. и более – гоночные болиды и суперкары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http://img0.liveinternet.ru/images/attach/c/7/96/502/96502876_38.jpg"/>
          <p:cNvPicPr/>
          <p:nvPr/>
        </p:nvPicPr>
        <p:blipFill>
          <a:blip r:embed="rId1"/>
          <a:stretch/>
        </p:blipFill>
        <p:spPr>
          <a:xfrm>
            <a:off x="281160" y="1413000"/>
            <a:ext cx="3138480" cy="258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&amp;Lcy;&amp;ocy;&amp;shcy;&amp;acy;&amp;dcy;&amp;icy;&amp;ncy;&amp;acy;&amp;yacy; &amp;scy;&amp;icy;&amp;lcy;&amp;acy; (41 &amp;fcy;&amp;ocy;&amp;tcy;&amp;ocy;)"/>
          <p:cNvPicPr/>
          <p:nvPr/>
        </p:nvPicPr>
        <p:blipFill>
          <a:blip r:embed="rId2"/>
          <a:stretch/>
        </p:blipFill>
        <p:spPr>
          <a:xfrm>
            <a:off x="358920" y="4149720"/>
            <a:ext cx="3060720" cy="2016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3635280" y="4437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"Лошадиная сила" расположен в самом центре Санкт-Петербург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юшенная площадь, дом №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ирог 3">
            <a:hlinkClick r:id="rId1" action="ppaction://hlinksldjump"/>
          </p:cNvPr>
          <p:cNvSpPr/>
          <p:nvPr/>
        </p:nvSpPr>
        <p:spPr>
          <a:xfrm>
            <a:off x="2916360" y="1700280"/>
            <a:ext cx="3311280" cy="338436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ирог 4">
            <a:hlinkClick r:id="rId2" action="ppaction://hlinksldjump"/>
          </p:cNvPr>
          <p:cNvSpPr/>
          <p:nvPr/>
        </p:nvSpPr>
        <p:spPr>
          <a:xfrm rot="14400000">
            <a:off x="2909520" y="1720080"/>
            <a:ext cx="3321000" cy="3368520"/>
          </a:xfrm>
          <a:prstGeom prst="pi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ирог 5">
            <a:hlinkClick r:id="rId3" action="ppaction://hlinksldjump"/>
          </p:cNvPr>
          <p:cNvSpPr/>
          <p:nvPr/>
        </p:nvSpPr>
        <p:spPr>
          <a:xfrm rot="18142200">
            <a:off x="2883600" y="1718280"/>
            <a:ext cx="3435120" cy="3382920"/>
          </a:xfrm>
          <a:prstGeom prst="pi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ирог 6">
            <a:hlinkClick r:id="rId4" action="ppaction://hlinksldjump"/>
          </p:cNvPr>
          <p:cNvSpPr/>
          <p:nvPr/>
        </p:nvSpPr>
        <p:spPr>
          <a:xfrm rot="7243800">
            <a:off x="2810160" y="1677240"/>
            <a:ext cx="3556080" cy="3402000"/>
          </a:xfrm>
          <a:prstGeom prst="pi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ирог 8">
            <a:hlinkClick r:id="rId5" action="ppaction://hlinksldjump"/>
          </p:cNvPr>
          <p:cNvSpPr/>
          <p:nvPr/>
        </p:nvSpPr>
        <p:spPr>
          <a:xfrm rot="10800000">
            <a:off x="2843280" y="1699920"/>
            <a:ext cx="3457440" cy="338436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ирог 9">
            <a:hlinkClick r:id="rId6" action="ppaction://hlinksldjump"/>
          </p:cNvPr>
          <p:cNvSpPr/>
          <p:nvPr/>
        </p:nvSpPr>
        <p:spPr>
          <a:xfrm rot="3523800">
            <a:off x="2896560" y="1639800"/>
            <a:ext cx="3360960" cy="3531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1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14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5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6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TextBox 17" descr=""/>
          <p:cNvPicPr/>
          <p:nvPr/>
        </p:nvPicPr>
        <p:blipFill>
          <a:blip r:embed="rId7"/>
          <a:stretch/>
        </p:blipFill>
        <p:spPr>
          <a:xfrm>
            <a:off x="2395440" y="530280"/>
            <a:ext cx="781200" cy="6825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18" descr=""/>
          <p:cNvPicPr/>
          <p:nvPr/>
        </p:nvPicPr>
        <p:blipFill>
          <a:blip r:embed="rId8"/>
          <a:stretch/>
        </p:blipFill>
        <p:spPr>
          <a:xfrm>
            <a:off x="3048120" y="530280"/>
            <a:ext cx="895320" cy="6825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19" descr=""/>
          <p:cNvPicPr/>
          <p:nvPr/>
        </p:nvPicPr>
        <p:blipFill>
          <a:blip r:embed="rId9"/>
          <a:stretch/>
        </p:blipFill>
        <p:spPr>
          <a:xfrm>
            <a:off x="3840120" y="530280"/>
            <a:ext cx="817560" cy="6825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20" descr=""/>
          <p:cNvPicPr/>
          <p:nvPr/>
        </p:nvPicPr>
        <p:blipFill>
          <a:blip r:embed="rId10"/>
          <a:stretch/>
        </p:blipFill>
        <p:spPr>
          <a:xfrm>
            <a:off x="4559400" y="530280"/>
            <a:ext cx="798480" cy="6825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21" descr=""/>
          <p:cNvPicPr/>
          <p:nvPr/>
        </p:nvPicPr>
        <p:blipFill>
          <a:blip r:embed="rId11"/>
          <a:stretch/>
        </p:blipFill>
        <p:spPr>
          <a:xfrm>
            <a:off x="5278320" y="530280"/>
            <a:ext cx="804960" cy="6825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22" descr=""/>
          <p:cNvPicPr/>
          <p:nvPr/>
        </p:nvPicPr>
        <p:blipFill>
          <a:blip r:embed="rId12"/>
          <a:stretch/>
        </p:blipFill>
        <p:spPr>
          <a:xfrm>
            <a:off x="5999040" y="530280"/>
            <a:ext cx="766800" cy="68256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право 23">
            <a:hlinkClick r:id="rId13" action="ppaction://hlinksldjump"/>
          </p:cNvPr>
          <p:cNvSpPr/>
          <p:nvPr/>
        </p:nvSpPr>
        <p:spPr>
          <a:xfrm rot="5400000">
            <a:off x="8531640" y="54828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24"/>
          <p:cNvSpPr/>
          <p:nvPr/>
        </p:nvSpPr>
        <p:spPr>
          <a:xfrm>
            <a:off x="7164360" y="3141720"/>
            <a:ext cx="432000" cy="431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26"/>
          <p:cNvSpPr/>
          <p:nvPr/>
        </p:nvSpPr>
        <p:spPr>
          <a:xfrm>
            <a:off x="1476360" y="3213000"/>
            <a:ext cx="431640" cy="432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27"/>
          <p:cNvSpPr/>
          <p:nvPr/>
        </p:nvSpPr>
        <p:spPr>
          <a:xfrm>
            <a:off x="1476360" y="4508640"/>
            <a:ext cx="431640" cy="43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28"/>
          <p:cNvSpPr/>
          <p:nvPr/>
        </p:nvSpPr>
        <p:spPr>
          <a:xfrm>
            <a:off x="7164360" y="1844640"/>
            <a:ext cx="432000" cy="43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29"/>
          <p:cNvSpPr/>
          <p:nvPr/>
        </p:nvSpPr>
        <p:spPr>
          <a:xfrm>
            <a:off x="7164360" y="4437000"/>
            <a:ext cx="432000" cy="432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30"/>
          <p:cNvSpPr/>
          <p:nvPr/>
        </p:nvSpPr>
        <p:spPr>
          <a:xfrm>
            <a:off x="1476360" y="1916280"/>
            <a:ext cx="431640" cy="433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5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3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4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5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6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7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1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сектор круга, наведите курсор, щелкните левой кнопкой мыши. Выберите правильный ответ. После этого вы получаете право нажать на кнопку того же цвета, что и выбранный Вами сектор, и открыть одну букву слова. Удач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http://ksyha.narod.ru/dblclick.gif"/>
          <p:cNvPicPr/>
          <p:nvPr/>
        </p:nvPicPr>
        <p:blipFill>
          <a:blip r:embed="rId14"/>
          <a:stretch/>
        </p:blipFill>
        <p:spPr>
          <a:xfrm>
            <a:off x="4643280" y="4724280"/>
            <a:ext cx="2122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ает ли работу сила тяжести, действующая на книгу, лежащую на ст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"/>
          <p:cNvSpPr/>
          <p:nvPr/>
        </p:nvSpPr>
        <p:spPr>
          <a:xfrm>
            <a:off x="826920" y="1916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3"/>
          <p:cNvSpPr/>
          <p:nvPr/>
        </p:nvSpPr>
        <p:spPr>
          <a:xfrm>
            <a:off x="826920" y="2924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826920" y="4005360"/>
            <a:ext cx="216000" cy="21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5">
            <a:hlinkClick r:id="rId1" action="ppaction://hlinksldjump"/>
          </p:cNvPr>
          <p:cNvSpPr/>
          <p:nvPr/>
        </p:nvSpPr>
        <p:spPr>
          <a:xfrm>
            <a:off x="826920" y="4941720"/>
            <a:ext cx="216000" cy="21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1327680" y="177336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328760" y="285264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1332000" y="3860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1319040" y="486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10"/>
          <p:cNvSpPr/>
          <p:nvPr/>
        </p:nvSpPr>
        <p:spPr>
          <a:xfrm>
            <a:off x="5076720" y="486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619280" y="530064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971640" y="5805360"/>
            <a:ext cx="129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5553000" y="48690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43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44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0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1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8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039320" y="227664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1042920" y="3284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1116000" y="4149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ртсмен поднимает штангу вверх. Совершает ли при этом работу сила тяж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6"/>
          <p:cNvSpPr/>
          <p:nvPr/>
        </p:nvSpPr>
        <p:spPr>
          <a:xfrm>
            <a:off x="684360" y="2421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Овал 8"/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Овал 9"/>
          <p:cNvSpPr/>
          <p:nvPr/>
        </p:nvSpPr>
        <p:spPr>
          <a:xfrm>
            <a:off x="684360" y="5229360"/>
            <a:ext cx="215640" cy="215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1174680" y="5084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13">
            <a:hlinkClick r:id="rId1" action="ppaction://hlinksldjump"/>
          </p:cNvPr>
          <p:cNvSpPr/>
          <p:nvPr/>
        </p:nvSpPr>
        <p:spPr>
          <a:xfrm>
            <a:off x="684360" y="3429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http://www.celysvet.cz/skin/smile/s6535.gif"/>
          <p:cNvPicPr/>
          <p:nvPr/>
        </p:nvPicPr>
        <p:blipFill>
          <a:blip r:embed="rId2"/>
          <a:stretch/>
        </p:blipFill>
        <p:spPr>
          <a:xfrm>
            <a:off x="7437600" y="836640"/>
            <a:ext cx="1617480" cy="1728720"/>
          </a:xfrm>
          <a:prstGeom prst="rect">
            <a:avLst/>
          </a:prstGeom>
          <a:ln w="0">
            <a:noFill/>
          </a:ln>
        </p:spPr>
      </p:pic>
      <p:sp>
        <p:nvSpPr>
          <p:cNvPr id="191" name="Блок-схема: процесс 14"/>
          <p:cNvSpPr/>
          <p:nvPr/>
        </p:nvSpPr>
        <p:spPr>
          <a:xfrm>
            <a:off x="971640" y="5805360"/>
            <a:ext cx="115236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91836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3630240" y="3284640"/>
            <a:ext cx="54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лы и движения тела противополож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75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6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2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9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0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611280" y="189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 несет ведра с водой, стараясь ее не расплескать. Совершает ли 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ую работ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18874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042920" y="2781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1029600" y="364500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1030320" y="472428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Овал 9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Овал 10"/>
          <p:cNvSpPr/>
          <p:nvPr/>
        </p:nvSpPr>
        <p:spPr>
          <a:xfrm>
            <a:off x="684360" y="292572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Овал 12"/>
          <p:cNvSpPr/>
          <p:nvPr/>
        </p:nvSpPr>
        <p:spPr>
          <a:xfrm>
            <a:off x="684360" y="4869000"/>
            <a:ext cx="215640" cy="2156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Овал 13">
            <a:hlinkClick r:id="rId1" action="ppaction://hlinksldjump"/>
          </p:cNvPr>
          <p:cNvSpPr/>
          <p:nvPr/>
        </p:nvSpPr>
        <p:spPr>
          <a:xfrm>
            <a:off x="684360" y="378936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Блок-схема: процесс 11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971640" y="36450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 действия силы перпендикулярно  направлению движения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5" descr="http://www.planetaskazok.ru/images/stories/oseeva/sinie_listya/img_032.jpg"/>
          <p:cNvPicPr/>
          <p:nvPr/>
        </p:nvPicPr>
        <p:blipFill>
          <a:blip r:embed="rId2"/>
          <a:stretch/>
        </p:blipFill>
        <p:spPr>
          <a:xfrm>
            <a:off x="7164360" y="765000"/>
            <a:ext cx="1871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2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03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9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0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16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7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1116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силой выполнена работа 30 кДж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ути 7,5 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Овал 3"/>
          <p:cNvSpPr/>
          <p:nvPr/>
        </p:nvSpPr>
        <p:spPr>
          <a:xfrm>
            <a:off x="611280" y="177336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Овал 4"/>
          <p:cNvSpPr/>
          <p:nvPr/>
        </p:nvSpPr>
        <p:spPr>
          <a:xfrm>
            <a:off x="611280" y="263700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Овал 6"/>
          <p:cNvSpPr/>
          <p:nvPr/>
        </p:nvSpPr>
        <p:spPr>
          <a:xfrm>
            <a:off x="611280" y="407664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1122120" y="15987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1124640" y="2492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123200" y="3213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1122840" y="39337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 к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Объект 12"/>
              <p:cNvSpPr txBox="1"/>
              <p:nvPr/>
            </p:nvSpPr>
            <p:spPr>
              <a:xfrm>
                <a:off x="3995640" y="1773360"/>
                <a:ext cx="4040280" cy="32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7,5</m:t>
                            </m:r>
                            <m:r>
                              <m:t xml:space="preserve">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  <m:r>
                          <m:t xml:space="preserve">Н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Овал 13">
            <a:hlinkClick r:id="rId1" action="ppaction://hlinksldjump"/>
          </p:cNvPr>
          <p:cNvSpPr/>
          <p:nvPr/>
        </p:nvSpPr>
        <p:spPr>
          <a:xfrm>
            <a:off x="611280" y="335772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Блок-схема: процесс 1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99036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24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25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1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2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8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9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Овал 1">
            <a:hlinkClick r:id="rId1" action="ppaction://hlinksldjump"/>
          </p:cNvPr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Овал 2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Овал 3"/>
          <p:cNvSpPr/>
          <p:nvPr/>
        </p:nvSpPr>
        <p:spPr>
          <a:xfrm>
            <a:off x="684360" y="278136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Овал 4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-18108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ую работу совершает двигатель мотоцик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ю 25 кВт за 4 мину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1267560" y="1916280"/>
            <a:ext cx="143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50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6" descr="http://www.lesitedeschampions.ca/sport-moto12.gif"/>
          <p:cNvPicPr/>
          <p:nvPr/>
        </p:nvPicPr>
        <p:blipFill>
          <a:blip r:embed="rId2"/>
          <a:stretch/>
        </p:blipFill>
        <p:spPr>
          <a:xfrm>
            <a:off x="7164360" y="907920"/>
            <a:ext cx="1778040" cy="1440000"/>
          </a:xfrm>
          <a:prstGeom prst="rect">
            <a:avLst/>
          </a:prstGeom>
          <a:ln w="0">
            <a:noFill/>
          </a:ln>
        </p:spPr>
      </p:pic>
      <p:sp>
        <p:nvSpPr>
          <p:cNvPr id="226" name="Блок-схема: процесс 8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Объект 10"/>
              <p:cNvSpPr txBox="1"/>
              <p:nvPr/>
            </p:nvSpPr>
            <p:spPr>
              <a:xfrm>
                <a:off x="3492360" y="2492280"/>
                <a:ext cx="475956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кВ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мин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TextBox 11"/>
          <p:cNvSpPr/>
          <p:nvPr/>
        </p:nvSpPr>
        <p:spPr>
          <a:xfrm>
            <a:off x="97704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63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4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70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1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2">
            <a:hlinkClick r:id="rId1" action="ppaction://hlinksldjump"/>
          </p:cNvPr>
          <p:cNvSpPr/>
          <p:nvPr/>
        </p:nvSpPr>
        <p:spPr>
          <a:xfrm>
            <a:off x="684360" y="2708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3"/>
          <p:cNvSpPr/>
          <p:nvPr/>
        </p:nvSpPr>
        <p:spPr>
          <a:xfrm>
            <a:off x="684360" y="1916280"/>
            <a:ext cx="215640" cy="217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4"/>
          <p:cNvSpPr/>
          <p:nvPr/>
        </p:nvSpPr>
        <p:spPr>
          <a:xfrm>
            <a:off x="684360" y="422100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5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79280" y="243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мощность машины, которая поднимает молот весом 15 кН на высоту 0,8 м за 2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195920" y="1844640"/>
            <a:ext cx="13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5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8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Блок-схема: процесс 10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Объект 8"/>
              <p:cNvSpPr txBox="1"/>
              <p:nvPr/>
            </p:nvSpPr>
            <p:spPr>
              <a:xfrm>
                <a:off x="3546360" y="1773360"/>
                <a:ext cx="462600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00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0,8</m:t>
                        </m:r>
                        <m:r>
                          <m:t xml:space="preserve">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8" name="Picture 6" descr="http://img.tootoo.com/mytootoo/upload/47/479578/product/479578_c9a2b63e458867aa51d6b33d980d81c6.jpg"/>
          <p:cNvPicPr/>
          <p:nvPr/>
        </p:nvPicPr>
        <p:blipFill>
          <a:blip r:embed="rId2"/>
          <a:stretch/>
        </p:blipFill>
        <p:spPr>
          <a:xfrm>
            <a:off x="3851280" y="1773360"/>
            <a:ext cx="3849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78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79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85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86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92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3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539640" y="260280"/>
            <a:ext cx="806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НА ДОМ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 53, 54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чая тетрадь: уроки  52 и 53 (работа до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http://class-fizika.narod.ru/7_class/7_motshnost/mexanika5.gif"/>
          <p:cNvPicPr/>
          <p:nvPr/>
        </p:nvPicPr>
        <p:blipFill>
          <a:blip r:embed="rId1"/>
          <a:stretch/>
        </p:blipFill>
        <p:spPr>
          <a:xfrm>
            <a:off x="3684600" y="4005360"/>
            <a:ext cx="1243080" cy="93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60020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сти новые физические величины – «механическая работа», «мощность» и их единицы измерения в международной системе единиц 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ять условия, необходимые для совершения механическо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жать мощность в различных единицах, анализировать мощности различных приборов и технических устрой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ать задачи на вычисление работы и мощ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72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ВСЕМ ЗА РАБОТУ НА УРОКЕ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7" descr="http://img-fotki.yandex.ru/get/6516/148561800.19d/0_9c368_caa5b7c0_L.jpg"/>
          <p:cNvPicPr/>
          <p:nvPr/>
        </p:nvPicPr>
        <p:blipFill>
          <a:blip r:embed="rId1"/>
          <a:stretch/>
        </p:blipFill>
        <p:spPr>
          <a:xfrm>
            <a:off x="2484360" y="2852640"/>
            <a:ext cx="28767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422440" y="11592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ресур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2390760" y="3244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79280" y="765000"/>
            <a:ext cx="896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атериалы сайта  "Класс!ная физика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1-№6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class-fizika.narod.ru/7_rabota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8-№9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class-fizika.narod.ru/7_moshnost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лайд №10: Статья «Лошадиная сила и другие единицы измерения мощности двигателя» Автор: Сергей Громов (Феномены истории. Энциклопедический журнал)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4put.ru/pictures/max/190/586563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тографии и аним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2: Божья коровк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sosh19.okis.ru/img/sosh19/0_623b1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cda261ad_X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шка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forum.moya-semya.ru/uploads/av-9276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4: Паровоз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umka.by/modules/thumb/thumb.php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img=%2F.%2Fimages%2Fitems%2F1712_image.jpg&amp;w=400&amp;h=4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5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ic.pics.livejournal.com/aurume/15770482/4473/4473_origina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жниц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www.animated-gifs.eu/sports-skiing/0060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6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mooreslawnmaintenance.net/images/144_mosquito_graphic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burn.krasgmu.ru/src/images/depts/194/heart_2_b_crop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2987640" y="2565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250920" y="51264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7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mg1.liveinternet.ru/images/attach/c/3/77/849/77849571_pahar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о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lvovcity.com/images/stories/news/2013/03/1414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my-ivanovo.ru/wp-content/uploads/2013/03/850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йде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image.tsn.ua/media/images2/original/Feb2009/ee110f63cc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110397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Лошади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interboom.ru/fid/aW1hZ2VfbWlkZGxlOjEzM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1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4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www.planetaskazok.ru/image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http://www.lesitedeschampions.ca/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http://img.tootoo.com/mytootoo/upload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179280" y="333360"/>
            <a:ext cx="896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8: Лош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terboom.ru/fid/aW1hZ2VfbWlkZGxlOjEzMz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2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planetaskazok.ru/images/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sitedeschampions.ca/sport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img.tootoo.com/mytootoo/upload/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250920" y="58572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ртреты уче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3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Джоуль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ergy-etc.ru/image/upload/Jou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Уат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19stoleti.cz/kdojekdo/kdojekdo-00007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Овальная выноска 4"/>
          <p:cNvSpPr/>
          <p:nvPr/>
        </p:nvSpPr>
        <p:spPr>
          <a:xfrm>
            <a:off x="250920" y="1989000"/>
            <a:ext cx="3241440" cy="1440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684360" y="20844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мешай мне работать! Я чита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физики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ьная выноска 5"/>
          <p:cNvSpPr/>
          <p:nvPr/>
        </p:nvSpPr>
        <p:spPr>
          <a:xfrm>
            <a:off x="4859280" y="1989000"/>
            <a:ext cx="3384720" cy="1368720"/>
          </a:xfrm>
          <a:prstGeom prst="wedgeEllipseCallout">
            <a:avLst>
              <a:gd name="adj1" fmla="val 30902"/>
              <a:gd name="adj2" fmla="val 65342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img25.dreamies.de/img/942/b/q3ngvtwfmfv.gif"/>
          <p:cNvPicPr/>
          <p:nvPr/>
        </p:nvPicPr>
        <p:blipFill>
          <a:blip r:embed="rId1"/>
          <a:stretch/>
        </p:blipFill>
        <p:spPr>
          <a:xfrm>
            <a:off x="6588000" y="3500280"/>
            <a:ext cx="1816200" cy="1872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84360" y="26352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Ы ПОНИМАЕМ ПОД СЛОВ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5148720" y="2205000"/>
            <a:ext cx="27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ешь! Я т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ю – прыгаю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250920" y="19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физике "механической работой" называют работу какой-нибудь силы (силы тяжести, упругости, трения и т.д.) над телом, в результате действия которой тело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4put.ru/pictures/max/190/586563.gif"/>
          <p:cNvPicPr/>
          <p:nvPr/>
        </p:nvPicPr>
        <p:blipFill>
          <a:blip r:embed="rId2"/>
          <a:stretch/>
        </p:blipFill>
        <p:spPr>
          <a:xfrm>
            <a:off x="539640" y="3645000"/>
            <a:ext cx="17287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665920" cy="388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95280" y="1052640"/>
            <a:ext cx="842472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ая работа - физическая величина, прямо пропорциональная приложенной силе и обратно пропорциональная пройденному телом пу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Объект 4"/>
              <p:cNvSpPr txBox="1"/>
              <p:nvPr/>
            </p:nvSpPr>
            <p:spPr>
              <a:xfrm>
                <a:off x="3132000" y="2492280"/>
                <a:ext cx="2541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Прямоугольник 5"/>
          <p:cNvSpPr/>
          <p:nvPr/>
        </p:nvSpPr>
        <p:spPr>
          <a:xfrm>
            <a:off x="250920" y="357336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механическая работа,   F - сила,    S - пройденный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http://shopedu.ru/uploaded_files/shop_images/488.jpg"/>
          <p:cNvPicPr/>
          <p:nvPr/>
        </p:nvPicPr>
        <p:blipFill>
          <a:blip r:embed="rId2"/>
          <a:stretch/>
        </p:blipFill>
        <p:spPr>
          <a:xfrm>
            <a:off x="395280" y="2421000"/>
            <a:ext cx="208296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3166920" y="4154040"/>
            <a:ext cx="5653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работы принимают работу, совершаемую силой в 1 Н, на пути, равном 1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1749600" y="25236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219840" y="5516640"/>
            <a:ext cx="28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A]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∙ м =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Дж = 1Н ∙ 1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04000" y="4292640"/>
            <a:ext cx="1992240" cy="19573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95280" y="252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не совершается (т.е. равна 0 )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974600" cy="1035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551960" y="1547640"/>
            <a:ext cx="8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право 5"/>
          <p:cNvSpPr/>
          <p:nvPr/>
        </p:nvSpPr>
        <p:spPr>
          <a:xfrm>
            <a:off x="2771640" y="4365720"/>
            <a:ext cx="9367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856320" y="147636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35520" y="950760"/>
            <a:ext cx="5796720" cy="45972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Сила действует, а тело 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324000" y="2781360"/>
            <a:ext cx="83534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Тело перемещается, а сила равна нулю, или все силы скомпенсированы (т.е. равнодействующая этих сил равна 0). Так при движении по инерции работа не совершаетс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322200" y="5084640"/>
            <a:ext cx="5545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правление действия силы и направление движения тела взаимно перпендикуляр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1696320" y="4149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3929040" y="41497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право 14"/>
          <p:cNvSpPr/>
          <p:nvPr/>
        </p:nvSpPr>
        <p:spPr>
          <a:xfrm>
            <a:off x="2700360" y="1771560"/>
            <a:ext cx="934920" cy="14472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трелка вниз 12"/>
          <p:cNvSpPr/>
          <p:nvPr/>
        </p:nvSpPr>
        <p:spPr>
          <a:xfrm>
            <a:off x="7956720" y="5587920"/>
            <a:ext cx="287280" cy="86544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лево 16"/>
          <p:cNvSpPr/>
          <p:nvPr/>
        </p:nvSpPr>
        <p:spPr>
          <a:xfrm>
            <a:off x="6659640" y="5445000"/>
            <a:ext cx="1512720" cy="216000"/>
          </a:xfrm>
          <a:prstGeom prst="lef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Объект 17"/>
              <p:cNvSpPr txBox="1"/>
              <p:nvPr/>
            </p:nvSpPr>
            <p:spPr>
              <a:xfrm>
                <a:off x="7308720" y="6093000"/>
                <a:ext cx="762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18"/>
              <p:cNvSpPr txBox="1"/>
              <p:nvPr/>
            </p:nvSpPr>
            <p:spPr>
              <a:xfrm>
                <a:off x="6659640" y="4724280"/>
                <a:ext cx="431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50920" y="260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может быть положительной и отрицатель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8360" y="1373400"/>
            <a:ext cx="5616360" cy="1557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Если направление силы и направление движения тела совпадают, совершается положи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468360" y="3740040"/>
            <a:ext cx="561636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Если направление силы и движения тела противоположны, совершается отрица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трелка вниз 11"/>
          <p:cNvSpPr/>
          <p:nvPr/>
        </p:nvSpPr>
        <p:spPr>
          <a:xfrm flipH="1" rot="16200000">
            <a:off x="8080920" y="5103720"/>
            <a:ext cx="252360" cy="9349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трелка вниз 12"/>
          <p:cNvSpPr/>
          <p:nvPr/>
        </p:nvSpPr>
        <p:spPr>
          <a:xfrm rot="5400000">
            <a:off x="7002360" y="4959000"/>
            <a:ext cx="252360" cy="1224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Объект 9"/>
              <p:cNvSpPr txBox="1"/>
              <p:nvPr/>
            </p:nvSpPr>
            <p:spPr>
              <a:xfrm>
                <a:off x="6732720" y="566100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Объект 10"/>
              <p:cNvSpPr txBox="1"/>
              <p:nvPr/>
            </p:nvSpPr>
            <p:spPr>
              <a:xfrm>
                <a:off x="7667640" y="278136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Объект 13"/>
              <p:cNvSpPr txBox="1"/>
              <p:nvPr/>
            </p:nvSpPr>
            <p:spPr>
              <a:xfrm>
                <a:off x="8037360" y="5700600"/>
                <a:ext cx="5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р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14"/>
              <p:cNvSpPr txBox="1"/>
              <p:nvPr/>
            </p:nvSpPr>
            <p:spPr>
              <a:xfrm>
                <a:off x="8244000" y="2133720"/>
                <a:ext cx="761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15"/>
              <p:cNvSpPr txBox="1"/>
              <p:nvPr/>
            </p:nvSpPr>
            <p:spPr>
              <a:xfrm>
                <a:off x="1979640" y="5203800"/>
                <a:ext cx="2090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Picture 78" descr="http://www.animated-gifs.eu/sports-skiing/0060.gif"/>
          <p:cNvPicPr/>
          <p:nvPr/>
        </p:nvPicPr>
        <p:blipFill>
          <a:blip r:embed="rId1"/>
          <a:stretch/>
        </p:blipFill>
        <p:spPr>
          <a:xfrm>
            <a:off x="6588000" y="4005360"/>
            <a:ext cx="1878120" cy="144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c.pics.livejournal.com/aurume/15770482/4473/4473_original.gif"/>
          <p:cNvPicPr/>
          <p:nvPr/>
        </p:nvPicPr>
        <p:blipFill>
          <a:blip r:embed="rId2"/>
          <a:stretch/>
        </p:blipFill>
        <p:spPr>
          <a:xfrm>
            <a:off x="6443640" y="1413000"/>
            <a:ext cx="115272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Капля 16"/>
          <p:cNvSpPr/>
          <p:nvPr/>
        </p:nvSpPr>
        <p:spPr>
          <a:xfrm rot="18658200">
            <a:off x="7851600" y="1528560"/>
            <a:ext cx="557280" cy="54756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17"/>
              <p:cNvSpPr txBox="1"/>
              <p:nvPr/>
            </p:nvSpPr>
            <p:spPr>
              <a:xfrm>
                <a:off x="1925640" y="3014640"/>
                <a:ext cx="2054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Стрелка вниз 25"/>
          <p:cNvSpPr/>
          <p:nvPr/>
        </p:nvSpPr>
        <p:spPr>
          <a:xfrm>
            <a:off x="8028000" y="1844640"/>
            <a:ext cx="216000" cy="165564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низ 26"/>
          <p:cNvSpPr/>
          <p:nvPr/>
        </p:nvSpPr>
        <p:spPr>
          <a:xfrm>
            <a:off x="8028000" y="1844640"/>
            <a:ext cx="216000" cy="100800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532680" y="260280"/>
            <a:ext cx="20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ж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340000" y="10602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перелете с большого пальца руки человека на указательный комар совершает работу -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 000 000 000 000 000 000 000 00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0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 flipV="1" rot="10800000">
            <a:off x="2268360" y="3690720"/>
            <a:ext cx="64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ердце человека за одно сокращение совершает приблизительно 1 Дж работы, что соответствует работе, совершенной при поднятии груза массой 10 кг на высоту 1 с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http://s39.radikal.ru/i084/1008/d9/eab84bdca231.gif"/>
          <p:cNvPicPr/>
          <p:nvPr/>
        </p:nvPicPr>
        <p:blipFill>
          <a:blip r:embed="rId1"/>
          <a:stretch/>
        </p:blipFill>
        <p:spPr>
          <a:xfrm>
            <a:off x="324000" y="3141720"/>
            <a:ext cx="171576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mooreslawnmaintenance.net/images/144_mosquito_graphic2.gif"/>
          <p:cNvPicPr/>
          <p:nvPr/>
        </p:nvPicPr>
        <p:blipFill>
          <a:blip r:embed="rId2"/>
          <a:stretch/>
        </p:blipFill>
        <p:spPr>
          <a:xfrm>
            <a:off x="324000" y="981000"/>
            <a:ext cx="12808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105440" cy="263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911400" cy="263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3240000" cy="237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4"/>
          <a:stretch/>
        </p:blipFill>
        <p:spPr>
          <a:xfrm>
            <a:off x="468360" y="1916280"/>
            <a:ext cx="391464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537120" y="189000"/>
            <a:ext cx="87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быстрее совершит одинаковую рабо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542520" y="90792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95280" y="4869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ая величина, характеризующая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выполнения работ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называется механической мощность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75564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МОЩ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324000" y="981000"/>
            <a:ext cx="849600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 (N) – физическая величина, равная отношению работы A к промежутку времени t, в течение которого совершена эта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Объект 3"/>
              <p:cNvSpPr txBox="1"/>
              <p:nvPr/>
            </p:nvSpPr>
            <p:spPr>
              <a:xfrm>
                <a:off x="4067280" y="2421000"/>
                <a:ext cx="3241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2158920" cy="27464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4284720" y="5157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[N] = Дж /c = В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Вт = 1 Дж / 1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059280" y="3645000"/>
            <a:ext cx="58100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мощности, принята такая  мощность, при которой за  1 с совершается  работа в 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6:06:51Z</dcterms:created>
  <dc:creator>Fenix</dc:creator>
  <dc:description/>
  <dc:language>en-US</dc:language>
  <cp:lastModifiedBy>OLEG</cp:lastModifiedBy>
  <dcterms:modified xsi:type="dcterms:W3CDTF">2013-09-14T17:58:05Z</dcterms:modified>
  <cp:revision>171</cp:revision>
  <dc:subject/>
  <dc:title>Презентация PowerPoint</dc:title>
</cp:coreProperties>
</file>