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27.gif" ContentType="image/gif"/>
  <Override PartName="/ppt/media/image28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gif" ContentType="image/gif"/>
  <Override PartName="/ppt/media/image17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6362-9367-4A13-82D3-B9D438615A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9D36-298C-4C77-80E3-853DA0BCC5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5D7A-EF06-4952-AF58-BB8A21532B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41B6-000B-47AB-A9FD-DC72C68BC7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4B6-C4AC-437B-A7B2-63E408DE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ACF-87E0-43E1-9D1F-784B1F18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B1F7-556F-4CB7-89A0-ACF59F5D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F3DC-C7EB-495F-9A9C-6CEE27B4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D288-A6D6-4CBD-A2AC-943D87B2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A84-E740-4BAB-864F-BCDD71CB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628E-7D7E-4CCF-A892-8980B786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F1D-E086-41F9-AB09-B20664D4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5CF-7BE3-4AAB-9AF1-DB88846E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450-4778-48E2-8842-6DE955A9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DF6-DD05-4699-9A57-BBD91A63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F6A-264F-4D31-83E9-BA740DCF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0494-7896-4628-92D1-46F17B9991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6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3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" Target="slide11.xml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3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123720" y="42670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41e75"/>
                </a:solidFill>
                <a:latin typeface="Times New Roman"/>
              </a:rPr>
              <a:t>7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800px-Palanca-ejemplo"/>
          <p:cNvPicPr/>
          <p:nvPr/>
        </p:nvPicPr>
        <p:blipFill>
          <a:blip r:embed="rId1"/>
          <a:stretch/>
        </p:blipFill>
        <p:spPr>
          <a:xfrm>
            <a:off x="492120" y="117360"/>
            <a:ext cx="8236080" cy="3692520"/>
          </a:xfrm>
          <a:prstGeom prst="rect">
            <a:avLst/>
          </a:prstGeom>
          <a:ln w="0">
            <a:noFill/>
          </a:ln>
        </p:spPr>
      </p:pic>
      <p:sp>
        <p:nvSpPr>
          <p:cNvPr id="50" name="WordArt 8"/>
          <p:cNvSpPr txBox="1"/>
          <p:nvPr/>
        </p:nvSpPr>
        <p:spPr>
          <a:xfrm>
            <a:off x="3200400" y="609480"/>
            <a:ext cx="5257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мент силы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308640" y="5810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28600" y="5334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28600" y="2286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Момент сил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вен 1 Нм. На каком расстоянии справа от оси вращения нужно прикрепить груз  весом 4Н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600200" y="2209680"/>
            <a:ext cx="5715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581280" y="2362320"/>
            <a:ext cx="304920" cy="685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1600200" y="2209680"/>
            <a:ext cx="0" cy="18288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638680" y="3048120"/>
            <a:ext cx="1143000" cy="6094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6172200" y="220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373400" y="41814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14479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502360" y="441000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5 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8">
            <a:hlinkClick r:id="rId1" action="ppaction://hlinksldjump"/>
          </p:cNvPr>
          <p:cNvSpPr/>
          <p:nvPr/>
        </p:nvSpPr>
        <p:spPr>
          <a:xfrm>
            <a:off x="3809880" y="3048120"/>
            <a:ext cx="1447920" cy="1218960"/>
          </a:xfrm>
          <a:prstGeom prst="hexagon">
            <a:avLst>
              <a:gd name="adj" fmla="val 29696"/>
              <a:gd name="vf" fmla="val 115470"/>
            </a:avLst>
          </a:prstGeom>
          <a:solidFill>
            <a:srgbClr val="a8f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0">
            <a:hlinkClick r:id="rId2" action="ppaction://hlinksldjump"/>
          </p:cNvPr>
          <p:cNvSpPr/>
          <p:nvPr/>
        </p:nvSpPr>
        <p:spPr>
          <a:xfrm>
            <a:off x="3809880" y="42670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d3c2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1">
            <a:hlinkClick r:id="rId3" action="ppaction://hlinksldjump"/>
          </p:cNvPr>
          <p:cNvSpPr/>
          <p:nvPr/>
        </p:nvSpPr>
        <p:spPr>
          <a:xfrm>
            <a:off x="4876920" y="365760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aaeb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2">
            <a:hlinkClick r:id="rId4" action="ppaction://hlinksldjump"/>
          </p:cNvPr>
          <p:cNvSpPr/>
          <p:nvPr/>
        </p:nvSpPr>
        <p:spPr>
          <a:xfrm>
            <a:off x="2743200" y="36576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27a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23">
            <a:hlinkClick r:id="rId5" action="ppaction://hlinksldjump"/>
          </p:cNvPr>
          <p:cNvSpPr/>
          <p:nvPr/>
        </p:nvSpPr>
        <p:spPr>
          <a:xfrm>
            <a:off x="2743200" y="24382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afd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4">
            <a:hlinkClick r:id="rId6" action="ppaction://hlinksldjump"/>
          </p:cNvPr>
          <p:cNvSpPr/>
          <p:nvPr/>
        </p:nvSpPr>
        <p:spPr>
          <a:xfrm>
            <a:off x="4876920" y="243828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feb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5">
            <a:hlinkClick r:id="rId7" action="ppaction://hlinksldjump"/>
          </p:cNvPr>
          <p:cNvSpPr/>
          <p:nvPr/>
        </p:nvSpPr>
        <p:spPr>
          <a:xfrm>
            <a:off x="3809880" y="18288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им свои 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131920" y="114300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заика «Момент си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6">
            <a:hlinkClick r:id="rId8" action="ppaction://hlinksldjump"/>
          </p:cNvPr>
          <p:cNvSpPr/>
          <p:nvPr/>
        </p:nvSpPr>
        <p:spPr>
          <a:xfrm>
            <a:off x="7696080" y="5638680"/>
            <a:ext cx="990720" cy="457200"/>
          </a:xfrm>
          <a:custGeom>
            <a:avLst/>
            <a:gdLst>
              <a:gd name="textAreaLeft" fmla="*/ 173160 w 990720"/>
              <a:gd name="textAreaRight" fmla="*/ 718200 w 990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71800" y="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28"/>
          <p:cNvGraphicFramePr/>
          <p:nvPr/>
        </p:nvGraphicFramePr>
        <p:xfrm>
          <a:off x="1295280" y="2514600"/>
          <a:ext cx="2057400" cy="16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205740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30"/>
          <p:cNvGraphicFramePr/>
          <p:nvPr/>
        </p:nvGraphicFramePr>
        <p:xfrm>
          <a:off x="5715000" y="2666880"/>
          <a:ext cx="1905120" cy="15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666880"/>
                    <a:ext cx="190512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21"/>
          <p:cNvSpPr/>
          <p:nvPr/>
        </p:nvSpPr>
        <p:spPr>
          <a:xfrm>
            <a:off x="380880" y="10666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какой формуле определ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34"/>
          <p:cNvGraphicFramePr/>
          <p:nvPr/>
        </p:nvGraphicFramePr>
        <p:xfrm>
          <a:off x="1219320" y="4648320"/>
          <a:ext cx="281916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648320"/>
                    <a:ext cx="2819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36"/>
          <p:cNvGraphicFramePr/>
          <p:nvPr/>
        </p:nvGraphicFramePr>
        <p:xfrm>
          <a:off x="5715000" y="4495680"/>
          <a:ext cx="236376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495680"/>
                    <a:ext cx="2363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AutoShape 38"/>
          <p:cNvSpPr/>
          <p:nvPr/>
        </p:nvSpPr>
        <p:spPr>
          <a:xfrm>
            <a:off x="685800" y="31240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0">
            <a:hlinkClick r:id="rId9" action="ppaction://hlinksldjump"/>
          </p:cNvPr>
          <p:cNvSpPr/>
          <p:nvPr/>
        </p:nvSpPr>
        <p:spPr>
          <a:xfrm>
            <a:off x="518148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1"/>
          <p:cNvSpPr/>
          <p:nvPr/>
        </p:nvSpPr>
        <p:spPr>
          <a:xfrm>
            <a:off x="5105520" y="3200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2"/>
          <p:cNvSpPr/>
          <p:nvPr/>
        </p:nvSpPr>
        <p:spPr>
          <a:xfrm>
            <a:off x="685800" y="48006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2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22"/>
          <p:cNvGraphicFramePr/>
          <p:nvPr/>
        </p:nvGraphicFramePr>
        <p:xfrm>
          <a:off x="1752480" y="2057400"/>
          <a:ext cx="86220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86220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25"/>
          <p:cNvGraphicFramePr/>
          <p:nvPr/>
        </p:nvGraphicFramePr>
        <p:xfrm>
          <a:off x="6858000" y="1905120"/>
          <a:ext cx="822240" cy="15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1905120"/>
                    <a:ext cx="82224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27"/>
          <p:cNvGraphicFramePr/>
          <p:nvPr/>
        </p:nvGraphicFramePr>
        <p:xfrm>
          <a:off x="1676520" y="4419720"/>
          <a:ext cx="15238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419720"/>
                    <a:ext cx="15238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0" y="2584440"/>
          <a:ext cx="114480" cy="2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58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21"/>
          <p:cNvSpPr/>
          <p:nvPr/>
        </p:nvSpPr>
        <p:spPr>
          <a:xfrm>
            <a:off x="-1080" y="13399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каких единицах измер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31"/>
          <p:cNvGraphicFramePr/>
          <p:nvPr/>
        </p:nvGraphicFramePr>
        <p:xfrm>
          <a:off x="7010280" y="4267080"/>
          <a:ext cx="762120" cy="70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4267080"/>
                    <a:ext cx="7621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32"/>
          <p:cNvSpPr/>
          <p:nvPr/>
        </p:nvSpPr>
        <p:spPr>
          <a:xfrm>
            <a:off x="1066680" y="27432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33"/>
          <p:cNvSpPr/>
          <p:nvPr/>
        </p:nvSpPr>
        <p:spPr>
          <a:xfrm>
            <a:off x="63244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6248520" y="25909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35">
            <a:hlinkClick r:id="rId11" action="ppaction://hlinksldjump"/>
          </p:cNvPr>
          <p:cNvSpPr/>
          <p:nvPr/>
        </p:nvSpPr>
        <p:spPr>
          <a:xfrm>
            <a:off x="99072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295280" y="2819520"/>
            <a:ext cx="563904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3276720" y="23619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2819520" y="2362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6934320" y="2819520"/>
            <a:ext cx="0" cy="13716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15"/>
          <p:cNvGraphicFramePr/>
          <p:nvPr/>
        </p:nvGraphicFramePr>
        <p:xfrm>
          <a:off x="7086600" y="3124080"/>
          <a:ext cx="63972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124080"/>
                    <a:ext cx="6397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8"/>
          <p:cNvSpPr/>
          <p:nvPr/>
        </p:nvSpPr>
        <p:spPr>
          <a:xfrm>
            <a:off x="3050280" y="2819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304920" y="9907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м образом двигается рычаг под действием сил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0"/>
          <p:cNvSpPr/>
          <p:nvPr/>
        </p:nvSpPr>
        <p:spPr>
          <a:xfrm>
            <a:off x="99072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2">
            <a:hlinkClick r:id="rId3" action="ppaction://hlinksldjump"/>
          </p:cNvPr>
          <p:cNvSpPr/>
          <p:nvPr/>
        </p:nvSpPr>
        <p:spPr>
          <a:xfrm>
            <a:off x="99072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02920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4"/>
          <p:cNvSpPr/>
          <p:nvPr/>
        </p:nvSpPr>
        <p:spPr>
          <a:xfrm>
            <a:off x="502920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1754280" y="4510080"/>
            <a:ext cx="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1600200" y="5486400"/>
            <a:ext cx="313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о часовой стрел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638680" y="54864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ротив  часовой стрел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5699160" y="4586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5793120" y="449568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449640" y="905040"/>
            <a:ext cx="78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му равен момент силы, приложенной к рыча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57400" y="2209680"/>
            <a:ext cx="541008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 flipV="1">
            <a:off x="47242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33526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601992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3200400" y="2362320"/>
            <a:ext cx="30492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059560" y="144792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4"/>
          <p:cNvSpPr/>
          <p:nvPr/>
        </p:nvSpPr>
        <p:spPr>
          <a:xfrm rot="5400000">
            <a:off x="2552760" y="140940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000 h 1295280"/>
              <a:gd name="textAreaBottom" fmla="*/ 125028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0"/>
                  <a:pt x="10800" y="2400"/>
                </a:cubicBezTo>
                <a:lnTo>
                  <a:pt x="10800" y="7650"/>
                </a:lnTo>
                <a:cubicBezTo>
                  <a:pt x="10800" y="8850"/>
                  <a:pt x="5400" y="10050"/>
                  <a:pt x="0" y="10050"/>
                </a:cubicBezTo>
                <a:cubicBezTo>
                  <a:pt x="5400" y="10050"/>
                  <a:pt x="10800" y="11250"/>
                  <a:pt x="10800" y="12450"/>
                </a:cubicBezTo>
                <a:lnTo>
                  <a:pt x="10800" y="19200"/>
                </a:lnTo>
                <a:cubicBezTo>
                  <a:pt x="10800" y="20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6019920" y="1523520"/>
            <a:ext cx="0" cy="6858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68580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7"/>
          <p:cNvSpPr/>
          <p:nvPr/>
        </p:nvSpPr>
        <p:spPr>
          <a:xfrm>
            <a:off x="685800" y="5562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8">
            <a:hlinkClick r:id="rId1" action="ppaction://hlinksldjump"/>
          </p:cNvPr>
          <p:cNvSpPr/>
          <p:nvPr/>
        </p:nvSpPr>
        <p:spPr>
          <a:xfrm>
            <a:off x="4952880" y="5486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49528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021720" y="14619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34600" y="44100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1398600" y="55008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5798160" y="435780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5874120" y="542448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69960" y="1157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1447920" y="3657600"/>
            <a:ext cx="615636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4392720" y="3753000"/>
            <a:ext cx="360360" cy="57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2971800" y="3809880"/>
            <a:ext cx="152280" cy="1143000"/>
          </a:xfrm>
          <a:prstGeom prst="downArrow">
            <a:avLst>
              <a:gd name="adj1" fmla="val 50000"/>
              <a:gd name="adj2" fmla="val 168535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7467480" y="3809880"/>
            <a:ext cx="144720" cy="612720"/>
          </a:xfrm>
          <a:prstGeom prst="downArrow">
            <a:avLst>
              <a:gd name="adj1" fmla="val 50000"/>
              <a:gd name="adj2" fmla="val 105846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1834920" y="41911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776720" y="4114800"/>
            <a:ext cx="8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 flipV="1">
            <a:off x="30481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7"/>
          <p:cNvSpPr/>
          <p:nvPr/>
        </p:nvSpPr>
        <p:spPr>
          <a:xfrm flipV="1">
            <a:off x="45720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 flipV="1">
            <a:off x="61722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38098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54100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22096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V="1">
            <a:off x="69343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4556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304920" y="91440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ую силу надо приложить к правому концу рычага, чтобы он находился в равновесии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380880" y="5791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7">
            <a:hlinkClick r:id="rId1" action="ppaction://hlinksldjump"/>
          </p:cNvPr>
          <p:cNvSpPr/>
          <p:nvPr/>
        </p:nvSpPr>
        <p:spPr>
          <a:xfrm>
            <a:off x="510552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8"/>
          <p:cNvSpPr/>
          <p:nvPr/>
        </p:nvSpPr>
        <p:spPr>
          <a:xfrm>
            <a:off x="266688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9"/>
          <p:cNvSpPr/>
          <p:nvPr/>
        </p:nvSpPr>
        <p:spPr>
          <a:xfrm>
            <a:off x="708660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839520" y="56833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3125520" y="560700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5551200" y="553068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7624800" y="55627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1"/>
          <p:cNvSpPr/>
          <p:nvPr/>
        </p:nvSpPr>
        <p:spPr>
          <a:xfrm flipV="1">
            <a:off x="3733920" y="2971080"/>
            <a:ext cx="152280" cy="685800"/>
          </a:xfrm>
          <a:prstGeom prst="downArrow">
            <a:avLst>
              <a:gd name="adj1" fmla="val 50000"/>
              <a:gd name="adj2" fmla="val 168528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25"/>
          <p:cNvGraphicFramePr/>
          <p:nvPr/>
        </p:nvGraphicFramePr>
        <p:xfrm>
          <a:off x="3352680" y="2666880"/>
          <a:ext cx="4460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666880"/>
                    <a:ext cx="446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20"/>
          <p:cNvGraphicFramePr/>
          <p:nvPr/>
        </p:nvGraphicFramePr>
        <p:xfrm>
          <a:off x="1447920" y="2895480"/>
          <a:ext cx="39204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895480"/>
                    <a:ext cx="392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28"/>
          <p:cNvGraphicFramePr/>
          <p:nvPr/>
        </p:nvGraphicFramePr>
        <p:xfrm>
          <a:off x="5562720" y="1295280"/>
          <a:ext cx="420480" cy="5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1295280"/>
                    <a:ext cx="4204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7"/>
          <p:cNvSpPr/>
          <p:nvPr/>
        </p:nvSpPr>
        <p:spPr>
          <a:xfrm>
            <a:off x="457200" y="762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записывается условие равновесия рычага в этом случа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676520" y="2057400"/>
            <a:ext cx="5257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4191120" y="2133720"/>
            <a:ext cx="22860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1676520" y="2057400"/>
            <a:ext cx="0" cy="914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3581280" y="2057400"/>
            <a:ext cx="0" cy="6094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2"/>
          <p:cNvSpPr/>
          <p:nvPr/>
        </p:nvSpPr>
        <p:spPr>
          <a:xfrm flipV="1">
            <a:off x="5486400" y="167652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4"/>
          <p:cNvSpPr/>
          <p:nvPr/>
        </p:nvSpPr>
        <p:spPr>
          <a:xfrm>
            <a:off x="6934320" y="2057400"/>
            <a:ext cx="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2"/>
          <p:cNvGraphicFramePr/>
          <p:nvPr/>
        </p:nvGraphicFramePr>
        <p:xfrm>
          <a:off x="7010280" y="3429000"/>
          <a:ext cx="4064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10280" y="3429000"/>
                    <a:ext cx="406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AutoShape 33"/>
          <p:cNvSpPr/>
          <p:nvPr/>
        </p:nvSpPr>
        <p:spPr>
          <a:xfrm>
            <a:off x="762120" y="4724280"/>
            <a:ext cx="380880" cy="3812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762120" y="55627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35">
            <a:hlinkClick r:id="rId9" action="ppaction://hlinksldjump"/>
          </p:cNvPr>
          <p:cNvSpPr/>
          <p:nvPr/>
        </p:nvSpPr>
        <p:spPr>
          <a:xfrm>
            <a:off x="5257800" y="46483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36"/>
          <p:cNvSpPr/>
          <p:nvPr/>
        </p:nvSpPr>
        <p:spPr>
          <a:xfrm>
            <a:off x="5257800" y="548640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Object 37"/>
          <p:cNvGraphicFramePr/>
          <p:nvPr/>
        </p:nvGraphicFramePr>
        <p:xfrm>
          <a:off x="1219320" y="4680000"/>
          <a:ext cx="3047760" cy="549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1" name="Object 3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4680000"/>
                    <a:ext cx="30477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38"/>
          <p:cNvGraphicFramePr/>
          <p:nvPr/>
        </p:nvGraphicFramePr>
        <p:xfrm>
          <a:off x="1219320" y="5538960"/>
          <a:ext cx="2819160" cy="50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3" name="Object 3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19320" y="5538960"/>
                    <a:ext cx="281916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40"/>
          <p:cNvGraphicFramePr/>
          <p:nvPr/>
        </p:nvGraphicFramePr>
        <p:xfrm>
          <a:off x="5791320" y="4633920"/>
          <a:ext cx="2819160" cy="507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5" name="Object 4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91320" y="4633920"/>
                    <a:ext cx="2819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1"/>
          <p:cNvGraphicFramePr/>
          <p:nvPr/>
        </p:nvGraphicFramePr>
        <p:xfrm>
          <a:off x="5791320" y="5486400"/>
          <a:ext cx="3047760" cy="546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7" name="Object 4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91320" y="5486400"/>
                    <a:ext cx="3047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29"/>
          <p:cNvGraphicFramePr/>
          <p:nvPr/>
        </p:nvGraphicFramePr>
        <p:xfrm>
          <a:off x="1892160" y="2355840"/>
          <a:ext cx="116856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355840"/>
                    <a:ext cx="11685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41"/>
          <p:cNvGraphicFramePr/>
          <p:nvPr/>
        </p:nvGraphicFramePr>
        <p:xfrm>
          <a:off x="2419200" y="492444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9200" y="492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43"/>
          <p:cNvGraphicFramePr/>
          <p:nvPr/>
        </p:nvGraphicFramePr>
        <p:xfrm>
          <a:off x="380880" y="4038480"/>
          <a:ext cx="853452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038480"/>
                    <a:ext cx="85345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7"/>
          <p:cNvSpPr/>
          <p:nvPr/>
        </p:nvSpPr>
        <p:spPr>
          <a:xfrm>
            <a:off x="1600200" y="2590920"/>
            <a:ext cx="60958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0492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(слева или справа) и на каком расстоянии от точки О надо приложить сил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=4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рычаг находился в равновесии? Длина рычага 2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9"/>
          <p:cNvSpPr/>
          <p:nvPr/>
        </p:nvSpPr>
        <p:spPr>
          <a:xfrm>
            <a:off x="4495680" y="2743200"/>
            <a:ext cx="3049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0"/>
          <p:cNvSpPr/>
          <p:nvPr/>
        </p:nvSpPr>
        <p:spPr>
          <a:xfrm flipV="1">
            <a:off x="31240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V="1">
            <a:off x="2362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4648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62485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5"/>
          <p:cNvSpPr/>
          <p:nvPr/>
        </p:nvSpPr>
        <p:spPr>
          <a:xfrm flipV="1">
            <a:off x="54864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6"/>
          <p:cNvSpPr/>
          <p:nvPr/>
        </p:nvSpPr>
        <p:spPr>
          <a:xfrm flipV="1">
            <a:off x="70102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7"/>
          <p:cNvSpPr/>
          <p:nvPr/>
        </p:nvSpPr>
        <p:spPr>
          <a:xfrm flipV="1">
            <a:off x="38862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9"/>
          <p:cNvSpPr/>
          <p:nvPr/>
        </p:nvSpPr>
        <p:spPr>
          <a:xfrm flipV="1">
            <a:off x="8763120" y="175248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1600200" y="2743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1"/>
          <p:cNvSpPr/>
          <p:nvPr/>
        </p:nvSpPr>
        <p:spPr>
          <a:xfrm>
            <a:off x="1600200" y="259092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2"/>
          <p:cNvSpPr/>
          <p:nvPr/>
        </p:nvSpPr>
        <p:spPr>
          <a:xfrm>
            <a:off x="7696080" y="2590920"/>
            <a:ext cx="0" cy="1295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1089000" y="297180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7698240" y="3200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Object 46"/>
          <p:cNvGraphicFramePr/>
          <p:nvPr/>
        </p:nvGraphicFramePr>
        <p:xfrm>
          <a:off x="304920" y="4495680"/>
          <a:ext cx="8610480" cy="96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95680"/>
                    <a:ext cx="86104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52"/>
          <p:cNvSpPr/>
          <p:nvPr/>
        </p:nvSpPr>
        <p:spPr>
          <a:xfrm>
            <a:off x="765000" y="5607000"/>
            <a:ext cx="108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53"/>
          <p:cNvSpPr/>
          <p:nvPr/>
        </p:nvSpPr>
        <p:spPr>
          <a:xfrm>
            <a:off x="3126240" y="5638680"/>
            <a:ext cx="10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4"/>
          <p:cNvSpPr/>
          <p:nvPr/>
        </p:nvSpPr>
        <p:spPr>
          <a:xfrm>
            <a:off x="525996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55"/>
          <p:cNvSpPr/>
          <p:nvPr/>
        </p:nvSpPr>
        <p:spPr>
          <a:xfrm>
            <a:off x="716472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56"/>
          <p:cNvSpPr/>
          <p:nvPr/>
        </p:nvSpPr>
        <p:spPr>
          <a:xfrm flipV="1">
            <a:off x="685800" y="5562360"/>
            <a:ext cx="0" cy="99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57"/>
          <p:cNvSpPr/>
          <p:nvPr/>
        </p:nvSpPr>
        <p:spPr>
          <a:xfrm flipV="1">
            <a:off x="31240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8"/>
          <p:cNvSpPr/>
          <p:nvPr/>
        </p:nvSpPr>
        <p:spPr>
          <a:xfrm flipV="1">
            <a:off x="51814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9"/>
          <p:cNvSpPr/>
          <p:nvPr/>
        </p:nvSpPr>
        <p:spPr>
          <a:xfrm flipV="1">
            <a:off x="716292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60"/>
          <p:cNvSpPr/>
          <p:nvPr/>
        </p:nvSpPr>
        <p:spPr>
          <a:xfrm>
            <a:off x="8139240" y="16905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7269 C 0.07865 0.0301 0.1566 -0.0125 0.21458 -0.06944 C 0.27257 -0.12639 0.32674 -0.19953 0.34913 -0.26944 C 0.37153 -0.33958 0.35104 -0.35185 0.34913 -0.49051 C 0.34722 -0.6287 0.34219 -0.86412 0.33715 -1.09953 E">
                                      <p:cBhvr>
                                        <p:cTn id="306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-0.06991 C -0.01094 -0.22453 -0.02292 -0.37916 0.00312 -0.53194 C 0.02899 -0.68472 0.21371 -0.86157 0.15659 -0.98727 C 0.09948 -1.11296 -0.12032 -1.19953 -0.33993 -1.28611 E">
                                      <p:cBhvr>
                                        <p:cTn id="31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6296 C -0.00313 -0.05578 -0.0066 -0.04838 0.00052 -0.09768 C 0.00764 -0.14653 0.03889 -0.29328 0.04375 -0.35717 C 0.04861 -0.42106 0.03021 -0.4206 0.02986 -0.48148 C 0.02951 -0.54236 0.0368 -0.66713 0.04201 -0.72268 C 0.04722 -0.77824 0.05382 -0.79444 0.06093 -0.81481 C 0.06805 -0.83518 0.06059 -0.82546 0.08507 -0.84491 C 0.10955 -0.86389 0.10868 -0.90741 0.20746 -0.92963 C 0.30625 -0.95185 0.49218 -0.96504 0.67812 -0.97801 E">
                                      <p:cBhvr>
                                        <p:cTn id="31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-0.04236 C -3.33332999999988E-006 -0.02963 0.00243 -0.01666 0.00295 -0.05833 C 0.00348 -0.1 0.01736 -0.23379 0.00122 -0.29282 C -0.01493 -0.35185 -0.07673 -0.38102 -0.09375 -0.4125 C -0.11076 -0.44398 -0.09948 -0.45578 -0.10052 -0.48148 C -0.10156 -0.50717 -0.10104 -0.5368 -0.10052 -0.56643 E">
                                      <p:cBhvr>
                                        <p:cTn id="321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7"/>
          <p:cNvSpPr/>
          <p:nvPr/>
        </p:nvSpPr>
        <p:spPr>
          <a:xfrm>
            <a:off x="914400" y="26668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ecfb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838080" y="6094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9"/>
          <p:cNvSpPr/>
          <p:nvPr/>
        </p:nvSpPr>
        <p:spPr>
          <a:xfrm>
            <a:off x="914400" y="4800600"/>
            <a:ext cx="1371600" cy="1295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668320" y="822240"/>
            <a:ext cx="287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се понят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2666880" y="26668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целом понятно, но остались вопрос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2746800" y="5029200"/>
            <a:ext cx="43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ичего не понял(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0_68b23_ee0ed154_L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4975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5105520" y="91440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- Я землю бы мог повернуть рычаго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лишь дайте мне точку опоры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322960" y="3038400"/>
            <a:ext cx="23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рокл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§ 57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Упр. 30 (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подготовиться к лабораторной работе №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*Дополнительно (по желанию): задача н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aafb7a6125c0968d8ae59a49df7d74df"/>
          <p:cNvPicPr/>
          <p:nvPr/>
        </p:nvPicPr>
        <p:blipFill>
          <a:blip r:embed="rId1"/>
          <a:stretch/>
        </p:blipFill>
        <p:spPr>
          <a:xfrm>
            <a:off x="7315200" y="457200"/>
            <a:ext cx="12193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на 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http://natgenkergaeva.21202s14.edusite.ru/images/p3_clip_image020.jpg"/>
          <p:cNvPicPr/>
          <p:nvPr/>
        </p:nvPicPr>
        <p:blipFill>
          <a:blip r:embed="rId1"/>
          <a:stretch/>
        </p:blipFill>
        <p:spPr>
          <a:xfrm>
            <a:off x="304920" y="1752480"/>
            <a:ext cx="3887640" cy="34178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1"/>
          <p:cNvSpPr/>
          <p:nvPr/>
        </p:nvSpPr>
        <p:spPr>
          <a:xfrm>
            <a:off x="4343400" y="17524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какой силой натянута двуглавая мышца руки, если человек удерживает груз массой 2 кг? Считать, что а=5см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35 с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ет ли такой рычаг выигрыш в сил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сообразно ли такое устройств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2"/>
          <p:cNvSpPr/>
          <p:nvPr/>
        </p:nvSpPr>
        <p:spPr>
          <a:xfrm>
            <a:off x="762120" y="762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но, что предплечье человека представляет собой рычаг второго 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32426268"/>
          <p:cNvPicPr/>
          <p:nvPr/>
        </p:nvPicPr>
        <p:blipFill>
          <a:blip r:embed="rId1"/>
          <a:stretch/>
        </p:blipFill>
        <p:spPr>
          <a:xfrm>
            <a:off x="2057400" y="137160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"/>
          <p:cNvSpPr/>
          <p:nvPr/>
        </p:nvSpPr>
        <p:spPr>
          <a:xfrm>
            <a:off x="849600" y="133200"/>
            <a:ext cx="74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Спасибо всем за работу на урок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1 (картинк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fordclub.by/forum/index.php?topic=8782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йд 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ultus.ucoz.ru/publ/ehto_interesno/zhzl/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3 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hysik.ucoz.ru/load/flehsh_animacii/mekhanika/podborka_zadanij_quot_moment_sily_rychag_i_blok_zakon_sokhranenija_mekhanicheskoj_ehnergii_kpd_prostykh_mekhanizmov_quot/22-1-0-3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0 (картинк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http://clubs.ya.ru/4611686018427420342/replies.xml?item_no=726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1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900igr.net/kartinki/fizika/Rychagi-v-bytu/018-Ravnovesie-rychag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animashky.ucoz.ru/photo/raznye/owlwht/8-0-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а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900igr.net/datai/fizika/Rychagi-v-bytu/0011-007-Ravnovesie-rychaga.png"/>
          <p:cNvPicPr/>
          <p:nvPr/>
        </p:nvPicPr>
        <p:blipFill>
          <a:blip r:embed="rId1"/>
          <a:stretch/>
        </p:blipFill>
        <p:spPr>
          <a:xfrm>
            <a:off x="2057400" y="1752480"/>
            <a:ext cx="5029200" cy="3775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139040" y="762120"/>
            <a:ext cx="71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ормулируйте задачу к данному рисун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ая задача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5257800"/>
            <a:ext cx="914400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"/>
          <p:cNvSpPr/>
          <p:nvPr/>
        </p:nvSpPr>
        <p:spPr>
          <a:xfrm rot="21313200">
            <a:off x="1792440" y="3900600"/>
            <a:ext cx="5867280" cy="11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526760" y="5181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11804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Овал 7"/>
          <p:cNvSpPr/>
          <p:nvPr/>
        </p:nvSpPr>
        <p:spPr>
          <a:xfrm>
            <a:off x="4648320" y="4495680"/>
            <a:ext cx="7596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низ 8"/>
          <p:cNvSpPr/>
          <p:nvPr/>
        </p:nvSpPr>
        <p:spPr>
          <a:xfrm>
            <a:off x="4572000" y="4572000"/>
            <a:ext cx="228600" cy="19051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трелка вверх 9"/>
          <p:cNvSpPr/>
          <p:nvPr/>
        </p:nvSpPr>
        <p:spPr>
          <a:xfrm>
            <a:off x="7391520" y="2743200"/>
            <a:ext cx="2286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Объект 11"/>
              <p:cNvSpPr txBox="1"/>
              <p:nvPr/>
            </p:nvSpPr>
            <p:spPr>
              <a:xfrm>
                <a:off x="6934320" y="1752480"/>
                <a:ext cx="1341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Прямоугольник 13"/>
          <p:cNvSpPr/>
          <p:nvPr/>
        </p:nvSpPr>
        <p:spPr>
          <a:xfrm>
            <a:off x="1828800" y="4114800"/>
            <a:ext cx="5869080" cy="1147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2232720" y="762120"/>
            <a:ext cx="50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взвесить тяжелую кни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763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орудование: лабораторный динамометр, нит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Объект 1"/>
              <p:cNvSpPr txBox="1"/>
              <p:nvPr/>
            </p:nvSpPr>
            <p:spPr>
              <a:xfrm>
                <a:off x="4800600" y="5943600"/>
                <a:ext cx="152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кспериментальная задача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838080" y="1981080"/>
            <a:ext cx="7543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8"/>
          <p:cNvSpPr/>
          <p:nvPr/>
        </p:nvSpPr>
        <p:spPr>
          <a:xfrm flipV="1">
            <a:off x="4495680" y="19810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1219320" y="2362320"/>
            <a:ext cx="60948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7162920" y="2514600"/>
            <a:ext cx="91440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1523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7620120" y="1981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1135440" y="236232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7317000" y="2514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4345560" y="1523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80880" y="334332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дет ли этот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он будет двигать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нужно сделать (не прикасаясь к грузам)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2"/>
          <p:cNvSpPr/>
          <p:nvPr/>
        </p:nvSpPr>
        <p:spPr>
          <a:xfrm>
            <a:off x="2819520" y="2057400"/>
            <a:ext cx="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4"/>
          <p:cNvSpPr/>
          <p:nvPr/>
        </p:nvSpPr>
        <p:spPr>
          <a:xfrm flipV="1">
            <a:off x="6248520" y="990360"/>
            <a:ext cx="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ило мо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172200" y="1188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998320" y="3504600"/>
            <a:ext cx="23068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= 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6858000" y="27432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617220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M = F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380880" y="1752480"/>
            <a:ext cx="449604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 flipV="1">
            <a:off x="1905120" y="838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380880" y="1752480"/>
            <a:ext cx="0" cy="20574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1"/>
          <p:cNvSpPr/>
          <p:nvPr/>
        </p:nvSpPr>
        <p:spPr>
          <a:xfrm>
            <a:off x="4876920" y="1752480"/>
            <a:ext cx="0" cy="11430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231120" y="38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4650840" y="29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1677960" y="1828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90036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280512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9"/>
          <p:cNvSpPr/>
          <p:nvPr/>
        </p:nvSpPr>
        <p:spPr>
          <a:xfrm>
            <a:off x="6019920" y="13716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50040 h 1295280"/>
              <a:gd name="textAreaBottom" fmla="*/ 1245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2"/>
                  <a:pt x="10800" y="2683"/>
                </a:cubicBezTo>
                <a:lnTo>
                  <a:pt x="10800" y="8376"/>
                </a:lnTo>
                <a:cubicBezTo>
                  <a:pt x="10800" y="9718"/>
                  <a:pt x="5400" y="11059"/>
                  <a:pt x="0" y="11059"/>
                </a:cubicBezTo>
                <a:cubicBezTo>
                  <a:pt x="5400" y="11059"/>
                  <a:pt x="10800" y="12401"/>
                  <a:pt x="10800" y="13742"/>
                </a:cubicBezTo>
                <a:lnTo>
                  <a:pt x="10800" y="18917"/>
                </a:lnTo>
                <a:cubicBezTo>
                  <a:pt x="10800" y="2025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"/>
          <p:cNvSpPr/>
          <p:nvPr/>
        </p:nvSpPr>
        <p:spPr>
          <a:xfrm>
            <a:off x="380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1"/>
          <p:cNvSpPr/>
          <p:nvPr/>
        </p:nvSpPr>
        <p:spPr>
          <a:xfrm>
            <a:off x="48006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6100200" y="441972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M]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33"/>
          <p:cNvGraphicFramePr/>
          <p:nvPr/>
        </p:nvGraphicFramePr>
        <p:xfrm>
          <a:off x="1676520" y="2590920"/>
          <a:ext cx="167616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90920"/>
                    <a:ext cx="167616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Line 36"/>
          <p:cNvSpPr/>
          <p:nvPr/>
        </p:nvSpPr>
        <p:spPr>
          <a:xfrm flipV="1">
            <a:off x="4876920" y="685440"/>
            <a:ext cx="0" cy="10666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Объект 3"/>
          <p:cNvGraphicFramePr/>
          <p:nvPr/>
        </p:nvGraphicFramePr>
        <p:xfrm>
          <a:off x="228600" y="1066680"/>
          <a:ext cx="86932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932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мент с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зует вращательное действие си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адывается: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ычаг находится в равновесии, есл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а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о часовой стрелке, равн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е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На рычаг действует сила 5 Н. Плечо силы равно 50 см. Чему равен момент этой си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,5 Н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К невесомому рычагу приложены две силы. Их моменты равны. Будет ли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828800" y="4648320"/>
            <a:ext cx="556272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4572000" y="35809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1828800" y="4648320"/>
            <a:ext cx="0" cy="13716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7391520" y="3352680"/>
            <a:ext cx="0" cy="144792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422440" y="5105520"/>
            <a:ext cx="634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рычаг не будет находиться в равновесии, т. к. обе силы вращают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nix</dc:creator>
  <dc:description/>
  <dc:language>en-US</dc:language>
  <cp:lastModifiedBy>Fenix</cp:lastModifiedBy>
  <dcterms:modified xsi:type="dcterms:W3CDTF">2013-08-20T13:30:09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