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.jpeg" ContentType="image/jpeg"/>
  <Override PartName="/ppt/media/image25.wmf" ContentType="image/x-wmf"/>
  <Override PartName="/ppt/media/image4.wmf" ContentType="image/x-wmf"/>
  <Override PartName="/ppt/media/image1.jpeg" ContentType="image/jpeg"/>
  <Override PartName="/ppt/media/image15.wmf" ContentType="image/x-wmf"/>
  <Override PartName="/ppt/media/image27.gif" ContentType="image/gif"/>
  <Override PartName="/ppt/media/image28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9.gif" ContentType="image/gif"/>
  <Override PartName="/ppt/media/image17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BE529-7A3A-4102-A427-EA6A37CB10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6C41-6588-4368-9C5A-527DA70DC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3E8-CFCC-484C-825F-6F5B39867F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01D4-0C23-46B5-BC8B-48993D60FFA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A044-FEC8-4552-995A-4DE774A0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C3F2-34B4-4B05-B682-220A36D7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23B9-AB5B-4E5F-8471-7F19DDEAC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C4CD-F3D2-474D-B52A-0974CA46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D7B1-3D9C-412A-B9BF-E3EC6E89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B6ED-A445-4CE6-AA71-1A614C96F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B504-33B6-411A-A084-CE8C51E9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02ED-522E-4F8C-AFD9-B376A078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C58-85F1-412F-9D7E-BAA6AC24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7260-54BA-48F6-A467-4528E39A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FA0-F8C4-4034-AA00-069673D5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2F41-4CC9-4808-AEE0-CEDA79E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17140-05D3-472E-A422-0609F01D7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16.xml"/><Relationship Id="rId5" Type="http://schemas.openxmlformats.org/officeDocument/2006/relationships/slide" Target="slide12.xml"/><Relationship Id="rId6" Type="http://schemas.openxmlformats.org/officeDocument/2006/relationships/slide" Target="slide14.xml"/><Relationship Id="rId7" Type="http://schemas.openxmlformats.org/officeDocument/2006/relationships/slide" Target="slide13.xml"/><Relationship Id="rId8" Type="http://schemas.openxmlformats.org/officeDocument/2006/relationships/slide" Target="slide19.xml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" Target="slide11.xml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9.wmf"/><Relationship Id="rId9" Type="http://schemas.openxmlformats.org/officeDocument/2006/relationships/slide" Target="slide11.xml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22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3.wmf"/><Relationship Id="rId1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123720" y="426708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41e75"/>
                </a:solidFill>
                <a:latin typeface="Times New Roman"/>
              </a:rPr>
              <a:t>7 клас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800px-Palanca-ejemplo"/>
          <p:cNvPicPr/>
          <p:nvPr/>
        </p:nvPicPr>
        <p:blipFill>
          <a:blip r:embed="rId1"/>
          <a:stretch/>
        </p:blipFill>
        <p:spPr>
          <a:xfrm>
            <a:off x="492120" y="117360"/>
            <a:ext cx="8236080" cy="3692520"/>
          </a:xfrm>
          <a:prstGeom prst="rect">
            <a:avLst/>
          </a:prstGeom>
          <a:ln w="0">
            <a:noFill/>
          </a:ln>
        </p:spPr>
      </p:pic>
      <p:sp>
        <p:nvSpPr>
          <p:cNvPr id="50" name="WordArt 8"/>
          <p:cNvSpPr txBox="1"/>
          <p:nvPr/>
        </p:nvSpPr>
        <p:spPr>
          <a:xfrm>
            <a:off x="3200400" y="609480"/>
            <a:ext cx="5257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мент силы</a:t>
            </a:r>
            <a:endParaRPr b="0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308640" y="581040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228600" y="5334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физики МАОУ Гимназия №10 г. Пушки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шина Людмила Алексе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28600" y="228600"/>
            <a:ext cx="8915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Момент силы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равен 1 Нм. На каком расстоянии справа от оси вращения нужно прикрепить груз  весом 4Н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1600200" y="2209680"/>
            <a:ext cx="5715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3581280" y="2362320"/>
            <a:ext cx="304920" cy="6858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1600200" y="2209680"/>
            <a:ext cx="0" cy="18288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5638680" y="3048120"/>
            <a:ext cx="1143000" cy="60948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0"/>
          <p:cNvSpPr/>
          <p:nvPr/>
        </p:nvSpPr>
        <p:spPr>
          <a:xfrm flipV="1">
            <a:off x="6172200" y="22096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3400" y="4181400"/>
            <a:ext cx="4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3"/>
          <p:cNvSpPr/>
          <p:nvPr/>
        </p:nvSpPr>
        <p:spPr>
          <a:xfrm>
            <a:off x="144792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2502360" y="4410000"/>
            <a:ext cx="217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5 с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AutoShape 18">
            <a:hlinkClick r:id="rId1" action="ppaction://hlinksldjump"/>
          </p:cNvPr>
          <p:cNvSpPr/>
          <p:nvPr/>
        </p:nvSpPr>
        <p:spPr>
          <a:xfrm>
            <a:off x="3809880" y="3048120"/>
            <a:ext cx="1447920" cy="1218960"/>
          </a:xfrm>
          <a:prstGeom prst="hexagon">
            <a:avLst>
              <a:gd name="adj" fmla="val 29696"/>
              <a:gd name="vf" fmla="val 115470"/>
            </a:avLst>
          </a:prstGeom>
          <a:solidFill>
            <a:srgbClr val="a8f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20">
            <a:hlinkClick r:id="rId2" action="ppaction://hlinksldjump"/>
          </p:cNvPr>
          <p:cNvSpPr/>
          <p:nvPr/>
        </p:nvSpPr>
        <p:spPr>
          <a:xfrm>
            <a:off x="3809880" y="42670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d3c2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21">
            <a:hlinkClick r:id="rId3" action="ppaction://hlinksldjump"/>
          </p:cNvPr>
          <p:cNvSpPr/>
          <p:nvPr/>
        </p:nvSpPr>
        <p:spPr>
          <a:xfrm>
            <a:off x="4876920" y="365760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aaeb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22">
            <a:hlinkClick r:id="rId4" action="ppaction://hlinksldjump"/>
          </p:cNvPr>
          <p:cNvSpPr/>
          <p:nvPr/>
        </p:nvSpPr>
        <p:spPr>
          <a:xfrm>
            <a:off x="2743200" y="36576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27a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23">
            <a:hlinkClick r:id="rId5" action="ppaction://hlinksldjump"/>
          </p:cNvPr>
          <p:cNvSpPr/>
          <p:nvPr/>
        </p:nvSpPr>
        <p:spPr>
          <a:xfrm>
            <a:off x="2743200" y="243828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fafd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24">
            <a:hlinkClick r:id="rId6" action="ppaction://hlinksldjump"/>
          </p:cNvPr>
          <p:cNvSpPr/>
          <p:nvPr/>
        </p:nvSpPr>
        <p:spPr>
          <a:xfrm>
            <a:off x="4876920" y="2438280"/>
            <a:ext cx="1447560" cy="1219320"/>
          </a:xfrm>
          <a:prstGeom prst="hexagon">
            <a:avLst>
              <a:gd name="adj" fmla="val 29680"/>
              <a:gd name="vf" fmla="val 115470"/>
            </a:avLst>
          </a:prstGeom>
          <a:solidFill>
            <a:srgbClr val="feb0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25">
            <a:hlinkClick r:id="rId7" action="ppaction://hlinksldjump"/>
          </p:cNvPr>
          <p:cNvSpPr/>
          <p:nvPr/>
        </p:nvSpPr>
        <p:spPr>
          <a:xfrm>
            <a:off x="3809880" y="1828800"/>
            <a:ext cx="1447920" cy="1219320"/>
          </a:xfrm>
          <a:prstGeom prst="hexagon">
            <a:avLst>
              <a:gd name="adj" fmla="val 29687"/>
              <a:gd name="vf" fmla="val 115470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им свои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5"/>
          <p:cNvSpPr/>
          <p:nvPr/>
        </p:nvSpPr>
        <p:spPr>
          <a:xfrm>
            <a:off x="2131920" y="1143000"/>
            <a:ext cx="45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заика «Момент си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6">
            <a:hlinkClick r:id="rId8" action="ppaction://hlinksldjump"/>
          </p:cNvPr>
          <p:cNvSpPr/>
          <p:nvPr/>
        </p:nvSpPr>
        <p:spPr>
          <a:xfrm>
            <a:off x="7696080" y="563868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97180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28"/>
          <p:cNvGraphicFramePr/>
          <p:nvPr/>
        </p:nvGraphicFramePr>
        <p:xfrm>
          <a:off x="1295280" y="2514600"/>
          <a:ext cx="205740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14600"/>
                    <a:ext cx="205740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30"/>
          <p:cNvGraphicFramePr/>
          <p:nvPr/>
        </p:nvGraphicFramePr>
        <p:xfrm>
          <a:off x="5715000" y="2666880"/>
          <a:ext cx="1905120" cy="154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15000" y="2666880"/>
                    <a:ext cx="1905120" cy="15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1"/>
          <p:cNvSpPr/>
          <p:nvPr/>
        </p:nvSpPr>
        <p:spPr>
          <a:xfrm>
            <a:off x="380880" y="10666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какой формуле определ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Object 34"/>
          <p:cNvGraphicFramePr/>
          <p:nvPr/>
        </p:nvGraphicFramePr>
        <p:xfrm>
          <a:off x="1219320" y="4648320"/>
          <a:ext cx="2819160" cy="722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Object 3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648320"/>
                    <a:ext cx="2819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Object 36"/>
          <p:cNvGraphicFramePr/>
          <p:nvPr/>
        </p:nvGraphicFramePr>
        <p:xfrm>
          <a:off x="5715000" y="4495680"/>
          <a:ext cx="236376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3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15000" y="4495680"/>
                    <a:ext cx="236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AutoShape 38"/>
          <p:cNvSpPr/>
          <p:nvPr/>
        </p:nvSpPr>
        <p:spPr>
          <a:xfrm>
            <a:off x="685800" y="31240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0">
            <a:hlinkClick r:id="rId9" action="ppaction://hlinksldjump"/>
          </p:cNvPr>
          <p:cNvSpPr/>
          <p:nvPr/>
        </p:nvSpPr>
        <p:spPr>
          <a:xfrm>
            <a:off x="518148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41"/>
          <p:cNvSpPr/>
          <p:nvPr/>
        </p:nvSpPr>
        <p:spPr>
          <a:xfrm>
            <a:off x="5105520" y="3200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2"/>
          <p:cNvSpPr/>
          <p:nvPr/>
        </p:nvSpPr>
        <p:spPr>
          <a:xfrm>
            <a:off x="685800" y="48006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68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74" nodeType="clickEffect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78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80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86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9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90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2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Object 22"/>
          <p:cNvGraphicFramePr/>
          <p:nvPr/>
        </p:nvGraphicFramePr>
        <p:xfrm>
          <a:off x="1752480" y="2057400"/>
          <a:ext cx="862200" cy="16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862200" cy="16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5"/>
          <p:cNvGraphicFramePr/>
          <p:nvPr/>
        </p:nvGraphicFramePr>
        <p:xfrm>
          <a:off x="6858000" y="1905120"/>
          <a:ext cx="822240" cy="159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1905120"/>
                    <a:ext cx="82224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27"/>
          <p:cNvGraphicFramePr/>
          <p:nvPr/>
        </p:nvGraphicFramePr>
        <p:xfrm>
          <a:off x="1676520" y="4419720"/>
          <a:ext cx="15238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7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419720"/>
                    <a:ext cx="15238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0" y="2584440"/>
          <a:ext cx="114480" cy="216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258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Text Box 21"/>
          <p:cNvSpPr/>
          <p:nvPr/>
        </p:nvSpPr>
        <p:spPr>
          <a:xfrm>
            <a:off x="-1080" y="1339920"/>
            <a:ext cx="88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каких единицах измеряется момент силы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31"/>
          <p:cNvGraphicFramePr/>
          <p:nvPr/>
        </p:nvGraphicFramePr>
        <p:xfrm>
          <a:off x="7010280" y="4267080"/>
          <a:ext cx="762120" cy="70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2" name="Object 3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10280" y="4267080"/>
                    <a:ext cx="762120" cy="7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AutoShape 32"/>
          <p:cNvSpPr/>
          <p:nvPr/>
        </p:nvSpPr>
        <p:spPr>
          <a:xfrm>
            <a:off x="1066680" y="27432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33"/>
          <p:cNvSpPr/>
          <p:nvPr/>
        </p:nvSpPr>
        <p:spPr>
          <a:xfrm>
            <a:off x="63244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4"/>
          <p:cNvSpPr/>
          <p:nvPr/>
        </p:nvSpPr>
        <p:spPr>
          <a:xfrm>
            <a:off x="6248520" y="25909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35">
            <a:hlinkClick r:id="rId11" action="ppaction://hlinksldjump"/>
          </p:cNvPr>
          <p:cNvSpPr/>
          <p:nvPr/>
        </p:nvSpPr>
        <p:spPr>
          <a:xfrm>
            <a:off x="99072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7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7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1295280" y="2819520"/>
            <a:ext cx="563904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3276720" y="236196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2819520" y="2362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6934320" y="2819520"/>
            <a:ext cx="0" cy="13716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15"/>
          <p:cNvGraphicFramePr/>
          <p:nvPr/>
        </p:nvGraphicFramePr>
        <p:xfrm>
          <a:off x="7086600" y="3124080"/>
          <a:ext cx="639720" cy="83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3124080"/>
                    <a:ext cx="63972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Text Box 18"/>
          <p:cNvSpPr/>
          <p:nvPr/>
        </p:nvSpPr>
        <p:spPr>
          <a:xfrm>
            <a:off x="3050280" y="2819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304920" y="990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им образом двигается рычаг под действием силы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0"/>
          <p:cNvSpPr/>
          <p:nvPr/>
        </p:nvSpPr>
        <p:spPr>
          <a:xfrm>
            <a:off x="990720" y="4648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22">
            <a:hlinkClick r:id="rId3" action="ppaction://hlinksldjump"/>
          </p:cNvPr>
          <p:cNvSpPr/>
          <p:nvPr/>
        </p:nvSpPr>
        <p:spPr>
          <a:xfrm>
            <a:off x="99072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02920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029200" y="4572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1754280" y="451008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н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1600200" y="5486400"/>
            <a:ext cx="313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о часовой стрел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5638680" y="54864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ращается против  часовой стрел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29"/>
          <p:cNvSpPr/>
          <p:nvPr/>
        </p:nvSpPr>
        <p:spPr>
          <a:xfrm>
            <a:off x="5699160" y="4586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0"/>
          <p:cNvSpPr/>
          <p:nvPr/>
        </p:nvSpPr>
        <p:spPr>
          <a:xfrm>
            <a:off x="5793120" y="449568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ра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1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28" nodeType="clickEffect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449640" y="905040"/>
            <a:ext cx="78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му равен момент силы, приложенной к рыча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57400" y="2209680"/>
            <a:ext cx="541008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9"/>
          <p:cNvSpPr/>
          <p:nvPr/>
        </p:nvSpPr>
        <p:spPr>
          <a:xfrm flipV="1">
            <a:off x="47242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335268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6019920" y="220968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12"/>
          <p:cNvSpPr/>
          <p:nvPr/>
        </p:nvSpPr>
        <p:spPr>
          <a:xfrm>
            <a:off x="3200400" y="2362320"/>
            <a:ext cx="30492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059560" y="144792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14"/>
          <p:cNvSpPr/>
          <p:nvPr/>
        </p:nvSpPr>
        <p:spPr>
          <a:xfrm rot="5400000">
            <a:off x="2552760" y="140940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000 h 1295280"/>
              <a:gd name="textAreaBottom" fmla="*/ 125028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00"/>
                  <a:pt x="10800" y="2400"/>
                </a:cubicBezTo>
                <a:lnTo>
                  <a:pt x="10800" y="7650"/>
                </a:lnTo>
                <a:cubicBezTo>
                  <a:pt x="10800" y="8850"/>
                  <a:pt x="5400" y="10050"/>
                  <a:pt x="0" y="10050"/>
                </a:cubicBezTo>
                <a:cubicBezTo>
                  <a:pt x="5400" y="10050"/>
                  <a:pt x="10800" y="11250"/>
                  <a:pt x="10800" y="12450"/>
                </a:cubicBezTo>
                <a:lnTo>
                  <a:pt x="10800" y="19200"/>
                </a:lnTo>
                <a:cubicBezTo>
                  <a:pt x="10800" y="204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5"/>
          <p:cNvSpPr/>
          <p:nvPr/>
        </p:nvSpPr>
        <p:spPr>
          <a:xfrm flipV="1">
            <a:off x="6019920" y="1523520"/>
            <a:ext cx="0" cy="6858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16"/>
          <p:cNvSpPr/>
          <p:nvPr/>
        </p:nvSpPr>
        <p:spPr>
          <a:xfrm>
            <a:off x="68580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7"/>
          <p:cNvSpPr/>
          <p:nvPr/>
        </p:nvSpPr>
        <p:spPr>
          <a:xfrm>
            <a:off x="685800" y="5562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18">
            <a:hlinkClick r:id="rId1" action="ppaction://hlinksldjump"/>
          </p:cNvPr>
          <p:cNvSpPr/>
          <p:nvPr/>
        </p:nvSpPr>
        <p:spPr>
          <a:xfrm>
            <a:off x="4952880" y="54864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9"/>
          <p:cNvSpPr/>
          <p:nvPr/>
        </p:nvSpPr>
        <p:spPr>
          <a:xfrm>
            <a:off x="4952880" y="44197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0"/>
          <p:cNvSpPr/>
          <p:nvPr/>
        </p:nvSpPr>
        <p:spPr>
          <a:xfrm>
            <a:off x="6021720" y="14619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1434600" y="4410000"/>
            <a:ext cx="11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22"/>
          <p:cNvSpPr/>
          <p:nvPr/>
        </p:nvSpPr>
        <p:spPr>
          <a:xfrm>
            <a:off x="1398600" y="55008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00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3"/>
          <p:cNvSpPr/>
          <p:nvPr/>
        </p:nvSpPr>
        <p:spPr>
          <a:xfrm>
            <a:off x="5798160" y="435780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4"/>
          <p:cNvSpPr/>
          <p:nvPr/>
        </p:nvSpPr>
        <p:spPr>
          <a:xfrm>
            <a:off x="5874120" y="5424480"/>
            <a:ext cx="92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 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9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0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41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4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247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197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8"/>
          <p:cNvSpPr/>
          <p:nvPr/>
        </p:nvSpPr>
        <p:spPr>
          <a:xfrm>
            <a:off x="669960" y="11574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1447920" y="3657600"/>
            <a:ext cx="615636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10"/>
          <p:cNvSpPr/>
          <p:nvPr/>
        </p:nvSpPr>
        <p:spPr>
          <a:xfrm>
            <a:off x="4392720" y="3753000"/>
            <a:ext cx="360360" cy="57600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1"/>
          <p:cNvSpPr/>
          <p:nvPr/>
        </p:nvSpPr>
        <p:spPr>
          <a:xfrm>
            <a:off x="2971800" y="3809880"/>
            <a:ext cx="152280" cy="1143000"/>
          </a:xfrm>
          <a:prstGeom prst="downArrow">
            <a:avLst>
              <a:gd name="adj1" fmla="val 50000"/>
              <a:gd name="adj2" fmla="val 168535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7467480" y="3809880"/>
            <a:ext cx="144720" cy="612720"/>
          </a:xfrm>
          <a:prstGeom prst="downArrow">
            <a:avLst>
              <a:gd name="adj1" fmla="val 50000"/>
              <a:gd name="adj2" fmla="val 105846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3"/>
          <p:cNvSpPr/>
          <p:nvPr/>
        </p:nvSpPr>
        <p:spPr>
          <a:xfrm>
            <a:off x="1834920" y="419112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4"/>
          <p:cNvSpPr/>
          <p:nvPr/>
        </p:nvSpPr>
        <p:spPr>
          <a:xfrm>
            <a:off x="7776720" y="41148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 flipV="1">
            <a:off x="30481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7"/>
          <p:cNvSpPr/>
          <p:nvPr/>
        </p:nvSpPr>
        <p:spPr>
          <a:xfrm flipV="1">
            <a:off x="45720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8"/>
          <p:cNvSpPr/>
          <p:nvPr/>
        </p:nvSpPr>
        <p:spPr>
          <a:xfrm flipV="1">
            <a:off x="617220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 flipV="1">
            <a:off x="38098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V="1">
            <a:off x="54100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V="1">
            <a:off x="220968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V="1">
            <a:off x="6934320" y="365724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3"/>
          <p:cNvSpPr/>
          <p:nvPr/>
        </p:nvSpPr>
        <p:spPr>
          <a:xfrm>
            <a:off x="4345560" y="311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24"/>
          <p:cNvSpPr/>
          <p:nvPr/>
        </p:nvSpPr>
        <p:spPr>
          <a:xfrm>
            <a:off x="304920" y="914400"/>
            <a:ext cx="883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ую силу надо приложить к правому концу рычага, чтобы он находился в равновесии?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380880" y="579132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7">
            <a:hlinkClick r:id="rId1" action="ppaction://hlinksldjump"/>
          </p:cNvPr>
          <p:cNvSpPr/>
          <p:nvPr/>
        </p:nvSpPr>
        <p:spPr>
          <a:xfrm>
            <a:off x="510552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28"/>
          <p:cNvSpPr/>
          <p:nvPr/>
        </p:nvSpPr>
        <p:spPr>
          <a:xfrm>
            <a:off x="2666880" y="571500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29"/>
          <p:cNvSpPr/>
          <p:nvPr/>
        </p:nvSpPr>
        <p:spPr>
          <a:xfrm>
            <a:off x="7086600" y="5638680"/>
            <a:ext cx="457200" cy="45720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30"/>
          <p:cNvSpPr/>
          <p:nvPr/>
        </p:nvSpPr>
        <p:spPr>
          <a:xfrm>
            <a:off x="839520" y="56833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1"/>
          <p:cNvSpPr/>
          <p:nvPr/>
        </p:nvSpPr>
        <p:spPr>
          <a:xfrm>
            <a:off x="3125520" y="560700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2"/>
          <p:cNvSpPr/>
          <p:nvPr/>
        </p:nvSpPr>
        <p:spPr>
          <a:xfrm>
            <a:off x="5551200" y="553068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3"/>
          <p:cNvSpPr/>
          <p:nvPr/>
        </p:nvSpPr>
        <p:spPr>
          <a:xfrm>
            <a:off x="7624800" y="5562720"/>
            <a:ext cx="8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 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11"/>
          <p:cNvSpPr/>
          <p:nvPr/>
        </p:nvSpPr>
        <p:spPr>
          <a:xfrm flipV="1">
            <a:off x="3733920" y="2971080"/>
            <a:ext cx="152280" cy="685800"/>
          </a:xfrm>
          <a:prstGeom prst="downArrow">
            <a:avLst>
              <a:gd name="adj1" fmla="val 50000"/>
              <a:gd name="adj2" fmla="val 168528"/>
            </a:avLst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5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6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676520" y="7596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25"/>
          <p:cNvGraphicFramePr/>
          <p:nvPr/>
        </p:nvGraphicFramePr>
        <p:xfrm>
          <a:off x="3352680" y="2666880"/>
          <a:ext cx="4460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2666880"/>
                    <a:ext cx="446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Object 20"/>
          <p:cNvGraphicFramePr/>
          <p:nvPr/>
        </p:nvGraphicFramePr>
        <p:xfrm>
          <a:off x="1447920" y="2895480"/>
          <a:ext cx="39204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4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895480"/>
                    <a:ext cx="3920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Object 28"/>
          <p:cNvGraphicFramePr/>
          <p:nvPr/>
        </p:nvGraphicFramePr>
        <p:xfrm>
          <a:off x="5562720" y="1295280"/>
          <a:ext cx="420480" cy="58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6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1295280"/>
                    <a:ext cx="420480" cy="5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Text Box 7"/>
          <p:cNvSpPr/>
          <p:nvPr/>
        </p:nvSpPr>
        <p:spPr>
          <a:xfrm>
            <a:off x="457200" y="76212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ак записывается условие равновесия рычага в этом случа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676520" y="2057400"/>
            <a:ext cx="5257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9"/>
          <p:cNvSpPr/>
          <p:nvPr/>
        </p:nvSpPr>
        <p:spPr>
          <a:xfrm>
            <a:off x="4191120" y="2133720"/>
            <a:ext cx="228600" cy="53316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>
            <a:off x="1676520" y="2057400"/>
            <a:ext cx="0" cy="914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2"/>
          <p:cNvSpPr/>
          <p:nvPr/>
        </p:nvSpPr>
        <p:spPr>
          <a:xfrm flipV="1">
            <a:off x="5486400" y="1676520"/>
            <a:ext cx="0" cy="45720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4"/>
          <p:cNvSpPr/>
          <p:nvPr/>
        </p:nvSpPr>
        <p:spPr>
          <a:xfrm>
            <a:off x="6934320" y="2057400"/>
            <a:ext cx="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Object 32"/>
          <p:cNvGraphicFramePr/>
          <p:nvPr/>
        </p:nvGraphicFramePr>
        <p:xfrm>
          <a:off x="7010280" y="3429000"/>
          <a:ext cx="406440" cy="507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Object 3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10280" y="3429000"/>
                    <a:ext cx="4064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AutoShape 33"/>
          <p:cNvSpPr/>
          <p:nvPr/>
        </p:nvSpPr>
        <p:spPr>
          <a:xfrm>
            <a:off x="762120" y="4724280"/>
            <a:ext cx="380880" cy="38124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762120" y="55627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35">
            <a:hlinkClick r:id="rId9" action="ppaction://hlinksldjump"/>
          </p:cNvPr>
          <p:cNvSpPr/>
          <p:nvPr/>
        </p:nvSpPr>
        <p:spPr>
          <a:xfrm>
            <a:off x="5257800" y="464832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36"/>
          <p:cNvSpPr/>
          <p:nvPr/>
        </p:nvSpPr>
        <p:spPr>
          <a:xfrm>
            <a:off x="5257800" y="5486400"/>
            <a:ext cx="380880" cy="38088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37"/>
          <p:cNvGraphicFramePr/>
          <p:nvPr/>
        </p:nvGraphicFramePr>
        <p:xfrm>
          <a:off x="1219320" y="4680000"/>
          <a:ext cx="3047760" cy="54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1" name="Object 3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219320" y="4680000"/>
                    <a:ext cx="304776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Object 38"/>
          <p:cNvGraphicFramePr/>
          <p:nvPr/>
        </p:nvGraphicFramePr>
        <p:xfrm>
          <a:off x="1219320" y="5538960"/>
          <a:ext cx="2819160" cy="50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53" name="Object 3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219320" y="5538960"/>
                    <a:ext cx="2819160" cy="50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Object 40"/>
          <p:cNvGraphicFramePr/>
          <p:nvPr/>
        </p:nvGraphicFramePr>
        <p:xfrm>
          <a:off x="5791320" y="4633920"/>
          <a:ext cx="2819160" cy="507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55" name="Object 4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91320" y="4633920"/>
                    <a:ext cx="281916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41"/>
          <p:cNvGraphicFramePr/>
          <p:nvPr/>
        </p:nvGraphicFramePr>
        <p:xfrm>
          <a:off x="5791320" y="5486400"/>
          <a:ext cx="3047760" cy="54612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57" name="Object 4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91320" y="5486400"/>
                    <a:ext cx="3047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73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7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3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8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Вопрос №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29"/>
          <p:cNvGraphicFramePr/>
          <p:nvPr/>
        </p:nvGraphicFramePr>
        <p:xfrm>
          <a:off x="1892160" y="2355840"/>
          <a:ext cx="116856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355840"/>
                    <a:ext cx="116856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Object 41"/>
          <p:cNvGraphicFramePr/>
          <p:nvPr/>
        </p:nvGraphicFramePr>
        <p:xfrm>
          <a:off x="2419200" y="492444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9200" y="492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Object 43"/>
          <p:cNvGraphicFramePr/>
          <p:nvPr/>
        </p:nvGraphicFramePr>
        <p:xfrm>
          <a:off x="380880" y="4038480"/>
          <a:ext cx="853452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4" name="Object 4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4038480"/>
                    <a:ext cx="85345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ectangle 7"/>
          <p:cNvSpPr/>
          <p:nvPr/>
        </p:nvSpPr>
        <p:spPr>
          <a:xfrm>
            <a:off x="1600200" y="2590920"/>
            <a:ext cx="609588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30492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 (слева или справа) и на каком расстоянии от точки О надо приложить силу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3=4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тобы рычаг находился в равновесии? Длина рычага 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9"/>
          <p:cNvSpPr/>
          <p:nvPr/>
        </p:nvSpPr>
        <p:spPr>
          <a:xfrm>
            <a:off x="4495680" y="2743200"/>
            <a:ext cx="304920" cy="609480"/>
          </a:xfrm>
          <a:prstGeom prst="triangle">
            <a:avLst>
              <a:gd name="adj" fmla="val 50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10"/>
          <p:cNvSpPr/>
          <p:nvPr/>
        </p:nvSpPr>
        <p:spPr>
          <a:xfrm flipV="1">
            <a:off x="31240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11"/>
          <p:cNvSpPr/>
          <p:nvPr/>
        </p:nvSpPr>
        <p:spPr>
          <a:xfrm flipV="1">
            <a:off x="2362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 flipV="1">
            <a:off x="46483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 flipV="1">
            <a:off x="624852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 flipV="1">
            <a:off x="54864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01028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7"/>
          <p:cNvSpPr/>
          <p:nvPr/>
        </p:nvSpPr>
        <p:spPr>
          <a:xfrm flipV="1">
            <a:off x="3886200" y="259056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19"/>
          <p:cNvSpPr/>
          <p:nvPr/>
        </p:nvSpPr>
        <p:spPr>
          <a:xfrm flipV="1">
            <a:off x="8763120" y="175248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0"/>
          <p:cNvSpPr/>
          <p:nvPr/>
        </p:nvSpPr>
        <p:spPr>
          <a:xfrm>
            <a:off x="160020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21"/>
          <p:cNvSpPr/>
          <p:nvPr/>
        </p:nvSpPr>
        <p:spPr>
          <a:xfrm>
            <a:off x="1600200" y="2590920"/>
            <a:ext cx="0" cy="5331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22"/>
          <p:cNvSpPr/>
          <p:nvPr/>
        </p:nvSpPr>
        <p:spPr>
          <a:xfrm>
            <a:off x="7696080" y="2590920"/>
            <a:ext cx="0" cy="129528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23"/>
          <p:cNvSpPr/>
          <p:nvPr/>
        </p:nvSpPr>
        <p:spPr>
          <a:xfrm>
            <a:off x="1089000" y="2971800"/>
            <a:ext cx="15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4"/>
          <p:cNvSpPr/>
          <p:nvPr/>
        </p:nvSpPr>
        <p:spPr>
          <a:xfrm>
            <a:off x="7698240" y="3200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1" name="Object 46"/>
          <p:cNvGraphicFramePr/>
          <p:nvPr/>
        </p:nvGraphicFramePr>
        <p:xfrm>
          <a:off x="304920" y="4495680"/>
          <a:ext cx="8610480" cy="966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2" name="Object 4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95680"/>
                    <a:ext cx="8610480" cy="9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Text Box 52"/>
          <p:cNvSpPr/>
          <p:nvPr/>
        </p:nvSpPr>
        <p:spPr>
          <a:xfrm>
            <a:off x="765000" y="5607000"/>
            <a:ext cx="108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53"/>
          <p:cNvSpPr/>
          <p:nvPr/>
        </p:nvSpPr>
        <p:spPr>
          <a:xfrm>
            <a:off x="3126240" y="5638680"/>
            <a:ext cx="100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4"/>
          <p:cNvSpPr/>
          <p:nvPr/>
        </p:nvSpPr>
        <p:spPr>
          <a:xfrm>
            <a:off x="525996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5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55"/>
          <p:cNvSpPr/>
          <p:nvPr/>
        </p:nvSpPr>
        <p:spPr>
          <a:xfrm>
            <a:off x="7164720" y="5607000"/>
            <a:ext cx="11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0см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ра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Line 56"/>
          <p:cNvSpPr/>
          <p:nvPr/>
        </p:nvSpPr>
        <p:spPr>
          <a:xfrm flipV="1">
            <a:off x="685800" y="5562360"/>
            <a:ext cx="0" cy="99036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57"/>
          <p:cNvSpPr/>
          <p:nvPr/>
        </p:nvSpPr>
        <p:spPr>
          <a:xfrm flipV="1">
            <a:off x="31240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58"/>
          <p:cNvSpPr/>
          <p:nvPr/>
        </p:nvSpPr>
        <p:spPr>
          <a:xfrm flipV="1">
            <a:off x="518148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59"/>
          <p:cNvSpPr/>
          <p:nvPr/>
        </p:nvSpPr>
        <p:spPr>
          <a:xfrm flipV="1">
            <a:off x="7162920" y="5486400"/>
            <a:ext cx="0" cy="9907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60"/>
          <p:cNvSpPr/>
          <p:nvPr/>
        </p:nvSpPr>
        <p:spPr>
          <a:xfrm>
            <a:off x="8139240" y="169056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303" nodeType="clickEffect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0.07269 C 0.07865 0.0301 0.1566 -0.0125 0.21458 -0.06944 C 0.27257 -0.12639 0.32674 -0.19953 0.34913 -0.26944 C 0.37153 -0.33958 0.35104 -0.35185 0.34913 -0.49051 C 0.34722 -0.6287 0.34219 -0.86412 0.33715 -1.09953 E">
                                      <p:cBhvr>
                                        <p:cTn id="306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7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308" nodeType="clickEffect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21 -0.06991 C -0.01094 -0.22453 -0.02292 -0.37916 0.00312 -0.53194 C 0.02899 -0.68472 0.21371 -0.86157 0.15659 -0.98727 C 0.09948 -1.11296 -0.12032 -1.19953 -0.33993 -1.28611 E">
                                      <p:cBhvr>
                                        <p:cTn id="311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2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313" nodeType="clickEffect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-0.06296 C -0.00313 -0.05578 -0.0066 -0.04838 0.00052 -0.09768 C 0.00764 -0.14653 0.03889 -0.29328 0.04375 -0.35717 C 0.04861 -0.42106 0.03021 -0.4206 0.02986 -0.48148 C 0.02951 -0.54236 0.0368 -0.66713 0.04201 -0.72268 C 0.04722 -0.77824 0.05382 -0.79444 0.06093 -0.81481 C 0.06805 -0.83518 0.06059 -0.82546 0.08507 -0.84491 C 0.10955 -0.86389 0.10868 -0.90741 0.20746 -0.92963 C 0.30625 -0.95185 0.49218 -0.96504 0.67812 -0.97801 E">
                                      <p:cBhvr>
                                        <p:cTn id="316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318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-0.04236 C -3.33332999999988E-006 -0.02963 0.00243 -0.01666 0.00295 -0.05833 C 0.00348 -0.1 0.01736 -0.23379 0.00122 -0.29282 C -0.01493 -0.35185 -0.07673 -0.38102 -0.09375 -0.4125 C -0.11076 -0.44398 -0.09948 -0.45578 -0.10052 -0.48148 C -0.10156 -0.50717 -0.10104 -0.5368 -0.10052 -0.56643 E">
                                      <p:cBhvr>
                                        <p:cTn id="32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7"/>
          <p:cNvSpPr/>
          <p:nvPr/>
        </p:nvSpPr>
        <p:spPr>
          <a:xfrm>
            <a:off x="914400" y="26668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ecfb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8"/>
          <p:cNvSpPr/>
          <p:nvPr/>
        </p:nvSpPr>
        <p:spPr>
          <a:xfrm>
            <a:off x="838080" y="609480"/>
            <a:ext cx="1371600" cy="1295640"/>
          </a:xfrm>
          <a:prstGeom prst="octagon">
            <a:avLst>
              <a:gd name="adj" fmla="val 29287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9"/>
          <p:cNvSpPr/>
          <p:nvPr/>
        </p:nvSpPr>
        <p:spPr>
          <a:xfrm>
            <a:off x="914400" y="4800600"/>
            <a:ext cx="1371600" cy="129528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2668320" y="822240"/>
            <a:ext cx="287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се понятн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1"/>
          <p:cNvSpPr/>
          <p:nvPr/>
        </p:nvSpPr>
        <p:spPr>
          <a:xfrm>
            <a:off x="2666880" y="2666880"/>
            <a:ext cx="556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 целом понятно, но остались вопрос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2746800" y="5029200"/>
            <a:ext cx="435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ичего не понял(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0_68b23_ee0ed154_L"/>
          <p:cNvPicPr/>
          <p:nvPr/>
        </p:nvPicPr>
        <p:blipFill>
          <a:blip r:embed="rId1"/>
          <a:stretch/>
        </p:blipFill>
        <p:spPr>
          <a:xfrm>
            <a:off x="685800" y="304920"/>
            <a:ext cx="3733920" cy="49752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5105520" y="914400"/>
            <a:ext cx="4114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- Я землю бы мог повернуть рычагом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дайте мне точку опоры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5322960" y="3038400"/>
            <a:ext cx="239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Прокл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Задание на д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§ 57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Упр. 30 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подготовиться к лабораторной работе №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Times New Roman"/>
              </a:rPr>
              <a:t>*Дополнительно (по желанию): задача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aafb7a6125c0968d8ae59a49df7d74df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5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а на «5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4" descr="http://natgenkergaeva.21202s14.edusite.ru/images/p3_clip_image020.jpg"/>
          <p:cNvPicPr/>
          <p:nvPr/>
        </p:nvPicPr>
        <p:blipFill>
          <a:blip r:embed="rId1"/>
          <a:stretch/>
        </p:blipFill>
        <p:spPr>
          <a:xfrm>
            <a:off x="304920" y="1752480"/>
            <a:ext cx="3887640" cy="34178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1"/>
          <p:cNvSpPr/>
          <p:nvPr/>
        </p:nvSpPr>
        <p:spPr>
          <a:xfrm>
            <a:off x="4343400" y="175248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какой силой натянута двуглавая мышца руки, если человек удерживает груз массой 2 кг? Считать, что а=5см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35 с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ет ли такой рычаг выигрыш в силе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сообразно ли такое устройство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762120" y="7621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звестно, что предплечье человека представляет собой рычаг второго р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32426268"/>
          <p:cNvPicPr/>
          <p:nvPr/>
        </p:nvPicPr>
        <p:blipFill>
          <a:blip r:embed="rId1"/>
          <a:stretch/>
        </p:blipFill>
        <p:spPr>
          <a:xfrm>
            <a:off x="2057400" y="137160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7"/>
          <p:cNvSpPr/>
          <p:nvPr/>
        </p:nvSpPr>
        <p:spPr>
          <a:xfrm>
            <a:off x="849600" y="133200"/>
            <a:ext cx="74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Спасибо всем за работу на урок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8000"/>
                </a:solidFill>
                <a:latin typeface="Times New Roman"/>
              </a:rPr>
              <a:t>До свидания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уемые рес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1 (картинка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fordclub.by/forum/index.php?topic=878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ultus.ucoz.ru/publ/ehto_interesno/zhzl/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3 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physik.ucoz.ru/load/flehsh_animacii/mekhanika/podborka_zadanij_quot_moment_sily_rychag_i_blok_zakon_sokhranenija_mekhanicheskoj_ehnergii_kpd_prostykh_mekhanizmov_quot/22-1-0-3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0 (картинка)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http://clubs.ya.ru/4611686018427420342/replies.xml?item_no=7264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1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900igr.net/kartinki/fizika/Rychagi-v-bytu/018-Ravnovesie-rychaga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лайд 22 (картинка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http://animashky.ucoz.ru/photo/raznye/owlwht/8-0-6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900igr.net/datai/fizika/Rychagi-v-bytu/0011-007-Ravnovesie-rychaga.png"/>
          <p:cNvPicPr/>
          <p:nvPr/>
        </p:nvPicPr>
        <p:blipFill>
          <a:blip r:embed="rId1"/>
          <a:stretch/>
        </p:blipFill>
        <p:spPr>
          <a:xfrm>
            <a:off x="2057400" y="1752480"/>
            <a:ext cx="5029200" cy="377532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1139040" y="762120"/>
            <a:ext cx="718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формулируйте задачу к данному рисун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альная задача №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0" y="5257800"/>
            <a:ext cx="9144000" cy="45720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4"/>
          <p:cNvSpPr/>
          <p:nvPr/>
        </p:nvSpPr>
        <p:spPr>
          <a:xfrm rot="21313200">
            <a:off x="1792440" y="3900600"/>
            <a:ext cx="5867280" cy="1128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1526760" y="51814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4118040" y="411480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7"/>
          <p:cNvSpPr/>
          <p:nvPr/>
        </p:nvSpPr>
        <p:spPr>
          <a:xfrm>
            <a:off x="4648320" y="4495680"/>
            <a:ext cx="75960" cy="76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Стрелка вниз 8"/>
          <p:cNvSpPr/>
          <p:nvPr/>
        </p:nvSpPr>
        <p:spPr>
          <a:xfrm>
            <a:off x="4572000" y="4572000"/>
            <a:ext cx="228600" cy="19051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00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Стрелка вверх 9"/>
          <p:cNvSpPr/>
          <p:nvPr/>
        </p:nvSpPr>
        <p:spPr>
          <a:xfrm>
            <a:off x="7391520" y="2743200"/>
            <a:ext cx="228600" cy="9144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Объект 11"/>
              <p:cNvSpPr txBox="1"/>
              <p:nvPr/>
            </p:nvSpPr>
            <p:spPr>
              <a:xfrm>
                <a:off x="6934320" y="1752480"/>
                <a:ext cx="1341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" name="Прямоугольник 13"/>
          <p:cNvSpPr/>
          <p:nvPr/>
        </p:nvSpPr>
        <p:spPr>
          <a:xfrm>
            <a:off x="1828800" y="4114800"/>
            <a:ext cx="5869080" cy="1147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12"/>
          <p:cNvSpPr/>
          <p:nvPr/>
        </p:nvSpPr>
        <p:spPr>
          <a:xfrm>
            <a:off x="2232720" y="762120"/>
            <a:ext cx="50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взвесить тяжелую книгу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14"/>
          <p:cNvSpPr/>
          <p:nvPr/>
        </p:nvSpPr>
        <p:spPr>
          <a:xfrm>
            <a:off x="763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борудование: лабораторный динамометр, ни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Объект 1"/>
              <p:cNvSpPr txBox="1"/>
              <p:nvPr/>
            </p:nvSpPr>
            <p:spPr>
              <a:xfrm>
                <a:off x="4800600" y="5943600"/>
                <a:ext cx="15238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т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Экспериментальная задача №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838080" y="1981080"/>
            <a:ext cx="754380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8"/>
          <p:cNvSpPr/>
          <p:nvPr/>
        </p:nvSpPr>
        <p:spPr>
          <a:xfrm flipV="1">
            <a:off x="4495680" y="1981080"/>
            <a:ext cx="76320" cy="7632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1219320" y="2362320"/>
            <a:ext cx="609480" cy="5331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>
            <a:off x="7162920" y="2514600"/>
            <a:ext cx="914400" cy="53352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5"/>
          <p:cNvSpPr/>
          <p:nvPr/>
        </p:nvSpPr>
        <p:spPr>
          <a:xfrm>
            <a:off x="1523880" y="1981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7620120" y="19810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1135440" y="236232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7317000" y="2514600"/>
            <a:ext cx="6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"/>
          <p:cNvSpPr/>
          <p:nvPr/>
        </p:nvSpPr>
        <p:spPr>
          <a:xfrm>
            <a:off x="434556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9"/>
          <p:cNvSpPr/>
          <p:nvPr/>
        </p:nvSpPr>
        <p:spPr>
          <a:xfrm>
            <a:off x="380880" y="3343320"/>
            <a:ext cx="876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дет ли этот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ак он будет двигаться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нужно сделать (не прикасаясь к грузам), чтобы рычаг находился в равновеси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32"/>
          <p:cNvSpPr/>
          <p:nvPr/>
        </p:nvSpPr>
        <p:spPr>
          <a:xfrm>
            <a:off x="2819520" y="2057400"/>
            <a:ext cx="0" cy="914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34"/>
          <p:cNvSpPr/>
          <p:nvPr/>
        </p:nvSpPr>
        <p:spPr>
          <a:xfrm flipV="1">
            <a:off x="6248520" y="990360"/>
            <a:ext cx="0" cy="990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равило момен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6172200" y="118836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=F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5998320" y="3504600"/>
            <a:ext cx="230688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 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 = М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6858000" y="2743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6172200" y="21337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M = F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380880" y="1752480"/>
            <a:ext cx="4496040" cy="763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8"/>
          <p:cNvSpPr/>
          <p:nvPr/>
        </p:nvSpPr>
        <p:spPr>
          <a:xfrm flipV="1">
            <a:off x="1905120" y="8380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20"/>
          <p:cNvSpPr/>
          <p:nvPr/>
        </p:nvSpPr>
        <p:spPr>
          <a:xfrm>
            <a:off x="380880" y="1752480"/>
            <a:ext cx="0" cy="20574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21"/>
          <p:cNvSpPr/>
          <p:nvPr/>
        </p:nvSpPr>
        <p:spPr>
          <a:xfrm>
            <a:off x="4876920" y="1752480"/>
            <a:ext cx="0" cy="11430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22"/>
          <p:cNvSpPr/>
          <p:nvPr/>
        </p:nvSpPr>
        <p:spPr>
          <a:xfrm>
            <a:off x="231120" y="38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3"/>
          <p:cNvSpPr/>
          <p:nvPr/>
        </p:nvSpPr>
        <p:spPr>
          <a:xfrm>
            <a:off x="4650840" y="2986200"/>
            <a:ext cx="52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677960" y="1828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6"/>
          <p:cNvSpPr/>
          <p:nvPr/>
        </p:nvSpPr>
        <p:spPr>
          <a:xfrm>
            <a:off x="90036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27"/>
          <p:cNvSpPr/>
          <p:nvPr/>
        </p:nvSpPr>
        <p:spPr>
          <a:xfrm>
            <a:off x="2805120" y="1295280"/>
            <a:ext cx="4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019920" y="137160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50040 h 1295280"/>
              <a:gd name="textAreaBottom" fmla="*/ 1245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2"/>
                  <a:pt x="10800" y="2683"/>
                </a:cubicBezTo>
                <a:lnTo>
                  <a:pt x="10800" y="8376"/>
                </a:lnTo>
                <a:cubicBezTo>
                  <a:pt x="10800" y="9718"/>
                  <a:pt x="5400" y="11059"/>
                  <a:pt x="0" y="11059"/>
                </a:cubicBezTo>
                <a:cubicBezTo>
                  <a:pt x="5400" y="11059"/>
                  <a:pt x="10800" y="12401"/>
                  <a:pt x="10800" y="13742"/>
                </a:cubicBezTo>
                <a:lnTo>
                  <a:pt x="10800" y="18917"/>
                </a:lnTo>
                <a:cubicBezTo>
                  <a:pt x="10800" y="2025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380880" y="396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31"/>
          <p:cNvSpPr/>
          <p:nvPr/>
        </p:nvSpPr>
        <p:spPr>
          <a:xfrm>
            <a:off x="48006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2"/>
          <p:cNvSpPr/>
          <p:nvPr/>
        </p:nvSpPr>
        <p:spPr>
          <a:xfrm>
            <a:off x="6100200" y="441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M]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33"/>
          <p:cNvGraphicFramePr/>
          <p:nvPr/>
        </p:nvGraphicFramePr>
        <p:xfrm>
          <a:off x="1676520" y="2590920"/>
          <a:ext cx="1676160" cy="12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90920"/>
                    <a:ext cx="1676160" cy="12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Line 36"/>
          <p:cNvSpPr/>
          <p:nvPr/>
        </p:nvSpPr>
        <p:spPr>
          <a:xfrm flipV="1">
            <a:off x="4876920" y="685440"/>
            <a:ext cx="0" cy="106668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Объект 3"/>
          <p:cNvGraphicFramePr/>
          <p:nvPr/>
        </p:nvGraphicFramePr>
        <p:xfrm>
          <a:off x="228600" y="1066680"/>
          <a:ext cx="869328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066680"/>
                    <a:ext cx="869328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омент си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Характеризует вращательное действие си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адывается: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рычаг находится в равновесии, если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а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о часовой стрелке, равна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умме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моментов сил, вращающих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. На рычаг действует сила 5 Н. Плечо силы равно 50 см. Чему равен момент этой силы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2,5 Н 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. К невесомому рычагу приложены две силы. Их моменты равны. Будет ли рычаг находиться в равновес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1828800" y="4648320"/>
            <a:ext cx="5562720" cy="152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V="1">
            <a:off x="4572000" y="358092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>
            <a:off x="3962520" y="3581280"/>
            <a:ext cx="12189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1828800" y="4648320"/>
            <a:ext cx="0" cy="137160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7391520" y="3352680"/>
            <a:ext cx="0" cy="1447920"/>
          </a:xfrm>
          <a:prstGeom prst="line">
            <a:avLst/>
          </a:prstGeom>
          <a:ln w="57240">
            <a:solidFill>
              <a:srgbClr val="c41e7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422440" y="5105520"/>
            <a:ext cx="6340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Times New Roman"/>
              </a:rPr>
              <a:t>Ответ: рычаг не будет находиться в равновесии, т. к. обе силы вращают его против часовой стрел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Fenix</dc:creator>
  <dc:description/>
  <dc:language>en-US</dc:language>
  <cp:lastModifiedBy>Fenix</cp:lastModifiedBy>
  <dcterms:modified xsi:type="dcterms:W3CDTF">2013-08-20T13:30:09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