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210D-3158-47B1-AD18-33051C3C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2929-B29C-49E1-987D-A98E0706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0818-A680-4ACE-92FC-803A3C1CD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CBF5-9DE6-43FD-8DD7-6B41BEC3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B6D-AABC-4027-BEB9-2559032A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5684-1E09-4EB7-ACCB-C8B2B5F9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E770-1CD0-41C6-89E9-4DCFDA99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BE9F-9C6B-4FA8-A5BC-D596F492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EDAE-1465-4E19-AD1E-F1B296FF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DC88-CC6A-4920-B897-A9858453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1E9E-4C9B-4B0B-8929-F9AC2C83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846B-C9EC-4E4A-B597-D67D6E17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3114-FE35-448C-9E49-EE0D625D04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55640" y="620640"/>
            <a:ext cx="7416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МПЕРАТУ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932360" y="4221000"/>
            <a:ext cx="345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Учитель   физ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БОУ СОШ №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.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АПЯН   С. 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Температурные шка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900000" y="1197000"/>
          <a:ext cx="727236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197000"/>
                    <a:ext cx="7272360" cy="5113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</p:pic>
            </p:oleObj>
          </a:graphicData>
        </a:graphic>
      </p:graphicFrame>
      <p:sp>
        <p:nvSpPr>
          <p:cNvPr id="80" name="Line 6"/>
          <p:cNvSpPr/>
          <p:nvPr/>
        </p:nvSpPr>
        <p:spPr>
          <a:xfrm>
            <a:off x="7093080" y="3284640"/>
            <a:ext cx="1224000" cy="0"/>
          </a:xfrm>
          <a:prstGeom prst="line">
            <a:avLst/>
          </a:prstGeom>
          <a:ln w="936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7093080" y="2565360"/>
            <a:ext cx="1224000" cy="0"/>
          </a:xfrm>
          <a:prstGeom prst="line">
            <a:avLst/>
          </a:prstGeom>
          <a:ln w="936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Список использованных источ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Г. Я. Мякишев, Б. Б. Буховцев, Н. Н. Сотский «Физика» - учебник для 10 класса, Москва, Просвещение, 200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Ю. А. Сауров «Физика в 10 классе» модели уроков, Москва, Просвещение, 200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В. А. Касьянов «Физика» 10 класс, Дрофа, Москва, 200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Особенности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7"/>
          <p:cNvGraphicFramePr/>
          <p:nvPr/>
        </p:nvGraphicFramePr>
        <p:xfrm>
          <a:off x="179280" y="1484280"/>
          <a:ext cx="367344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367344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95280" y="1483920"/>
            <a:ext cx="50468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собенности температ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ак макроскопической характеристики га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меняется при изменении состояния г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характеризует состояние теплового равновесия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указывает направление теплообме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может быть измер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3"/>
          <p:cNvGraphicFramePr/>
          <p:nvPr/>
        </p:nvGraphicFramePr>
        <p:xfrm>
          <a:off x="179280" y="3429000"/>
          <a:ext cx="3600720" cy="247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429000"/>
                    <a:ext cx="360072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Измерение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ло необходимо привести в тепловой контакт с термоме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ометр должен иметь массу значительно меньше массы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казание термометра следует отсчитывать только после наступления теплового равнове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Термомет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324000" y="1628640"/>
          <a:ext cx="331128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33112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24000" y="1599840"/>
            <a:ext cx="5040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Жидкостный термометр (ртуть: от -38 до 26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; глицерин: от -50 до 10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опара (от -269 до 230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исторы – полупроводниковые приборы, сопротивление которых зависит от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азовые термомет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324000" y="3860640"/>
          <a:ext cx="3311280" cy="187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860640"/>
                    <a:ext cx="3311280" cy="18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Температура тела – мера средней кинетической энергии движения молеку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акая физическая величина одинакова у любых тел при тепловом равновес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едположим, что при тепловом равновесии средние кинетические энергии молекул одинак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 основного уравнения МКТ можно получить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539640" y="4724280"/>
                <a:ext cx="82296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179280" y="1984320"/>
          <a:ext cx="288144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4320"/>
                    <a:ext cx="288144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3132000" y="1974960"/>
                <a:ext cx="5796000" cy="21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C</m:t>
                        </m:r>
                        <m:r>
                          <m:t xml:space="preserve">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14400" y="4508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Вывод: величина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pV/N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.е. Е</a:t>
            </a:r>
            <a:r>
              <a:rPr b="1" i="1" lang="ru-RU" sz="2400" spc="-1" strike="noStrike" baseline="-25000">
                <a:solidFill>
                  <a:srgbClr val="000099"/>
                </a:solidFill>
                <a:latin typeface="Arial"/>
              </a:rPr>
              <a:t>к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mv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2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зависит только от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0"/>
              <p:cNvSpPr txBox="1"/>
              <p:nvPr/>
            </p:nvSpPr>
            <p:spPr>
              <a:xfrm>
                <a:off x="3564000" y="5516640"/>
                <a:ext cx="1225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TextBox 1"/>
          <p:cNvSpPr/>
          <p:nvPr/>
        </p:nvSpPr>
        <p:spPr>
          <a:xfrm>
            <a:off x="684360" y="40464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Рассмотрим эксперимент по измерению величины 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pV/N</a:t>
            </a: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 для 1 моль водорода и 1 моль кислород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900000" y="1700280"/>
            <a:ext cx="78487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зность полученных в эксперименте  значений величины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pV/N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вна 1,38*10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-21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зделим полученную величину на 100, и найдём, что одному градусу по Цельсию соответствует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=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 Кельв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=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 – постоянная Больцм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Постоянная Больцм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Объект 4"/>
              <p:cNvSpPr txBox="1"/>
              <p:nvPr/>
            </p:nvSpPr>
            <p:spPr>
              <a:xfrm>
                <a:off x="3492360" y="4724280"/>
                <a:ext cx="1800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7088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Абсолютная температура и абсолютный ну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 полученного равенства следует, что при Т = 0 должны равняться нулю или давление (т.е. движение и соударение молекул со стенками прекращается) или объём газа (т.е. сжатие д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нул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тсюда поняти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абсолютного нуля температуры (0 К) – температуры, при которой должно прекратиться движение молек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Установим связь между абсолютной температурой и температурой по Цельс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. к.   при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0     k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3,76*10 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1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де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K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о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3,76*10 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1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≈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273,15 (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аким образ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Т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 ≈ t + 2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Связь кинетической энергии и абсолютной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9"/>
              <p:cNvSpPr txBox="1"/>
              <p:nvPr/>
            </p:nvSpPr>
            <p:spPr>
              <a:xfrm>
                <a:off x="971640" y="1700280"/>
                <a:ext cx="36716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4"/>
              <p:cNvSpPr txBox="1"/>
              <p:nvPr/>
            </p:nvSpPr>
            <p:spPr>
              <a:xfrm>
                <a:off x="5435640" y="1700280"/>
                <a:ext cx="223200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6"/>
              <p:cNvSpPr txBox="1"/>
              <p:nvPr/>
            </p:nvSpPr>
            <p:spPr>
              <a:xfrm>
                <a:off x="2268360" y="3357720"/>
                <a:ext cx="44658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8"/>
              <p:cNvSpPr txBox="1"/>
              <p:nvPr/>
            </p:nvSpPr>
            <p:spPr>
              <a:xfrm>
                <a:off x="2050920" y="4869000"/>
                <a:ext cx="50403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16:34:34Z</dcterms:created>
  <dc:creator>Вольта</dc:creator>
  <dc:description/>
  <dc:language>en-US</dc:language>
  <cp:lastModifiedBy>Комп14</cp:lastModifiedBy>
  <dcterms:modified xsi:type="dcterms:W3CDTF">2013-06-02T02:56:22Z</dcterms:modified>
  <cp:revision>102</cp:revision>
  <dc:subject/>
  <dc:title>Слайд 1</dc:title>
</cp:coreProperties>
</file>