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49F-4CED-4EB1-A526-8B22848E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E54-AED3-4B06-A31C-A60390D8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007-4956-4142-BA73-E444D777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43A-CC38-4EA0-BB5C-B0EB5B58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AF1-8EAC-42FF-B513-23DDCA2B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9A4-BAF4-4753-AB99-43E1EF38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81A-6E9F-417E-B09F-CD42C465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58A3-7FD1-4E8F-A6A0-1000A369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A3C-AE2C-486A-B1BC-1D97AF6E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FCD-07BF-4377-8DF2-4A7F3B3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759-5AFC-4CF7-A1BE-B40211FE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21A-B0E0-45AF-A009-F8E5FB19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590F-FB86-40CB-9265-E8D36EE34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20640"/>
            <a:ext cx="7416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932360" y="422100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итель   физ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БОУ СОШ №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АПЯН   С. 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мпературные шк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900000" y="1197000"/>
          <a:ext cx="727236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272360" cy="5113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80" name="Line 6"/>
          <p:cNvSpPr/>
          <p:nvPr/>
        </p:nvSpPr>
        <p:spPr>
          <a:xfrm>
            <a:off x="7093080" y="328464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93080" y="2565360"/>
            <a:ext cx="1224000" cy="0"/>
          </a:xfrm>
          <a:prstGeom prst="line">
            <a:avLst/>
          </a:prstGeom>
          <a:ln w="9360">
            <a:solidFill>
              <a:srgbClr val="66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Г. Я. Мякишев, Б. Б. Буховцев, Н. Н. Сотский «Физика» - учебник для 10 класса, Москва, Просвещение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Ю. А. Сауров «Физика в 10 классе» модели уроков, Москва, Просвещение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. А. Касьянов «Физика» 10 класс, Дрофа, Москва, 200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Особенности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7"/>
          <p:cNvGraphicFramePr/>
          <p:nvPr/>
        </p:nvGraphicFramePr>
        <p:xfrm>
          <a:off x="179280" y="1484280"/>
          <a:ext cx="36734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36734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50468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собенности темп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 макроскопической характеристики га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меняется при изменении состояния г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арактеризует состояние теплового равновесия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казывает направление теплооб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быть измер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3"/>
          <p:cNvGraphicFramePr/>
          <p:nvPr/>
        </p:nvGraphicFramePr>
        <p:xfrm>
          <a:off x="179280" y="3429000"/>
          <a:ext cx="3600720" cy="24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429000"/>
                    <a:ext cx="36007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Измерение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ло необходимо привести в тепловой контакт с термо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метр должен иметь массу значительно меньше массы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казание термометра следует отсчитывать только после наступления теплового равнове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Термомет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24000" y="1628640"/>
          <a:ext cx="33112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3112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04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Жидкостный термометр (ртуть: от -38 до 26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; глицерин: от -50 до 1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опара (от -269 до 2300 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рмисторы – полупроводниковые приборы, сопротивление которых зависит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азовые терм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324000" y="3860640"/>
          <a:ext cx="3311280" cy="18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33112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мпература тела – мера средней кинетической энергии движе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ая физическая величина одинакова у любых тел при тепловом равнове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положим, что при тепловом равновесии средние кинетические энергии молекул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основного уравнения МКТ можно получи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539640" y="4724280"/>
                <a:ext cx="8229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179280" y="1984320"/>
          <a:ext cx="288144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4320"/>
                    <a:ext cx="288144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3132000" y="1974960"/>
                <a:ext cx="5796000" cy="21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4508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ывод: величи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.е. Е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Arial"/>
              </a:rPr>
              <a:t>к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v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2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висит только от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564000" y="5516640"/>
                <a:ext cx="122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Box 1"/>
          <p:cNvSpPr/>
          <p:nvPr/>
        </p:nvSpPr>
        <p:spPr>
          <a:xfrm>
            <a:off x="684360" y="40464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Рассмотрим эксперимент по измерению величины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pV/N</a:t>
            </a:r>
            <a:r>
              <a:rPr b="1" i="1" lang="ru-RU" sz="2400" spc="-1" strike="noStrike">
                <a:solidFill>
                  <a:srgbClr val="003399"/>
                </a:solidFill>
                <a:latin typeface="Arial"/>
              </a:rPr>
              <a:t> для 1 моль водорода и 1 моль кислоро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00000" y="1700280"/>
            <a:ext cx="7848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ность полученных в эксперименте  значений величин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pV/N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вна 1,38*10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делим полученную величину на 100, и найдём, что одному градусу по Цельсию соответствуе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 Кель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=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 – постоянная Больц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Постоянная Больцм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4"/>
              <p:cNvSpPr txBox="1"/>
              <p:nvPr/>
            </p:nvSpPr>
            <p:spPr>
              <a:xfrm>
                <a:off x="3492360" y="4724280"/>
                <a:ext cx="180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7088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Абсолютная температура и абсолютный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з полученного равенства следует, что при Т = 0 должны равняться нулю или давление (т.е. движение и соударение молекул со стенками прекращается) или объём газа (т.е. сжатие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ул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тсюда понят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бсолютного нуля температуры (0 К) – температуры, при которой должно прекратиться движение молек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становим связь между абсолютной температурой и температурой по Цельс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. к.   пр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0     k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ж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K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о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3,76*10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1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1,38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*10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≈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73,15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аким образ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≈ t + 2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вязь кинетической энергии и абсолютной темп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971640" y="1700280"/>
                <a:ext cx="3671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5435640" y="1700280"/>
                <a:ext cx="2232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6"/>
              <p:cNvSpPr txBox="1"/>
              <p:nvPr/>
            </p:nvSpPr>
            <p:spPr>
              <a:xfrm>
                <a:off x="2268360" y="3357720"/>
                <a:ext cx="446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2050920" y="4869000"/>
                <a:ext cx="50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R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6:34:34Z</dcterms:created>
  <dc:creator>Вольта</dc:creator>
  <dc:description/>
  <dc:language>en-US</dc:language>
  <cp:lastModifiedBy>Комп14</cp:lastModifiedBy>
  <dcterms:modified xsi:type="dcterms:W3CDTF">2013-06-02T02:56:22Z</dcterms:modified>
  <cp:revision>102</cp:revision>
  <dc:subject/>
  <dc:title>Слайд 1</dc:title>
</cp:coreProperties>
</file>