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6321B-3BEE-45EF-9908-A22F19D60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12F1-9C4D-4564-B941-EE4DD476E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FD5B-8F56-4F3D-BE43-B95CB6B992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BB97-7B15-4C9E-8D7F-310735D4E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2C47E-230A-4CF3-92C7-DBA3B1E67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FD65-85E6-4022-AE00-60892D36E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B833E-90ED-4999-ADBF-BC29BA5C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E7BD-CADE-4F7C-B752-C866CAB33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BA04-E176-4A69-A015-4C92A0A2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7FA2-28CE-4ADA-9C5C-F8CC23435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898C8-6B62-4A57-9857-91904D9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936D-76FA-4640-A33A-5E810B653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2E7A8-1DAD-4FCD-9498-CD3217C07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7C8C1-67EA-4A42-8C71-352052DF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DB9B-438A-443E-B652-1C49A3A4E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26E40-4C4C-4823-9BC2-93735BECB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CC4-0830-4761-A0EC-C8B8E50AB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2E1BC-7C75-4C22-9925-E76B1A217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F5888-1921-49FC-93F6-E0CB635C2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D370D-2AE3-4335-8358-F69BFF8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3BFF8-7E5D-4E27-AC1E-AF10F4AE9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5DDDD-39CA-4CCB-BAF3-9A5A79EFC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F0C11-46E0-46CB-BCB6-70FB0843B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772C3-D75F-49CB-96DA-453C8C58A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9566A-64BD-47E6-ABA3-878255780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AC98-51E4-4A16-9396-46ABD521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08D1AF-F8EC-493E-AE2A-B1C99BD3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E0FD60-6413-41BB-BD96-DA74C23D8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EF18D-CA62-409E-97E0-D5F40DDE1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F1407-298D-498C-BC9B-F353FCD3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8BD295-FDD7-45FF-80C6-D71BE0FD0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51FF-973A-4B03-82B0-6F240DB3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855B1-A856-4320-B0F9-BD3121C8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8FEA-D0F3-46CB-A7D2-388618A84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5A7DF-9482-414D-8029-C7FFF1907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3EDD5-E31E-4AAB-999F-2A838B62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BE92A-CC07-40BC-9A55-99776E29B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64B3B-0C89-4229-94DE-18FE59BD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CC2667-82F9-454F-9FBD-2CF4136F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3AC1CA-CB8A-410F-86FD-8AFB573B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58EC3-092B-4944-8E9B-C337197F9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40F9A7-D9C1-40BD-86BD-509CC938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621AF-71AA-4E5B-868A-7DB8F4820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3854ED-F01B-4EBE-B491-7C86B27E4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102A-4C34-4293-8FD0-32E925318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A3236-B5CB-4A7C-92FB-A3A4DF3F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5EE11-FF09-4B69-A868-FD3DCF37B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6447A3-88BF-4C4E-9B54-5776CADC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656E0-5DE0-41BA-B49F-36D7DA87B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51B693-F2B4-4265-8DC1-B34D3FA38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872AA2-9CD1-4096-B939-912A3EF7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6676-C1D5-4538-93EE-FF3FF9A9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3D31-C64A-48BA-9482-158096B1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1B016-F2DE-4617-BE60-1EE178706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4F49B-2CEF-4AF5-AE6F-60C8B18F6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745E-D697-4CCE-B689-9989E0C0F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05BE48-580B-4568-804A-A693853A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E174B-F676-45E9-BB8A-46E3FB35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98731-AD37-4FE4-AB12-ECBD907B6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36822D-1D8E-4AFA-9DA4-0B396DF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6CF19D-2D5B-4C1A-A209-2B486579C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A7009-AF40-4FD0-83E0-A063D00E1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1DAA95-4BCC-441A-A6EF-28BEB05AE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D2610B-2E33-42EA-9165-7981A547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6A729-62C3-4266-9DF0-74352733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DB2DA4-A384-4ECE-A32A-0EE1AEB0C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392A-3B08-440B-A7CE-E80CD896E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8ED78A-8066-4F8F-9BDA-13E134E6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53C283-5307-4BB3-B8F4-F062E6BDA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B5C224-575E-48E2-A9D0-E9BA768B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EA285A-53D1-47B4-92F7-C23257AC9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AEBA5E-B545-475C-B947-AA5CC9FD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A4757-D17E-44FB-AC34-49A5F73F7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5D7F2-7ADA-4B1C-9E78-707D971E6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C8D5F2-2AD0-4058-BABD-DE0358E9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2BC075-683A-4532-92E1-44FBD7236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4A104-35F7-43BE-8ACA-56DBBFFA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9061-5BAF-4422-968A-8CD82F46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A19FF8-E36C-4286-83D8-BC4AAD03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92350-E1F1-4E3E-8B42-8E378C3D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B51077-8058-4665-997A-B4D9F9988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F8292-D730-4F85-A940-83B4F24D7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FB6B1-DE18-4576-811F-FD0D9558A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CF9A-51D8-478C-B347-7A17288D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F2C5-B7CA-4EDF-B0B0-DC5C32AC042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9859B-0871-4F95-8ED8-F5987E3CC576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B075-D0A0-42ED-BDF3-FD2072CC210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650F-E461-4542-838C-F968D535991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BBACB-00AD-485E-84FA-D894767882C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10AE3-A23E-4445-953C-D3B4341273B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AA12-1438-477C-AD78-7B13AF43301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2.xml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7.xml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90480" y="169992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600" spc="-1" strike="noStrike">
                <a:solidFill>
                  <a:srgbClr val="000000"/>
                </a:solidFill>
                <a:latin typeface="Times New Roman"/>
                <a:ea typeface="BatangChe"/>
              </a:rPr>
              <a:t>Виды сил</a:t>
            </a:r>
            <a:br>
              <a:rPr sz="8600"/>
            </a:br>
            <a:br>
              <a:rPr sz="86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7 класс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МБОУ Сатламышевская СОШ</a:t>
            </a:r>
            <a:br>
              <a:rPr sz="1800"/>
            </a:br>
            <a:r>
              <a:rPr b="0" lang="ru-RU" sz="1800" spc="-1" strike="noStrike">
                <a:solidFill>
                  <a:srgbClr val="404040"/>
                </a:solidFill>
                <a:latin typeface="Times New Roman"/>
                <a:ea typeface="BatangChe"/>
              </a:rPr>
              <a:t>Сабирзянов И.Р,</a:t>
            </a:r>
            <a:endParaRPr b="0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77777777777777Ладанова И.В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ndara"/>
              </a:rPr>
              <a:t>МКОУ «В777ерх-Жилинская ООШ»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, возникающая в результате деформации тела и направленная в сторону смещения частиц тела, называется 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6"/>
          <p:cNvSpPr/>
          <p:nvPr/>
        </p:nvSpPr>
        <p:spPr>
          <a:xfrm>
            <a:off x="324000" y="2455920"/>
            <a:ext cx="38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1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4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5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6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60"/>
          <p:cNvSpPr/>
          <p:nvPr/>
        </p:nvSpPr>
        <p:spPr>
          <a:xfrm>
            <a:off x="4572000" y="981000"/>
            <a:ext cx="4249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560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561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6e7f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2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563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7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8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5eae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71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5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576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4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89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590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1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2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93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94" name="AutoShape 96"/>
            <p:cNvCxnSpPr>
              <a:stCxn id="593" idx="0"/>
              <a:endCxn id="588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595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96" name="Oval 9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Text Box 5"/>
          <p:cNvSpPr/>
          <p:nvPr/>
        </p:nvSpPr>
        <p:spPr>
          <a:xfrm>
            <a:off x="374760" y="2276640"/>
            <a:ext cx="79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угая деформация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Oval 6"/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Picture 9" descr="book35"/>
          <p:cNvPicPr/>
          <p:nvPr/>
        </p:nvPicPr>
        <p:blipFill>
          <a:blip r:embed="rId1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3"/>
          <p:cNvSpPr/>
          <p:nvPr/>
        </p:nvSpPr>
        <p:spPr>
          <a:xfrm>
            <a:off x="250920" y="98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0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тело и опора неподвижны или движутся прямолинейно и равномерно, то вес тела по своему численному значению равен силе тяжести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05" name="Oval 41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Text Box 5"/>
          <p:cNvSpPr/>
          <p:nvPr/>
        </p:nvSpPr>
        <p:spPr>
          <a:xfrm>
            <a:off x="250920" y="981000"/>
            <a:ext cx="8642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608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609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1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4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615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7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618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619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6e7f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1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3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624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26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627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31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632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4" name="Oval 55"/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3"/>
          <p:cNvSpPr/>
          <p:nvPr/>
        </p:nvSpPr>
        <p:spPr>
          <a:xfrm>
            <a:off x="250920" y="981000"/>
            <a:ext cx="8570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 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645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48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649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652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4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55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56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657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0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661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3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64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65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666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68" name="Oval 68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23" dur="2000" fill="hold"/>
                                        <p:tgtEl>
                                          <p:spTgt spid="6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34" dur="2000" fill="hold"/>
                                        <p:tgtEl>
                                          <p:spTgt spid="6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 Box 3"/>
          <p:cNvSpPr/>
          <p:nvPr/>
        </p:nvSpPr>
        <p:spPr>
          <a:xfrm>
            <a:off x="250920" y="981000"/>
            <a:ext cx="85708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Oval 7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40" dur="2000" fill="hold"/>
                                        <p:tgtEl>
                                          <p:spTgt spid="6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, которая возникает при скольжении одного тела по поверхности другого называется силой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5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676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680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2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83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684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685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7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6e7f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689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90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691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5eaeff"/>
            </a:solidFill>
            <a:ln w="5724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0" name="Oval 49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146" dur="2000" fill="hold"/>
                                        <p:tgtEl>
                                          <p:spTgt spid="6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150" dur="1000" fill="hold"/>
                                        <p:tgtEl>
                                          <p:spTgt spid="6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Oval 3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Picture 4" descr="99b"/>
          <p:cNvPicPr/>
          <p:nvPr/>
        </p:nvPicPr>
        <p:blipFill>
          <a:blip r:embed="rId1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703" name="Picture 8" descr="michelin_X-Crane_AT"/>
          <p:cNvPicPr/>
          <p:nvPr/>
        </p:nvPicPr>
        <p:blipFill>
          <a:blip r:embed="rId2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706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6e7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2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713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2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8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729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730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1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2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3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5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6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7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738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9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0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1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2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3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4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4584d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745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6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4584d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9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750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2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753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4584d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4584d3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756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8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759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0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1" name="Group 63"/>
          <p:cNvGrpSpPr/>
          <p:nvPr/>
        </p:nvGrpSpPr>
        <p:grpSpPr>
          <a:xfrm>
            <a:off x="2976480" y="2670120"/>
            <a:ext cx="5760720" cy="825480"/>
            <a:chOff x="2976480" y="267012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762" name="Object 59"/>
                <p:cNvSpPr txBox="1"/>
                <p:nvPr/>
              </p:nvSpPr>
              <p:spPr>
                <a:xfrm>
                  <a:off x="2976480" y="267012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763" name="Text Box 61"/>
            <p:cNvSpPr/>
            <p:nvPr/>
          </p:nvSpPr>
          <p:spPr>
            <a:xfrm>
              <a:off x="5279760" y="267012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64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65" name="Oval 65"/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3"/>
          <p:cNvSpPr/>
          <p:nvPr/>
        </p:nvSpPr>
        <p:spPr>
          <a:xfrm>
            <a:off x="244440" y="1197000"/>
            <a:ext cx="496908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1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31b6f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 ресурсы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3"/>
          <p:cNvSpPr/>
          <p:nvPr/>
        </p:nvSpPr>
        <p:spPr>
          <a:xfrm>
            <a:off x="250920" y="83664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формация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6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347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348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349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0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351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6e7fc"/>
                </a:solidFill>
                <a:ln w="9360">
                  <a:solidFill>
                    <a:srgbClr val="c6e7f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eaeff"/>
                    </a:gs>
                    <a:gs pos="100000">
                      <a:srgbClr val="2c5176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4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5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356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4584d3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4584d3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4584d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8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59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360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62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8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376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9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380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4584d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1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382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4584d3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4584d3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4584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84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385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86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387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9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0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391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31b6fd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393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31b6fd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31b6fd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95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396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8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399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400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8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409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410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4584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17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4584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419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0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421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23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424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c6e7f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5eaeff"/>
                </a:gs>
                <a:gs pos="100000">
                  <a:srgbClr val="2c517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7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428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429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30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431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33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3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4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тяжение всех тел во Вселенной друг к другу называется всемирным тягот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437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8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439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6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447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450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52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4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455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2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463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466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68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9" name="Text Box 20"/>
          <p:cNvSpPr/>
          <p:nvPr/>
        </p:nvSpPr>
        <p:spPr>
          <a:xfrm>
            <a:off x="250920" y="249228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астным случаем сил всемирного тяготения является сила тяжести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0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471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Text Box 18"/>
          <p:cNvSpPr/>
          <p:nvPr/>
        </p:nvSpPr>
        <p:spPr>
          <a:xfrm>
            <a:off x="3276720" y="819000"/>
            <a:ext cx="5545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481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5eae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8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489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90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91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2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6e7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4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495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6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497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5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506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9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510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5eae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519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3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524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25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526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28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529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6e7f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0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531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5eae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9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Сатламышево</cp:lastModifiedBy>
  <dcterms:modified xsi:type="dcterms:W3CDTF">2013-02-28T15:55:16Z</dcterms:modified>
  <cp:revision>58</cp:revision>
  <dc:subject/>
  <dc:title>PowerPoint Presentation</dc:title>
</cp:coreProperties>
</file>