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27B-B385-4567-9A54-FB347E62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0AB-62EA-4708-B25C-0F875A52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5CB-D62E-474F-A886-E0D18A32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A94-B168-45E4-9578-5ACBF0A2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E065-5696-49A2-9047-9918BB51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0C0B-ED55-445A-BE21-BEF89605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E0CB-82F2-459F-871B-8D37F314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A534-C595-43D4-993B-A7388F7A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0AC0-D1AD-40CB-BB79-BEF3C3EB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83BD-BE73-45F2-90B3-76A23C2D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C206-F877-462C-A950-D554FC6C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D30-706E-4852-ABEF-624D6C46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A273-D545-41AF-83EA-421DC97F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9390-6C6D-46F0-BF73-39C14588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73A5-BEC5-421E-B770-B155B16E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2A17-F702-4F62-BFF1-5A1472D8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BE9F-8619-4506-B49A-176A381C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655-A325-41BC-871D-D8245DF8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55A-07A0-4872-A212-447B7939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74C-3F4C-401B-A935-A637370E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53E-27B7-456B-8A02-3D7E726B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66E-E841-45A8-A68E-46429D4F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670-AB73-4DDF-AFAA-00C266A4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014F-BBFA-4B8E-8CFC-6488CF5C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7A42-8AB9-4B88-AC06-AE58D17E8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C03E-7C33-475D-9DF8-F4417E8D2B5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4788000" y="5373720"/>
            <a:ext cx="4211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Верх-Жилинская О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тайский край Косих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хема 1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7770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3850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Роль силы трения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при ходьб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4d40f1a140561141a1e63b5bd0422b77.jpg.jpg"/>
          <p:cNvPicPr/>
          <p:nvPr/>
        </p:nvPicPr>
        <p:blipFill>
          <a:blip r:embed="rId2"/>
          <a:stretch/>
        </p:blipFill>
        <p:spPr>
          <a:xfrm>
            <a:off x="5435640" y="1341360"/>
            <a:ext cx="2747880" cy="36561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1979640" y="5157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агодаря трению вьющиеся растения цепляются за находящиеся поблизости опоры, удерживаются и тянутся к с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горох2.jpg"/>
          <p:cNvPicPr/>
          <p:nvPr/>
        </p:nvPicPr>
        <p:blipFill>
          <a:blip r:embed="rId3"/>
          <a:stretch/>
        </p:blipFill>
        <p:spPr>
          <a:xfrm>
            <a:off x="971640" y="1844640"/>
            <a:ext cx="386712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19235022.jpg"/>
          <p:cNvPicPr/>
          <p:nvPr/>
        </p:nvPicPr>
        <p:blipFill>
          <a:blip r:embed="rId2"/>
          <a:stretch/>
        </p:blipFill>
        <p:spPr>
          <a:xfrm>
            <a:off x="755640" y="1413000"/>
            <a:ext cx="3597120" cy="26352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morkovv.jpg"/>
          <p:cNvPicPr/>
          <p:nvPr/>
        </p:nvPicPr>
        <p:blipFill>
          <a:blip r:embed="rId3"/>
          <a:stretch/>
        </p:blipFill>
        <p:spPr>
          <a:xfrm>
            <a:off x="4859280" y="1341360"/>
            <a:ext cx="3319560" cy="4014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1619280" y="5473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а трения о грунт корнеплодов способствует удержанию растения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ArctiumLappa3.jpg"/>
          <p:cNvPicPr/>
          <p:nvPr/>
        </p:nvPicPr>
        <p:blipFill>
          <a:blip r:embed="rId2"/>
          <a:stretch/>
        </p:blipFill>
        <p:spPr>
          <a:xfrm>
            <a:off x="762120" y="1413000"/>
            <a:ext cx="3608280" cy="2952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4643280" y="1645560"/>
            <a:ext cx="450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растениям, как репейник, трение помогает распространять семена, имеющи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юч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небольшими крючками на кон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верх 6"/>
          <p:cNvSpPr/>
          <p:nvPr/>
        </p:nvSpPr>
        <p:spPr>
          <a:xfrm>
            <a:off x="3780000" y="2492280"/>
            <a:ext cx="215640" cy="3313080"/>
          </a:xfrm>
          <a:prstGeom prst="upArrow">
            <a:avLst>
              <a:gd name="adj1" fmla="val 50000"/>
              <a:gd name="adj2" fmla="val 500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132000" y="5877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ю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" descr="180282_384648.jpg"/>
          <p:cNvPicPr/>
          <p:nvPr/>
        </p:nvPicPr>
        <p:blipFill>
          <a:blip r:embed="rId2"/>
          <a:stretch/>
        </p:blipFill>
        <p:spPr>
          <a:xfrm>
            <a:off x="324000" y="1268280"/>
            <a:ext cx="4259160" cy="31086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Zwierzeta_7_1280x720_1245.jpg"/>
          <p:cNvPicPr/>
          <p:nvPr/>
        </p:nvPicPr>
        <p:blipFill>
          <a:blip r:embed="rId3"/>
          <a:stretch/>
        </p:blipFill>
        <p:spPr>
          <a:xfrm>
            <a:off x="3995640" y="2349360"/>
            <a:ext cx="4316400" cy="24274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1908000" y="508464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 органов хватания у животных (конечности, хобот слона ) связано с трением. Предмет тем прочнее будет схвачен, чем больше сила трения между органом хватания и предм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в тех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механизм.jpeg"/>
          <p:cNvPicPr/>
          <p:nvPr/>
        </p:nvPicPr>
        <p:blipFill>
          <a:blip r:embed="rId2"/>
          <a:stretch/>
        </p:blipFill>
        <p:spPr>
          <a:xfrm>
            <a:off x="250920" y="1052640"/>
            <a:ext cx="4208400" cy="3159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двигатель авто.jpg"/>
          <p:cNvPicPr/>
          <p:nvPr/>
        </p:nvPicPr>
        <p:blipFill>
          <a:blip r:embed="rId3"/>
          <a:stretch/>
        </p:blipFill>
        <p:spPr>
          <a:xfrm>
            <a:off x="4248000" y="1630440"/>
            <a:ext cx="4705560" cy="352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1476360" y="515772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сех машинах из-за трения нагреваются и изнашиваются движущиеся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35280" y="-360"/>
            <a:ext cx="534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Подшипн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шариковый подшипник.jpg"/>
          <p:cNvPicPr/>
          <p:nvPr/>
        </p:nvPicPr>
        <p:blipFill>
          <a:blip r:embed="rId2"/>
          <a:stretch/>
        </p:blipFill>
        <p:spPr>
          <a:xfrm>
            <a:off x="576360" y="762120"/>
            <a:ext cx="2158920" cy="325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1727280" y="519444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клады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деталь подшипника, непосредственно соприкасающаяся с в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4"/>
          <p:cNvSpPr/>
          <p:nvPr/>
        </p:nvSpPr>
        <p:spPr>
          <a:xfrm>
            <a:off x="1619280" y="3213000"/>
            <a:ext cx="73080" cy="2016360"/>
          </a:xfrm>
          <a:prstGeom prst="upArrow">
            <a:avLst>
              <a:gd name="adj1" fmla="val 50000"/>
              <a:gd name="adj2" fmla="val 4994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067280" y="1268280"/>
            <a:ext cx="324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шипники помогают уменьшит силу трения в десятки раз за счет замены трения качения трением сколь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329957657_9.jpg"/>
          <p:cNvPicPr/>
          <p:nvPr/>
        </p:nvPicPr>
        <p:blipFill>
          <a:blip r:embed="rId3"/>
          <a:stretch/>
        </p:blipFill>
        <p:spPr>
          <a:xfrm>
            <a:off x="6443640" y="3573360"/>
            <a:ext cx="2160720" cy="2913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3419640" y="357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р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3419640" y="4724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л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Двойная стрелка влево/вправо 9"/>
          <p:cNvSpPr/>
          <p:nvPr/>
        </p:nvSpPr>
        <p:spPr>
          <a:xfrm>
            <a:off x="2700360" y="3716280"/>
            <a:ext cx="719280" cy="7308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Двойная стрелка влево/вправо 11"/>
          <p:cNvSpPr/>
          <p:nvPr/>
        </p:nvSpPr>
        <p:spPr>
          <a:xfrm>
            <a:off x="6156360" y="4869000"/>
            <a:ext cx="1079640" cy="14436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03280" y="1267920"/>
            <a:ext cx="7283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чего смычок перед игрой натирают канифоль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медицинские иглы полирую до зеркального блес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полировка и шлифовка соприкасающихся деталей уменьшает силу трения? Будет ли уменьшена сила трения, если поверхности деталей отполировать идеаль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кой целью швейные иголки полируют до блеска? Удобно ли шить заржавленной иголк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агоне поезда на столике лежат книга и мяч. Поезд тронулся с места. Что при этом произойдет с мячом и книг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гоночных велосипедов руль низко опущен.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живую рыбу трудно держать в рука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5892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kn.sobaka.ru/n35/0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et-mash.ru/index.php?file=pod_kache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fotodnya.net/fashion/kartinki-treniy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octitesolutions.com/index.php?FOLDERID=294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home-edu.ru/user/f/00001491/Les_18N/Htm_18/Les18_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youtube.com/watch?v=TISWVsXINFo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fppt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280" y="213372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знакомить учащихся с силой трен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казать роль силы трения в природе  и техни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Users\Вера\AppData\Local\Microsoft\Windows\Temporary Internet Files\Content.IE5\6JNNS02V\MC900435839[1].wmf"/>
          <p:cNvPicPr/>
          <p:nvPr/>
        </p:nvPicPr>
        <p:blipFill>
          <a:blip r:embed="rId2"/>
          <a:stretch/>
        </p:blipFill>
        <p:spPr>
          <a:xfrm>
            <a:off x="468360" y="620640"/>
            <a:ext cx="3527280" cy="3529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4427640" y="1844640"/>
            <a:ext cx="40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и, скатившись с горы, через некоторое время останавливаются. Это значит, что на тело действовала сила. При соприкосновении одного тела с другим возникает взаимодействие, которое называют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тр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763640" y="40464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ила, возникающая при взаимодействии поверхности одного тела с поверхностью другого, когда тела неподвижны или перемещаются относительно друг друга, назы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96840" y="4572000"/>
            <a:ext cx="8881920" cy="1749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684360" y="333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73"/>
                </a:solidFill>
                <a:latin typeface="Arial"/>
              </a:rPr>
              <a:t>Причина возникновения силы т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surface_irregular_s.jpg"/>
          <p:cNvPicPr/>
          <p:nvPr/>
        </p:nvPicPr>
        <p:blipFill>
          <a:blip r:embed="rId2"/>
          <a:stretch/>
        </p:blipFill>
        <p:spPr>
          <a:xfrm>
            <a:off x="1042920" y="1916280"/>
            <a:ext cx="2737080" cy="2052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1490760" y="428472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овность поверх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prichina2.jpg"/>
          <p:cNvPicPr/>
          <p:nvPr/>
        </p:nvPicPr>
        <p:blipFill>
          <a:blip r:embed="rId3"/>
          <a:stretch/>
        </p:blipFill>
        <p:spPr>
          <a:xfrm>
            <a:off x="4859280" y="2060640"/>
            <a:ext cx="346572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4427640" y="436572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тя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24000" y="2421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ка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763640" y="4149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сколь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32360" y="2421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пок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5" descr=""/>
          <p:cNvPicPr/>
          <p:nvPr/>
        </p:nvPicPr>
        <p:blipFill>
          <a:blip r:embed="rId2"/>
          <a:stretch/>
        </p:blipFill>
        <p:spPr>
          <a:xfrm>
            <a:off x="1395360" y="665280"/>
            <a:ext cx="6767640" cy="145548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низ 6"/>
          <p:cNvSpPr/>
          <p:nvPr/>
        </p:nvSpPr>
        <p:spPr>
          <a:xfrm>
            <a:off x="2771640" y="1700280"/>
            <a:ext cx="287640" cy="64908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низ 7"/>
          <p:cNvSpPr/>
          <p:nvPr/>
        </p:nvSpPr>
        <p:spPr>
          <a:xfrm>
            <a:off x="6156360" y="1628640"/>
            <a:ext cx="287280" cy="7207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низ 8"/>
          <p:cNvSpPr/>
          <p:nvPr/>
        </p:nvSpPr>
        <p:spPr>
          <a:xfrm>
            <a:off x="4500720" y="1773360"/>
            <a:ext cx="287280" cy="2232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сколь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лыжник.jpg"/>
          <p:cNvPicPr/>
          <p:nvPr/>
        </p:nvPicPr>
        <p:blipFill>
          <a:blip r:embed="rId2"/>
          <a:stretch/>
        </p:blipFill>
        <p:spPr>
          <a:xfrm>
            <a:off x="1568520" y="1603440"/>
            <a:ext cx="3235320" cy="3481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5508720" y="162864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скользит по поверхности другого, то возникающую силу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сколь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ка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364000" y="1484280"/>
            <a:ext cx="324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катится по поверхности другого, то силу возникающую при этом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к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03-07.gif"/>
          <p:cNvPicPr/>
          <p:nvPr/>
        </p:nvPicPr>
        <p:blipFill>
          <a:blip r:embed="rId2"/>
          <a:srcRect l="12784" t="1795" r="0" b="0"/>
          <a:stretch/>
        </p:blipFill>
        <p:spPr>
          <a:xfrm>
            <a:off x="1403280" y="1484280"/>
            <a:ext cx="37512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пок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45602132.jpg"/>
          <p:cNvPicPr/>
          <p:nvPr/>
        </p:nvPicPr>
        <p:blipFill>
          <a:blip r:embed="rId2"/>
          <a:stretch/>
        </p:blipFill>
        <p:spPr>
          <a:xfrm>
            <a:off x="1187280" y="1484280"/>
            <a:ext cx="3333960" cy="2724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5292720" y="1773360"/>
            <a:ext cx="295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пытке сдвинуть тело с места, оно не сразу изменит свою скорость, так как действующая на тело сила уравновешивается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силой трения пок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44:30Z</dcterms:created>
  <dc:creator/>
  <dc:description/>
  <dc:language>en-US</dc:language>
  <cp:lastModifiedBy>Мама</cp:lastModifiedBy>
  <dcterms:modified xsi:type="dcterms:W3CDTF">2013-07-29T11:06:46Z</dcterms:modified>
  <cp:revision>47</cp:revision>
  <dc:subject/>
  <dc:title>Сила трения</dc:title>
</cp:coreProperties>
</file>