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026-1926-4821-A378-76AC5AC6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7A3-6D05-413C-9439-8D3D7B70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C2A-48A8-4B5C-86E4-2A3C4576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606-0D90-4144-BA87-25455F51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CB29-10D7-4CAE-962D-E2437487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BDEB-AB1A-4530-8579-850A8B0E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814D-D508-4FA7-9CFA-A998F9DF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FF6D-96FF-4733-A15C-0D8D8DE8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6FA0-12FA-442A-8356-CED364D1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EFC2-D0F0-4C71-ADC4-B876628C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34B5-EBE7-4466-99A6-5FA880BF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A2B-6BB4-4124-96E5-F0B9105A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7A3A-A6FE-4EC5-AED2-089D116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3233-8D62-4D8C-8704-9CF27751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F598-28FC-45D2-AC4C-8CB925F5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44D5-550E-46BE-859D-96732E92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D3F6-335E-4936-8B4F-C39AA190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750-4A92-45B6-B293-65B19FE3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27A-B220-48DA-9F14-F65249DA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D8C-31BA-405C-A4E5-9F4FC6DF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0F2-EDD1-47F1-AED7-D0CEAA5B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573-C6DC-496A-8109-B2CF184E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962-6FCB-4D2A-B6BF-C76BD94E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24B-F9BD-48A5-8151-3E1D08EF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C5CF-42DD-44C6-8F4E-F8EF0276A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32F0-BABC-4ED4-8F6F-E03C0001886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4788000" y="5373720"/>
            <a:ext cx="4211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Верх-Жилинская О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тайский край Косих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хема 1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3850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Роль силы трения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при ходьб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4d40f1a140561141a1e63b5bd0422b77.jpg.jpg"/>
          <p:cNvPicPr/>
          <p:nvPr/>
        </p:nvPicPr>
        <p:blipFill>
          <a:blip r:embed="rId2"/>
          <a:stretch/>
        </p:blipFill>
        <p:spPr>
          <a:xfrm>
            <a:off x="5435640" y="1341360"/>
            <a:ext cx="2747880" cy="3656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1979640" y="5157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агодаря трению вьющиеся растения цепляются за находящиеся поблизости опоры, удерживаются и тянутся к с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горох2.jpg"/>
          <p:cNvPicPr/>
          <p:nvPr/>
        </p:nvPicPr>
        <p:blipFill>
          <a:blip r:embed="rId3"/>
          <a:stretch/>
        </p:blipFill>
        <p:spPr>
          <a:xfrm>
            <a:off x="971640" y="1844640"/>
            <a:ext cx="386712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19235022.jpg"/>
          <p:cNvPicPr/>
          <p:nvPr/>
        </p:nvPicPr>
        <p:blipFill>
          <a:blip r:embed="rId2"/>
          <a:stretch/>
        </p:blipFill>
        <p:spPr>
          <a:xfrm>
            <a:off x="755640" y="1413000"/>
            <a:ext cx="3597120" cy="2635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morkovv.jpg"/>
          <p:cNvPicPr/>
          <p:nvPr/>
        </p:nvPicPr>
        <p:blipFill>
          <a:blip r:embed="rId3"/>
          <a:stretch/>
        </p:blipFill>
        <p:spPr>
          <a:xfrm>
            <a:off x="4859280" y="1341360"/>
            <a:ext cx="3319560" cy="4014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619280" y="5473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а трения о грунт корнеплодов способствует удержанию растения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ArctiumLappa3.jpg"/>
          <p:cNvPicPr/>
          <p:nvPr/>
        </p:nvPicPr>
        <p:blipFill>
          <a:blip r:embed="rId2"/>
          <a:stretch/>
        </p:blipFill>
        <p:spPr>
          <a:xfrm>
            <a:off x="762120" y="1413000"/>
            <a:ext cx="3608280" cy="2952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4643280" y="1645560"/>
            <a:ext cx="45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растениям, как репейник, трение помогает распространять семена, имеющи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юч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небольшими крючками на кон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верх 6"/>
          <p:cNvSpPr/>
          <p:nvPr/>
        </p:nvSpPr>
        <p:spPr>
          <a:xfrm>
            <a:off x="3780000" y="2492280"/>
            <a:ext cx="215640" cy="3313080"/>
          </a:xfrm>
          <a:prstGeom prst="upArrow">
            <a:avLst>
              <a:gd name="adj1" fmla="val 50000"/>
              <a:gd name="adj2" fmla="val 500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132000" y="5877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ю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" descr="180282_384648.jpg"/>
          <p:cNvPicPr/>
          <p:nvPr/>
        </p:nvPicPr>
        <p:blipFill>
          <a:blip r:embed="rId2"/>
          <a:stretch/>
        </p:blipFill>
        <p:spPr>
          <a:xfrm>
            <a:off x="324000" y="1268280"/>
            <a:ext cx="4259160" cy="3108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Zwierzeta_7_1280x720_1245.jpg"/>
          <p:cNvPicPr/>
          <p:nvPr/>
        </p:nvPicPr>
        <p:blipFill>
          <a:blip r:embed="rId3"/>
          <a:stretch/>
        </p:blipFill>
        <p:spPr>
          <a:xfrm>
            <a:off x="3995640" y="2349360"/>
            <a:ext cx="4316400" cy="2427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1908000" y="508464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органов хватания у животных (конечности, хобот слона ) связано с трением. Предмет тем прочнее будет схвачен, чем больше сила трения между органом хватания и предм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в тех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механизм.jpeg"/>
          <p:cNvPicPr/>
          <p:nvPr/>
        </p:nvPicPr>
        <p:blipFill>
          <a:blip r:embed="rId2"/>
          <a:stretch/>
        </p:blipFill>
        <p:spPr>
          <a:xfrm>
            <a:off x="250920" y="1052640"/>
            <a:ext cx="4208400" cy="3159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двигатель авто.jpg"/>
          <p:cNvPicPr/>
          <p:nvPr/>
        </p:nvPicPr>
        <p:blipFill>
          <a:blip r:embed="rId3"/>
          <a:stretch/>
        </p:blipFill>
        <p:spPr>
          <a:xfrm>
            <a:off x="4248000" y="1630440"/>
            <a:ext cx="4705560" cy="352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1476360" y="515772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сех машинах из-за трения нагреваются и изнашиваются движущиеся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35280" y="-360"/>
            <a:ext cx="534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одшип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шариковый подшипник.jpg"/>
          <p:cNvPicPr/>
          <p:nvPr/>
        </p:nvPicPr>
        <p:blipFill>
          <a:blip r:embed="rId2"/>
          <a:stretch/>
        </p:blipFill>
        <p:spPr>
          <a:xfrm>
            <a:off x="576360" y="762120"/>
            <a:ext cx="2158920" cy="325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1727280" y="519444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клады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деталь подшипника, непосредственно соприкасающаяся с в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4"/>
          <p:cNvSpPr/>
          <p:nvPr/>
        </p:nvSpPr>
        <p:spPr>
          <a:xfrm>
            <a:off x="1619280" y="3213000"/>
            <a:ext cx="73080" cy="2016360"/>
          </a:xfrm>
          <a:prstGeom prst="upArrow">
            <a:avLst>
              <a:gd name="adj1" fmla="val 50000"/>
              <a:gd name="adj2" fmla="val 4994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067280" y="1268280"/>
            <a:ext cx="324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шипники помогают уменьшит силу трения в десятки раз за счет замены трения качения трением сколь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329957657_9.jpg"/>
          <p:cNvPicPr/>
          <p:nvPr/>
        </p:nvPicPr>
        <p:blipFill>
          <a:blip r:embed="rId3"/>
          <a:stretch/>
        </p:blipFill>
        <p:spPr>
          <a:xfrm>
            <a:off x="6443640" y="3573360"/>
            <a:ext cx="2160720" cy="2913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341964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р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3419640" y="4724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Двойная стрелка влево/вправо 9"/>
          <p:cNvSpPr/>
          <p:nvPr/>
        </p:nvSpPr>
        <p:spPr>
          <a:xfrm>
            <a:off x="2700360" y="3716280"/>
            <a:ext cx="719280" cy="7308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Двойная стрелка влево/вправо 11"/>
          <p:cNvSpPr/>
          <p:nvPr/>
        </p:nvSpPr>
        <p:spPr>
          <a:xfrm>
            <a:off x="6156360" y="4869000"/>
            <a:ext cx="1079640" cy="14436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03280" y="1267920"/>
            <a:ext cx="7283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чего смычок перед игрой натирают канифоль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медицинские иглы полирую до зеркального блес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полировка и шлифовка соприкасающихся деталей уменьшает силу трения? Будет ли уменьшена сила трения, если поверхности деталей отполировать идеаль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кой целью швейные иголки полируют до блеска? Удобно ли шить заржавленной иголк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агоне поезда на столике лежат книга и мяч. Поезд тронулся с места. Что при этом произойдет с мячом и книг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гоночных велосипедов руль низко опущен.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живую рыбу трудно держать в рук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5892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kn.sobaka.ru/n35/0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et-mash.ru/index.php?file=pod_kache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fotodnya.net/fashion/kartinki-treniy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octitesolutions.com/index.php?FOLDERID=294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home-edu.ru/user/f/00001491/Les_18N/Htm_18/Les18_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youtube.com/watch?v=TISWVsXINFo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fppt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280" y="213372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накомить учащихся с силой трен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казать роль силы трения в природе  и техни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Вера\AppData\Local\Microsoft\Windows\Temporary Internet Files\Content.IE5\6JNNS02V\MC900435839[1].wmf"/>
          <p:cNvPicPr/>
          <p:nvPr/>
        </p:nvPicPr>
        <p:blipFill>
          <a:blip r:embed="rId2"/>
          <a:stretch/>
        </p:blipFill>
        <p:spPr>
          <a:xfrm>
            <a:off x="468360" y="620640"/>
            <a:ext cx="3527280" cy="3529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4427640" y="1844640"/>
            <a:ext cx="40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и, скатившись с горы, через некоторое время останавливаются. Это значит, что на тело действовала сила. При соприкосновении одного тела с другим возникает взаимодействие, которое называют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тр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763640" y="40464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ила, возникающая при взаимодействии поверхности одного тела с поверхностью другого, когда тела неподвижны или перемещаются относительно друг друга,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96840" y="4572000"/>
            <a:ext cx="8881920" cy="1749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684360" y="333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73"/>
                </a:solidFill>
                <a:latin typeface="Arial"/>
              </a:rPr>
              <a:t>Причина возникновения силы т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surface_irregular_s.jpg"/>
          <p:cNvPicPr/>
          <p:nvPr/>
        </p:nvPicPr>
        <p:blipFill>
          <a:blip r:embed="rId2"/>
          <a:stretch/>
        </p:blipFill>
        <p:spPr>
          <a:xfrm>
            <a:off x="1042920" y="1916280"/>
            <a:ext cx="2737080" cy="2052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1490760" y="428472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овность поверх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prichina2.jpg"/>
          <p:cNvPicPr/>
          <p:nvPr/>
        </p:nvPicPr>
        <p:blipFill>
          <a:blip r:embed="rId3"/>
          <a:stretch/>
        </p:blipFill>
        <p:spPr>
          <a:xfrm>
            <a:off x="4859280" y="2060640"/>
            <a:ext cx="346572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4427640" y="436572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тя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24000" y="2421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ка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763640" y="4149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сколь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32360" y="2421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пок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5" descr=""/>
          <p:cNvPicPr/>
          <p:nvPr/>
        </p:nvPicPr>
        <p:blipFill>
          <a:blip r:embed="rId2"/>
          <a:stretch/>
        </p:blipFill>
        <p:spPr>
          <a:xfrm>
            <a:off x="1395360" y="665280"/>
            <a:ext cx="6767640" cy="145548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низ 6"/>
          <p:cNvSpPr/>
          <p:nvPr/>
        </p:nvSpPr>
        <p:spPr>
          <a:xfrm>
            <a:off x="2771640" y="1700280"/>
            <a:ext cx="287640" cy="64908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6156360" y="1628640"/>
            <a:ext cx="287280" cy="7207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8"/>
          <p:cNvSpPr/>
          <p:nvPr/>
        </p:nvSpPr>
        <p:spPr>
          <a:xfrm>
            <a:off x="4500720" y="1773360"/>
            <a:ext cx="287280" cy="2232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сколь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лыжник.jpg"/>
          <p:cNvPicPr/>
          <p:nvPr/>
        </p:nvPicPr>
        <p:blipFill>
          <a:blip r:embed="rId2"/>
          <a:stretch/>
        </p:blipFill>
        <p:spPr>
          <a:xfrm>
            <a:off x="1568520" y="1603440"/>
            <a:ext cx="3235320" cy="3481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5508720" y="162864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скользит по поверхности другого, то возникающую силу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сколь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ка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364000" y="1484280"/>
            <a:ext cx="32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катится по поверхности другого, то силу возникающую при этом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к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03-07.gif"/>
          <p:cNvPicPr/>
          <p:nvPr/>
        </p:nvPicPr>
        <p:blipFill>
          <a:blip r:embed="rId2"/>
          <a:srcRect l="12784" t="1795" r="0" b="0"/>
          <a:stretch/>
        </p:blipFill>
        <p:spPr>
          <a:xfrm>
            <a:off x="1403280" y="1484280"/>
            <a:ext cx="37512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пок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45602132.jpg"/>
          <p:cNvPicPr/>
          <p:nvPr/>
        </p:nvPicPr>
        <p:blipFill>
          <a:blip r:embed="rId2"/>
          <a:stretch/>
        </p:blipFill>
        <p:spPr>
          <a:xfrm>
            <a:off x="1187280" y="1484280"/>
            <a:ext cx="3333960" cy="2724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5292720" y="1773360"/>
            <a:ext cx="295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пытке сдвинуть тело с места, оно не сразу изменит свою скорость, так как действующая на тело сила уравновешивается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илой трения пок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44:30Z</dcterms:created>
  <dc:creator/>
  <dc:description/>
  <dc:language>en-US</dc:language>
  <cp:lastModifiedBy>Мама</cp:lastModifiedBy>
  <dcterms:modified xsi:type="dcterms:W3CDTF">2013-07-29T11:06:46Z</dcterms:modified>
  <cp:revision>47</cp:revision>
  <dc:subject/>
  <dc:title>Сила трения</dc:title>
</cp:coreProperties>
</file>