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3.wmf" ContentType="image/x-wmf"/>
  <Override PartName="/ppt/media/image15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7499-00EB-4309-95C7-0B290027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4751-87AB-4216-9022-345CB8DB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81DF-CDA6-450C-AFA8-F3012816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32A5-DF3C-4AB5-9465-F3E1ECA9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B9DD-9437-4301-8908-49A08571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6BE9-B94B-4A53-A808-AA0F0B32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41E4-A9C0-4CAB-94E6-7B6D8B7E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3EC8-68FC-445F-9EE7-BFF5B52A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CBBC-C486-4F54-8CEC-9DD072BC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6241-EC38-4AB0-8146-5EB1180D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A6AD-CE8A-42AF-B894-7E86F9AE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A148-71F8-496A-AA03-9A1DD634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14B1-0E45-4C3C-A19C-25855A80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1818-1074-4989-B468-9AB4531A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D8FB-3001-4262-B748-C6E1BBD2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311F-3F03-4FEF-B147-A0F65FFD0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046C-E344-4342-9591-D83F517E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DE9-A52C-4898-946A-73C21615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D629-8AA8-4902-912F-13A5F1906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59E0-E119-446A-8B08-5B62E434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97A6-2336-4766-BD4D-EF6F9225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230E-C978-4662-A35D-ECEAACF6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498F-3350-4C65-82D1-91F78653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73FD-293D-45F2-AA78-B0CBE3C5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7DF1-FCD5-43DE-B2F9-F43296FA9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0EF2-0C59-4623-A247-022233FBC94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4000" y="1916280"/>
            <a:ext cx="496872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"/>
          <p:cNvSpPr/>
          <p:nvPr/>
        </p:nvSpPr>
        <p:spPr>
          <a:xfrm>
            <a:off x="4788000" y="5373720"/>
            <a:ext cx="42116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данова Ир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Верх-Жилинская О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тайский край Косих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хема 1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7777080" cy="5832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3850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Роль силы трения</a:t>
            </a:r>
            <a:br>
              <a:rPr sz="5400"/>
            </a:b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 при ходьб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ила трения у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3" descr="4d40f1a140561141a1e63b5bd0422b77.jpg.jpg"/>
          <p:cNvPicPr/>
          <p:nvPr/>
        </p:nvPicPr>
        <p:blipFill>
          <a:blip r:embed="rId2"/>
          <a:stretch/>
        </p:blipFill>
        <p:spPr>
          <a:xfrm>
            <a:off x="5435640" y="1341360"/>
            <a:ext cx="2747880" cy="36561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1979640" y="5157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лагодаря трению вьющиеся растения цепляются за находящиеся поблизости опоры, удерживаются и тянутся к св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6" descr="горох2.jpg"/>
          <p:cNvPicPr/>
          <p:nvPr/>
        </p:nvPicPr>
        <p:blipFill>
          <a:blip r:embed="rId3"/>
          <a:stretch/>
        </p:blipFill>
        <p:spPr>
          <a:xfrm>
            <a:off x="971640" y="1844640"/>
            <a:ext cx="386712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45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у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19235022.jpg"/>
          <p:cNvPicPr/>
          <p:nvPr/>
        </p:nvPicPr>
        <p:blipFill>
          <a:blip r:embed="rId2"/>
          <a:stretch/>
        </p:blipFill>
        <p:spPr>
          <a:xfrm>
            <a:off x="755640" y="1413000"/>
            <a:ext cx="3597120" cy="26352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morkovv.jpg"/>
          <p:cNvPicPr/>
          <p:nvPr/>
        </p:nvPicPr>
        <p:blipFill>
          <a:blip r:embed="rId3"/>
          <a:stretch/>
        </p:blipFill>
        <p:spPr>
          <a:xfrm>
            <a:off x="4859280" y="1341360"/>
            <a:ext cx="3319560" cy="40147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1619280" y="54738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ла трения о грунт корнеплодов способствует удержанию растения в поч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47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у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ArctiumLappa3.jpg"/>
          <p:cNvPicPr/>
          <p:nvPr/>
        </p:nvPicPr>
        <p:blipFill>
          <a:blip r:embed="rId2"/>
          <a:stretch/>
        </p:blipFill>
        <p:spPr>
          <a:xfrm>
            <a:off x="762120" y="1413000"/>
            <a:ext cx="3608280" cy="29527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"/>
          <p:cNvSpPr/>
          <p:nvPr/>
        </p:nvSpPr>
        <p:spPr>
          <a:xfrm>
            <a:off x="4643280" y="1645560"/>
            <a:ext cx="450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им растениям, как репейник, трение помогает распространять семена, имеющие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ючк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небольшими крючками на кон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верх 6"/>
          <p:cNvSpPr/>
          <p:nvPr/>
        </p:nvSpPr>
        <p:spPr>
          <a:xfrm>
            <a:off x="3780000" y="2492280"/>
            <a:ext cx="215640" cy="3313080"/>
          </a:xfrm>
          <a:prstGeom prst="upArrow">
            <a:avLst>
              <a:gd name="adj1" fmla="val 50000"/>
              <a:gd name="adj2" fmla="val 5007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3132000" y="58770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ю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у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2" descr="180282_384648.jpg"/>
          <p:cNvPicPr/>
          <p:nvPr/>
        </p:nvPicPr>
        <p:blipFill>
          <a:blip r:embed="rId2"/>
          <a:stretch/>
        </p:blipFill>
        <p:spPr>
          <a:xfrm>
            <a:off x="324000" y="1268280"/>
            <a:ext cx="4259160" cy="31086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3" descr="Zwierzeta_7_1280x720_1245.jpg"/>
          <p:cNvPicPr/>
          <p:nvPr/>
        </p:nvPicPr>
        <p:blipFill>
          <a:blip r:embed="rId3"/>
          <a:stretch/>
        </p:blipFill>
        <p:spPr>
          <a:xfrm>
            <a:off x="3995640" y="2349360"/>
            <a:ext cx="4316400" cy="24274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1908000" y="5084640"/>
            <a:ext cx="66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йствие органов хватания у животных (конечности, хобот слона ) связано с трением. Предмет тем прочнее будет схвачен, чем больше сила трения между органом хватания и предм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в техн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2" descr="механизм.jpeg"/>
          <p:cNvPicPr/>
          <p:nvPr/>
        </p:nvPicPr>
        <p:blipFill>
          <a:blip r:embed="rId2"/>
          <a:stretch/>
        </p:blipFill>
        <p:spPr>
          <a:xfrm>
            <a:off x="250920" y="1052640"/>
            <a:ext cx="4208400" cy="31590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" descr="двигатель авто.jpg"/>
          <p:cNvPicPr/>
          <p:nvPr/>
        </p:nvPicPr>
        <p:blipFill>
          <a:blip r:embed="rId3"/>
          <a:stretch/>
        </p:blipFill>
        <p:spPr>
          <a:xfrm>
            <a:off x="4248000" y="1630440"/>
            <a:ext cx="4705560" cy="3527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1476360" y="5157720"/>
            <a:ext cx="55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 всех машинах из-за трения нагреваются и изнашиваются движущиеся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35280" y="-360"/>
            <a:ext cx="534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Подшипни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2" descr="шариковый подшипник.jpg"/>
          <p:cNvPicPr/>
          <p:nvPr/>
        </p:nvPicPr>
        <p:blipFill>
          <a:blip r:embed="rId2"/>
          <a:stretch/>
        </p:blipFill>
        <p:spPr>
          <a:xfrm>
            <a:off x="576360" y="762120"/>
            <a:ext cx="2158920" cy="3254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3"/>
          <p:cNvSpPr/>
          <p:nvPr/>
        </p:nvSpPr>
        <p:spPr>
          <a:xfrm>
            <a:off x="1727280" y="519444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клады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деталь подшипника, непосредственно соприкасающаяся с в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верх 4"/>
          <p:cNvSpPr/>
          <p:nvPr/>
        </p:nvSpPr>
        <p:spPr>
          <a:xfrm>
            <a:off x="1619280" y="3213000"/>
            <a:ext cx="73080" cy="2016360"/>
          </a:xfrm>
          <a:prstGeom prst="upArrow">
            <a:avLst>
              <a:gd name="adj1" fmla="val 50000"/>
              <a:gd name="adj2" fmla="val 4994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4067280" y="1268280"/>
            <a:ext cx="324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шипники помогают уменьшит силу трения в десятки раз за счет замены трения качения трением сколь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6" descr="1329957657_9.jpg"/>
          <p:cNvPicPr/>
          <p:nvPr/>
        </p:nvPicPr>
        <p:blipFill>
          <a:blip r:embed="rId3"/>
          <a:stretch/>
        </p:blipFill>
        <p:spPr>
          <a:xfrm>
            <a:off x="6443640" y="3573360"/>
            <a:ext cx="2160720" cy="2913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3419640" y="3573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ариковый подшип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3419640" y="47242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ликовый подшип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Двойная стрелка влево/вправо 9"/>
          <p:cNvSpPr/>
          <p:nvPr/>
        </p:nvSpPr>
        <p:spPr>
          <a:xfrm>
            <a:off x="2700360" y="3716280"/>
            <a:ext cx="719280" cy="73080"/>
          </a:xfrm>
          <a:prstGeom prst="left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Двойная стрелка влево/вправо 11"/>
          <p:cNvSpPr/>
          <p:nvPr/>
        </p:nvSpPr>
        <p:spPr>
          <a:xfrm>
            <a:off x="6156360" y="4869000"/>
            <a:ext cx="1079640" cy="144360"/>
          </a:xfrm>
          <a:prstGeom prst="leftRightArrow">
            <a:avLst>
              <a:gd name="adj1" fmla="val 50000"/>
              <a:gd name="adj2" fmla="val 5003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для закреп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403280" y="1267920"/>
            <a:ext cx="7283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ля чего смычок перед игрой натирают канифолью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ему медицинские иглы полирую до зеркального блеск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ему полировка и шлифовка соприкасающихся деталей уменьшает силу трения? Будет ли уменьшена сила трения, если поверхности деталей отполировать идеально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какой целью швейные иголки полируют до блеска? Удобно ли шить заржавленной иголко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вагоне поезда на столике лежат книга и мяч. Поезд тронулся с места. Что при этом произойдет с мячом и книго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гоночных велосипедов руль низко опущен. Почем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ему живую рыбу трудно держать в руках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ользуемые материа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58920" y="134136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kn.sobaka.ru/n35/05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et-mash.ru/index.php?file=pod_kachen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fotodnya.net/fashion/kartinki-treniy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octitesolutions.com/index.php?FOLDERID=294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home-edu.ru/user/f/00001491/Les_18N/Htm_18/Les18_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youtube.com/watch?v=TISWVsXINFo&amp;feature=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fppt.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73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5280" y="2133720"/>
            <a:ext cx="746748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знакомить учащихся с силой трения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казать роль силы трения в природе  и техник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:\Users\Вера\AppData\Local\Microsoft\Windows\Temporary Internet Files\Content.IE5\6JNNS02V\MC900435839[1].wmf"/>
          <p:cNvPicPr/>
          <p:nvPr/>
        </p:nvPicPr>
        <p:blipFill>
          <a:blip r:embed="rId2"/>
          <a:stretch/>
        </p:blipFill>
        <p:spPr>
          <a:xfrm>
            <a:off x="468360" y="620640"/>
            <a:ext cx="3527280" cy="35290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4427640" y="1844640"/>
            <a:ext cx="403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нки, скатившись с горы, через некоторое время останавливаются. Это значит, что на тело действовала сила. При соприкосновении одного тела с другим возникает взаимодействие, которое называют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тр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763640" y="404640"/>
            <a:ext cx="568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ила, возникающая при взаимодействии поверхности одного тела с поверхностью другого, когда тела неподвижны или перемещаются относительно друг друга, назы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2" descr=""/>
          <p:cNvPicPr/>
          <p:nvPr/>
        </p:nvPicPr>
        <p:blipFill>
          <a:blip r:embed="rId2"/>
          <a:stretch/>
        </p:blipFill>
        <p:spPr>
          <a:xfrm>
            <a:off x="96840" y="4572000"/>
            <a:ext cx="8881920" cy="1749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684360" y="33336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73"/>
                </a:solidFill>
                <a:latin typeface="Arial"/>
              </a:rPr>
              <a:t>Причина возникновения силы тр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surface_irregular_s.jpg"/>
          <p:cNvPicPr/>
          <p:nvPr/>
        </p:nvPicPr>
        <p:blipFill>
          <a:blip r:embed="rId2"/>
          <a:stretch/>
        </p:blipFill>
        <p:spPr>
          <a:xfrm>
            <a:off x="1042920" y="1916280"/>
            <a:ext cx="2737080" cy="2052360"/>
          </a:xfrm>
          <a:prstGeom prst="rect">
            <a:avLst/>
          </a:prstGeom>
          <a:ln w="0">
            <a:noFill/>
          </a:ln>
        </p:spPr>
      </p:pic>
      <p:sp>
        <p:nvSpPr>
          <p:cNvPr id="92" name="TextBox 7"/>
          <p:cNvSpPr/>
          <p:nvPr/>
        </p:nvSpPr>
        <p:spPr>
          <a:xfrm>
            <a:off x="1490760" y="428472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ровность поверх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8" descr="prichina2.jpg"/>
          <p:cNvPicPr/>
          <p:nvPr/>
        </p:nvPicPr>
        <p:blipFill>
          <a:blip r:embed="rId3"/>
          <a:stretch/>
        </p:blipFill>
        <p:spPr>
          <a:xfrm>
            <a:off x="4859280" y="2060640"/>
            <a:ext cx="3465720" cy="1800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9"/>
          <p:cNvSpPr/>
          <p:nvPr/>
        </p:nvSpPr>
        <p:spPr>
          <a:xfrm>
            <a:off x="4427640" y="436572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тяж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лек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324000" y="242100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ние ка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1763640" y="41497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ние сколь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4932360" y="24210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ние поко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5" descr=""/>
          <p:cNvPicPr/>
          <p:nvPr/>
        </p:nvPicPr>
        <p:blipFill>
          <a:blip r:embed="rId2"/>
          <a:stretch/>
        </p:blipFill>
        <p:spPr>
          <a:xfrm>
            <a:off x="1395360" y="665280"/>
            <a:ext cx="6767640" cy="1455480"/>
          </a:xfrm>
          <a:prstGeom prst="rect">
            <a:avLst/>
          </a:prstGeom>
          <a:ln w="0">
            <a:noFill/>
          </a:ln>
        </p:spPr>
      </p:pic>
      <p:sp>
        <p:nvSpPr>
          <p:cNvPr id="99" name="Стрелка вниз 6"/>
          <p:cNvSpPr/>
          <p:nvPr/>
        </p:nvSpPr>
        <p:spPr>
          <a:xfrm>
            <a:off x="2771640" y="1700280"/>
            <a:ext cx="287640" cy="649080"/>
          </a:xfrm>
          <a:prstGeom prst="downArrow">
            <a:avLst>
              <a:gd name="adj1" fmla="val 50000"/>
              <a:gd name="adj2" fmla="val 4992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вниз 7"/>
          <p:cNvSpPr/>
          <p:nvPr/>
        </p:nvSpPr>
        <p:spPr>
          <a:xfrm>
            <a:off x="6156360" y="1628640"/>
            <a:ext cx="287280" cy="72072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трелка вниз 8"/>
          <p:cNvSpPr/>
          <p:nvPr/>
        </p:nvSpPr>
        <p:spPr>
          <a:xfrm>
            <a:off x="4500720" y="1773360"/>
            <a:ext cx="287280" cy="22320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а трения сколь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2" descr="лыжник.jpg"/>
          <p:cNvPicPr/>
          <p:nvPr/>
        </p:nvPicPr>
        <p:blipFill>
          <a:blip r:embed="rId2"/>
          <a:stretch/>
        </p:blipFill>
        <p:spPr>
          <a:xfrm>
            <a:off x="1568520" y="1603440"/>
            <a:ext cx="3235320" cy="34812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5508720" y="1628640"/>
            <a:ext cx="3095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тело скользит по поверхности другого, то возникающую силу называют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силой трения сколь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а трения ка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364000" y="1484280"/>
            <a:ext cx="324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тело катится по поверхности другого, то силу возникающую при этом называют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силой трения ка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" descr="03-07.gif"/>
          <p:cNvPicPr/>
          <p:nvPr/>
        </p:nvPicPr>
        <p:blipFill>
          <a:blip r:embed="rId2"/>
          <a:srcRect l="12784" t="1795" r="0" b="0"/>
          <a:stretch/>
        </p:blipFill>
        <p:spPr>
          <a:xfrm>
            <a:off x="1403280" y="1484280"/>
            <a:ext cx="375120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а трения поко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45602132.jpg"/>
          <p:cNvPicPr/>
          <p:nvPr/>
        </p:nvPicPr>
        <p:blipFill>
          <a:blip r:embed="rId2"/>
          <a:stretch/>
        </p:blipFill>
        <p:spPr>
          <a:xfrm>
            <a:off x="1187280" y="1484280"/>
            <a:ext cx="3333960" cy="27241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5292720" y="1773360"/>
            <a:ext cx="295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пытке сдвинуть тело с места, оно не сразу изменит свою скорость, так как действующая на тело сила уравновешивается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силой трения поко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7:44:30Z</dcterms:created>
  <dc:creator/>
  <dc:description/>
  <dc:language>en-US</dc:language>
  <cp:lastModifiedBy>Мама</cp:lastModifiedBy>
  <dcterms:modified xsi:type="dcterms:W3CDTF">2013-07-29T11:06:46Z</dcterms:modified>
  <cp:revision>47</cp:revision>
  <dc:subject/>
  <dc:title>Сила трения</dc:title>
</cp:coreProperties>
</file>