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8790-96A1-485E-A9E0-44F82844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5ADC-B6EA-4DED-8385-A47A62A5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ACE-B635-4FFA-907A-0DE09398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22FB-16DF-4855-B394-21AD3320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42EC-B593-4EAB-ABC5-6DB31E22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0CB9-5282-4ADF-9981-B62D3257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D3C4-1862-462A-8B93-02D487B4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6921-705B-4024-9236-9F799AC5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A144-41EA-4811-AB7B-981C67EA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1A20-B22D-4DE6-897C-985FCFD0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CCC5-3A23-4522-AB2C-4487A3CE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161-63E3-40DE-BF33-4DB35CF8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12EA-C248-46B4-BFAC-81324AC1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3304-897B-4BD1-BA38-94D89E76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EEB4-7468-43A8-A501-1ECC15DF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834C-9D5F-4879-BC99-1A52C8A9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23C6-795D-40E0-9F41-5F3AB807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7F5433-B36E-4451-956E-D251FC32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E7E5A-48FE-4E34-8061-E68018F4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9455B-C7EC-4535-83F7-F8A20F5B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0EE1A6-A9EF-4F26-8CE3-E10AC9CA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47E1AD-FA58-4220-B4EA-6EBE8612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7289-484A-400F-8A42-BA134D81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4056B-7923-49C2-87C8-61D427DB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A0705D-86B9-4E43-8E4F-6D14EF7B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7F6FC-1A48-4D75-9A7D-566FE707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C75E4-3601-4020-8F3C-6529DD58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29C02-514A-4BB2-A522-72FDDF9F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0D5BC-3C77-49B0-9072-D75D35A8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D2A65D-AA19-4AE3-91E0-68F4C2A8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B5C28-9499-4BC1-98D9-3E0FBC70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203E9-EE02-4C4C-90F0-BA661E87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CAF41-F0CD-4D78-9695-37510965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CF7-F5B7-48A2-AD47-BDCA1411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33D6A-1080-4928-8B01-908DB6FF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C31F5-89FF-4489-AFBC-DF81DC80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6501A-AC5C-485A-9BAA-33A0E48F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FFD51-FE02-4D90-8C92-FF66FF17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8B9B7-3710-4421-8A08-1CA3B776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791EC-7C61-4675-89BD-23377A27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52A3E-0E4E-48CE-BAC9-DD809C57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E06F8-21EF-4413-AE83-15A0E71E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8FF1A-BAE6-4035-9EB3-71A2FEA2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84B9E9-2B7B-4932-AFFD-E025665E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CCF5-0719-4D69-ABF6-70EF9EB9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777E08-C6B5-410B-B142-131997E0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26BE45-9373-45A5-86E4-5A9B964E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6A540B-06F0-4EA7-B98D-EC239F24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BA2F17-6BCF-40E9-9052-F5A0D7F4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FFC852-060D-4A27-84C3-2EDDAEFC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C1B7F6-C4CE-4727-A158-3CA731BB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4502C3-DE01-42E5-9A5E-904287F0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0FDADF-A734-4B1C-ACAE-D0C4368F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CCEF97-B58A-4F75-BAF6-B18FCD32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6FFE8E-6C6E-4C8F-88DA-0168C9A7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637-C954-4263-8E6F-D1A19691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2FC377-4B48-41C3-9B24-3D27841A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F9236A-120F-442C-BF84-195A8FBF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2A94A4-9835-4016-B1D8-5AC12D9D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3FBB5B-0F82-4D0B-BD69-8086D16D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4B659C-1D09-4B8B-9D85-D8E3558F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36C1F1-2B09-4A2B-8F09-E54AC66B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FF8451-ABB0-464E-9EC8-4E0AD9A9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4A11D9-37FC-40BD-9D74-08896D89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D604B7-3D92-4339-B1AA-A5BE4634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D81EBD-138B-47DE-92F1-A543A728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2C9-C01A-4158-84F7-2B32D017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8B6122-C8DF-4A87-8CE1-E9E90CD3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8F60CE-BAB2-4289-A598-43192394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24BD66-46EC-4BAA-8ECD-1615205A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114953-FCC7-4DBE-BB1E-DBC731C1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4E6E91-EDE9-4AEC-A641-565B9766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58622A-5C09-44C3-A1C6-2928C670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EA85A8-4AF1-4632-B43D-F35EDDFE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419635-415E-4866-918D-4A981D99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127F09-5495-4B9D-A35C-27A7BBFB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5B93EF-7329-40AF-9D80-3A507907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DD6C-5473-4B34-B98E-01F70A2E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789A78-284F-4CEA-AB9F-94C85BB7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1CEDAC-023A-449F-B444-D2A9622A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5DDE3F-4548-49D0-AF9F-3C6198AF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5B3615-9A07-4C1A-BF63-A926565B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4D860E-9342-4E46-BCCC-6FCD9F5C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F559-532D-4FCF-8D0A-27BC86DF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01CD-D092-45E1-8A6B-8641520F4AA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c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e0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e0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c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c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c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070E-71FF-4D41-B56C-9B98FD2F723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EE0E-BBFE-4AEF-B58D-553F296A404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c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e0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e0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c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c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c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bde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aebde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51A1-BA9C-45E8-A77E-071A949DB88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77E2-1A98-4682-BE1E-EB55FC99961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C32A-8EEE-4F05-9FE4-59E8A863759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DBBD-C0BD-4EB4-87DD-FBE5F4BEC72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669ba075-e921-11dc-95ff-0800200c9a66/3_19.sw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31640" y="1988640"/>
            <a:ext cx="7126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5439"/>
                </a:solidFill>
                <a:latin typeface="Century Schoolbook"/>
              </a:rPr>
              <a:t>РАБОТА И МОЩНОСТЬ ЭЛЕКТРИЧЕСКОГО ТОКА</a:t>
            </a:r>
            <a:endParaRPr b="0" lang="en-US" sz="4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Ладано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МБОУ «Верх-Жилинская ООШ»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Косихинский район Алтайский кра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684360" y="1557360"/>
          <a:ext cx="7775280" cy="4392720"/>
        </p:xfrm>
        <a:graphic>
          <a:graphicData uri="http://schemas.openxmlformats.org/drawingml/2006/table">
            <a:tbl>
              <a:tblPr/>
              <a:tblGrid>
                <a:gridCol w="3887640"/>
                <a:gridCol w="3887640"/>
              </a:tblGrid>
              <a:tr h="439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а уроке я работал(а)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воей работой на уроке 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рок для меня показалс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За урок 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Мое настроение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Материал урока мне был</a:t>
                      </a:r>
                      <a:br>
                        <a:rPr sz="2400"/>
                      </a:b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Домашнее задание мне кажетс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 / пассивно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ен / не довол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им / длинным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стал / устал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 лучше / стало хуже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ен / не понят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езен / бесполез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ен / скуч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м / трудным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но / не интересн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Rectangle 1"/>
          <p:cNvSpPr/>
          <p:nvPr/>
        </p:nvSpPr>
        <p:spPr>
          <a:xfrm>
            <a:off x="539640" y="6404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исток рефлексии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3"/>
          <p:cNvSpPr/>
          <p:nvPr/>
        </p:nvSpPr>
        <p:spPr>
          <a:xfrm>
            <a:off x="1928880" y="135720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воей работой на уроке доволен, чувствовал себя комфортно, настроение после урока хороше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611280" y="1357200"/>
            <a:ext cx="1322280" cy="407052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5"/>
          <p:cNvSpPr/>
          <p:nvPr/>
        </p:nvSpPr>
        <p:spPr>
          <a:xfrm>
            <a:off x="2000160" y="245916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воей работой на уроке недоволен, чувствовал себя не совсем комфортно, настроение после урока плохо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Прямоугольник 6"/>
          <p:cNvSpPr/>
          <p:nvPr/>
        </p:nvSpPr>
        <p:spPr>
          <a:xfrm>
            <a:off x="2000160" y="3857760"/>
            <a:ext cx="678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стояние на уроке безразличное, урок никак не изменил моего эмоционального состояния и настроени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2000160" y="3600"/>
            <a:ext cx="65008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4000" spc="-1" strike="noStrike">
                <a:solidFill>
                  <a:srgbClr val="72a376"/>
                </a:solidFill>
                <a:latin typeface="Times New Roman"/>
                <a:ea typeface="Calibri"/>
              </a:rPr>
              <a:t>Нарисуй настроение</a:t>
            </a:r>
            <a:r>
              <a:rPr b="1" lang="en-US" sz="4000" spc="-1" strike="noStrike">
                <a:solidFill>
                  <a:srgbClr val="72a376"/>
                </a:solidFill>
                <a:latin typeface="Times New Roman"/>
                <a:ea typeface="Calibri"/>
              </a:rPr>
              <a:t>: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WordArt 2"/>
          <p:cNvSpPr txBox="1"/>
          <p:nvPr/>
        </p:nvSpPr>
        <p:spPr>
          <a:xfrm>
            <a:off x="917640" y="1844640"/>
            <a:ext cx="732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пасибо за урок!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76a55"/>
                </a:solidFill>
                <a:latin typeface="Century Schoolbook"/>
              </a:rPr>
              <a:t>ЛИТЕРАТУРА /ЭЛЕКТРОННЫЕ РЕСУРСЫ/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125000"/>
            <a:ext cx="814716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ка. 8 класс. - М.: Дрофа, 2009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омов С.В., Родина Н.А. Физика. 9 класс – М.: Просвещение, 2002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кашик В.И., Иванова Е.В. Сборник задач по физике 7-9 класс – М.: Просвещение, 2008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ботарева В.А. Тесты по физике. 8 класс – Издательство «Экзамен», 2009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chool47.coi.spb.ru›fizkultminutka.do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ladanova.ucoz.com/load/planirovanie/kursy_kruzhki_i_mnogoe_drugoe/uroki_fiziki_8_klass/24-1-0-5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a075-e921-11dc-95ff-0800200c9a66/3_19.swf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7963-e921-11dc-95ff-0800200c9a66/index_listing.htm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466560" y="1405080"/>
          <a:ext cx="8282160" cy="4119480"/>
        </p:xfrm>
        <a:graphic>
          <a:graphicData uri="http://schemas.openxmlformats.org/drawingml/2006/table">
            <a:tbl>
              <a:tblPr/>
              <a:tblGrid>
                <a:gridCol w="1657440"/>
                <a:gridCol w="695520"/>
                <a:gridCol w="696960"/>
                <a:gridCol w="331560"/>
                <a:gridCol w="363600"/>
                <a:gridCol w="696960"/>
                <a:gridCol w="695160"/>
                <a:gridCol w="695520"/>
                <a:gridCol w="696960"/>
                <a:gridCol w="347400"/>
                <a:gridCol w="347760"/>
                <a:gridCol w="552600"/>
                <a:gridCol w="504720"/>
              </a:tblGrid>
              <a:tr h="853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вопрос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</a:tr>
              <a:tr h="100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</a:tr>
              <a:tr h="170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Прямоугольник 3"/>
          <p:cNvSpPr/>
          <p:nvPr/>
        </p:nvSpPr>
        <p:spPr>
          <a:xfrm>
            <a:off x="2987640" y="2620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юч к тесту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2"/>
          <p:cNvSpPr/>
          <p:nvPr/>
        </p:nvSpPr>
        <p:spPr>
          <a:xfrm>
            <a:off x="642960" y="21420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Работа электрического тока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1785960" y="1000080"/>
                <a:ext cx="14288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6"/>
              <p:cNvSpPr txBox="1"/>
              <p:nvPr/>
            </p:nvSpPr>
            <p:spPr>
              <a:xfrm>
                <a:off x="3606840" y="1285920"/>
                <a:ext cx="774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7"/>
              <p:cNvSpPr txBox="1"/>
              <p:nvPr/>
            </p:nvSpPr>
            <p:spPr>
              <a:xfrm>
                <a:off x="4357800" y="1143000"/>
                <a:ext cx="22525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8"/>
              <p:cNvSpPr txBox="1"/>
              <p:nvPr/>
            </p:nvSpPr>
            <p:spPr>
              <a:xfrm>
                <a:off x="4714920" y="2357280"/>
                <a:ext cx="1557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Овал 12"/>
          <p:cNvSpPr/>
          <p:nvPr/>
        </p:nvSpPr>
        <p:spPr>
          <a:xfrm>
            <a:off x="5500800" y="2214720"/>
            <a:ext cx="928440" cy="928440"/>
          </a:xfrm>
          <a:prstGeom prst="ellipse">
            <a:avLst/>
          </a:prstGeom>
          <a:noFill/>
          <a:ln w="25560">
            <a:solidFill>
              <a:srgbClr val="76a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1" name="Прямая со стрелкой 14"/>
          <p:cNvCxnSpPr/>
          <p:nvPr/>
        </p:nvCxnSpPr>
        <p:spPr>
          <a:xfrm flipV="1">
            <a:off x="6142680" y="1999800"/>
            <a:ext cx="214920" cy="215280"/>
          </a:xfrm>
          <a:prstGeom prst="straightConnector1">
            <a:avLst/>
          </a:prstGeom>
          <a:ln w="22320">
            <a:solidFill>
              <a:srgbClr val="76a776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62" name="Object 12"/>
              <p:cNvSpPr txBox="1"/>
              <p:nvPr/>
            </p:nvSpPr>
            <p:spPr>
              <a:xfrm>
                <a:off x="3571920" y="3857760"/>
                <a:ext cx="371484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3"/>
              <p:cNvSpPr txBox="1"/>
              <p:nvPr/>
            </p:nvSpPr>
            <p:spPr>
              <a:xfrm>
                <a:off x="5072040" y="3071880"/>
                <a:ext cx="4986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Прямоугольник 22"/>
          <p:cNvSpPr/>
          <p:nvPr/>
        </p:nvSpPr>
        <p:spPr>
          <a:xfrm>
            <a:off x="3500280" y="3714840"/>
            <a:ext cx="4071960" cy="1285920"/>
          </a:xfrm>
          <a:prstGeom prst="rect">
            <a:avLst/>
          </a:prstGeom>
          <a:noFill/>
          <a:ln w="633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Овал 25"/>
          <p:cNvSpPr/>
          <p:nvPr/>
        </p:nvSpPr>
        <p:spPr>
          <a:xfrm>
            <a:off x="6143760" y="1285920"/>
            <a:ext cx="714240" cy="714240"/>
          </a:xfrm>
          <a:prstGeom prst="ellipse">
            <a:avLst/>
          </a:prstGeom>
          <a:noFill/>
          <a:ln w="25560">
            <a:solidFill>
              <a:srgbClr val="76a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Box 29"/>
          <p:cNvSpPr/>
          <p:nvPr/>
        </p:nvSpPr>
        <p:spPr>
          <a:xfrm>
            <a:off x="1371960" y="5143680"/>
            <a:ext cx="603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измерения работы в СИ: Джоуль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5"/>
              <p:cNvSpPr txBox="1"/>
              <p:nvPr/>
            </p:nvSpPr>
            <p:spPr>
              <a:xfrm>
                <a:off x="4533840" y="339084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18"/>
              <p:cNvSpPr txBox="1"/>
              <p:nvPr/>
            </p:nvSpPr>
            <p:spPr>
              <a:xfrm>
                <a:off x="2714760" y="5715000"/>
                <a:ext cx="3795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Дж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В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А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rcRect l="11899" t="0" r="14827" b="0"/>
          <a:stretch/>
        </p:blipFill>
        <p:spPr>
          <a:xfrm>
            <a:off x="1023840" y="782640"/>
            <a:ext cx="6305760" cy="581508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2"/>
          <p:cNvSpPr/>
          <p:nvPr/>
        </p:nvSpPr>
        <p:spPr>
          <a:xfrm>
            <a:off x="142920" y="14292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Счетчик электрической энергии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2"/>
          <p:cNvSpPr/>
          <p:nvPr/>
        </p:nvSpPr>
        <p:spPr>
          <a:xfrm>
            <a:off x="642960" y="21420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Мощность электрического тока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3645000" y="676440"/>
                <a:ext cx="146664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2"/>
              <p:cNvSpPr txBox="1"/>
              <p:nvPr/>
            </p:nvSpPr>
            <p:spPr>
              <a:xfrm>
                <a:off x="3132000" y="1844640"/>
                <a:ext cx="27860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Rectangle 8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3276720" y="4005360"/>
            <a:ext cx="29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Р =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6" name="Group 17"/>
          <p:cNvGrpSpPr/>
          <p:nvPr/>
        </p:nvGrpSpPr>
        <p:grpSpPr>
          <a:xfrm>
            <a:off x="2701800" y="2646360"/>
            <a:ext cx="3454560" cy="1432800"/>
            <a:chOff x="2701800" y="2646360"/>
            <a:chExt cx="3454560" cy="1432800"/>
          </a:xfrm>
        </p:grpSpPr>
        <p:sp>
          <p:nvSpPr>
            <p:cNvPr id="377" name="Text Box 9"/>
            <p:cNvSpPr/>
            <p:nvPr/>
          </p:nvSpPr>
          <p:spPr>
            <a:xfrm>
              <a:off x="4284720" y="2646360"/>
              <a:ext cx="187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Text Box 13"/>
            <p:cNvSpPr/>
            <p:nvPr/>
          </p:nvSpPr>
          <p:spPr>
            <a:xfrm>
              <a:off x="2701800" y="2955960"/>
              <a:ext cx="116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5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r>
                <a:rPr b="1" i="1" lang="ru-RU" sz="5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Line 14"/>
            <p:cNvSpPr/>
            <p:nvPr/>
          </p:nvSpPr>
          <p:spPr>
            <a:xfrm>
              <a:off x="3995640" y="3438360"/>
              <a:ext cx="20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Text Box 15"/>
            <p:cNvSpPr/>
            <p:nvPr/>
          </p:nvSpPr>
          <p:spPr>
            <a:xfrm>
              <a:off x="4770360" y="3162240"/>
              <a:ext cx="371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1" name="Прямоугольник 22"/>
          <p:cNvSpPr/>
          <p:nvPr/>
        </p:nvSpPr>
        <p:spPr>
          <a:xfrm>
            <a:off x="3132000" y="3930480"/>
            <a:ext cx="2737080" cy="1082880"/>
          </a:xfrm>
          <a:prstGeom prst="rect">
            <a:avLst/>
          </a:prstGeom>
          <a:noFill/>
          <a:ln w="633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Line 20"/>
          <p:cNvSpPr/>
          <p:nvPr/>
        </p:nvSpPr>
        <p:spPr>
          <a:xfrm flipV="1">
            <a:off x="4716360" y="3573360"/>
            <a:ext cx="432000" cy="287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21"/>
          <p:cNvSpPr/>
          <p:nvPr/>
        </p:nvSpPr>
        <p:spPr>
          <a:xfrm flipV="1">
            <a:off x="5292720" y="3069720"/>
            <a:ext cx="431640" cy="287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Box 29"/>
          <p:cNvSpPr/>
          <p:nvPr/>
        </p:nvSpPr>
        <p:spPr>
          <a:xfrm>
            <a:off x="1430640" y="5084640"/>
            <a:ext cx="60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измерения мощности в СИ: Ватт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3506760" y="551664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т = 1 В•1 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3373560" y="607212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Вт = 1000 В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571680" y="184320"/>
            <a:ext cx="79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боры для измерения мощност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8" name="Picture 3" descr="2840"/>
          <p:cNvPicPr/>
          <p:nvPr/>
        </p:nvPicPr>
        <p:blipFill>
          <a:blip r:embed="rId1"/>
          <a:stretch/>
        </p:blipFill>
        <p:spPr>
          <a:xfrm>
            <a:off x="250920" y="119700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image1601"/>
          <p:cNvPicPr/>
          <p:nvPr/>
        </p:nvPicPr>
        <p:blipFill>
          <a:blip r:embed="rId2"/>
          <a:stretch/>
        </p:blipFill>
        <p:spPr>
          <a:xfrm>
            <a:off x="539640" y="4149720"/>
            <a:ext cx="2289240" cy="2376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6143760" y="5280120"/>
            <a:ext cx="2160360" cy="15778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5651640" y="1628640"/>
            <a:ext cx="2879640" cy="403236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7"/>
          <p:cNvSpPr/>
          <p:nvPr/>
        </p:nvSpPr>
        <p:spPr>
          <a:xfrm>
            <a:off x="5651640" y="1052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ваттметр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2868120" y="223056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льтметр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2828160" y="494172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мперметр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6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150840" y="189000"/>
            <a:ext cx="85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диницы работы, применяемые на практик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3143160" y="1428840"/>
                <a:ext cx="22320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Р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Text Box 4"/>
          <p:cNvSpPr/>
          <p:nvPr/>
        </p:nvSpPr>
        <p:spPr>
          <a:xfrm>
            <a:off x="2615760" y="2286000"/>
            <a:ext cx="357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 Дж = 1 Вт∙с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857160" y="35002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Вт•ч = 3600Дж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кВт•ч = 1000 Вт•ч = 3 600 000 Дж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2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96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25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25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5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a55"/>
                </a:solidFill>
                <a:latin typeface="Times New Roman"/>
                <a:ea typeface="Calibri"/>
              </a:rPr>
              <a:t>ПЕРВИЧНАЯ ПРОВЕРКА ПОНИМАНИЯ ИЗУЧЕННОГО. </a:t>
            </a:r>
            <a:endParaRPr b="0" lang="en-US" sz="32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2205000"/>
            <a:ext cx="80024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Что представляет собой работа электрического ток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 помощью, каких приборов можно измерить электрическую работу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Что представляет собой электрическая мощность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С помощью, каких приборов можно измерить мощность тока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222120" y="1536120"/>
            <a:ext cx="83584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50,51,52.Упр. 24 (2), 25 (2), задание 7, стр. 123.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Единой Коллекции ЦОР: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бный материал: </a:t>
            </a:r>
            <a:r>
              <a:rPr b="1" lang="en-US" sz="2000" spc="-1" strike="noStrike" u="sng">
                <a:solidFill>
                  <a:srgbClr val="db5353"/>
                </a:solidFill>
                <a:uFillTx/>
                <a:latin typeface="Times New Roman"/>
                <a:ea typeface="Calibri"/>
                <a:hlinkClick r:id="rId1"/>
              </a:rPr>
              <a:t>http://files.school-collection.edu.ru/dlrstore/669ba075-e921-11dc-95ff-0800200c9a66/3_19.swf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7963-e921-11dc-95ff-0800200c9a66/index_listing.htm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2018520" y="28188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 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2:47:29Z</dcterms:created>
  <dc:creator>Ладанова И.В.</dc:creator>
  <dc:description/>
  <dc:language>en-US</dc:language>
  <cp:lastModifiedBy/>
  <dcterms:modified xsi:type="dcterms:W3CDTF">2013-08-04T03:12:44Z</dcterms:modified>
  <cp:revision>94</cp:revision>
  <dc:subject/>
  <dc:title/>
</cp:coreProperties>
</file>