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EA7-F8FF-41A6-9D51-732EBBA4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14B-8519-470F-9B86-175BEF2D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16B-4CD7-4E92-B614-AB23D58C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3A1-E271-4E72-88CC-D4C33665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3714-605C-4354-97A5-C84F451F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EA0A-AB1C-4614-A179-A485E3EA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7EDD-7718-4A27-8C83-2DCB2488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7A0B-F78C-41CA-8874-29B05DE9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EBFE-0078-498C-B3B8-78058890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478A-CB78-414B-A0C4-133F8675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05DB-42C4-441B-8BB1-DE5B9E7A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34C-7B5C-45D8-AC0E-8116DAA3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E33D-90B0-4EB2-BB95-10B08526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B821-7CCC-467A-AD2F-127C2227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2E66-17D4-4D71-BC96-79F4FA4B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5CD9-8286-4A85-9AC7-8B222300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3F80-87FA-4119-A6E4-FD4B14E3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E3E67-0EC2-45CB-AD66-B99AF8D0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C122C0-E5BE-485C-B0DE-456EB4DD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1964F-0929-4BB1-819E-1B35BEAE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BABE9-8AB6-42C5-8018-5BF0C455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8FD45D-792B-451D-A0B5-F24901C1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922-F5FE-403A-B444-5BA7F863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ADB31-806E-4A11-B3A0-E920E1BB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9E6B5-2516-4D47-92E8-FC3B963A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6829B-A607-4241-BB96-A82D7C8A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1767D-0D90-4913-8B62-62F0644A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64F4E-C442-4A9B-A883-AC558829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EC0C7-3D1D-45A3-92EE-D505173C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D4498-AEFD-45FF-A388-1EFFD922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3854F-BACB-42EC-BD57-B2459352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AB088-7A1D-4FAE-8505-D1787357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4773A-54A5-4AB9-8FF2-73970A77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1E15-48A0-4BA8-85D2-3C779DB7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7BDA4-C8E6-4B8A-9D90-351284DF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74FF3-43E7-4C74-BBE1-56859A00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FDB8D-4657-4746-8D79-4B36DCA0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8D41E-EE2E-4EE3-AB19-63770B3E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4314F-7764-482D-95A8-A35CD6EB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99C51-2339-46C0-8CA5-F1D48989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A3279-A2B1-474C-9993-00ADD846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DB728-F0C4-4DAF-B837-92A4027C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657B7-7753-4E74-B57A-43B3FAAB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2ED547-20EE-4B3F-8853-E567B25A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A46-B731-4288-B5FB-57228D67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B91661-2BD9-48B2-8566-FD847B68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35972C-A393-4F53-B8F6-3DF646F1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66FE0-553E-47A0-B3B5-AF85AD89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D49A6-D966-4580-B557-91117BD8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5EC3AD-6952-4776-8EC5-88F57344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54546F-2119-4281-9D42-A3A7F4A2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E1144A-8AD6-4EDC-B257-AD4F4D1A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9B6F51-6774-4024-9453-7C590799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CA8CF-E241-4148-9C32-06A0F5D0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24B8F3-1F22-4365-BBD2-147E4BDD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5F86-0D9B-48F2-8E85-AB8CC329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51B7F-BF1B-4B0F-A6E7-1D565505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E74A87-FE4C-4823-977B-43DBE191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A28E3A-6D07-407D-A771-D374363E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A5E655-1087-4145-919D-02C1F289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1B58C5-E82D-4B2C-BDCC-4ED24BAF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FEA2BC-D221-4BAB-87BA-66253F7D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AA48F1-60EF-4075-A6FD-95F74D1E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A8C84-6E47-4FC8-802A-BE182AD8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8F436D-4EFD-472A-8F87-5381E802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6FA9E0-C138-48C8-9A4F-FCF28247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B03F-61AA-44BF-A534-300A2721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AD5D90-A31E-42A4-9907-E8D211BE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CA0CD-1B1E-4804-AF24-F89B2AF0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9AA0C0-F7D8-4E90-878C-7C076EC3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EF9D88-DE7F-4172-B972-8179C26C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94D93-A590-4A80-BA4F-D0CB647F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5130FB-7A38-4A32-94C0-B276005E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088FD5-0D49-47D5-8129-7FEB7DC7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1C7D1F-DD90-4936-AA5D-75513AAA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275544-7E4E-4390-988E-3F160F20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FB90E6-CBED-45E5-A8A1-112CA4C8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5AC-A995-48CA-9E75-15159E47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3E8331-0E41-4B7A-A61D-0128B0B7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CBC044-F0CE-42BA-9D29-F9C42D93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3F80D9-7E64-49C3-B42D-A6DA2929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989165-37EC-41F1-BBE4-C911FF0F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20AA56-14B3-4F8B-A468-B6BF65E0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975-D0E1-490A-A586-3F6F2540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97D4-1C8E-4650-BADB-E1FFB9DDEE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372C-DD6A-4AF1-A550-5F1180E7EB8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13E5-FF04-4FCD-BAF6-D4E98A91E29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bde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aebde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9678-775C-47C6-B240-C0FE96356E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32C8-F9B4-4715-B1F4-E189A31C8DE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50D4-4DAB-48E3-BAC2-835135F3576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6B75-A0EC-4D3C-8E76-AFDD79BB087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669ba075-e921-11dc-95ff-0800200c9a66/3_19.sw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1640" y="1988640"/>
            <a:ext cx="7126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5439"/>
                </a:solidFill>
                <a:latin typeface="Century Schoolbook"/>
              </a:rPr>
              <a:t>РАБОТА И МОЩНОСТЬ ЭЛЕКТРИЧЕСКОГО ТОКА</a:t>
            </a:r>
            <a:endParaRPr b="0" lang="en-US" sz="4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Лада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МБОУ «Верх-Жилинская ООШ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Косихинский район Алтайский край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84360" y="1557360"/>
          <a:ext cx="7775280" cy="4392720"/>
        </p:xfrm>
        <a:graphic>
          <a:graphicData uri="http://schemas.openxmlformats.org/drawingml/2006/table">
            <a:tbl>
              <a:tblPr/>
              <a:tblGrid>
                <a:gridCol w="3887640"/>
                <a:gridCol w="3887640"/>
              </a:tblGrid>
              <a:tr h="439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а уроке я работал(а)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воей работой на уроке 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рок для меня показалс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За урок 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Мое настроени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Материал урока мне был</a:t>
                      </a:r>
                      <a:br>
                        <a:rPr sz="2400"/>
                      </a:b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Домашнее задание мне кажетс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 / пассивно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ен / не довол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им / длинным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стал / устал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 лучше / стало хуж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ен / не понят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езен / бесполез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ен / скуч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м / трудным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но / не интересн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Rectangle 1"/>
          <p:cNvSpPr/>
          <p:nvPr/>
        </p:nvSpPr>
        <p:spPr>
          <a:xfrm>
            <a:off x="539640" y="6404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исток рефлексии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3"/>
          <p:cNvSpPr/>
          <p:nvPr/>
        </p:nvSpPr>
        <p:spPr>
          <a:xfrm>
            <a:off x="1928880" y="135720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воей работой на уроке доволен, чувствовал себя комфортно, настроение после урока хороше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611280" y="1357200"/>
            <a:ext cx="1322280" cy="407052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5"/>
          <p:cNvSpPr/>
          <p:nvPr/>
        </p:nvSpPr>
        <p:spPr>
          <a:xfrm>
            <a:off x="2000160" y="245916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воей работой на уроке недоволен, чувствовал себя не совсем комфортно, настроение после урока плохо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Прямоугольник 6"/>
          <p:cNvSpPr/>
          <p:nvPr/>
        </p:nvSpPr>
        <p:spPr>
          <a:xfrm>
            <a:off x="2000160" y="3857760"/>
            <a:ext cx="678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стояние на уроке безразличное, урок никак не изменил моего эмоционального состояния и настроени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2000160" y="3600"/>
            <a:ext cx="65008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4000" spc="-1" strike="noStrike">
                <a:solidFill>
                  <a:srgbClr val="72a376"/>
                </a:solidFill>
                <a:latin typeface="Times New Roman"/>
                <a:ea typeface="Calibri"/>
              </a:rPr>
              <a:t>Нарисуй настроение</a:t>
            </a:r>
            <a:r>
              <a:rPr b="1" lang="en-US" sz="4000" spc="-1" strike="noStrike">
                <a:solidFill>
                  <a:srgbClr val="72a376"/>
                </a:solidFill>
                <a:latin typeface="Times New Roman"/>
                <a:ea typeface="Calibri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WordArt 2"/>
          <p:cNvSpPr txBox="1"/>
          <p:nvPr/>
        </p:nvSpPr>
        <p:spPr>
          <a:xfrm>
            <a:off x="917640" y="1844640"/>
            <a:ext cx="732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пасибо за урок!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76a55"/>
                </a:solidFill>
                <a:latin typeface="Century Schoolbook"/>
              </a:rPr>
              <a:t>ЛИТЕРАТУРА /ЭЛЕКТРОННЫЕ РЕСУРСЫ/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125000"/>
            <a:ext cx="814716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ка. 8 класс. - М.: Дрофа, 2009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омов С.В., Родина Н.А. Физика. 9 класс – М.: Просвещение, 2002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кашик В.И., Иванова Е.В. Сборник задач по физике 7-9 класс – М.: Просвещение, 2008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ботарева В.А. Тесты по физике. 8 класс – Издательство «Экзамен», 2009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chool47.coi.spb.ru›fizkultminutka.do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ladanova.ucoz.com/load/planirovanie/kursy_kruzhki_i_mnogoe_drugoe/uroki_fiziki_8_klass/24-1-0-5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a075-e921-11dc-95ff-0800200c9a66/3_19.swf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7963-e921-11dc-95ff-0800200c9a66/index_listing.htm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466560" y="1405080"/>
          <a:ext cx="8282160" cy="4119480"/>
        </p:xfrm>
        <a:graphic>
          <a:graphicData uri="http://schemas.openxmlformats.org/drawingml/2006/table">
            <a:tbl>
              <a:tblPr/>
              <a:tblGrid>
                <a:gridCol w="1657440"/>
                <a:gridCol w="695520"/>
                <a:gridCol w="696960"/>
                <a:gridCol w="331560"/>
                <a:gridCol w="363600"/>
                <a:gridCol w="696960"/>
                <a:gridCol w="695160"/>
                <a:gridCol w="695520"/>
                <a:gridCol w="696960"/>
                <a:gridCol w="347400"/>
                <a:gridCol w="347760"/>
                <a:gridCol w="552600"/>
                <a:gridCol w="504720"/>
              </a:tblGrid>
              <a:tr h="853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вопрос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</a:tr>
              <a:tr h="100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</a:tr>
              <a:tr h="170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Прямоугольник 3"/>
          <p:cNvSpPr/>
          <p:nvPr/>
        </p:nvSpPr>
        <p:spPr>
          <a:xfrm>
            <a:off x="2987640" y="262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2"/>
          <p:cNvSpPr/>
          <p:nvPr/>
        </p:nvSpPr>
        <p:spPr>
          <a:xfrm>
            <a:off x="642960" y="21420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Работа электрического тока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1785960" y="1000080"/>
                <a:ext cx="14288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3606840" y="1285920"/>
                <a:ext cx="774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7"/>
              <p:cNvSpPr txBox="1"/>
              <p:nvPr/>
            </p:nvSpPr>
            <p:spPr>
              <a:xfrm>
                <a:off x="4357800" y="1143000"/>
                <a:ext cx="22525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8"/>
              <p:cNvSpPr txBox="1"/>
              <p:nvPr/>
            </p:nvSpPr>
            <p:spPr>
              <a:xfrm>
                <a:off x="4714920" y="2357280"/>
                <a:ext cx="1557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Овал 12"/>
          <p:cNvSpPr/>
          <p:nvPr/>
        </p:nvSpPr>
        <p:spPr>
          <a:xfrm>
            <a:off x="5500800" y="2214720"/>
            <a:ext cx="928440" cy="928440"/>
          </a:xfrm>
          <a:prstGeom prst="ellipse">
            <a:avLst/>
          </a:prstGeom>
          <a:noFill/>
          <a:ln w="25560">
            <a:solidFill>
              <a:srgbClr val="76a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1" name="Прямая со стрелкой 14"/>
          <p:cNvCxnSpPr/>
          <p:nvPr/>
        </p:nvCxnSpPr>
        <p:spPr>
          <a:xfrm flipV="1">
            <a:off x="6142680" y="1999800"/>
            <a:ext cx="214920" cy="215280"/>
          </a:xfrm>
          <a:prstGeom prst="straightConnector1">
            <a:avLst/>
          </a:prstGeom>
          <a:ln w="22320">
            <a:solidFill>
              <a:srgbClr val="76a776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62" name="Object 12"/>
              <p:cNvSpPr txBox="1"/>
              <p:nvPr/>
            </p:nvSpPr>
            <p:spPr>
              <a:xfrm>
                <a:off x="3571920" y="3857760"/>
                <a:ext cx="371484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3"/>
              <p:cNvSpPr txBox="1"/>
              <p:nvPr/>
            </p:nvSpPr>
            <p:spPr>
              <a:xfrm>
                <a:off x="5072040" y="3071880"/>
                <a:ext cx="4986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Прямоугольник 22"/>
          <p:cNvSpPr/>
          <p:nvPr/>
        </p:nvSpPr>
        <p:spPr>
          <a:xfrm>
            <a:off x="3500280" y="3714840"/>
            <a:ext cx="4071960" cy="1285920"/>
          </a:xfrm>
          <a:prstGeom prst="rect">
            <a:avLst/>
          </a:prstGeom>
          <a:noFill/>
          <a:ln w="633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Овал 25"/>
          <p:cNvSpPr/>
          <p:nvPr/>
        </p:nvSpPr>
        <p:spPr>
          <a:xfrm>
            <a:off x="6143760" y="1285920"/>
            <a:ext cx="714240" cy="714240"/>
          </a:xfrm>
          <a:prstGeom prst="ellipse">
            <a:avLst/>
          </a:prstGeom>
          <a:noFill/>
          <a:ln w="25560">
            <a:solidFill>
              <a:srgbClr val="76a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Box 29"/>
          <p:cNvSpPr/>
          <p:nvPr/>
        </p:nvSpPr>
        <p:spPr>
          <a:xfrm>
            <a:off x="1371960" y="5143680"/>
            <a:ext cx="603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работы в СИ: Джоуль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5"/>
              <p:cNvSpPr txBox="1"/>
              <p:nvPr/>
            </p:nvSpPr>
            <p:spPr>
              <a:xfrm>
                <a:off x="4533840" y="339084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8"/>
              <p:cNvSpPr txBox="1"/>
              <p:nvPr/>
            </p:nvSpPr>
            <p:spPr>
              <a:xfrm>
                <a:off x="2714760" y="5715000"/>
                <a:ext cx="3795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Дж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В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А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rcRect l="11899" t="0" r="14827" b="0"/>
          <a:stretch/>
        </p:blipFill>
        <p:spPr>
          <a:xfrm>
            <a:off x="1023840" y="782640"/>
            <a:ext cx="6305760" cy="581508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2"/>
          <p:cNvSpPr/>
          <p:nvPr/>
        </p:nvSpPr>
        <p:spPr>
          <a:xfrm>
            <a:off x="142920" y="14292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Счетчик электрической энергии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2"/>
          <p:cNvSpPr/>
          <p:nvPr/>
        </p:nvSpPr>
        <p:spPr>
          <a:xfrm>
            <a:off x="642960" y="21420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Мощность электрического тока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3645000" y="676440"/>
                <a:ext cx="146664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2"/>
              <p:cNvSpPr txBox="1"/>
              <p:nvPr/>
            </p:nvSpPr>
            <p:spPr>
              <a:xfrm>
                <a:off x="3132000" y="1844640"/>
                <a:ext cx="27860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Rectangle 8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3276720" y="4005360"/>
            <a:ext cx="29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Р =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6" name="Group 17"/>
          <p:cNvGrpSpPr/>
          <p:nvPr/>
        </p:nvGrpSpPr>
        <p:grpSpPr>
          <a:xfrm>
            <a:off x="2701800" y="2646360"/>
            <a:ext cx="3454560" cy="1432800"/>
            <a:chOff x="2701800" y="2646360"/>
            <a:chExt cx="3454560" cy="1432800"/>
          </a:xfrm>
        </p:grpSpPr>
        <p:sp>
          <p:nvSpPr>
            <p:cNvPr id="377" name="Text Box 9"/>
            <p:cNvSpPr/>
            <p:nvPr/>
          </p:nvSpPr>
          <p:spPr>
            <a:xfrm>
              <a:off x="4284720" y="2646360"/>
              <a:ext cx="187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13"/>
            <p:cNvSpPr/>
            <p:nvPr/>
          </p:nvSpPr>
          <p:spPr>
            <a:xfrm>
              <a:off x="2701800" y="2955960"/>
              <a:ext cx="116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r>
                <a:rPr b="1" i="1" lang="ru-RU" sz="5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Line 14"/>
            <p:cNvSpPr/>
            <p:nvPr/>
          </p:nvSpPr>
          <p:spPr>
            <a:xfrm>
              <a:off x="3995640" y="3438360"/>
              <a:ext cx="20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Text Box 15"/>
            <p:cNvSpPr/>
            <p:nvPr/>
          </p:nvSpPr>
          <p:spPr>
            <a:xfrm>
              <a:off x="4770360" y="3162240"/>
              <a:ext cx="371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1" name="Прямоугольник 22"/>
          <p:cNvSpPr/>
          <p:nvPr/>
        </p:nvSpPr>
        <p:spPr>
          <a:xfrm>
            <a:off x="3132000" y="3930480"/>
            <a:ext cx="2737080" cy="1082880"/>
          </a:xfrm>
          <a:prstGeom prst="rect">
            <a:avLst/>
          </a:prstGeom>
          <a:noFill/>
          <a:ln w="633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Line 20"/>
          <p:cNvSpPr/>
          <p:nvPr/>
        </p:nvSpPr>
        <p:spPr>
          <a:xfrm flipV="1">
            <a:off x="4716360" y="3573360"/>
            <a:ext cx="432000" cy="287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21"/>
          <p:cNvSpPr/>
          <p:nvPr/>
        </p:nvSpPr>
        <p:spPr>
          <a:xfrm flipV="1">
            <a:off x="5292720" y="3069720"/>
            <a:ext cx="431640" cy="287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Box 29"/>
          <p:cNvSpPr/>
          <p:nvPr/>
        </p:nvSpPr>
        <p:spPr>
          <a:xfrm>
            <a:off x="1430640" y="5084640"/>
            <a:ext cx="60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мощности в СИ: Ватт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3506760" y="551664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т = 1 В•1 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3373560" y="607212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Вт = 1000 В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571680" y="184320"/>
            <a:ext cx="79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боры для измерения мощност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8" name="Picture 3" descr="2840"/>
          <p:cNvPicPr/>
          <p:nvPr/>
        </p:nvPicPr>
        <p:blipFill>
          <a:blip r:embed="rId1"/>
          <a:stretch/>
        </p:blipFill>
        <p:spPr>
          <a:xfrm>
            <a:off x="250920" y="119700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image1601"/>
          <p:cNvPicPr/>
          <p:nvPr/>
        </p:nvPicPr>
        <p:blipFill>
          <a:blip r:embed="rId2"/>
          <a:stretch/>
        </p:blipFill>
        <p:spPr>
          <a:xfrm>
            <a:off x="539640" y="4149720"/>
            <a:ext cx="2289240" cy="2376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6143760" y="5280120"/>
            <a:ext cx="2160360" cy="15778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5651640" y="1628640"/>
            <a:ext cx="2879640" cy="403236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7"/>
          <p:cNvSpPr/>
          <p:nvPr/>
        </p:nvSpPr>
        <p:spPr>
          <a:xfrm>
            <a:off x="5651640" y="1052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ваттметр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2868120" y="223056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льтмет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2828160" y="49417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мпермет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6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150840" y="189000"/>
            <a:ext cx="85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диницы работы, применяемые на практик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3143160" y="1428840"/>
                <a:ext cx="22320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Р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Text Box 4"/>
          <p:cNvSpPr/>
          <p:nvPr/>
        </p:nvSpPr>
        <p:spPr>
          <a:xfrm>
            <a:off x="2615760" y="2286000"/>
            <a:ext cx="357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 Дж = 1 Вт∙с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857160" y="35002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Вт•ч = 3600Дж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кВт•ч = 1000 Вт•ч = 3 600 000 Дж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96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25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2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5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a55"/>
                </a:solidFill>
                <a:latin typeface="Times New Roman"/>
                <a:ea typeface="Calibri"/>
              </a:rPr>
              <a:t>ПЕРВИЧНАЯ ПРОВЕРКА ПОНИМАНИЯ ИЗУЧЕННОГО. </a:t>
            </a:r>
            <a:endParaRPr b="0" lang="en-US" sz="32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2205000"/>
            <a:ext cx="80024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Что представляет собой работа электрического то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 помощью, каких приборов можно измерить электрическую работу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Что представляет собой электрическая мощность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С помощью, каких приборов можно измерить мощность тока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222120" y="1536120"/>
            <a:ext cx="83584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50,51,52.Упр. 24 (2), 25 (2), задание 7, стр. 123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диной Коллекции ЦОР: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ый материал: </a:t>
            </a:r>
            <a:r>
              <a:rPr b="1" lang="en-US" sz="2000" spc="-1" strike="noStrike" u="sng">
                <a:solidFill>
                  <a:srgbClr val="db5353"/>
                </a:solidFill>
                <a:uFillTx/>
                <a:latin typeface="Times New Roman"/>
                <a:ea typeface="Calibri"/>
                <a:hlinkClick r:id="rId1"/>
              </a:rPr>
              <a:t>http://files.school-collection.edu.ru/dlrstore/669ba075-e921-11dc-95ff-0800200c9a66/3_19.swf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7963-e921-11dc-95ff-0800200c9a66/index_listing.htm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2018520" y="28188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2:47:29Z</dcterms:created>
  <dc:creator>Ладанова И.В.</dc:creator>
  <dc:description/>
  <dc:language>en-US</dc:language>
  <cp:lastModifiedBy/>
  <dcterms:modified xsi:type="dcterms:W3CDTF">2013-08-04T03:12:44Z</dcterms:modified>
  <cp:revision>94</cp:revision>
  <dc:subject/>
  <dc:title/>
</cp:coreProperties>
</file>