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356-C0F9-4054-A904-087EDDAC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463-5022-4A1A-892B-BC6FF02B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3637-9CC5-4C0C-9F08-65462CBB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D3C-F14E-46FE-93D9-60E5DD00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61BB-3E06-4444-800C-D0E7EAD8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3B5F-1561-487C-9369-C9E75209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0DF0-5C84-4C7A-BDD0-F80A10BC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0E90-719B-4790-950D-A3E16158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2D35-E7D6-453E-AD5B-72664396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0796-6F73-45BB-9C19-8922ED16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5CFE-77AE-444E-99C2-0D48EF4D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EDA-CF42-443E-92D3-AEE052C0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54E2-C495-41F6-A2D5-036519A4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4013-760A-4E63-9030-9CE451BE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4B48-88E6-4165-BCC2-9A2EA86A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EE44-8220-4FFB-94E5-7477952F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6822-A557-472E-8533-FFAFF194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D85-7770-476D-A5A0-6C0BFA23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574-F1CB-4DDB-A060-ABDE33F1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B37-9330-44BC-BCA5-BA8D6F02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244E-3D03-4F3E-9186-267FE25C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ED3-BE3E-4246-8A12-B69B00A7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F8E-62B2-4736-8259-9D71078B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C0E-3B4A-4C97-8E01-23816524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E53C-A56D-4C4E-8761-6307E89DEC6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9A70-D0B6-4BEE-BAD2-92F93AC0ABA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инзы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птическая сила линзы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PE01460_"/>
          <p:cNvPicPr/>
          <p:nvPr/>
        </p:nvPicPr>
        <p:blipFill>
          <a:blip r:embed="rId1"/>
          <a:stretch/>
        </p:blipFill>
        <p:spPr>
          <a:xfrm>
            <a:off x="7380360" y="260280"/>
            <a:ext cx="1181160" cy="1467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928880" y="414324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 МБОУ Дубровской №1 СОШ им. генерал-майора Никитина И.С. Пгт Дубровка, Дубровского райо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я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овьев Анатоли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5B42-610C-411F-9BA0-22FD46F049D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4764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истики лин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189" name="Line 7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Text Box 9"/>
          <p:cNvSpPr/>
          <p:nvPr/>
        </p:nvSpPr>
        <p:spPr>
          <a:xfrm>
            <a:off x="250920" y="3645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кусное расстоя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003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ическая с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3E40-80E0-47CC-9A68-DD37EDA4C71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10"/>
          <p:cNvPicPr/>
          <p:nvPr/>
        </p:nvPicPr>
        <p:blipFill>
          <a:blip r:embed="rId1"/>
          <a:stretch/>
        </p:blipFill>
        <p:spPr>
          <a:xfrm>
            <a:off x="2143080" y="1571760"/>
            <a:ext cx="4551480" cy="4835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900000" y="2602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ная и побочная оптические о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6221-A963-43D9-A48C-7D2FB8F4D2D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Как называется каждая из линз, изображенных на рисунке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каждый правильный ответ – 1 балл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5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199" name="Picture 8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2411280" y="2276640"/>
            <a:ext cx="825480" cy="2242440"/>
            <a:chOff x="2411280" y="2276640"/>
            <a:chExt cx="825480" cy="2242440"/>
          </a:xfrm>
        </p:grpSpPr>
        <p:pic>
          <p:nvPicPr>
            <p:cNvPr id="202" name="Picture 9" descr="16"/>
            <p:cNvPicPr/>
            <p:nvPr/>
          </p:nvPicPr>
          <p:blipFill>
            <a:blip r:embed="rId2"/>
            <a:stretch/>
          </p:blipFill>
          <p:spPr>
            <a:xfrm>
              <a:off x="2411280" y="2276640"/>
              <a:ext cx="82548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6"/>
            <p:cNvSpPr/>
            <p:nvPr/>
          </p:nvSpPr>
          <p:spPr>
            <a:xfrm>
              <a:off x="2411280" y="4059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05" name="Picture 10" descr="17"/>
            <p:cNvPicPr/>
            <p:nvPr/>
          </p:nvPicPr>
          <p:blipFill>
            <a:blip r:embed="rId3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8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7451640" y="2205000"/>
            <a:ext cx="673200" cy="2259720"/>
            <a:chOff x="7451640" y="2205000"/>
            <a:chExt cx="673200" cy="2259720"/>
          </a:xfrm>
        </p:grpSpPr>
        <p:pic>
          <p:nvPicPr>
            <p:cNvPr id="208" name="Picture 11" descr="18"/>
            <p:cNvPicPr/>
            <p:nvPr/>
          </p:nvPicPr>
          <p:blipFill>
            <a:blip r:embed="rId4"/>
            <a:stretch/>
          </p:blipFill>
          <p:spPr>
            <a:xfrm>
              <a:off x="7451640" y="2205000"/>
              <a:ext cx="6732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20"/>
            <p:cNvSpPr/>
            <p:nvPr/>
          </p:nvSpPr>
          <p:spPr>
            <a:xfrm>
              <a:off x="7451640" y="400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11" name="Picture 12" descr="Без имени-2"/>
            <p:cNvPicPr/>
            <p:nvPr/>
          </p:nvPicPr>
          <p:blipFill>
            <a:blip r:embed="rId5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3708360" y="3357720"/>
            <a:ext cx="736560" cy="2259720"/>
            <a:chOff x="3708360" y="3357720"/>
            <a:chExt cx="736560" cy="2259720"/>
          </a:xfrm>
        </p:grpSpPr>
        <p:pic>
          <p:nvPicPr>
            <p:cNvPr id="214" name="Picture 13" descr="19"/>
            <p:cNvPicPr/>
            <p:nvPr/>
          </p:nvPicPr>
          <p:blipFill>
            <a:blip r:embed="rId6"/>
            <a:stretch/>
          </p:blipFill>
          <p:spPr>
            <a:xfrm>
              <a:off x="3708360" y="3357720"/>
              <a:ext cx="73656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4"/>
            <p:cNvSpPr/>
            <p:nvPr/>
          </p:nvSpPr>
          <p:spPr>
            <a:xfrm>
              <a:off x="3708360" y="51577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539640" y="1700280"/>
            <a:ext cx="8604360" cy="4143600"/>
            <a:chOff x="539640" y="1700280"/>
            <a:chExt cx="8604360" cy="4143600"/>
          </a:xfrm>
        </p:grpSpPr>
        <p:sp>
          <p:nvSpPr>
            <p:cNvPr id="217" name="Text Box 26"/>
            <p:cNvSpPr/>
            <p:nvPr/>
          </p:nvSpPr>
          <p:spPr>
            <a:xfrm>
              <a:off x="539640" y="53006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1763640" y="170028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2987640" y="54450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29"/>
            <p:cNvSpPr/>
            <p:nvPr/>
          </p:nvSpPr>
          <p:spPr>
            <a:xfrm>
              <a:off x="4140360" y="1989000"/>
              <a:ext cx="23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30"/>
            <p:cNvSpPr/>
            <p:nvPr/>
          </p:nvSpPr>
          <p:spPr>
            <a:xfrm>
              <a:off x="5724360" y="515772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ыпукловогнут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6443640" y="1844640"/>
              <a:ext cx="27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огнут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D932-FD38-4EBC-9A1B-F809F1AF1B2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 Под какими номерами изображены рассеивающие линзы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правильный ответ – 6 баллов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226" name="Picture 4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29" name="Picture 10" descr="17"/>
            <p:cNvPicPr/>
            <p:nvPr/>
          </p:nvPicPr>
          <p:blipFill>
            <a:blip r:embed="rId2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32" name="Picture 16" descr="Без имени-2"/>
            <p:cNvPicPr/>
            <p:nvPr/>
          </p:nvPicPr>
          <p:blipFill>
            <a:blip r:embed="rId3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28"/>
          <p:cNvGrpSpPr/>
          <p:nvPr/>
        </p:nvGrpSpPr>
        <p:grpSpPr>
          <a:xfrm>
            <a:off x="2411280" y="2205000"/>
            <a:ext cx="5713560" cy="3412440"/>
            <a:chOff x="2411280" y="2205000"/>
            <a:chExt cx="5713560" cy="3412440"/>
          </a:xfrm>
        </p:grpSpPr>
        <p:grpSp>
          <p:nvGrpSpPr>
            <p:cNvPr id="235" name="Group 6"/>
            <p:cNvGrpSpPr/>
            <p:nvPr/>
          </p:nvGrpSpPr>
          <p:grpSpPr>
            <a:xfrm>
              <a:off x="2411280" y="2276640"/>
              <a:ext cx="825480" cy="2242440"/>
              <a:chOff x="2411280" y="2276640"/>
              <a:chExt cx="825480" cy="2242440"/>
            </a:xfrm>
          </p:grpSpPr>
          <p:pic>
            <p:nvPicPr>
              <p:cNvPr id="236" name="Picture 7" descr="16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2276640"/>
                <a:ext cx="825480" cy="18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8"/>
              <p:cNvSpPr/>
              <p:nvPr/>
            </p:nvSpPr>
            <p:spPr>
              <a:xfrm>
                <a:off x="2411280" y="4059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"/>
            <p:cNvGrpSpPr/>
            <p:nvPr/>
          </p:nvGrpSpPr>
          <p:grpSpPr>
            <a:xfrm>
              <a:off x="7451640" y="2205000"/>
              <a:ext cx="673200" cy="2259720"/>
              <a:chOff x="7451640" y="2205000"/>
              <a:chExt cx="673200" cy="2259720"/>
            </a:xfrm>
          </p:grpSpPr>
          <p:pic>
            <p:nvPicPr>
              <p:cNvPr id="239" name="Picture 13" descr="18"/>
              <p:cNvPicPr/>
              <p:nvPr/>
            </p:nvPicPr>
            <p:blipFill>
              <a:blip r:embed="rId5"/>
              <a:stretch/>
            </p:blipFill>
            <p:spPr>
              <a:xfrm>
                <a:off x="7451640" y="2205000"/>
                <a:ext cx="67320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14"/>
              <p:cNvSpPr/>
              <p:nvPr/>
            </p:nvSpPr>
            <p:spPr>
              <a:xfrm>
                <a:off x="7451640" y="4005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8"/>
            <p:cNvGrpSpPr/>
            <p:nvPr/>
          </p:nvGrpSpPr>
          <p:grpSpPr>
            <a:xfrm>
              <a:off x="3708360" y="3357720"/>
              <a:ext cx="736560" cy="2259720"/>
              <a:chOff x="3708360" y="3357720"/>
              <a:chExt cx="736560" cy="2259720"/>
            </a:xfrm>
          </p:grpSpPr>
          <p:pic>
            <p:nvPicPr>
              <p:cNvPr id="242" name="Picture 19" descr="19"/>
              <p:cNvPicPr/>
              <p:nvPr/>
            </p:nvPicPr>
            <p:blipFill>
              <a:blip r:embed="rId6"/>
              <a:stretch/>
            </p:blipFill>
            <p:spPr>
              <a:xfrm>
                <a:off x="3708360" y="3357720"/>
                <a:ext cx="73656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20"/>
              <p:cNvSpPr/>
              <p:nvPr/>
            </p:nvSpPr>
            <p:spPr>
              <a:xfrm>
                <a:off x="3708360" y="51577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1389 C 0.13264 -0.04723 0.23264 -0.08033 0.27448 -0.09561 C 0.31632 -0.11088 0.30018 -0.10857 0.28421 -0.10625 E">
                                      <p:cBhvr>
                                        <p:cTn id="1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11111E-006 C -0.00607 0.01204 -0.00954 0.00833 -0.021 0.00648 C -0.02985 0.00255 -0.03888 -0.00185 -0.04687 -0.00856 C -0.04947 -0.02361 -0.04617 -0.01181 -0.05329 -0.02384 C -0.05572 -0.02778 -0.05972 -0.03657 -0.05972 -0.03657 C -0.06249 -0.04815 -0.06197 -0.05417 -0.071 -0.0581 C -0.07256 -0.05949 -0.07708 -0.06042 -0.07586 -0.0625 C -0.07378 -0.0662 -0.06614 -0.06667 -0.06614 -0.06667 C -0.06406 -0.07523 -0.06458 -0.07083 -0.06458 -0.07963 E">
                                      <p:cBhvr>
                                        <p:cTn id="1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0E90-3810-4AF1-AC97-4C01B9FB3C4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20"/>
          <p:cNvPicPr/>
          <p:nvPr/>
        </p:nvPicPr>
        <p:blipFill>
          <a:blip r:embed="rId1"/>
          <a:stretch/>
        </p:blipFill>
        <p:spPr>
          <a:xfrm>
            <a:off x="1285920" y="2928960"/>
            <a:ext cx="4105080" cy="3500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826920" y="333360"/>
            <a:ext cx="7705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Какая линза изображена на рису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Как называется точк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Как называется точка 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Как называется отрезок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Фокусы линзы в данном случае мнимые или действительны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443640" y="4149720"/>
            <a:ext cx="22320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каждый правильный ответ – 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1124-A675-4B78-858A-B697D769518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547640" y="112536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ие характеристики линз Вы знает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251" name="Line 4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395280" y="3645000"/>
            <a:ext cx="8208720" cy="520560"/>
            <a:chOff x="395280" y="3645000"/>
            <a:chExt cx="8208720" cy="520560"/>
          </a:xfrm>
        </p:grpSpPr>
        <p:sp>
          <p:nvSpPr>
            <p:cNvPr id="254" name="Text Box 6"/>
            <p:cNvSpPr/>
            <p:nvPr/>
          </p:nvSpPr>
          <p:spPr>
            <a:xfrm>
              <a:off x="395280" y="3645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Фокусное расстоя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7"/>
            <p:cNvSpPr/>
            <p:nvPr/>
          </p:nvSpPr>
          <p:spPr>
            <a:xfrm>
              <a:off x="5148000" y="364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птическая сил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75AF-7979-4DAF-AB29-3350227238B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айте ответы на предложенные ниже вопросы (за активную работу – 5 баллов)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фокусное расстояние линзы, если известна ее оптическая сил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оптическую силу системы двух плотно прижатых друг к другу тонких линз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кажите единицы измерения фокусного расстояния и оптической силы линз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CB2C-CA5E-4581-9E01-33C117815F8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Решите предложенные ниже задачи: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му равно фокусное расстояние линзы с оптической силой, равной -25 дптр? Какого вида эта линз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ите фокусное расстояние системы двух плотно прижатых друг к другу тонких линз, если фокусное расстояние одной из линз равно 25 см, а второй – 40 с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88F0-0B6D-47BA-8B22-5427705294D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66"/>
                </a:solidFill>
                <a:latin typeface="Arial"/>
              </a:rPr>
              <a:t>Подведение итогов урок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и свою работу на уроке, для чего подсчитай общее количество набранных баллов, включая ответы тестового опро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Если в сумме получилос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16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1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3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2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7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ов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4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8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31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5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Домашнее задание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, конспект + вопросы к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*№141 - 14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re_48"/>
          <p:cNvPicPr/>
          <p:nvPr/>
        </p:nvPicPr>
        <p:blipFill>
          <a:blip r:embed="rId1"/>
          <a:stretch/>
        </p:blipFill>
        <p:spPr>
          <a:xfrm>
            <a:off x="533520" y="380880"/>
            <a:ext cx="52524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rupor"/>
          <p:cNvPicPr/>
          <p:nvPr/>
        </p:nvPicPr>
        <p:blipFill>
          <a:blip r:embed="rId2"/>
          <a:stretch/>
        </p:blipFill>
        <p:spPr>
          <a:xfrm>
            <a:off x="533520" y="4532400"/>
            <a:ext cx="892080" cy="4222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6"/>
          <p:cNvSpPr/>
          <p:nvPr/>
        </p:nvSpPr>
        <p:spPr>
          <a:xfrm>
            <a:off x="8748720" y="6426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10800" y="4830"/>
                </a:moveTo>
                <a:lnTo>
                  <a:pt x="13376" y="7441"/>
                </a:ln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lnTo>
                  <a:pt x="17763" y="11793"/>
                </a:lnTo>
                <a:lnTo>
                  <a:pt x="16109" y="11793"/>
                </a:lnTo>
                <a:lnTo>
                  <a:pt x="16109" y="18982"/>
                </a:lnTo>
                <a:lnTo>
                  <a:pt x="5491" y="18982"/>
                </a:lnTo>
                <a:lnTo>
                  <a:pt x="5491" y="11793"/>
                </a:lnTo>
                <a:lnTo>
                  <a:pt x="3837" y="11793"/>
                </a:lnTo>
                <a:close/>
              </a:path>
              <a:path fill="darkenLess" w="21600" h="23585">
                <a:moveTo>
                  <a:pt x="13376" y="7441"/>
                </a:move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close/>
              </a:path>
              <a:path fill="darkenLess" w="21600" h="23585">
                <a:moveTo>
                  <a:pt x="9877" y="15291"/>
                </a:moveTo>
                <a:lnTo>
                  <a:pt x="11723" y="15291"/>
                </a:lnTo>
                <a:lnTo>
                  <a:pt x="11723" y="18982"/>
                </a:lnTo>
                <a:lnTo>
                  <a:pt x="16109" y="18982"/>
                </a:lnTo>
                <a:lnTo>
                  <a:pt x="16109" y="11793"/>
                </a:lnTo>
                <a:lnTo>
                  <a:pt x="5491" y="11793"/>
                </a:lnTo>
                <a:lnTo>
                  <a:pt x="5491" y="18982"/>
                </a:lnTo>
                <a:lnTo>
                  <a:pt x="9877" y="18982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1767-F53C-4521-A8F1-909E398EDFB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. Оптическая сила 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692360" y="227664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рка т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692360" y="314172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92360" y="400536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репление изуче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1692360" y="486900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7D8C-AEF5-4CC2-8293-B063EF993D7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Ответы на тестовые задания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8028000" y="3213000"/>
                <a:ext cx="855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395280" y="1341360"/>
          <a:ext cx="8424720" cy="230364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3360"/>
                <a:gridCol w="650880"/>
                <a:gridCol w="649440"/>
                <a:gridCol w="647640"/>
                <a:gridCol w="703080"/>
                <a:gridCol w="736560"/>
                <a:gridCol w="736560"/>
              </a:tblGrid>
              <a:tr h="5050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5280" y="3860640"/>
          <a:ext cx="8424720" cy="229716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1920"/>
                <a:gridCol w="650880"/>
                <a:gridCol w="649080"/>
                <a:gridCol w="649440"/>
                <a:gridCol w="703080"/>
                <a:gridCol w="736560"/>
                <a:gridCol w="736560"/>
              </a:tblGrid>
              <a:tr h="510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158"/>
              <p:cNvSpPr txBox="1"/>
              <p:nvPr/>
            </p:nvSpPr>
            <p:spPr>
              <a:xfrm>
                <a:off x="8101080" y="5734080"/>
                <a:ext cx="647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AutoShape 159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B91F-0761-4CAB-BE5A-6864912976D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е явление называется преломлением света? В чем его суть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называют абсолютным показателем преломления сред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каком случае угол падения светового луча равен углу преломлени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й угол: падения или преломления будет больше при переходе луча света из воздуха в стекл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формулируйте закон отражения све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чему находясь в лодке, трудно попасть копьем в рыбу, плавающую невдалеке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512B-C103-428F-AC40-68F53F4B05E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1"/>
          <p:cNvPicPr/>
          <p:nvPr/>
        </p:nvPicPr>
        <p:blipFill>
          <a:blip r:embed="rId1"/>
          <a:stretch/>
        </p:blipFill>
        <p:spPr>
          <a:xfrm>
            <a:off x="2643120" y="642960"/>
            <a:ext cx="393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1E0A-6E63-4CCE-9F42-B86402D41ED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0" descr="4"/>
          <p:cNvPicPr/>
          <p:nvPr/>
        </p:nvPicPr>
        <p:blipFill>
          <a:blip r:embed="rId1"/>
          <a:stretch/>
        </p:blipFill>
        <p:spPr>
          <a:xfrm>
            <a:off x="457200" y="2492280"/>
            <a:ext cx="4038480" cy="28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5"/>
          <p:cNvPicPr/>
          <p:nvPr/>
        </p:nvPicPr>
        <p:blipFill>
          <a:blip r:embed="rId2"/>
          <a:stretch/>
        </p:blipFill>
        <p:spPr>
          <a:xfrm>
            <a:off x="4648320" y="2475000"/>
            <a:ext cx="4038480" cy="2900160"/>
          </a:xfrm>
          <a:prstGeom prst="rect">
            <a:avLst/>
          </a:prstGeom>
          <a:ln w="0">
            <a:noFill/>
          </a:ln>
        </p:spPr>
      </p:pic>
      <p:sp>
        <p:nvSpPr>
          <p:cNvPr id="176" name="Line 12"/>
          <p:cNvSpPr/>
          <p:nvPr/>
        </p:nvSpPr>
        <p:spPr>
          <a:xfrm flipH="1">
            <a:off x="4571640" y="1628640"/>
            <a:ext cx="3240" cy="432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7C87-9025-4453-AB6D-ECAD22BA9CE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12"/>
          <p:cNvPicPr/>
          <p:nvPr/>
        </p:nvPicPr>
        <p:blipFill>
          <a:blip r:embed="rId1"/>
          <a:stretch/>
        </p:blipFill>
        <p:spPr>
          <a:xfrm>
            <a:off x="2428920" y="500040"/>
            <a:ext cx="41194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7EDB-19EC-4A9B-9065-348A827BC76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Тонкая линз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11"/>
          <p:cNvPicPr/>
          <p:nvPr/>
        </p:nvPicPr>
        <p:blipFill>
          <a:blip r:embed="rId1"/>
          <a:stretch/>
        </p:blipFill>
        <p:spPr>
          <a:xfrm>
            <a:off x="2484360" y="1628640"/>
            <a:ext cx="4016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7252-5C00-42A0-99A7-EFAD438B5C7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2"/>
          <p:cNvPicPr/>
          <p:nvPr/>
        </p:nvPicPr>
        <p:blipFill>
          <a:blip r:embed="rId1"/>
          <a:stretch/>
        </p:blipFill>
        <p:spPr>
          <a:xfrm>
            <a:off x="324000" y="198900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3"/>
          <p:cNvPicPr/>
          <p:nvPr/>
        </p:nvPicPr>
        <p:blipFill>
          <a:blip r:embed="rId2"/>
          <a:stretch/>
        </p:blipFill>
        <p:spPr>
          <a:xfrm>
            <a:off x="4716360" y="1989000"/>
            <a:ext cx="40388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Line 9"/>
          <p:cNvSpPr/>
          <p:nvPr/>
        </p:nvSpPr>
        <p:spPr>
          <a:xfrm flipH="1">
            <a:off x="4530240" y="1052640"/>
            <a:ext cx="3240" cy="4321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36:32Z</dcterms:created>
  <dc:creator>Solovjev</dc:creator>
  <dc:description/>
  <dc:language>en-US</dc:language>
  <cp:lastModifiedBy>Teacher</cp:lastModifiedBy>
  <dcterms:modified xsi:type="dcterms:W3CDTF">2013-03-11T14:12:24Z</dcterms:modified>
  <cp:revision>12</cp:revision>
  <dc:subject/>
  <dc:title>Слайд 1</dc:title>
</cp:coreProperties>
</file>