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B6A-A243-4FEE-A6ED-D66BF565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68B-8C3B-46C0-8479-6A69745F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10C-A6B4-45CD-928C-ADB5F1A0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E00-CBEC-4286-A5F3-15C35743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185-98E3-4626-B6E2-635FD57A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BB3-D4A1-4C72-AFEE-9B9A04E7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172-EEF7-4D48-A8DC-B3DF6A82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D90-23AE-43A7-98B5-110258FD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D3F-E3FD-4E33-9CB7-30000D6F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C0D-3597-45F4-8339-E8F2046A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D6F-E456-4732-8847-4876AAA5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66A-9C1E-42D0-8629-32371D6D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1CDD-9E94-4F83-86FC-AD4D52E39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06560" y="126828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«Без сомнения, все наше знание начинается с опыта.»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                                         </a:t>
            </a: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И .К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79640" y="1416240"/>
            <a:ext cx="6119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 в в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в бен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Что произойдёт с куском железа, если его опустить в рту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А если в ртуть поместить золо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Покажите поведение пластилина в в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11280" y="69228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50"/>
                </a:solidFill>
                <a:latin typeface="Times New Roman"/>
              </a:rPr>
              <a:t>Используйте таблицы стр. 50 -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8000" y="476280"/>
            <a:ext cx="604872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0"/>
                </a:solidFill>
                <a:latin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§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 50, ответить на вопросы, упр. 25 (4,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Сделать подборку загадок, стихов или афоризмов по теме «Сила Архимеда. Плавание тел» (с рисунка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Подготовить сообщение о плавании 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15980" t="345" r="6249" b="0"/>
          <a:stretch/>
        </p:blipFill>
        <p:spPr>
          <a:xfrm>
            <a:off x="7020000" y="4941720"/>
            <a:ext cx="1585800" cy="1559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8000" y="1082160"/>
            <a:ext cx="70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ышкин А.В. Физка 7 кл, М., Дрофа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я плавающих тел http://ebook-teacher.blogspot.ru/2012/03/blog-post_2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fizika.ru/proverka/index.php?mode=proverjalka&amp;theme=02&amp;id=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е для оформления слайдов http://allforchildren.ru/pictures/showimg/school22/school2208jpg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5640" y="549360"/>
            <a:ext cx="65516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1. Сила тяжести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2. Сила тяжести направлена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3.  Сила Архимеда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63640" y="981000"/>
            <a:ext cx="597708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4.  Сила Архимеда направле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153e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Определите направлени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равнодействующей сил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и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А.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Б.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В. Нет правильного ответ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454880" y="3071880"/>
            <a:ext cx="785880" cy="7858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740720" y="2571840"/>
            <a:ext cx="214200" cy="660240"/>
          </a:xfrm>
          <a:prstGeom prst="upArrow">
            <a:avLst>
              <a:gd name="adj1" fmla="val 50000"/>
              <a:gd name="adj2" fmla="val 1825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7740720" y="3357720"/>
            <a:ext cx="214200" cy="1193760"/>
          </a:xfrm>
          <a:prstGeom prst="downArrow">
            <a:avLst>
              <a:gd name="adj1" fmla="val 50000"/>
              <a:gd name="adj2" fmla="val 33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85080" y="23493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65000" y="429264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567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1052640"/>
            <a:ext cx="68403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Самопроверка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1-А, 2 – Б, 3 –В, 4 – А, 5 – Б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Поставить отметку: 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(лист самооценки)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«5» - все ответы верны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«4» - одна ошибка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«3» - две ошибки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«2» - более двух ошибок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1323" t="0" r="36258" b="22165"/>
          <a:stretch/>
        </p:blipFill>
        <p:spPr>
          <a:xfrm>
            <a:off x="5292720" y="3500280"/>
            <a:ext cx="3456000" cy="2878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16026" t="6414" r="17320" b="4490"/>
          <a:stretch/>
        </p:blipFill>
        <p:spPr>
          <a:xfrm>
            <a:off x="1763640" y="260280"/>
            <a:ext cx="3600360" cy="309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771640" y="119700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547640" y="2421000"/>
            <a:ext cx="6985080" cy="14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лавание тел</a:t>
            </a:r>
            <a:endParaRPr b="0" lang="en-US" sz="1800" spc="1" strike="noStrike">
              <a:ln w="0">
                <a:noFill/>
              </a:ln>
              <a:solidFill>
                <a:srgbClr val="00206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4437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</a:rPr>
              <a:t>Цель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: Изучить условия плаван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1484280"/>
            <a:ext cx="6912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1, 2, 3, 4, 5 – все умеем мы с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Раз! Подняться, потя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Два! Согнуться, разог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Три! В ладоши три хлопка, головою три ки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На четыре – руки ш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Пять – руками пома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Шесть – за парту тихо с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547640" y="2565360"/>
            <a:ext cx="1897200" cy="227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211640" y="2637000"/>
            <a:ext cx="188280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588000" y="2637000"/>
            <a:ext cx="1946520" cy="2219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908000" y="189000"/>
            <a:ext cx="638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зучение условий плавания те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3280" y="5157720"/>
            <a:ext cx="63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Вывод по результатам работы сделать  с использованием учебника стр. 120,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1700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50"/>
                </a:solidFill>
                <a:latin typeface="Times New Roman"/>
              </a:rPr>
              <a:t>Цель работы: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выяснить условия плавания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835280" y="476280"/>
            <a:ext cx="174132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356000" y="476280"/>
            <a:ext cx="176076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732720" y="476280"/>
            <a:ext cx="18302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2924280"/>
            <a:ext cx="777708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тон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lt;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яж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ж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&lt;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плава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всплывает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5:22:55Z</dcterms:created>
  <dc:creator>User</dc:creator>
  <dc:description/>
  <dc:language>en-US</dc:language>
  <cp:lastModifiedBy>Натка</cp:lastModifiedBy>
  <dcterms:modified xsi:type="dcterms:W3CDTF">2013-03-27T14:08:25Z</dcterms:modified>
  <cp:revision>15</cp:revision>
  <dc:subject/>
  <dc:title>Слайд 1</dc:title>
</cp:coreProperties>
</file>