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994-FED9-4E4B-B7EA-6A1A6D6F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533-A276-4DBB-9A42-674C5264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089-53E6-43F7-8F3B-9C277AED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A5A-FFEB-408C-9D12-42C00B8A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88F49-24E3-467E-A632-15A1E0A7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CC771-6F08-4588-BD4D-F3081302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E5FA4-8171-4415-BCB7-6D5B7A65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CB334-185F-461A-B8DB-ED0ED5BD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E6773-E84A-4D69-A6ED-609C2A89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0FFAB-FA31-458B-9E9B-0BA13FCD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328C9-8E44-4702-8868-72CA15B3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55F-6C67-4D49-A13A-5443F6D7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656AD-55B0-42F5-94E6-6C587F2A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699C9-FA49-4BA6-B4A0-58410A90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58445-3716-435F-88A0-9CBA114B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A35ED-E22A-4EB6-8D5F-B1B6B617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202D3-B52A-4B8C-B3CF-70F9A698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7F8A0-9133-41D2-9BB4-98FCCCB1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EA362-AA9D-4D65-88A5-8D639403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98E97-7BDB-428B-9A7E-F2E63C77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98D23-BF34-4BE7-BF83-E7FB6426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DC14A-8E30-48EE-A39D-F307C30C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AD7-EB01-423F-B70C-7AF6FFC2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27C34-4F7A-4450-9D5B-0B710FFC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E64A2-48B9-482C-B3F6-390A5192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CB04B-3EEC-48E4-BFC5-0666B59C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55B02-56B6-4179-867D-171C7E38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D135C-E545-4DF7-831F-391DBFB2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7C6C4-F56A-41C1-9436-A517F177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CE55B-41C1-4E1B-A4C7-FFEE6A25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C1107E-456B-47EA-9CB2-C1EC20D0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D23811-FA64-4311-9DED-648B5235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29989F-66AE-4FC5-9CAC-B74ECB85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B62-7C1E-4982-A3E8-415F0D82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3D523-F3A6-4570-99D0-20E999ED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79239-BB4E-44F8-888F-426A878D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9C2642-7753-4C3F-BAAC-11999246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84DFFB-4026-4BD5-8E51-EF3287B7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D963B-0A7D-4F3A-8057-B3743B52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1C647-81F7-4F44-AD82-B9CD9A90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AB488D-8821-4653-8539-F67C2CB5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2EDE7-DF58-465B-AFF3-89F4EF7B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FB4FD-DD5E-4223-A536-687E87A9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ADBC6-675F-4A3F-AD4C-3A39C206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B2D-1B38-465F-8947-5089B680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BBDB5-867A-49CF-8E88-F61C3DD0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BF458-A964-4095-BCFF-ED3ED39F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76914-1CC6-49E7-A59A-DAB3392F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A54132-81BC-4F0F-94BD-13D3542A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66296-19EE-4F53-A582-FCE14E80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807BE-6D84-4871-B31A-C5265FA3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765E97-C04D-49F6-9B97-54D23302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CC17D-DF63-4862-95A6-360492EA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2BA5A-B663-4371-9382-3501D556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3C4C6-6BF5-4164-B4A2-1FC058A9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F308-C4D6-446E-B322-6E83CAAB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C3A06-1899-4BB5-A59F-EA5B7A8E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7C6B6E-1FE2-4662-813B-C72C0DA1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2D7D9C-AD84-4A69-863A-23BFDE3A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0CA0D0-F64E-45D7-BFB0-F2694B5A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A09FC-36F8-49E1-851A-3C913400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36053-71D5-4CA0-9881-3FD84F85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DF0DF0-145F-4037-BA11-FF5B2FA4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B9980-FAAF-4913-9BE4-3FF64AA2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994E1C-F98F-4500-BEB4-4FEAA46F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CB7861-8C4F-41C2-86E6-F1D2ECFD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DDB-5670-46C3-AF00-AE96B016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18CC1E-FDDA-46AC-A219-4EF76EF5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FC06BA-7A74-455B-9C00-FCFCA95B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F1EF0A-7B99-428F-846B-60A6DE3E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862-CE3C-40E4-ABDA-55323212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3CF-6720-4E69-ACAF-401756C3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32E6-1E80-4970-A0B7-8D919F81015A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E1A3-1570-422A-87F1-8CC0051C7066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39F7-0017-4AF1-89C4-388A1620672F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883F-B380-4643-8B8D-30BB3827EB8B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D1FA-32D0-46A3-AB9B-5211FF5FEC10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3FE9-3836-4B07-948B-AD1DECD62EDE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les.school-collection.edu.ru/dlrstore/669b5254-e921-11dc-95ff-0800200c9a66/4_12.swf" TargetMode="External"/><Relationship Id="rId3" Type="http://schemas.openxmlformats.org/officeDocument/2006/relationships/hyperlink" Target="http://files.school-collection.edu.ru/dlrstore/669b5254-e921-11dc-95ff-0800200c9a66/4_12.swf" TargetMode="External"/><Relationship Id="rId4" Type="http://schemas.openxmlformats.org/officeDocument/2006/relationships/hyperlink" Target="http://files.school-collection.edu.ru/dlrstore/669b5254-e921-11dc-95ff-0800200c9a66/4_12.swf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717732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br>
              <a:rPr sz="6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 КЛАСС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708360" y="4365720"/>
            <a:ext cx="489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ОУ «СОШ № 1»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Ивантеевки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гарина Марианна Сергеевн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39280" y="333360"/>
            <a:ext cx="251964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90920" cy="45356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5003640" y="404640"/>
            <a:ext cx="396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 каких единицах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дуируется шкала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ллического манометра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Чему равна цена деления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зовите предел измерения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е давление показывает манометр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Выразите это давление в Паскалях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78920" y="188640"/>
            <a:ext cx="8713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применяются во всех случаях, когда необходимо знать, контролировать и регулировать давление. Наиболее часто манометры применяют в теплоэнергетике, на химических, нефтехимических предприятиях, предприятиях пищевой отрасл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8" name="Рисунок 7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3"/>
          <a:stretch/>
        </p:blipFill>
        <p:spPr>
          <a:xfrm>
            <a:off x="7020000" y="508464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9" descr=""/>
          <p:cNvPicPr/>
          <p:nvPr/>
        </p:nvPicPr>
        <p:blipFill>
          <a:blip r:embed="rId4"/>
          <a:stretch/>
        </p:blipFill>
        <p:spPr>
          <a:xfrm>
            <a:off x="5292720" y="2421000"/>
            <a:ext cx="3456000" cy="25207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0" descr=""/>
          <p:cNvPicPr/>
          <p:nvPr/>
        </p:nvPicPr>
        <p:blipFill>
          <a:blip r:embed="rId5"/>
          <a:stretch/>
        </p:blipFill>
        <p:spPr>
          <a:xfrm>
            <a:off x="179280" y="2781360"/>
            <a:ext cx="2737080" cy="36003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2" descr=""/>
          <p:cNvPicPr/>
          <p:nvPr/>
        </p:nvPicPr>
        <p:blipFill>
          <a:blip r:embed="rId7"/>
          <a:stretch/>
        </p:blipFill>
        <p:spPr>
          <a:xfrm>
            <a:off x="3132000" y="4367160"/>
            <a:ext cx="1944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Объект 4" descr=""/>
          <p:cNvPicPr/>
          <p:nvPr/>
        </p:nvPicPr>
        <p:blipFill>
          <a:blip r:embed="rId2"/>
          <a:stretch/>
        </p:blipFill>
        <p:spPr>
          <a:xfrm>
            <a:off x="1187280" y="2938320"/>
            <a:ext cx="2737080" cy="171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250920" y="260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игмоманометр (тонометр) — прибор для измерения артериального давления. Состоит из манжеты, надеваемой на руку пациенту, устройства для нагнетания воздуха в манжету и манометра, измеряющего давление воздуха в манжете. Также, сфигмоманометр оснащается либо стетоскопом, либо электронным устройством, регистрирующим пульсации воздуха в манжете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7" name="Рисунок 5" descr=""/>
          <p:cNvPicPr/>
          <p:nvPr/>
        </p:nvPicPr>
        <p:blipFill>
          <a:blip r:embed="rId3"/>
          <a:stretch/>
        </p:blipFill>
        <p:spPr>
          <a:xfrm>
            <a:off x="4643280" y="2938320"/>
            <a:ext cx="2592720" cy="17146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9" descr=""/>
          <p:cNvPicPr/>
          <p:nvPr/>
        </p:nvPicPr>
        <p:blipFill>
          <a:blip r:embed="rId4"/>
          <a:stretch/>
        </p:blipFill>
        <p:spPr>
          <a:xfrm>
            <a:off x="5940360" y="4727520"/>
            <a:ext cx="2448000" cy="1941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0" descr=""/>
          <p:cNvPicPr/>
          <p:nvPr/>
        </p:nvPicPr>
        <p:blipFill>
          <a:blip r:embed="rId5"/>
          <a:stretch/>
        </p:blipFill>
        <p:spPr>
          <a:xfrm>
            <a:off x="2340000" y="4727520"/>
            <a:ext cx="2952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528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акими приборами мы сегодня познакомились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в открытом манометре уровни жидкости в обоих коленах одинаковы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при погружении коробочки в воду изменяются уровни жидкости в коленах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с помощью жидкостного манометра показать, что на одной и той же глубине давление одинаково по всем направлениям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строен металлический манометр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их единицах градуируется шкала металлического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45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2"/>
          <a:stretch/>
        </p:blipFill>
        <p:spPr>
          <a:xfrm>
            <a:off x="2011320" y="1700280"/>
            <a:ext cx="5194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17240" y="379440"/>
            <a:ext cx="825804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А.В. Перышкин. Физика. 7 класс. - М.: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.М. Гутник, Е,В. Рыбакова. Методические материалы для учителя. Физика. 7 класс. - М.;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4"/>
              </a:rPr>
              <a:t>files.school-collection.edu.ru/dlrstore/669b5254-e921-11dc-95ff-0800200c9a66/4_12.swf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ru.wikipedia.org/wiki/%CC%E0%ED%EE%EC%E5%F2%F0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images.yandex.ru/yandsearch?text=%D0%BC%D0%B0%D0%BD%D0%BE%D0%BC%D0%B5%D1%82%D1%80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33336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представление об устройстве и принципах работы жидкостного и металлического манометров, рассмотреть их применение в различных областях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уч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устройство и принцип действия открытого        жидкостного и металлического манометров; научить пользоваться ими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в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познавательный интерес, коммуникативные и   экспериментаторские компетенции учащихс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спитывающие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доброжелательное отношение к  участникам учебного процесса,  понимание необходимости заботиться о своем здоровье и приобретении житейских навыков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9920" y="1554120"/>
            <a:ext cx="4608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из ученых предложил способ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Ньютон            В) Ломоносов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скаль            Г) Торричелл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буквой обозначают атмосферное давлени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S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Какова единица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кг или г                            В) Н или к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 или мм рт. ст.             Г) м/с или км/ч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9560" y="1197000"/>
            <a:ext cx="18900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68360" y="25992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 называется прибор для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альтимер                     В) мензурк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барометр                      Г) высотоме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Чему равно значение нормального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1 Н                              В) 760 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1 Па                             Г) 760 мм рт. ст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Как называется прибор для измерения высоты, используемый в авиации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ысотомер                  В) анероид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альтимер                     Г) ареомет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640" y="691920"/>
            <a:ext cx="7920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ы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4360" y="2205000"/>
          <a:ext cx="7775280" cy="2247840"/>
        </p:xfrm>
        <a:graphic>
          <a:graphicData uri="http://schemas.openxmlformats.org/drawingml/2006/table">
            <a:tbl>
              <a:tblPr/>
              <a:tblGrid>
                <a:gridCol w="1295280"/>
                <a:gridCol w="1368360"/>
                <a:gridCol w="1368360"/>
                <a:gridCol w="1224000"/>
                <a:gridCol w="1295640"/>
                <a:gridCol w="1223640"/>
              </a:tblGrid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755280" y="691920"/>
            <a:ext cx="6924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endParaRPr b="0" i="1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6224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Объект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3384720" cy="39607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44640"/>
          </a:xfrm>
          <a:prstGeom prst="rect">
            <a:avLst/>
          </a:prstGeom>
          <a:noFill/>
          <a:ln w="0">
            <a:noFill/>
          </a:ln>
        </p:spPr>
        <p:txBody>
          <a:bodyPr tIns="-1080" bIns="-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1" name="Рисунок 4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3456000" cy="39607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539640" y="2602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приборы для измерения давлений, больших или меньших атмосферного (от греческого «манос» – редкий, неплотной и «метрео» - измеряю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бывают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жидкостные                     б) металлическ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50920" y="26028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дкостный манометр состоит из двухколенной стеклянной трубки, в которую налита какая – нибудь жидкость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и принцип работы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того жидкостного манометр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5" name="Объект 7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8" descr=""/>
          <p:cNvPicPr/>
          <p:nvPr/>
        </p:nvPicPr>
        <p:blipFill>
          <a:blip r:embed="rId3"/>
          <a:stretch/>
        </p:blipFill>
        <p:spPr>
          <a:xfrm>
            <a:off x="320364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"/>
          <p:cNvPicPr/>
          <p:nvPr/>
        </p:nvPicPr>
        <p:blipFill>
          <a:blip r:embed="rId4"/>
          <a:stretch/>
        </p:blipFill>
        <p:spPr>
          <a:xfrm>
            <a:off x="6156360" y="254160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39280" y="333360"/>
            <a:ext cx="79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 металлического манометр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нутая в дугу металлическая труб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ычаг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убчат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ел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Кран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"/>
          <p:cNvPicPr/>
          <p:nvPr/>
        </p:nvPicPr>
        <p:blipFill>
          <a:blip r:embed="rId3"/>
          <a:stretch/>
        </p:blipFill>
        <p:spPr>
          <a:xfrm>
            <a:off x="5364000" y="3213000"/>
            <a:ext cx="27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20:50:36Z</dcterms:created>
  <dc:creator>Marianna</dc:creator>
  <dc:description/>
  <dc:language>en-US</dc:language>
  <cp:lastModifiedBy>Мама</cp:lastModifiedBy>
  <dcterms:modified xsi:type="dcterms:W3CDTF">2013-03-07T21:45:19Z</dcterms:modified>
  <cp:revision>43</cp:revision>
  <dc:subject/>
  <dc:title>Манометры</dc:title>
</cp:coreProperties>
</file>