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A424-96FF-4EBD-A457-8A96F00A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1E94-1993-44DF-8F96-40459352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C7A3-41F6-4FA5-9373-F4FC3ABB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31DA-E571-4FD4-BA50-99B7BBBB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8F26E-4261-4C61-8F05-0AA72C3F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EE906-BD29-4D52-81A4-55AABD94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2C676-2534-4880-853E-7C922001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E9157-4333-4194-8ABC-8A1EC020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7EEF9-2636-4B65-A5D9-19D9E377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FDFF0-E937-4D07-8419-81EE69D9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CC739-8869-4C5A-AA6A-E35E4F2D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8AAC-ADA8-495E-A3B6-332F748D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5D437-009E-4663-A95A-8D702FDA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75A12-1432-4079-B7D2-D928B697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54030-1B41-4340-A03A-36604DCC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314E9-17E9-417D-A7D5-4E6510D3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00EEB-685C-4E67-9A2B-EBBF90BD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20B2F2-B82F-4A97-998E-07FF686B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4E025-4B98-4C79-B0CA-AF98EB5C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F5F996-BF33-4390-8E84-642A90D9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34F7F2-597C-4DCA-83F2-11E45D0E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9EF6DD-6007-4FE9-BB3A-06D778DC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43A7-5D5E-49CC-ACCF-B1E7F407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6955E-FAC0-4953-9844-D20D5B8C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E4EF08-AEB9-4A3F-A684-2AD5CB8D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E75F10-38D5-4939-B61D-70F565FD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C3771-737F-4F78-B06B-D22768D2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E1641-6697-405B-8BB2-20A00075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790D48-D1CC-429C-96A3-96923384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8C5B9E-FA3B-41B0-AF23-ACFF793A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264717-6617-4BBB-AD20-8ABC3DB7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5E7D28-492F-4CF4-9000-44A9732A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A8DB06-0266-40A8-A343-65679E91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1B7A-775F-43BE-A7CA-A49FCBA0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677C11-5E7A-4180-835D-842B0C64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EF402E-6AA3-48FC-B380-ECB8AA90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4A4FC0-91E4-4E6F-BC6B-8F263596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DABD57-5E46-452C-BEAA-4A8AB532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982FE7-2482-4B21-9DA5-D158CACE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49C79E-0755-4885-AB95-8DD462A3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1D8CEF-BA33-46E8-9F73-A5F6813F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A71789-0F28-4090-85A2-F9772A04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CD4BA8-1F8F-49A4-AF29-EED201FD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D1CE9E-AB4A-4CED-A9BE-5DC427B1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B0E8-90CA-4DFE-9C39-64338AC2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62BEF6-469B-49F1-9BDB-2B145B53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FF892C-EA7E-4C6A-93EE-222FEEA7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0086D6-0B47-418B-B2E0-B1D0FEB2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BE8566-25D6-4CE1-AA75-F2AB3A83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B47407-AB2D-4A27-A210-220B4AC9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FE32D3-79E8-4986-9EC2-C9A3FE58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FFE5CF-B287-4C25-ACA8-E5123E93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79CE23-1C84-4B76-8B73-214B4AEA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F84735-7E20-4261-9005-F4AE2337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60AE66-E1D8-4CC1-8F19-A9EB87F8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8EBB-0BE6-4EC9-A933-C86AA70B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586DA3-9854-4103-AF9E-CED06B53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11E642-05B2-47BF-8EE3-E65D6A31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5F645A-6A95-4F0C-A139-02164D2F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2EF20B-26B0-4580-A48B-CDBA7210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AEF2D3-4863-4782-9628-16899AF5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77D0A5-4CB7-4D9D-9407-923F5238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E3DE1D-B6BD-4EB9-B202-B6D98535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F58B3A-6402-4786-8C98-763A2EC4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B94C93-923E-42BB-9036-955EB537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CA6D90-9168-43BE-ADED-062F9F36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93C1-B759-4CBF-B0B0-1387BFE0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F823B8-8B5F-4567-A04A-093AC602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0EA07A-C6EE-4BD4-B591-BC16B361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5CD05A-5BDC-41C4-9A55-EFFA2B84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5437-FC86-4B4A-8CC2-A4EEF963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5978-C6B9-4959-AD80-2CE09564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8924-9451-4A17-9357-03020F7DD7C6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1DB6-9347-46FC-8D42-FCE54F51320C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9172-B794-49D9-BD00-BCD2DAC57DCA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AD12-1CDE-45CC-814E-849BBA75DC3C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3B90-74B6-48F6-8FD7-980D68CC8DBE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77B5-33A5-4720-A1D8-DE74D09231F3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gif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iles.school-collection.edu.ru/dlrstore/669b5254-e921-11dc-95ff-0800200c9a66/4_12.swf" TargetMode="External"/><Relationship Id="rId3" Type="http://schemas.openxmlformats.org/officeDocument/2006/relationships/hyperlink" Target="http://files.school-collection.edu.ru/dlrstore/669b5254-e921-11dc-95ff-0800200c9a66/4_12.swf" TargetMode="External"/><Relationship Id="rId4" Type="http://schemas.openxmlformats.org/officeDocument/2006/relationships/hyperlink" Target="http://files.school-collection.edu.ru/dlrstore/669b5254-e921-11dc-95ff-0800200c9a66/4_12.swf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1406160"/>
            <a:ext cx="717732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br>
              <a:rPr sz="6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 КЛАСС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708360" y="4365720"/>
            <a:ext cx="4896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МОУ «СОШ № 1»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 Ивантеевки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агарина Марианна Сергеевн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539280" y="333360"/>
            <a:ext cx="2519640" cy="2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4" name="Рисунок 3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390920" cy="4535640"/>
          </a:xfrm>
          <a:prstGeom prst="rect">
            <a:avLst/>
          </a:prstGeom>
          <a:ln w="0">
            <a:noFill/>
          </a:ln>
        </p:spPr>
      </p:pic>
      <p:sp>
        <p:nvSpPr>
          <p:cNvPr id="275" name="TextBox 5"/>
          <p:cNvSpPr/>
          <p:nvPr/>
        </p:nvSpPr>
        <p:spPr>
          <a:xfrm>
            <a:off x="5003640" y="404640"/>
            <a:ext cx="396108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ьте на вопросы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 каких единицах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дуируется шкала 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аллического манометра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Чему равна цена деления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Назовите предел измерения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акое давление показывает манометр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Выразите это давление в Паскалях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178920" y="188640"/>
            <a:ext cx="87138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 применяются во всех случаях, когда необходимо знать, контролировать и регулировать давление. Наиболее часто манометры применяют в теплоэнергетике, на химических, нефтехимических предприятиях, предприятиях пищевой отрасли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8" name="Рисунок 7" descr=""/>
          <p:cNvPicPr/>
          <p:nvPr/>
        </p:nvPicPr>
        <p:blipFill>
          <a:blip r:embed="rId2"/>
          <a:stretch/>
        </p:blipFill>
        <p:spPr>
          <a:xfrm>
            <a:off x="3132000" y="2421000"/>
            <a:ext cx="1944720" cy="15127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8" descr=""/>
          <p:cNvPicPr/>
          <p:nvPr/>
        </p:nvPicPr>
        <p:blipFill>
          <a:blip r:embed="rId3"/>
          <a:stretch/>
        </p:blipFill>
        <p:spPr>
          <a:xfrm>
            <a:off x="7020000" y="5084640"/>
            <a:ext cx="1728720" cy="16574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9" descr=""/>
          <p:cNvPicPr/>
          <p:nvPr/>
        </p:nvPicPr>
        <p:blipFill>
          <a:blip r:embed="rId4"/>
          <a:stretch/>
        </p:blipFill>
        <p:spPr>
          <a:xfrm>
            <a:off x="5292720" y="2421000"/>
            <a:ext cx="3456000" cy="25207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0" descr=""/>
          <p:cNvPicPr/>
          <p:nvPr/>
        </p:nvPicPr>
        <p:blipFill>
          <a:blip r:embed="rId5"/>
          <a:stretch/>
        </p:blipFill>
        <p:spPr>
          <a:xfrm>
            <a:off x="179280" y="2781360"/>
            <a:ext cx="2737080" cy="360036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1" descr=""/>
          <p:cNvPicPr/>
          <p:nvPr/>
        </p:nvPicPr>
        <p:blipFill>
          <a:blip r:embed="rId6"/>
          <a:stretch/>
        </p:blipFill>
        <p:spPr>
          <a:xfrm>
            <a:off x="5292720" y="5084640"/>
            <a:ext cx="1511280" cy="165744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2" descr=""/>
          <p:cNvPicPr/>
          <p:nvPr/>
        </p:nvPicPr>
        <p:blipFill>
          <a:blip r:embed="rId7"/>
          <a:stretch/>
        </p:blipFill>
        <p:spPr>
          <a:xfrm>
            <a:off x="3132000" y="4367160"/>
            <a:ext cx="1944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Объект 4" descr=""/>
          <p:cNvPicPr/>
          <p:nvPr/>
        </p:nvPicPr>
        <p:blipFill>
          <a:blip r:embed="rId2"/>
          <a:stretch/>
        </p:blipFill>
        <p:spPr>
          <a:xfrm>
            <a:off x="1187280" y="2938320"/>
            <a:ext cx="2737080" cy="171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Прямоугольник 3"/>
          <p:cNvSpPr/>
          <p:nvPr/>
        </p:nvSpPr>
        <p:spPr>
          <a:xfrm>
            <a:off x="250920" y="26028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фигмоманометр (тонометр) — прибор для измерения артериального давления. Состоит из манжеты, надеваемой на руку пациенту, устройства для нагнетания воздуха в манжету и манометра, измеряющего давление воздуха в манжете. Также, сфигмоманометр оснащается либо стетоскопом, либо электронным устройством, регистрирующим пульсации воздуха в манжете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87" name="Рисунок 5" descr=""/>
          <p:cNvPicPr/>
          <p:nvPr/>
        </p:nvPicPr>
        <p:blipFill>
          <a:blip r:embed="rId3"/>
          <a:stretch/>
        </p:blipFill>
        <p:spPr>
          <a:xfrm>
            <a:off x="4643280" y="2938320"/>
            <a:ext cx="2592720" cy="171468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9" descr=""/>
          <p:cNvPicPr/>
          <p:nvPr/>
        </p:nvPicPr>
        <p:blipFill>
          <a:blip r:embed="rId4"/>
          <a:stretch/>
        </p:blipFill>
        <p:spPr>
          <a:xfrm>
            <a:off x="5940360" y="4727520"/>
            <a:ext cx="2448000" cy="194148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10" descr=""/>
          <p:cNvPicPr/>
          <p:nvPr/>
        </p:nvPicPr>
        <p:blipFill>
          <a:blip r:embed="rId5"/>
          <a:stretch/>
        </p:blipFill>
        <p:spPr>
          <a:xfrm>
            <a:off x="2340000" y="4727520"/>
            <a:ext cx="29527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95280" y="25992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репление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какими приборами мы сегодня познакомились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в открытом манометре уровни жидкости в обоих коленах одинаковые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при погружении коробочки в воду изменяются уровни жидкости в коленах манометра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с помощью жидкостного манометра показать, что на одной и той же глубине давление одинаково по всем направлениям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устроен металлический манометр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ких единицах градуируется шкала металлического манометра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684000" y="476280"/>
            <a:ext cx="7848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:</a:t>
            </a: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§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45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57636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684000" y="476280"/>
            <a:ext cx="7848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57636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96" name="Прямоугольник 3" descr=""/>
          <p:cNvPicPr/>
          <p:nvPr/>
        </p:nvPicPr>
        <p:blipFill>
          <a:blip r:embed="rId2"/>
          <a:stretch/>
        </p:blipFill>
        <p:spPr>
          <a:xfrm>
            <a:off x="2011320" y="1700280"/>
            <a:ext cx="519444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17240" y="379440"/>
            <a:ext cx="8258040" cy="61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чники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  А.В. Перышкин. Физика. 7 класс. - М.: Дроф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.М. Гутник, Е,В. Рыбакова. Методические материалы для учителя. Физика. 7 класс. - М.; Дроф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2"/>
              </a:rPr>
              <a:t>http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3"/>
              </a:rPr>
              <a:t>://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4"/>
              </a:rPr>
              <a:t>files.school-collection.edu.ru/dlrstore/669b5254-e921-11dc-95ff-0800200c9a66/4_12.swf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ru.wikipedia.org/wiki/%CC%E0%ED%EE%EC%E5%F2%F0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images.yandex.ru/yandsearch?text=%D0%BC%D0%B0%D0%BD%D0%BE%D0%BC%D0%B5%D1%82%D1%80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50920" y="33336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урока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ть представление об устройстве и принципах работы жидкостного и металлического манометров, рассмотреть их применение в различных областях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: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бучающие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учить устройство и принцип действия открытого        жидкостного и металлического манометров; научить пользоваться ими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азвивающие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познавательный интерес, коммуникативные и   экспериментаторские компетенции учащихся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оспитывающие: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ывать доброжелательное отношение к  участникам учебного процесса,  понимание необходимости заботиться о своем здоровье и приобретении житейских навыков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9920" y="1554120"/>
            <a:ext cx="46080" cy="44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ст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из ученых предложил способ измерения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Ньютон            В) Ломоносов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Паскаль            Г) Торричелли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й буквой обозначают атмосферное давление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) 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 S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Какова единица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кг или г                            В) Н или кН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Па или мм рт. ст.             Г) м/с или км/ч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9560" y="1197000"/>
            <a:ext cx="189000" cy="44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68360" y="259920"/>
            <a:ext cx="8136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ст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ак называется прибор для измерения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альтимер                     В) мензурка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барометр                      Г) высотоме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Чему равно значение нормального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1 Н                              В) 760 Н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1 Па                             Г) 760 мм рт. ст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Как называется прибор для измерения высоты, используемый в авиации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высотомер                  В) анероид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альтимер                     Г) ареомет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9640" y="691920"/>
            <a:ext cx="79200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ы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4360" y="2205000"/>
          <a:ext cx="7775280" cy="2247840"/>
        </p:xfrm>
        <a:graphic>
          <a:graphicData uri="http://schemas.openxmlformats.org/drawingml/2006/table">
            <a:tbl>
              <a:tblPr/>
              <a:tblGrid>
                <a:gridCol w="1295280"/>
                <a:gridCol w="1368360"/>
                <a:gridCol w="1368360"/>
                <a:gridCol w="1224000"/>
                <a:gridCol w="1295640"/>
                <a:gridCol w="1223640"/>
              </a:tblGrid>
              <a:tr h="112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</a:tr>
              <a:tr h="112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755280" y="691920"/>
            <a:ext cx="6924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урока:</a:t>
            </a: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endParaRPr b="0" i="1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62244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Объект 3" descr=""/>
          <p:cNvPicPr/>
          <p:nvPr/>
        </p:nvPicPr>
        <p:blipFill>
          <a:blip r:embed="rId2"/>
          <a:stretch/>
        </p:blipFill>
        <p:spPr>
          <a:xfrm>
            <a:off x="755640" y="2708280"/>
            <a:ext cx="3384720" cy="39607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44640"/>
          </a:xfrm>
          <a:prstGeom prst="rect">
            <a:avLst/>
          </a:prstGeom>
          <a:noFill/>
          <a:ln w="0">
            <a:noFill/>
          </a:ln>
        </p:spPr>
        <p:txBody>
          <a:bodyPr tIns="-1080" bIns="-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1" name="Рисунок 4" descr=""/>
          <p:cNvPicPr/>
          <p:nvPr/>
        </p:nvPicPr>
        <p:blipFill>
          <a:blip r:embed="rId3"/>
          <a:stretch/>
        </p:blipFill>
        <p:spPr>
          <a:xfrm>
            <a:off x="5003640" y="2708280"/>
            <a:ext cx="3456000" cy="396072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539640" y="260280"/>
            <a:ext cx="820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приборы для измерения давлений, больших или меньших атмосферного (от греческого «манос» – редкий, неплотной и «метрео» - измеряю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 бывают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жидкостные                     б) металлические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136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250920" y="26028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дкостный манометр состоит из двухколенной стеклянной трубки, в которую налита какая – нибудь жидкость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ройство и принцип работы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ытого жидкостного манометра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65" name="Объект 7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2736720" cy="388800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8" descr=""/>
          <p:cNvPicPr/>
          <p:nvPr/>
        </p:nvPicPr>
        <p:blipFill>
          <a:blip r:embed="rId3"/>
          <a:stretch/>
        </p:blipFill>
        <p:spPr>
          <a:xfrm>
            <a:off x="3203640" y="2565360"/>
            <a:ext cx="2736720" cy="38880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9" descr=""/>
          <p:cNvPicPr/>
          <p:nvPr/>
        </p:nvPicPr>
        <p:blipFill>
          <a:blip r:embed="rId4"/>
          <a:stretch/>
        </p:blipFill>
        <p:spPr>
          <a:xfrm>
            <a:off x="6156360" y="2541600"/>
            <a:ext cx="266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539280" y="333360"/>
            <a:ext cx="7993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ройство  металлического манометра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гнутая в дугу металлическая труб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ычаг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убчат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ел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  Кран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0" name="Рисунок 3" descr=""/>
          <p:cNvPicPr/>
          <p:nvPr/>
        </p:nvPicPr>
        <p:blipFill>
          <a:blip r:embed="rId2"/>
          <a:stretch/>
        </p:blipFill>
        <p:spPr>
          <a:xfrm>
            <a:off x="1042920" y="3213000"/>
            <a:ext cx="3168720" cy="338472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4" descr=""/>
          <p:cNvPicPr/>
          <p:nvPr/>
        </p:nvPicPr>
        <p:blipFill>
          <a:blip r:embed="rId3"/>
          <a:stretch/>
        </p:blipFill>
        <p:spPr>
          <a:xfrm>
            <a:off x="5364000" y="3213000"/>
            <a:ext cx="2737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20:50:36Z</dcterms:created>
  <dc:creator>Marianna</dc:creator>
  <dc:description/>
  <dc:language>en-US</dc:language>
  <cp:lastModifiedBy>Мама</cp:lastModifiedBy>
  <dcterms:modified xsi:type="dcterms:W3CDTF">2013-03-07T21:45:19Z</dcterms:modified>
  <cp:revision>43</cp:revision>
  <dc:subject/>
  <dc:title>Манометры</dc:title>
</cp:coreProperties>
</file>