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5F6-08D6-47CA-BE29-120DC7AF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DF9-D167-4074-9D29-B348E6D7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13D-1683-4029-801C-6F30978A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BE7-B843-4B9C-AFEF-7DEE6B4C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F84CD-FA5C-4906-B096-319D6927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FF211-E4B3-4FE5-8DBB-09FAA22A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072A6-3157-40E8-A536-EF9F164C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CA50D-C887-4659-9CB3-31B5E5DA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66BF0-E0DD-4337-A870-1770C45F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93908-39CC-46E4-A356-CF97E1D0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34968-11B3-43F0-B47B-4D66135D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1C8-49C4-4693-AEFC-65A99D1F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04B6E-639B-460D-A33B-E895DE6A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C4FC4-2CAB-4F18-9B3C-86532B8F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ADE02-FF00-4459-80B4-E8127BA3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2453B-25D2-40E7-8880-34A0626B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2907C-3509-4639-9587-C3472E01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CE6F1-6DB6-4391-815B-F7985872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F8F51-0348-4AD1-9AC8-87E497EA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AAEB6-3ADE-470E-A8C3-BFE47047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825AA-23E5-4DC2-A276-D9A860A9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A785D-2653-4728-83F1-3F58F05A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68E-D6E6-4045-B7C1-9FE70370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BB9E0-EEDD-4DDB-93A9-DB34FDF8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8B8CC-8643-47BA-9BE4-AF5D3825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6482B-0890-42DE-9BE7-D2E4BAD9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AECFB-8412-44CA-98AE-AFC2E6F2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49E01-9FEE-4660-AC3F-23AF836B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BDCFB-13A1-474D-8C0D-E702F573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35FFE-0621-4C08-AE18-6D1787DC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D48B0A-9C1E-4AEC-95B3-6D8B3360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D90F0-2A2F-4C65-BED7-3EFBF88A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F49ADC-CB39-41B5-9D00-EEBECC84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83D-F036-4441-BEC4-17A59FD6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C90AF2-81F3-4AF2-A94A-D5C09D56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90D3C1-3B8E-449D-9899-56ADEB44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7BB993-C632-48A2-8129-15132C19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51631-D248-4229-AAC8-71B03691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65F9FB-2963-4371-B543-43016031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E0613D-223B-40D3-95B0-C2810858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8584D4-C319-4E85-A25B-6DCF117C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C618DB-35CB-40A2-88DF-CF9F13E3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651FD-A607-4DCF-83EE-91C46FC0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D74FD-6896-43FD-AC96-BA0D1468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3001-0D5B-48D6-A563-98A55446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42873-0A8E-4294-A9A4-EFE053F2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F5E87-B87C-4037-8E6B-3F702D69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7E0F8-8B6B-4DD7-8608-493FE3FB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21EC6-4CC2-4845-B2B5-4F5CC3B2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E3244E-E905-46BE-A46D-CEB0423F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2BEDE-451D-4CE8-B057-9DA6BD90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6E37F-872B-48B8-B0BB-BFE1D133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6902E-054F-4900-86B0-D6308B23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4CB5B-44F2-4833-81CE-0848FED2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954B4-4781-49A2-AB06-1EAA91EF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BE2-6B80-447D-97E4-4BC5D49A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D1780-3FD8-4FB9-B83B-1490D94E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D8A62-0570-45C7-9AC5-684179BE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7A342-DB02-4B5B-BB16-23EB6E51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27B0B-D6A4-48AA-815E-E81E1C22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160B8C-B3B6-4A98-B2EA-1F479B5C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63823-6E66-4F8B-B2B0-C5D3786B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30B61-9F86-4018-AFDA-026A6F0A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DA59CD-60C7-4803-9D76-C81FB868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7CCF4-CDEA-461D-8411-7850D359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49E92-4B51-4428-8EF8-3C45DB86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4BD-4F56-4EAA-9D95-512346B8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52FEF-68AE-47E9-B0CB-72191849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865BA-AE3E-41FC-A45E-34740706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EAF3F-6E06-4782-8A4E-BB4DBB05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E03-5F50-42FD-92A0-73AAA4C8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350-27F7-41D9-B6A2-3D647E84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840A-0594-4425-9435-19526A304B00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4C92-9BDE-4C08-A2DD-0D9E276B82DA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6F88-92FC-45B2-A495-D8BB74593D3E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D66E-3C57-4ACF-AF11-C98F8E3DD5DF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3915-CB5A-4EEA-95F2-50B85644DDDE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A844-3EB4-4045-A8DB-376522B2E3E2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les.school-collection.edu.ru/dlrstore/669b5254-e921-11dc-95ff-0800200c9a66/4_12.swf" TargetMode="External"/><Relationship Id="rId3" Type="http://schemas.openxmlformats.org/officeDocument/2006/relationships/hyperlink" Target="http://files.school-collection.edu.ru/dlrstore/669b5254-e921-11dc-95ff-0800200c9a66/4_12.swf" TargetMode="External"/><Relationship Id="rId4" Type="http://schemas.openxmlformats.org/officeDocument/2006/relationships/hyperlink" Target="http://files.school-collection.edu.ru/dlrstore/669b5254-e921-11dc-95ff-0800200c9a66/4_12.swf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717732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br>
              <a:rPr sz="6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 КЛАСС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708360" y="4365720"/>
            <a:ext cx="489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ОУ «СОШ № 1»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Ивантеевки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гарина Марианна Сергеевн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39280" y="333360"/>
            <a:ext cx="251964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90920" cy="45356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5003640" y="404640"/>
            <a:ext cx="396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 каких единицах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дуируется шкала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ллического манометра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Чему равна цена деления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зовите предел измерения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е давление показывает манометр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Выразите это давление в Паскалях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78920" y="188640"/>
            <a:ext cx="8713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применяются во всех случаях, когда необходимо знать, контролировать и регулировать давление. Наиболее часто манометры применяют в теплоэнергетике, на химических, нефтехимических предприятиях, предприятиях пищевой отрасл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8" name="Рисунок 7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3"/>
          <a:stretch/>
        </p:blipFill>
        <p:spPr>
          <a:xfrm>
            <a:off x="7020000" y="508464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9" descr=""/>
          <p:cNvPicPr/>
          <p:nvPr/>
        </p:nvPicPr>
        <p:blipFill>
          <a:blip r:embed="rId4"/>
          <a:stretch/>
        </p:blipFill>
        <p:spPr>
          <a:xfrm>
            <a:off x="5292720" y="2421000"/>
            <a:ext cx="3456000" cy="25207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0" descr=""/>
          <p:cNvPicPr/>
          <p:nvPr/>
        </p:nvPicPr>
        <p:blipFill>
          <a:blip r:embed="rId5"/>
          <a:stretch/>
        </p:blipFill>
        <p:spPr>
          <a:xfrm>
            <a:off x="179280" y="2781360"/>
            <a:ext cx="2737080" cy="36003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2" descr=""/>
          <p:cNvPicPr/>
          <p:nvPr/>
        </p:nvPicPr>
        <p:blipFill>
          <a:blip r:embed="rId7"/>
          <a:stretch/>
        </p:blipFill>
        <p:spPr>
          <a:xfrm>
            <a:off x="3132000" y="4367160"/>
            <a:ext cx="1944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Объект 4" descr=""/>
          <p:cNvPicPr/>
          <p:nvPr/>
        </p:nvPicPr>
        <p:blipFill>
          <a:blip r:embed="rId2"/>
          <a:stretch/>
        </p:blipFill>
        <p:spPr>
          <a:xfrm>
            <a:off x="1187280" y="2938320"/>
            <a:ext cx="2737080" cy="171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250920" y="260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игмоманометр (тонометр) — прибор для измерения артериального давления. Состоит из манжеты, надеваемой на руку пациенту, устройства для нагнетания воздуха в манжету и манометра, измеряющего давление воздуха в манжете. Также, сфигмоманометр оснащается либо стетоскопом, либо электронным устройством, регистрирующим пульсации воздуха в манжете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7" name="Рисунок 5" descr=""/>
          <p:cNvPicPr/>
          <p:nvPr/>
        </p:nvPicPr>
        <p:blipFill>
          <a:blip r:embed="rId3"/>
          <a:stretch/>
        </p:blipFill>
        <p:spPr>
          <a:xfrm>
            <a:off x="4643280" y="2938320"/>
            <a:ext cx="2592720" cy="17146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9" descr=""/>
          <p:cNvPicPr/>
          <p:nvPr/>
        </p:nvPicPr>
        <p:blipFill>
          <a:blip r:embed="rId4"/>
          <a:stretch/>
        </p:blipFill>
        <p:spPr>
          <a:xfrm>
            <a:off x="5940360" y="4727520"/>
            <a:ext cx="2448000" cy="1941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0" descr=""/>
          <p:cNvPicPr/>
          <p:nvPr/>
        </p:nvPicPr>
        <p:blipFill>
          <a:blip r:embed="rId5"/>
          <a:stretch/>
        </p:blipFill>
        <p:spPr>
          <a:xfrm>
            <a:off x="2340000" y="4727520"/>
            <a:ext cx="2952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528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акими приборами мы сегодня познакомились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в открытом манометре уровни жидкости в обоих коленах одинаковы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при погружении коробочки в воду изменяются уровни жидкости в коленах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с помощью жидкостного манометра показать, что на одной и той же глубине давление одинаково по всем направлениям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строен металлический манометр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их единицах градуируется шкала металлического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45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2"/>
          <a:stretch/>
        </p:blipFill>
        <p:spPr>
          <a:xfrm>
            <a:off x="2011320" y="1700280"/>
            <a:ext cx="5194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17240" y="379440"/>
            <a:ext cx="825804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А.В. Перышкин. Физика. 7 класс. - М.: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.М. Гутник, Е,В. Рыбакова. Методические материалы для учителя. Физика. 7 класс. - М.;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4"/>
              </a:rPr>
              <a:t>files.school-collection.edu.ru/dlrstore/669b5254-e921-11dc-95ff-0800200c9a66/4_12.swf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ru.wikipedia.org/wiki/%CC%E0%ED%EE%EC%E5%F2%F0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images.yandex.ru/yandsearch?text=%D0%BC%D0%B0%D0%BD%D0%BE%D0%BC%D0%B5%D1%82%D1%80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33336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представление об устройстве и принципах работы жидкостного и металлического манометров, рассмотреть их применение в различных областях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уч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устройство и принцип действия открытого        жидкостного и металлического манометров; научить пользоваться ими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в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познавательный интерес, коммуникативные и   экспериментаторские компетенции учащихс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спитывающие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доброжелательное отношение к  участникам учебного процесса,  понимание необходимости заботиться о своем здоровье и приобретении житейских навыков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9920" y="1554120"/>
            <a:ext cx="4608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из ученых предложил способ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Ньютон            В) Ломоносов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скаль            Г) Торричелл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буквой обозначают атмосферное давлени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S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Какова единица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кг или г                            В) Н или к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 или мм рт. ст.             Г) м/с или км/ч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9560" y="1197000"/>
            <a:ext cx="18900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68360" y="25992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 называется прибор для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альтимер                     В) мензурк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барометр                      Г) высотоме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Чему равно значение нормального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1 Н                              В) 760 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1 Па                             Г) 760 мм рт. ст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Как называется прибор для измерения высоты, используемый в авиации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ысотомер                  В) анероид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альтимер                     Г) ареомет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640" y="691920"/>
            <a:ext cx="7920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ы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4360" y="2205000"/>
          <a:ext cx="7775280" cy="2247840"/>
        </p:xfrm>
        <a:graphic>
          <a:graphicData uri="http://schemas.openxmlformats.org/drawingml/2006/table">
            <a:tbl>
              <a:tblPr/>
              <a:tblGrid>
                <a:gridCol w="1295280"/>
                <a:gridCol w="1368360"/>
                <a:gridCol w="1368360"/>
                <a:gridCol w="1224000"/>
                <a:gridCol w="1295640"/>
                <a:gridCol w="1223640"/>
              </a:tblGrid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755280" y="691920"/>
            <a:ext cx="6924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endParaRPr b="0" i="1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6224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Объект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3384720" cy="39607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44640"/>
          </a:xfrm>
          <a:prstGeom prst="rect">
            <a:avLst/>
          </a:prstGeom>
          <a:noFill/>
          <a:ln w="0">
            <a:noFill/>
          </a:ln>
        </p:spPr>
        <p:txBody>
          <a:bodyPr tIns="-1080" bIns="-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1" name="Рисунок 4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3456000" cy="39607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539640" y="2602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приборы для измерения давлений, больших или меньших атмосферного (от греческого «манос» – редкий, неплотной и «метрео» - измеряю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бывают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жидкостные                     б) металлическ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50920" y="26028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дкостный манометр состоит из двухколенной стеклянной трубки, в которую налита какая – нибудь жидкость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и принцип работы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того жидкостного манометр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5" name="Объект 7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8" descr=""/>
          <p:cNvPicPr/>
          <p:nvPr/>
        </p:nvPicPr>
        <p:blipFill>
          <a:blip r:embed="rId3"/>
          <a:stretch/>
        </p:blipFill>
        <p:spPr>
          <a:xfrm>
            <a:off x="320364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"/>
          <p:cNvPicPr/>
          <p:nvPr/>
        </p:nvPicPr>
        <p:blipFill>
          <a:blip r:embed="rId4"/>
          <a:stretch/>
        </p:blipFill>
        <p:spPr>
          <a:xfrm>
            <a:off x="6156360" y="254160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39280" y="333360"/>
            <a:ext cx="79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 металлического манометр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нутая в дугу металлическая труб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ычаг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убчат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ел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Кран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"/>
          <p:cNvPicPr/>
          <p:nvPr/>
        </p:nvPicPr>
        <p:blipFill>
          <a:blip r:embed="rId3"/>
          <a:stretch/>
        </p:blipFill>
        <p:spPr>
          <a:xfrm>
            <a:off x="5364000" y="3213000"/>
            <a:ext cx="27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20:50:36Z</dcterms:created>
  <dc:creator>Marianna</dc:creator>
  <dc:description/>
  <dc:language>en-US</dc:language>
  <cp:lastModifiedBy>Мама</cp:lastModifiedBy>
  <dcterms:modified xsi:type="dcterms:W3CDTF">2013-03-07T21:45:19Z</dcterms:modified>
  <cp:revision>43</cp:revision>
  <dc:subject/>
  <dc:title>Манометры</dc:title>
</cp:coreProperties>
</file>