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A5DA-D4FD-4634-8DFB-6C7FCC2C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AC7F-9A8C-4072-AB8E-469D8F77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383B-8EE7-47AB-914A-AFB8BF2D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DB9D-5C5B-4383-BE68-F6803CED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88799-4E8B-419E-9FF9-AD2E7177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B2BE0-B08B-4A19-9149-8B9C5C78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F4B3A-07D0-46C9-AE84-BC3DDD2A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7035A-2F24-4B4F-872D-AC39BBC3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C0012-7373-441E-9248-D38B9B10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EAF58-938F-49B0-8B8E-FCF3CA3B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270F2-8211-48BA-B135-342ADA05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2AEA-9A83-4F45-839D-0074ECD9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1675B-AE24-4A9E-B3F1-292E8A49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0EF3B-C2FE-49DA-AC9C-01C48CC6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1ECF0-E683-4CAB-BE33-3336B367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C7686-94FB-4009-B191-1B3E8353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AB7B0-2F7A-4A7C-91C9-BF9B796B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98E1C-948C-416F-8F57-12943FFD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FE44E-2E40-4B9E-9F99-87A49C90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64CFD-A5ED-46AE-BC81-D86174E9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274C1-4522-436D-912C-A4C94ADD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451EC-4B9E-4A27-9DDB-99F511E4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5514-DA68-4BF5-A5A3-E4C73A0B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26F4C-E6D8-47E1-A6E9-7305FDEE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C727D-38F9-418D-8F27-CAB9DFC1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E1E35-17EE-438A-B83D-FEA872EE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85459-DD25-4112-91D2-459AF5A3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2840A-C728-4D0F-BE8E-EE21393F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A3373-AAA7-480D-BBC5-9E25FD2F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D28D6-0743-4B81-86EE-EF2A910F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F98673-9E19-4E1E-9338-5C3250EE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886580-4E8F-458D-A90B-68090C4E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46C108-1A0F-418B-864B-6FDBA0E4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880-6CBD-495A-8FCD-13F47F22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1A58E7-4574-44D2-8445-46E7C174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D5EFFC-581E-4DD2-A3EC-03D248C4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6A687E-D7F2-49F3-BEFD-B6946DDB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67DAF3-3542-440B-83D9-A713FB92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4A8072-1757-4192-9075-58421B38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7A231C-D6EB-4CC6-A7F3-56463C59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A18C5C-B838-4B6A-BAE6-D5B8FBCE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F4564A-108E-4BC8-B1FF-A81E9348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FB7CD1-49A2-4D4E-8D95-07871EE6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AF276E-AF08-470A-BAD2-83CFAEE0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30EE-DD7C-466C-97CD-A9334607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FABEC9-92B8-4ADE-9941-1C43C8FA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EFA008-CDD9-43D0-9BC4-F54D6D64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BE1C71-060E-42F5-BF36-064052E6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1F3E36-343E-4D22-B0C1-8F2F7AE1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4F5814-2B9A-4A1F-B00C-A290C8B4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09D14F-102C-47B8-B4F9-0710B62A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0B6101-FEAC-464B-ADF7-0F424AEE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C03000-6132-4AD1-8972-F012E9A4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19E451-78C4-4E3A-A871-495D1997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7D4B39-5FFC-4A6A-AE9E-4C9FF5A0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A7F-9F69-40F5-BF18-03F914CA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0061C2-3AD6-49F5-9A79-2E712630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E5E985-8C32-41A6-84C5-0C7AB53C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9D5248-7972-4FEB-A9D4-08C1E6E4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ED7D66-839C-4623-8F20-4613F7AE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09FF2A-4870-4C34-94B8-3EBF4423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820E21-FDC7-4171-B01F-184B1575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5EE91A-4590-499A-A248-C90BE7FD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85738B-DE85-4AB6-8640-B79A99E9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C4F297-1EC2-4581-AAAC-23965111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71E04E-81C4-4FCD-92FB-1466DA5C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F3AA-0AD5-46BF-B50F-ED98A92E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70111E-4433-4FC4-9498-273AD8BF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8AE7CF-6286-4152-9BF5-25649007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3BB7E8-838A-4375-BDE5-A288AAB2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70E-5D6C-42B6-82BF-C26F38CB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7A41-43F8-43D5-A3E9-88B7ACC7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48E1-7E7B-4361-B682-5B01C30D6967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F326-0D02-4346-B541-0B3342AF09DA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B076-7BF2-41DE-B320-02D316DE9216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A24A-808E-434D-A0D6-A1A4461333B2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61E6-E22A-419C-938B-B9BD4668F118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7286-C9F7-4D87-88BE-78B5DC6584EE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iles.school-collection.edu.ru/dlrstore/669b5254-e921-11dc-95ff-0800200c9a66/4_12.swf" TargetMode="External"/><Relationship Id="rId3" Type="http://schemas.openxmlformats.org/officeDocument/2006/relationships/hyperlink" Target="http://files.school-collection.edu.ru/dlrstore/669b5254-e921-11dc-95ff-0800200c9a66/4_12.swf" TargetMode="External"/><Relationship Id="rId4" Type="http://schemas.openxmlformats.org/officeDocument/2006/relationships/hyperlink" Target="http://files.school-collection.edu.ru/dlrstore/669b5254-e921-11dc-95ff-0800200c9a66/4_12.swf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717732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br>
              <a:rPr sz="6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 КЛАСС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708360" y="4365720"/>
            <a:ext cx="4896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МОУ «СОШ № 1»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Ивантеевки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гарина Марианна Сергеевн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539280" y="333360"/>
            <a:ext cx="251964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4" name="Рисунок 3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390920" cy="4535640"/>
          </a:xfrm>
          <a:prstGeom prst="rect">
            <a:avLst/>
          </a:prstGeom>
          <a:ln w="0">
            <a:noFill/>
          </a:ln>
        </p:spPr>
      </p:pic>
      <p:sp>
        <p:nvSpPr>
          <p:cNvPr id="275" name="TextBox 5"/>
          <p:cNvSpPr/>
          <p:nvPr/>
        </p:nvSpPr>
        <p:spPr>
          <a:xfrm>
            <a:off x="5003640" y="404640"/>
            <a:ext cx="39610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ьте на вопросы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 каких единицах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дуируется шкала 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ллического манометра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Чему равна цена деления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зовите предел измерения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ое давление показывает манометр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Выразите это давление в Паскалях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78920" y="188640"/>
            <a:ext cx="87138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применяются во всех случаях, когда необходимо знать, контролировать и регулировать давление. Наиболее часто манометры применяют в теплоэнергетике, на химических, нефтехимических предприятиях, предприятиях пищевой отрасли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8" name="Рисунок 7" descr=""/>
          <p:cNvPicPr/>
          <p:nvPr/>
        </p:nvPicPr>
        <p:blipFill>
          <a:blip r:embed="rId2"/>
          <a:stretch/>
        </p:blipFill>
        <p:spPr>
          <a:xfrm>
            <a:off x="3132000" y="242100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8" descr=""/>
          <p:cNvPicPr/>
          <p:nvPr/>
        </p:nvPicPr>
        <p:blipFill>
          <a:blip r:embed="rId3"/>
          <a:stretch/>
        </p:blipFill>
        <p:spPr>
          <a:xfrm>
            <a:off x="7020000" y="5084640"/>
            <a:ext cx="1728720" cy="16574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9" descr=""/>
          <p:cNvPicPr/>
          <p:nvPr/>
        </p:nvPicPr>
        <p:blipFill>
          <a:blip r:embed="rId4"/>
          <a:stretch/>
        </p:blipFill>
        <p:spPr>
          <a:xfrm>
            <a:off x="5292720" y="2421000"/>
            <a:ext cx="3456000" cy="25207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0" descr=""/>
          <p:cNvPicPr/>
          <p:nvPr/>
        </p:nvPicPr>
        <p:blipFill>
          <a:blip r:embed="rId5"/>
          <a:stretch/>
        </p:blipFill>
        <p:spPr>
          <a:xfrm>
            <a:off x="179280" y="2781360"/>
            <a:ext cx="2737080" cy="36003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1" descr=""/>
          <p:cNvPicPr/>
          <p:nvPr/>
        </p:nvPicPr>
        <p:blipFill>
          <a:blip r:embed="rId6"/>
          <a:stretch/>
        </p:blipFill>
        <p:spPr>
          <a:xfrm>
            <a:off x="5292720" y="5084640"/>
            <a:ext cx="1511280" cy="165744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2" descr=""/>
          <p:cNvPicPr/>
          <p:nvPr/>
        </p:nvPicPr>
        <p:blipFill>
          <a:blip r:embed="rId7"/>
          <a:stretch/>
        </p:blipFill>
        <p:spPr>
          <a:xfrm>
            <a:off x="3132000" y="4367160"/>
            <a:ext cx="1944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Объект 4" descr=""/>
          <p:cNvPicPr/>
          <p:nvPr/>
        </p:nvPicPr>
        <p:blipFill>
          <a:blip r:embed="rId2"/>
          <a:stretch/>
        </p:blipFill>
        <p:spPr>
          <a:xfrm>
            <a:off x="1187280" y="2938320"/>
            <a:ext cx="2737080" cy="171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250920" y="26028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игмоманометр (тонометр) — прибор для измерения артериального давления. Состоит из манжеты, надеваемой на руку пациенту, устройства для нагнетания воздуха в манжету и манометра, измеряющего давление воздуха в манжете. Также, сфигмоманометр оснащается либо стетоскопом, либо электронным устройством, регистрирующим пульсации воздуха в манжете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7" name="Рисунок 5" descr=""/>
          <p:cNvPicPr/>
          <p:nvPr/>
        </p:nvPicPr>
        <p:blipFill>
          <a:blip r:embed="rId3"/>
          <a:stretch/>
        </p:blipFill>
        <p:spPr>
          <a:xfrm>
            <a:off x="4643280" y="2938320"/>
            <a:ext cx="2592720" cy="171468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9" descr=""/>
          <p:cNvPicPr/>
          <p:nvPr/>
        </p:nvPicPr>
        <p:blipFill>
          <a:blip r:embed="rId4"/>
          <a:stretch/>
        </p:blipFill>
        <p:spPr>
          <a:xfrm>
            <a:off x="5940360" y="4727520"/>
            <a:ext cx="2448000" cy="194148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10" descr=""/>
          <p:cNvPicPr/>
          <p:nvPr/>
        </p:nvPicPr>
        <p:blipFill>
          <a:blip r:embed="rId5"/>
          <a:stretch/>
        </p:blipFill>
        <p:spPr>
          <a:xfrm>
            <a:off x="2340000" y="4727520"/>
            <a:ext cx="29527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95280" y="25992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ление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какими приборами мы сегодня познакомились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в открытом манометре уровни жидкости в обоих коленах одинаковы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при погружении коробочки в воду изменяются уровни жидкости в коленах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с помощью жидкостного манометра показать, что на одной и той же глубине давление одинаково по всем направлениям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устроен металлический манометр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ких единицах градуируется шкала металлического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:</a:t>
            </a: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§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45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96" name="Прямоугольник 3" descr=""/>
          <p:cNvPicPr/>
          <p:nvPr/>
        </p:nvPicPr>
        <p:blipFill>
          <a:blip r:embed="rId2"/>
          <a:stretch/>
        </p:blipFill>
        <p:spPr>
          <a:xfrm>
            <a:off x="2011320" y="1700280"/>
            <a:ext cx="519444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17240" y="379440"/>
            <a:ext cx="8258040" cy="61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 А.В. Перышкин. Физика. 7 класс. - М.: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.М. Гутник, Е,В. Рыбакова. Методические материалы для учителя. Физика. 7 класс. - М.;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2"/>
              </a:rPr>
              <a:t>http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3"/>
              </a:rPr>
              <a:t>://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4"/>
              </a:rPr>
              <a:t>files.school-collection.edu.ru/dlrstore/669b5254-e921-11dc-95ff-0800200c9a66/4_12.swf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ru.wikipedia.org/wiki/%CC%E0%ED%EE%EC%E5%F2%F0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images.yandex.ru/yandsearch?text=%D0%BC%D0%B0%D0%BD%D0%BE%D0%BC%D0%B5%D1%82%D1%80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920" y="33336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урок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ть представление об устройстве и принципах работы жидкостного и металлического манометров, рассмотреть их применение в различных областях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буч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ить устройство и принцип действия открытого        жидкостного и металлического манометров; научить пользоваться ими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вив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познавательный интерес, коммуникативные и   экспериментаторские компетенции учащихся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оспитывающие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ывать доброжелательное отношение к  участникам учебного процесса,  понимание необходимости заботиться о своем здоровье и приобретении житейских навыков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9920" y="1554120"/>
            <a:ext cx="4608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из ученых предложил способ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Ньютон            В) Ломоносов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скаль            Г) Торричелл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буквой обозначают атмосферное давлени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S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Какова единица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кг или г                            В) Н или к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 или мм рт. ст.             Г) м/с или км/ч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9560" y="1197000"/>
            <a:ext cx="18900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68360" y="259920"/>
            <a:ext cx="8136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 называется прибор для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альтимер                     В) мензурк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барометр                      Г) высотоме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Чему равно значение нормального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1 Н                              В) 760 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1 Па                             Г) 760 мм рт. ст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Как называется прибор для измерения высоты, используемый в авиации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высотомер                  В) анероид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альтимер                     Г) ареомет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9640" y="691920"/>
            <a:ext cx="79200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ы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4360" y="2205000"/>
          <a:ext cx="7775280" cy="2247840"/>
        </p:xfrm>
        <a:graphic>
          <a:graphicData uri="http://schemas.openxmlformats.org/drawingml/2006/table">
            <a:tbl>
              <a:tblPr/>
              <a:tblGrid>
                <a:gridCol w="1295280"/>
                <a:gridCol w="1368360"/>
                <a:gridCol w="1368360"/>
                <a:gridCol w="1224000"/>
                <a:gridCol w="1295640"/>
                <a:gridCol w="1223640"/>
              </a:tblGrid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755280" y="691920"/>
            <a:ext cx="6924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:</a:t>
            </a: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endParaRPr b="0" i="1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62244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Объект 3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3384720" cy="39607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44640"/>
          </a:xfrm>
          <a:prstGeom prst="rect">
            <a:avLst/>
          </a:prstGeom>
          <a:noFill/>
          <a:ln w="0">
            <a:noFill/>
          </a:ln>
        </p:spPr>
        <p:txBody>
          <a:bodyPr tIns="-1080" bIns="-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1" name="Рисунок 4" descr=""/>
          <p:cNvPicPr/>
          <p:nvPr/>
        </p:nvPicPr>
        <p:blipFill>
          <a:blip r:embed="rId3"/>
          <a:stretch/>
        </p:blipFill>
        <p:spPr>
          <a:xfrm>
            <a:off x="5003640" y="2708280"/>
            <a:ext cx="3456000" cy="39607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539640" y="26028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приборы для измерения давлений, больших или меньших атмосферного (от греческого «манос» – редкий, неплотной и «метрео» - измеряю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бывают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жидкостные                     б) металлические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136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250920" y="26028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дкостный манометр состоит из двухколенной стеклянной трубки, в которую налита какая – нибудь жидкость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и принцип работы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ытого жидкостного манометра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5" name="Объект 7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8" descr=""/>
          <p:cNvPicPr/>
          <p:nvPr/>
        </p:nvPicPr>
        <p:blipFill>
          <a:blip r:embed="rId3"/>
          <a:stretch/>
        </p:blipFill>
        <p:spPr>
          <a:xfrm>
            <a:off x="320364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9" descr=""/>
          <p:cNvPicPr/>
          <p:nvPr/>
        </p:nvPicPr>
        <p:blipFill>
          <a:blip r:embed="rId4"/>
          <a:stretch/>
        </p:blipFill>
        <p:spPr>
          <a:xfrm>
            <a:off x="6156360" y="254160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39280" y="333360"/>
            <a:ext cx="7993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 металлического манометр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нутая в дугу металлическая труб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ычаг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убчат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ел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  Кран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0" name="Рисунок 3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3168720" cy="33847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4" descr=""/>
          <p:cNvPicPr/>
          <p:nvPr/>
        </p:nvPicPr>
        <p:blipFill>
          <a:blip r:embed="rId3"/>
          <a:stretch/>
        </p:blipFill>
        <p:spPr>
          <a:xfrm>
            <a:off x="5364000" y="3213000"/>
            <a:ext cx="2737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20:50:36Z</dcterms:created>
  <dc:creator>Marianna</dc:creator>
  <dc:description/>
  <dc:language>en-US</dc:language>
  <cp:lastModifiedBy>Мама</cp:lastModifiedBy>
  <dcterms:modified xsi:type="dcterms:W3CDTF">2013-03-07T21:45:19Z</dcterms:modified>
  <cp:revision>43</cp:revision>
  <dc:subject/>
  <dc:title>Манометры</dc:title>
</cp:coreProperties>
</file>