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2.gif" ContentType="image/gif"/>
  <Override PartName="/ppt/media/image3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19.png" ContentType="image/pn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98442-17DF-4E2C-B5EF-BD0D29B81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54200" y="357732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3BC24-6ED8-4AA2-BBFA-24C16A473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6178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2CDDB-491E-4867-A676-0936A4956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8196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972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5420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8196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972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4780C-E411-4356-A7EF-B9C995FA0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C28B03-EDE7-4105-9E82-9B494FFD5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601B66-893D-4971-8B52-97436EB34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3F115E-471C-4B5C-A673-7F986BF20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C565AB-347F-410E-B410-B340B9C65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52DF26-33C1-461B-AAA2-65798435C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069560" y="1553760"/>
            <a:ext cx="2073240" cy="91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C42BA6-558B-4F58-8349-F6F1C3B58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274C03-AA76-4C50-9EED-70B0F317B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E5EDC-0C80-4A5B-B82A-9ECDE727E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6178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84807A-BB86-4E70-8C0A-EEE04B1D2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F07BC3-1A86-418C-9D31-BEB8FFE32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454200" y="357732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3FD288-87F6-4615-8DF3-588DB4AE9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6178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EC0032-F6A7-4361-B55F-AE29588D6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8196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30972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45420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88196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30972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533826-58DB-456C-BEB6-F9D7E94F7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1CAF1E-566E-4AB0-B27B-DB9B63D32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4FA8757-1D5D-47CA-A474-1D7F5CB63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E5CC689-F398-4E0F-95A1-37C102B77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01B031B-FD9E-4DB1-8AC4-C6629552A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E15EA94-505A-43E9-80D8-6506B7114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78503-C09A-46DB-AFD5-221A0379F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069560" y="1553760"/>
            <a:ext cx="2073240" cy="91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C657062-B95D-4861-BBF9-048B87068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480BAA1-B610-4C57-81A7-FF190D34D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6178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BF941F5-1BD8-47DB-B8F7-7E7E017C4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256A7E9-F124-4FD3-845D-11002C8C4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454200" y="357732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984DD51-413B-401B-ADFC-C998AE750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6178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5344682-3465-4F28-9461-3B077B172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88196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30972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345420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88196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30972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B39D373-5455-4F72-A9CE-F97B161AD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E827470-1AD6-4A66-AC28-FFFC7DB9C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0DDD3E5-6376-476B-A86D-57B5C9942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DD25FDF-4824-48A8-BC55-557F18060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24E22-E413-4C16-8832-AEA3B75F6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7857141-C49B-48FE-ADD4-6477A48E9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26524AA-CE7A-4214-AA80-1162CB580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1069560" y="1553760"/>
            <a:ext cx="2073240" cy="91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BC03F99-4917-45B1-AD5C-D42661715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EDC45B2-ABA9-4FF9-9B33-4229CE3E8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6178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E914895-B509-4AEC-8818-AE44D00EB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F0E2A6A-6675-4E1B-A012-776008A5C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454200" y="357732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55F125D-5F9A-48EA-AD59-5EB17C9FD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56178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464064B-1E53-4D48-BEA4-5851D763B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88196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30972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345420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488196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30972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771AFF9-41AB-47D1-B8FD-7B8763D8E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D4E1322-A450-4C27-BDCE-D196F9B57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316E6-3BB6-439B-81B1-A95E68B87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3665EC9-BF30-4774-8DE2-2FC301844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43E7E64-5394-48CD-BC48-904969C68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CB5CF89-309D-4AB8-8610-E25C9FFCB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BFF9A2E-A242-47DF-8D50-D453F0C59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1069560" y="1553760"/>
            <a:ext cx="2073240" cy="91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BB1B6C7-3609-4212-B537-E27222BF0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99EDDEF-AB3B-49D2-853A-E0739FCB7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56178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B3DA57D-D722-4B0A-A3B0-9DCE6D71B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6C0C647-2152-4F06-84A2-1A86724AA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454200" y="357732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F9DB7BD-02DA-4231-9240-24FAD9339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56178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371146B-3FCB-41FF-8D22-CF1AD178F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69560" y="1553760"/>
            <a:ext cx="2073240" cy="91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0B3B1-34F8-44CC-8497-E6D5A4E82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88196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30972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345420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488196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30972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1CE319C-CCEA-4904-89A4-DCC5C3BC2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C5D947D-C1DB-4DEE-9007-B0F7A3AAE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8A9FBB2-DEBD-46D3-B535-09AEC371F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1C3A1B9-7D46-4308-86EA-629BE20FE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AEB84C4-D913-49D0-8E6F-D79B26F8B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E988C1B-A653-430A-A4EE-BAF40E6DE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1069560" y="1553760"/>
            <a:ext cx="2073240" cy="91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1277EAA-DD99-4F5C-992F-6135D91D7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3092A0A-2993-4FE4-AB0A-991987DC7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56178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4F8EFD4-EBC1-4008-94AD-97D8D9A42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4956941-B7C9-48E3-B2E5-345C3C26B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36272-BAEF-4AC1-8305-407763469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454200" y="357732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8B8BA3A-952C-463D-8814-89ACDA44A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56178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70C7AD0-76F7-467A-AAE2-4F499342D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88196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30972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345420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488196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30972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731F6F7-1CA5-43C4-8D83-FC6B9A415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6178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C7303-F277-4838-B2C4-EDF96A9C7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12076-88D2-421C-B962-A9F6361BE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Click to edit the outline text format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econd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Third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Four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162920" y="1890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ndar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ndar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69560" y="6356520"/>
            <a:ext cx="5102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159680" y="6356520"/>
            <a:ext cx="1138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ndar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1C1E9-D317-4E13-86E1-E108FEE631EC}" type="slidenum">
              <a:rPr b="0" lang="en-US" sz="1200" spc="-1" strike="noStrike">
                <a:solidFill>
                  <a:srgbClr val="ffffff"/>
                </a:solidFill>
                <a:latin typeface="Candar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Click to edit the outline text format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econd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Third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Four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7162920" y="1890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ndar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ndar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5"/>
          </p:nvPr>
        </p:nvSpPr>
        <p:spPr>
          <a:xfrm>
            <a:off x="7159680" y="6356520"/>
            <a:ext cx="1138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ndar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FE8D1-9763-402D-BBB9-DCB5188ADCD4}" type="slidenum">
              <a:rPr b="0" lang="en-US" sz="1200" spc="-1" strike="noStrike">
                <a:solidFill>
                  <a:srgbClr val="ffffff"/>
                </a:solidFill>
                <a:latin typeface="Candar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6"/>
          </p:nvPr>
        </p:nvSpPr>
        <p:spPr>
          <a:xfrm>
            <a:off x="493200" y="6356520"/>
            <a:ext cx="5102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Click to edit the outline text format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econd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Third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Four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7162920" y="1890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ndar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ndar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8"/>
          </p:nvPr>
        </p:nvSpPr>
        <p:spPr>
          <a:xfrm>
            <a:off x="7159680" y="6356520"/>
            <a:ext cx="1138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ndar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3DC60-4453-4F2A-BB1F-D853D993C287}" type="slidenum">
              <a:rPr b="0" lang="en-US" sz="1200" spc="-1" strike="noStrike">
                <a:solidFill>
                  <a:srgbClr val="ffffff"/>
                </a:solidFill>
                <a:latin typeface="Candar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9"/>
          </p:nvPr>
        </p:nvSpPr>
        <p:spPr>
          <a:xfrm>
            <a:off x="493200" y="6356520"/>
            <a:ext cx="5102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Click to edit the outline text format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econd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Third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Four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7162920" y="1550520"/>
            <a:ext cx="18288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ndar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ndar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sldNum" idx="11"/>
          </p:nvPr>
        </p:nvSpPr>
        <p:spPr>
          <a:xfrm>
            <a:off x="7159680" y="6356520"/>
            <a:ext cx="1138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ndar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FFE65-EB55-4F7A-99ED-11299E335577}" type="slidenum">
              <a:rPr b="0" lang="en-US" sz="1200" spc="-1" strike="noStrike">
                <a:solidFill>
                  <a:srgbClr val="ffffff"/>
                </a:solidFill>
                <a:latin typeface="Candar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12"/>
          </p:nvPr>
        </p:nvSpPr>
        <p:spPr>
          <a:xfrm>
            <a:off x="1069560" y="6356520"/>
            <a:ext cx="5102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Click to edit the outline text format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econd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Third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Four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7162920" y="1890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ndar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ndar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sldNum" idx="14"/>
          </p:nvPr>
        </p:nvSpPr>
        <p:spPr>
          <a:xfrm>
            <a:off x="7159680" y="6356520"/>
            <a:ext cx="1138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ndar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A775A-37C5-41D4-83E0-2250E79E6B0F}" type="slidenum">
              <a:rPr b="0" lang="en-US" sz="1200" spc="-1" strike="noStrike">
                <a:solidFill>
                  <a:srgbClr val="ffffff"/>
                </a:solidFill>
                <a:latin typeface="Candar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ftr" idx="15"/>
          </p:nvPr>
        </p:nvSpPr>
        <p:spPr>
          <a:xfrm>
            <a:off x="493200" y="6356520"/>
            <a:ext cx="5102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Click to edit the outline text format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econd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Third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Four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7162920" y="1890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ndar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ndar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sldNum" idx="17"/>
          </p:nvPr>
        </p:nvSpPr>
        <p:spPr>
          <a:xfrm>
            <a:off x="7159680" y="6356520"/>
            <a:ext cx="1138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ndar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122EC-E7FB-4F5C-A00F-E86A26F18188}" type="slidenum">
              <a:rPr b="0" lang="en-US" sz="1200" spc="-1" strike="noStrike">
                <a:solidFill>
                  <a:srgbClr val="ffffff"/>
                </a:solidFill>
                <a:latin typeface="Candar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ftr" idx="18"/>
          </p:nvPr>
        </p:nvSpPr>
        <p:spPr>
          <a:xfrm>
            <a:off x="493200" y="6356520"/>
            <a:ext cx="5102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gif"/><Relationship Id="rId6" Type="http://schemas.openxmlformats.org/officeDocument/2006/relationships/image" Target="../media/image13.jpeg"/><Relationship Id="rId7" Type="http://schemas.openxmlformats.org/officeDocument/2006/relationships/image" Target="../media/image14.jpe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files.school-collection.edu.ru/dlrstore/669b5254-e921-11dc-95ff-0800200c9a66/4_12.swf" TargetMode="External"/><Relationship Id="rId3" Type="http://schemas.openxmlformats.org/officeDocument/2006/relationships/hyperlink" Target="http://files.school-collection.edu.ru/dlrstore/669b5254-e921-11dc-95ff-0800200c9a66/4_12.swf" TargetMode="External"/><Relationship Id="rId4" Type="http://schemas.openxmlformats.org/officeDocument/2006/relationships/hyperlink" Target="http://files.school-collection.edu.ru/dlrstore/669b5254-e921-11dc-95ff-0800200c9a66/4_12.swf" TargetMode="External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066320" y="1406160"/>
            <a:ext cx="7177320" cy="22510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АНОМЕТРЫ</a:t>
            </a:r>
            <a:br>
              <a:rPr sz="6600"/>
            </a:br>
            <a:r>
              <a:rPr b="0" lang="en-US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7 КЛАСС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3708360" y="4365720"/>
            <a:ext cx="489600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втор:</a:t>
            </a:r>
            <a:endParaRPr b="0" i="1" lang="en-US" sz="2400" spc="-1" strike="noStrike">
              <a:solidFill>
                <a:srgbClr val="ffffff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читель физики МОУ «СОШ № 1»</a:t>
            </a:r>
            <a:endParaRPr b="0" i="1" lang="en-US" sz="2400" spc="-1" strike="noStrike">
              <a:solidFill>
                <a:srgbClr val="ffffff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г. Ивантеевки</a:t>
            </a:r>
            <a:endParaRPr b="0" i="1" lang="en-US" sz="2400" spc="-1" strike="noStrike">
              <a:solidFill>
                <a:srgbClr val="ffffff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Гагарина Марианна Сергеевна</a:t>
            </a:r>
            <a:endParaRPr b="0" i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539280" y="333360"/>
            <a:ext cx="2519640" cy="2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274" name="Рисунок 3" descr=""/>
          <p:cNvPicPr/>
          <p:nvPr/>
        </p:nvPicPr>
        <p:blipFill>
          <a:blip r:embed="rId2"/>
          <a:stretch/>
        </p:blipFill>
        <p:spPr>
          <a:xfrm>
            <a:off x="468360" y="1197000"/>
            <a:ext cx="4390920" cy="4535640"/>
          </a:xfrm>
          <a:prstGeom prst="rect">
            <a:avLst/>
          </a:prstGeom>
          <a:ln w="0">
            <a:noFill/>
          </a:ln>
        </p:spPr>
      </p:pic>
      <p:sp>
        <p:nvSpPr>
          <p:cNvPr id="275" name="TextBox 5"/>
          <p:cNvSpPr/>
          <p:nvPr/>
        </p:nvSpPr>
        <p:spPr>
          <a:xfrm>
            <a:off x="5003640" y="404640"/>
            <a:ext cx="3961080" cy="637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тветьте на вопросы: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. В каких единицах</a:t>
            </a:r>
            <a:endParaRPr b="0" lang="en-US" sz="24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градуируется шкала </a:t>
            </a:r>
            <a:endParaRPr b="0" lang="en-US" sz="24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еталлического манометра?</a:t>
            </a:r>
            <a:endParaRPr b="0" lang="en-US" sz="24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. Чему равна цена деления?</a:t>
            </a:r>
            <a:endParaRPr b="0" lang="en-US" sz="24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3. Назовите предел измерения.</a:t>
            </a:r>
            <a:endParaRPr b="0" lang="en-US" sz="24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4. Какое давление показывает манометр?</a:t>
            </a:r>
            <a:endParaRPr b="0" lang="en-US" sz="24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5. Выразите это давление в Паскалях.</a:t>
            </a:r>
            <a:endParaRPr b="0" lang="en-US" sz="24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 txBox="1"/>
          <p:nvPr/>
        </p:nvSpPr>
        <p:spPr>
          <a:xfrm>
            <a:off x="178920" y="188640"/>
            <a:ext cx="8713800" cy="524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анометры применяются во всех случаях, когда необходимо знать, контролировать и регулировать давление. Наиболее часто манометры применяют в теплоэнергетике, на химических, нефтехимических предприятиях, предприятиях пищевой отрасли.</a:t>
            </a:r>
            <a:endParaRPr b="0" i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278" name="Рисунок 7" descr=""/>
          <p:cNvPicPr/>
          <p:nvPr/>
        </p:nvPicPr>
        <p:blipFill>
          <a:blip r:embed="rId2"/>
          <a:stretch/>
        </p:blipFill>
        <p:spPr>
          <a:xfrm>
            <a:off x="3132000" y="2421000"/>
            <a:ext cx="1944720" cy="1512720"/>
          </a:xfrm>
          <a:prstGeom prst="rect">
            <a:avLst/>
          </a:prstGeom>
          <a:ln w="0">
            <a:noFill/>
          </a:ln>
        </p:spPr>
      </p:pic>
      <p:pic>
        <p:nvPicPr>
          <p:cNvPr id="279" name="Рисунок 8" descr=""/>
          <p:cNvPicPr/>
          <p:nvPr/>
        </p:nvPicPr>
        <p:blipFill>
          <a:blip r:embed="rId3"/>
          <a:stretch/>
        </p:blipFill>
        <p:spPr>
          <a:xfrm>
            <a:off x="7020000" y="5084640"/>
            <a:ext cx="1728720" cy="1657440"/>
          </a:xfrm>
          <a:prstGeom prst="rect">
            <a:avLst/>
          </a:prstGeom>
          <a:ln w="0">
            <a:noFill/>
          </a:ln>
        </p:spPr>
      </p:pic>
      <p:pic>
        <p:nvPicPr>
          <p:cNvPr id="280" name="Рисунок 9" descr=""/>
          <p:cNvPicPr/>
          <p:nvPr/>
        </p:nvPicPr>
        <p:blipFill>
          <a:blip r:embed="rId4"/>
          <a:stretch/>
        </p:blipFill>
        <p:spPr>
          <a:xfrm>
            <a:off x="5292720" y="2421000"/>
            <a:ext cx="3456000" cy="2520720"/>
          </a:xfrm>
          <a:prstGeom prst="rect">
            <a:avLst/>
          </a:prstGeom>
          <a:ln w="0">
            <a:noFill/>
          </a:ln>
        </p:spPr>
      </p:pic>
      <p:pic>
        <p:nvPicPr>
          <p:cNvPr id="281" name="Рисунок 10" descr=""/>
          <p:cNvPicPr/>
          <p:nvPr/>
        </p:nvPicPr>
        <p:blipFill>
          <a:blip r:embed="rId5"/>
          <a:stretch/>
        </p:blipFill>
        <p:spPr>
          <a:xfrm>
            <a:off x="179280" y="2781360"/>
            <a:ext cx="2737080" cy="3600360"/>
          </a:xfrm>
          <a:prstGeom prst="rect">
            <a:avLst/>
          </a:prstGeom>
          <a:ln w="0">
            <a:noFill/>
          </a:ln>
        </p:spPr>
      </p:pic>
      <p:pic>
        <p:nvPicPr>
          <p:cNvPr id="282" name="Рисунок 11" descr=""/>
          <p:cNvPicPr/>
          <p:nvPr/>
        </p:nvPicPr>
        <p:blipFill>
          <a:blip r:embed="rId6"/>
          <a:stretch/>
        </p:blipFill>
        <p:spPr>
          <a:xfrm>
            <a:off x="5292720" y="5084640"/>
            <a:ext cx="1511280" cy="1657440"/>
          </a:xfrm>
          <a:prstGeom prst="rect">
            <a:avLst/>
          </a:prstGeom>
          <a:ln w="0">
            <a:noFill/>
          </a:ln>
        </p:spPr>
      </p:pic>
      <p:pic>
        <p:nvPicPr>
          <p:cNvPr id="283" name="Рисунок 12" descr=""/>
          <p:cNvPicPr/>
          <p:nvPr/>
        </p:nvPicPr>
        <p:blipFill>
          <a:blip r:embed="rId7"/>
          <a:stretch/>
        </p:blipFill>
        <p:spPr>
          <a:xfrm>
            <a:off x="3132000" y="4367160"/>
            <a:ext cx="1944720" cy="23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Объект 4" descr=""/>
          <p:cNvPicPr/>
          <p:nvPr/>
        </p:nvPicPr>
        <p:blipFill>
          <a:blip r:embed="rId2"/>
          <a:stretch/>
        </p:blipFill>
        <p:spPr>
          <a:xfrm>
            <a:off x="1187280" y="2938320"/>
            <a:ext cx="2737080" cy="171468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6" name="Прямоугольник 3"/>
          <p:cNvSpPr/>
          <p:nvPr/>
        </p:nvSpPr>
        <p:spPr>
          <a:xfrm>
            <a:off x="250920" y="260280"/>
            <a:ext cx="8569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фигмоманометр (тонометр) — прибор для измерения артериального давления. Состоит из манжеты, надеваемой на руку пациенту, устройства для нагнетания воздуха в манжету и манометра, измеряющего давление воздуха в манжете. Также, сфигмоманометр оснащается либо стетоскопом, либо электронным устройством, регистрирующим пульсации воздуха в манжете.</a:t>
            </a:r>
            <a:endParaRPr b="0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287" name="Рисунок 5" descr=""/>
          <p:cNvPicPr/>
          <p:nvPr/>
        </p:nvPicPr>
        <p:blipFill>
          <a:blip r:embed="rId3"/>
          <a:stretch/>
        </p:blipFill>
        <p:spPr>
          <a:xfrm>
            <a:off x="4643280" y="2938320"/>
            <a:ext cx="2592720" cy="1714680"/>
          </a:xfrm>
          <a:prstGeom prst="rect">
            <a:avLst/>
          </a:prstGeom>
          <a:ln w="0">
            <a:noFill/>
          </a:ln>
        </p:spPr>
      </p:pic>
      <p:pic>
        <p:nvPicPr>
          <p:cNvPr id="288" name="Рисунок 9" descr=""/>
          <p:cNvPicPr/>
          <p:nvPr/>
        </p:nvPicPr>
        <p:blipFill>
          <a:blip r:embed="rId4"/>
          <a:stretch/>
        </p:blipFill>
        <p:spPr>
          <a:xfrm>
            <a:off x="5940360" y="4727520"/>
            <a:ext cx="2448000" cy="1941480"/>
          </a:xfrm>
          <a:prstGeom prst="rect">
            <a:avLst/>
          </a:prstGeom>
          <a:ln w="0">
            <a:noFill/>
          </a:ln>
        </p:spPr>
      </p:pic>
      <p:pic>
        <p:nvPicPr>
          <p:cNvPr id="289" name="Рисунок 10" descr=""/>
          <p:cNvPicPr/>
          <p:nvPr/>
        </p:nvPicPr>
        <p:blipFill>
          <a:blip r:embed="rId5"/>
          <a:stretch/>
        </p:blipFill>
        <p:spPr>
          <a:xfrm>
            <a:off x="2340000" y="4727520"/>
            <a:ext cx="2952720" cy="194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395280" y="259920"/>
            <a:ext cx="842472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крепление</a:t>
            </a: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 какими приборами мы сегодня познакомились?</a:t>
            </a: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чему в открытом манометре уровни жидкости в обоих коленах одинаковые?</a:t>
            </a: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чему при погружении коробочки в воду изменяются уровни жидкости в коленах манометра?</a:t>
            </a: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ак с помощью жидкостного манометра показать, что на одной и той же глубине давление одинаково по всем направлениям?</a:t>
            </a: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ак устроен металлический манометр?</a:t>
            </a: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каких единицах градуируется шкала металлического манометра?</a:t>
            </a: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 txBox="1"/>
          <p:nvPr/>
        </p:nvSpPr>
        <p:spPr>
          <a:xfrm>
            <a:off x="684000" y="476280"/>
            <a:ext cx="784836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ff"/>
              </a:solidFill>
              <a:latin typeface="Candara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омашнее задание:</a:t>
            </a:r>
            <a:endParaRPr b="0" i="1" lang="en-US" sz="3600" spc="-1" strike="noStrike">
              <a:solidFill>
                <a:srgbClr val="ffffff"/>
              </a:solidFill>
              <a:latin typeface="Candar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  <a:ea typeface="Arial"/>
              </a:rPr>
              <a:t>§</a:t>
            </a:r>
            <a:r>
              <a:rPr b="1" lang="ru-RU" sz="2800" spc="-1" strike="noStrike">
                <a:solidFill>
                  <a:srgbClr val="002060"/>
                </a:solidFill>
                <a:latin typeface="Arial"/>
                <a:ea typeface="Arial"/>
              </a:rPr>
              <a:t> 45.</a:t>
            </a: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26560" y="1341000"/>
            <a:ext cx="57636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684000" y="476280"/>
            <a:ext cx="784836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26560" y="1341000"/>
            <a:ext cx="57636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296" name="Прямоугольник 3" descr=""/>
          <p:cNvPicPr/>
          <p:nvPr/>
        </p:nvPicPr>
        <p:blipFill>
          <a:blip r:embed="rId2"/>
          <a:stretch/>
        </p:blipFill>
        <p:spPr>
          <a:xfrm>
            <a:off x="2011320" y="1700280"/>
            <a:ext cx="5194440" cy="33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 txBox="1"/>
          <p:nvPr/>
        </p:nvSpPr>
        <p:spPr>
          <a:xfrm>
            <a:off x="417240" y="379440"/>
            <a:ext cx="8258040" cy="614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сточники</a:t>
            </a: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.   А.В. Перышкин. Физика. 7 класс. - М.: Дрофа</a:t>
            </a:r>
            <a:endParaRPr b="0" i="1" lang="en-US" sz="24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.М. Гутник, Е,В. Рыбакова. Методические материалы для учителя. Физика. 7 класс. - М.; Дрофа</a:t>
            </a:r>
            <a:endParaRPr b="0" i="1" lang="en-US" sz="24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79a4"/>
                </a:solidFill>
                <a:uFillTx/>
                <a:latin typeface="Times New Roman"/>
                <a:ea typeface="Times New Roman"/>
                <a:hlinkClick r:id="rId2"/>
              </a:rPr>
              <a:t>http</a:t>
            </a:r>
            <a:r>
              <a:rPr b="0" lang="en-US" sz="2400" spc="-1" strike="noStrike" u="sng">
                <a:solidFill>
                  <a:srgbClr val="0079a4"/>
                </a:solidFill>
                <a:uFillTx/>
                <a:latin typeface="Times New Roman"/>
                <a:ea typeface="Times New Roman"/>
                <a:hlinkClick r:id="rId3"/>
              </a:rPr>
              <a:t>://</a:t>
            </a:r>
            <a:r>
              <a:rPr b="0" lang="en-US" sz="2400" spc="-1" strike="noStrike" u="sng">
                <a:solidFill>
                  <a:srgbClr val="0079a4"/>
                </a:solidFill>
                <a:uFillTx/>
                <a:latin typeface="Times New Roman"/>
                <a:ea typeface="Times New Roman"/>
                <a:hlinkClick r:id="rId4"/>
              </a:rPr>
              <a:t>files.school-collection.edu.ru/dlrstore/669b5254-e921-11dc-95ff-0800200c9a66/4_12.swf</a:t>
            </a:r>
            <a:endParaRPr b="0" i="1" lang="en-US" sz="24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http://ru.wikipedia.org/wiki/%CC%E0%ED%EE%EC%E5%F2%F0</a:t>
            </a:r>
            <a:endParaRPr b="0" i="1" lang="en-US" sz="24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http://images.yandex.ru/yandsearch?text=%D0%BC%D0%B0%D0%BD%D0%BE%D0%BC%D0%B5%D1%82%D1%80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i="1" lang="en-US" sz="24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Candar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50920" y="333360"/>
            <a:ext cx="864216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Цель урока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:</a:t>
            </a:r>
            <a:endParaRPr b="0" i="1" lang="en-US" sz="24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ать представление об устройстве и принципах работы жидкостного и металлического манометров, рассмотреть их применение в различных областях.</a:t>
            </a:r>
            <a:endParaRPr b="0" i="1" lang="en-US" sz="24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дачи: </a:t>
            </a:r>
            <a:endParaRPr b="0" i="1" lang="en-US" sz="24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обучающие:</a:t>
            </a:r>
            <a:endParaRPr b="0" i="1" lang="en-US" sz="24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зучить устройство и принцип действия открытого        жидкостного и металлического манометров; научить пользоваться ими;</a:t>
            </a:r>
            <a:endParaRPr b="0" i="1" lang="en-US" sz="24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развивающие:</a:t>
            </a:r>
            <a:endParaRPr b="0" i="1" lang="en-US" sz="24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звивать познавательный интерес, коммуникативные и   экспериментаторские компетенции учащихся;</a:t>
            </a:r>
            <a:endParaRPr b="0" i="1" lang="en-US" sz="24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воспитывающие: </a:t>
            </a:r>
            <a:endParaRPr b="0" i="1" lang="en-US" sz="24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оспитывать доброжелательное отношение к  участникам учебного процесса,  понимание необходимости заботиться о своем здоровье и приобретении житейских навыков.</a:t>
            </a:r>
            <a:endParaRPr b="0" i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069920" y="1554120"/>
            <a:ext cx="46080" cy="447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6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 txBox="1"/>
          <p:nvPr/>
        </p:nvSpPr>
        <p:spPr>
          <a:xfrm>
            <a:off x="395280" y="404640"/>
            <a:ext cx="835344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ест</a:t>
            </a: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то из ученых предложил способ измерения атмосферного давления?</a:t>
            </a: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         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) Ньютон            В) Ломоносов</a:t>
            </a: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         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) Паскаль            Г) Торричелли</a:t>
            </a: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акой буквой обозначают атмосферное давление?</a:t>
            </a: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         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) </a:t>
            </a:r>
            <a:r>
              <a:rPr b="0" lang="en-U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F                        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) р</a:t>
            </a: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         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) </a:t>
            </a:r>
            <a:r>
              <a:rPr b="0" lang="en-U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m                        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Г</a:t>
            </a:r>
            <a:r>
              <a:rPr b="0" lang="en-U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) S</a:t>
            </a: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3. Какова единица атмосферного давления?</a:t>
            </a: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) кг или г                            В) Н или кН</a:t>
            </a: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) Па или мм рт. ст.             Г) м/с или км/ч</a:t>
            </a: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069560" y="1197000"/>
            <a:ext cx="189000" cy="447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6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 txBox="1"/>
          <p:nvPr/>
        </p:nvSpPr>
        <p:spPr>
          <a:xfrm>
            <a:off x="468360" y="259920"/>
            <a:ext cx="813600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ест</a:t>
            </a: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4. Как называется прибор для измерения атмосферного давления?</a:t>
            </a: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) альтимер                     В) мензурка</a:t>
            </a: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) барометр                      Г) высотомер</a:t>
            </a: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5. Чему равно значение нормального атмосферного давления?</a:t>
            </a: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) 1 Н                              В) 760 Н</a:t>
            </a: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) 1 Па                             Г) 760 мм рт. ст.</a:t>
            </a: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6. Как называется прибор для измерения высоты, используемый в авиации?</a:t>
            </a: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) высотомер                  В) анероид</a:t>
            </a: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) альтимер                     Г) ареометр</a:t>
            </a: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539640" y="691920"/>
            <a:ext cx="7920000" cy="47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тветы</a:t>
            </a: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256" name=""/>
          <p:cNvGraphicFramePr/>
          <p:nvPr/>
        </p:nvGraphicFramePr>
        <p:xfrm>
          <a:off x="684360" y="2205000"/>
          <a:ext cx="7775280" cy="2247840"/>
        </p:xfrm>
        <a:graphic>
          <a:graphicData uri="http://schemas.openxmlformats.org/drawingml/2006/table">
            <a:tbl>
              <a:tblPr/>
              <a:tblGrid>
                <a:gridCol w="1295280"/>
                <a:gridCol w="1368360"/>
                <a:gridCol w="1368360"/>
                <a:gridCol w="1224000"/>
                <a:gridCol w="1295640"/>
                <a:gridCol w="1223640"/>
              </a:tblGrid>
              <a:tr h="11239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3f3f3f"/>
                      </a:solidFill>
                    </a:lnL>
                    <a:lnR w="5760">
                      <a:solidFill>
                        <a:srgbClr val="3f3f3f"/>
                      </a:solidFill>
                    </a:lnR>
                    <a:lnT w="5760">
                      <a:solidFill>
                        <a:srgbClr val="3f3f3f"/>
                      </a:solidFill>
                    </a:lnT>
                    <a:lnB w="5760">
                      <a:solidFill>
                        <a:srgbClr val="3f3f3f"/>
                      </a:solidFill>
                    </a:lnB>
                    <a:solidFill>
                      <a:srgbClr val="e8e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3f3f3f"/>
                      </a:solidFill>
                    </a:lnL>
                    <a:lnR w="5760">
                      <a:solidFill>
                        <a:srgbClr val="3f3f3f"/>
                      </a:solidFill>
                    </a:lnR>
                    <a:lnT w="5760">
                      <a:solidFill>
                        <a:srgbClr val="3f3f3f"/>
                      </a:solidFill>
                    </a:lnT>
                    <a:lnB w="5760">
                      <a:solidFill>
                        <a:srgbClr val="3f3f3f"/>
                      </a:solidFill>
                    </a:lnB>
                    <a:solidFill>
                      <a:srgbClr val="e8e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3f3f3f"/>
                      </a:solidFill>
                    </a:lnL>
                    <a:lnR w="5760">
                      <a:solidFill>
                        <a:srgbClr val="3f3f3f"/>
                      </a:solidFill>
                    </a:lnR>
                    <a:lnT w="5760">
                      <a:solidFill>
                        <a:srgbClr val="3f3f3f"/>
                      </a:solidFill>
                    </a:lnT>
                    <a:lnB w="5760">
                      <a:solidFill>
                        <a:srgbClr val="3f3f3f"/>
                      </a:solidFill>
                    </a:lnB>
                    <a:solidFill>
                      <a:srgbClr val="e8e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3f3f3f"/>
                      </a:solidFill>
                    </a:lnL>
                    <a:lnR w="5760">
                      <a:solidFill>
                        <a:srgbClr val="3f3f3f"/>
                      </a:solidFill>
                    </a:lnR>
                    <a:lnT w="5760">
                      <a:solidFill>
                        <a:srgbClr val="3f3f3f"/>
                      </a:solidFill>
                    </a:lnT>
                    <a:lnB w="5760">
                      <a:solidFill>
                        <a:srgbClr val="3f3f3f"/>
                      </a:solidFill>
                    </a:lnB>
                    <a:solidFill>
                      <a:srgbClr val="e8e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3f3f3f"/>
                      </a:solidFill>
                    </a:lnL>
                    <a:lnR w="5760">
                      <a:solidFill>
                        <a:srgbClr val="3f3f3f"/>
                      </a:solidFill>
                    </a:lnR>
                    <a:lnT w="5760">
                      <a:solidFill>
                        <a:srgbClr val="3f3f3f"/>
                      </a:solidFill>
                    </a:lnT>
                    <a:lnB w="5760">
                      <a:solidFill>
                        <a:srgbClr val="3f3f3f"/>
                      </a:solidFill>
                    </a:lnB>
                    <a:solidFill>
                      <a:srgbClr val="e8e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3f3f3f"/>
                      </a:solidFill>
                    </a:lnL>
                    <a:lnR w="5760">
                      <a:solidFill>
                        <a:srgbClr val="3f3f3f"/>
                      </a:solidFill>
                    </a:lnR>
                    <a:lnT w="5760">
                      <a:solidFill>
                        <a:srgbClr val="3f3f3f"/>
                      </a:solidFill>
                    </a:lnT>
                    <a:lnB w="5760">
                      <a:solidFill>
                        <a:srgbClr val="3f3f3f"/>
                      </a:solidFill>
                    </a:lnB>
                    <a:solidFill>
                      <a:srgbClr val="e8e8e8"/>
                    </a:solidFill>
                  </a:tcPr>
                </a:tc>
              </a:tr>
              <a:tr h="11239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Г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3f3f3f"/>
                      </a:solidFill>
                    </a:lnL>
                    <a:lnR w="5760">
                      <a:solidFill>
                        <a:srgbClr val="3f3f3f"/>
                      </a:solidFill>
                    </a:lnR>
                    <a:lnT w="5760">
                      <a:solidFill>
                        <a:srgbClr val="3f3f3f"/>
                      </a:solidFill>
                    </a:lnT>
                    <a:lnB w="5760">
                      <a:solidFill>
                        <a:srgbClr val="3f3f3f"/>
                      </a:solidFill>
                    </a:lnB>
                    <a:solidFill>
                      <a:srgbClr val="cece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3f3f3f"/>
                      </a:solidFill>
                    </a:lnL>
                    <a:lnR w="5760">
                      <a:solidFill>
                        <a:srgbClr val="3f3f3f"/>
                      </a:solidFill>
                    </a:lnR>
                    <a:lnT w="5760">
                      <a:solidFill>
                        <a:srgbClr val="3f3f3f"/>
                      </a:solidFill>
                    </a:lnT>
                    <a:lnB w="5760">
                      <a:solidFill>
                        <a:srgbClr val="3f3f3f"/>
                      </a:solidFill>
                    </a:lnB>
                    <a:solidFill>
                      <a:srgbClr val="cece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3f3f3f"/>
                      </a:solidFill>
                    </a:lnL>
                    <a:lnR w="5760">
                      <a:solidFill>
                        <a:srgbClr val="3f3f3f"/>
                      </a:solidFill>
                    </a:lnR>
                    <a:lnT w="5760">
                      <a:solidFill>
                        <a:srgbClr val="3f3f3f"/>
                      </a:solidFill>
                    </a:lnT>
                    <a:lnB w="5760">
                      <a:solidFill>
                        <a:srgbClr val="3f3f3f"/>
                      </a:solidFill>
                    </a:lnB>
                    <a:solidFill>
                      <a:srgbClr val="cece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3f3f3f"/>
                      </a:solidFill>
                    </a:lnL>
                    <a:lnR w="5760">
                      <a:solidFill>
                        <a:srgbClr val="3f3f3f"/>
                      </a:solidFill>
                    </a:lnR>
                    <a:lnT w="5760">
                      <a:solidFill>
                        <a:srgbClr val="3f3f3f"/>
                      </a:solidFill>
                    </a:lnT>
                    <a:lnB w="5760">
                      <a:solidFill>
                        <a:srgbClr val="3f3f3f"/>
                      </a:solidFill>
                    </a:lnB>
                    <a:solidFill>
                      <a:srgbClr val="cece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Г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3f3f3f"/>
                      </a:solidFill>
                    </a:lnL>
                    <a:lnR w="5760">
                      <a:solidFill>
                        <a:srgbClr val="3f3f3f"/>
                      </a:solidFill>
                    </a:lnR>
                    <a:lnT w="5760">
                      <a:solidFill>
                        <a:srgbClr val="3f3f3f"/>
                      </a:solidFill>
                    </a:lnT>
                    <a:lnB w="5760">
                      <a:solidFill>
                        <a:srgbClr val="3f3f3f"/>
                      </a:solidFill>
                    </a:lnB>
                    <a:solidFill>
                      <a:srgbClr val="cece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3f3f3f"/>
                      </a:solidFill>
                    </a:lnL>
                    <a:lnR w="5760">
                      <a:solidFill>
                        <a:srgbClr val="3f3f3f"/>
                      </a:solidFill>
                    </a:lnR>
                    <a:lnT w="5760">
                      <a:solidFill>
                        <a:srgbClr val="3f3f3f"/>
                      </a:solidFill>
                    </a:lnT>
                    <a:lnB w="5760">
                      <a:solidFill>
                        <a:srgbClr val="3f3f3f"/>
                      </a:solidFill>
                    </a:lnB>
                    <a:solidFill>
                      <a:srgbClr val="cecec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755280" y="691920"/>
            <a:ext cx="6924600" cy="47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ff"/>
              </a:solidFill>
              <a:latin typeface="Candara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ff"/>
              </a:solidFill>
              <a:latin typeface="Candara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</a:t>
            </a:r>
            <a:r>
              <a:rPr b="1" i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ема урока:</a:t>
            </a:r>
            <a:endParaRPr b="0" i="1" lang="en-US" sz="4000" spc="-1" strike="noStrike">
              <a:solidFill>
                <a:srgbClr val="ffffff"/>
              </a:solidFill>
              <a:latin typeface="Candara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</a:t>
            </a:r>
            <a:r>
              <a:rPr b="1" lang="ru-RU" sz="6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анометры</a:t>
            </a:r>
            <a:endParaRPr b="0" i="1" lang="en-US" sz="6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622440" cy="14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Объект 3" descr=""/>
          <p:cNvPicPr/>
          <p:nvPr/>
        </p:nvPicPr>
        <p:blipFill>
          <a:blip r:embed="rId2"/>
          <a:stretch/>
        </p:blipFill>
        <p:spPr>
          <a:xfrm>
            <a:off x="755640" y="2708280"/>
            <a:ext cx="3384720" cy="3960720"/>
          </a:xfrm>
          <a:prstGeom prst="rect">
            <a:avLst/>
          </a:prstGeom>
          <a:ln w="0">
            <a:noFill/>
          </a:ln>
        </p:spPr>
      </p:pic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24000" y="333360"/>
            <a:ext cx="8424720" cy="44640"/>
          </a:xfrm>
          <a:prstGeom prst="rect">
            <a:avLst/>
          </a:prstGeom>
          <a:noFill/>
          <a:ln w="0">
            <a:noFill/>
          </a:ln>
        </p:spPr>
        <p:txBody>
          <a:bodyPr tIns="-1080" bIns="-10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</a:t>
            </a:r>
            <a:endParaRPr b="0" lang="en-US" sz="25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261" name="Рисунок 4" descr=""/>
          <p:cNvPicPr/>
          <p:nvPr/>
        </p:nvPicPr>
        <p:blipFill>
          <a:blip r:embed="rId3"/>
          <a:stretch/>
        </p:blipFill>
        <p:spPr>
          <a:xfrm>
            <a:off x="5003640" y="2708280"/>
            <a:ext cx="3456000" cy="3960720"/>
          </a:xfrm>
          <a:prstGeom prst="rect">
            <a:avLst/>
          </a:prstGeom>
          <a:ln w="0">
            <a:noFill/>
          </a:ln>
        </p:spPr>
      </p:pic>
      <p:sp>
        <p:nvSpPr>
          <p:cNvPr id="262" name="TextBox 5"/>
          <p:cNvSpPr/>
          <p:nvPr/>
        </p:nvSpPr>
        <p:spPr>
          <a:xfrm>
            <a:off x="539640" y="260280"/>
            <a:ext cx="82090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анометры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– приборы для измерения давлений, больших или меньших атмосферного (от греческого «манос» – редкий, неплотной и «метрео» - измеряю.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                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анометры бывают: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) жидкостные                     б) металлические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136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64" name="TextBox 4"/>
          <p:cNvSpPr/>
          <p:nvPr/>
        </p:nvSpPr>
        <p:spPr>
          <a:xfrm>
            <a:off x="250920" y="260280"/>
            <a:ext cx="84978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Жидкостный манометр состоит из двухколенной стеклянной трубки, в которую налита какая – нибудь жидкость.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стройство и принцип работы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ткрытого жидкостного манометра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265" name="Объект 7" descr=""/>
          <p:cNvPicPr/>
          <p:nvPr/>
        </p:nvPicPr>
        <p:blipFill>
          <a:blip r:embed="rId2"/>
          <a:stretch/>
        </p:blipFill>
        <p:spPr>
          <a:xfrm>
            <a:off x="250920" y="2565360"/>
            <a:ext cx="2736720" cy="3888000"/>
          </a:xfrm>
          <a:prstGeom prst="rect">
            <a:avLst/>
          </a:prstGeom>
          <a:ln w="0">
            <a:noFill/>
          </a:ln>
        </p:spPr>
      </p:pic>
      <p:pic>
        <p:nvPicPr>
          <p:cNvPr id="266" name="Рисунок 8" descr=""/>
          <p:cNvPicPr/>
          <p:nvPr/>
        </p:nvPicPr>
        <p:blipFill>
          <a:blip r:embed="rId3"/>
          <a:stretch/>
        </p:blipFill>
        <p:spPr>
          <a:xfrm>
            <a:off x="3203640" y="2565360"/>
            <a:ext cx="2736720" cy="3888000"/>
          </a:xfrm>
          <a:prstGeom prst="rect">
            <a:avLst/>
          </a:prstGeom>
          <a:ln w="0">
            <a:noFill/>
          </a:ln>
        </p:spPr>
      </p:pic>
      <p:pic>
        <p:nvPicPr>
          <p:cNvPr id="267" name="Рисунок 9" descr=""/>
          <p:cNvPicPr/>
          <p:nvPr/>
        </p:nvPicPr>
        <p:blipFill>
          <a:blip r:embed="rId4"/>
          <a:stretch/>
        </p:blipFill>
        <p:spPr>
          <a:xfrm>
            <a:off x="6156360" y="2541600"/>
            <a:ext cx="266364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 txBox="1"/>
          <p:nvPr/>
        </p:nvSpPr>
        <p:spPr>
          <a:xfrm>
            <a:off x="539280" y="333360"/>
            <a:ext cx="799308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стройство  металлического манометра</a:t>
            </a: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огнутая в дугу металлическая трубка</a:t>
            </a:r>
            <a:endParaRPr b="0" i="1" lang="en-US" sz="24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ычаг</a:t>
            </a:r>
            <a:endParaRPr b="0" i="1" lang="en-US" sz="24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убчатка</a:t>
            </a:r>
            <a:endParaRPr b="0" i="1" lang="en-US" sz="24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трелка</a:t>
            </a:r>
            <a:endParaRPr b="0" i="1" lang="en-US" sz="24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5.   Кран</a:t>
            </a:r>
            <a:endParaRPr b="0" i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270" name="Рисунок 3" descr=""/>
          <p:cNvPicPr/>
          <p:nvPr/>
        </p:nvPicPr>
        <p:blipFill>
          <a:blip r:embed="rId2"/>
          <a:stretch/>
        </p:blipFill>
        <p:spPr>
          <a:xfrm>
            <a:off x="1042920" y="3213000"/>
            <a:ext cx="3168720" cy="3384720"/>
          </a:xfrm>
          <a:prstGeom prst="rect">
            <a:avLst/>
          </a:prstGeom>
          <a:ln w="0">
            <a:noFill/>
          </a:ln>
        </p:spPr>
      </p:pic>
      <p:pic>
        <p:nvPicPr>
          <p:cNvPr id="271" name="Рисунок 4" descr=""/>
          <p:cNvPicPr/>
          <p:nvPr/>
        </p:nvPicPr>
        <p:blipFill>
          <a:blip r:embed="rId3"/>
          <a:stretch/>
        </p:blipFill>
        <p:spPr>
          <a:xfrm>
            <a:off x="5364000" y="3213000"/>
            <a:ext cx="273708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03T20:50:36Z</dcterms:created>
  <dc:creator>Marianna</dc:creator>
  <dc:description/>
  <dc:language>en-US</dc:language>
  <cp:lastModifiedBy>Мама</cp:lastModifiedBy>
  <dcterms:modified xsi:type="dcterms:W3CDTF">2013-03-07T21:45:19Z</dcterms:modified>
  <cp:revision>43</cp:revision>
  <dc:subject/>
  <dc:title>Манометры</dc:title>
</cp:coreProperties>
</file>