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1A6-DCF4-40D9-849E-2D6DFBFF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668-8E4A-4A15-9C2F-186F14E8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317-2B4C-4210-991F-62A29312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B54-8C9E-456A-B20F-D82758AE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5979E-0DF6-4AEB-83ED-71DAACC0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2B90A-9E2D-4F7A-90E8-CAA89510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4DC2A-21CA-426A-A345-051B2206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39551-F6BE-4AB0-86C2-7BFDFD39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D1ABE-85E0-46C4-BBBA-6E6174A8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6C474-93D5-4C39-9025-433C0637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BDA83-38A2-425D-8265-DE2289EE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EB7-498C-47C9-AE8C-EA7CF63A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E1104-B1DA-462E-9FAE-46529355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C91A4-EEE7-4AE4-B1B0-1E1C4A31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83DA0-5EBC-4841-BD35-E2F2AF08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FFA59-2722-46B2-ACF0-DB1136F1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72D2D-F434-4292-BDAB-02E21955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B4DA5-03A5-446D-8939-BA584E86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541B9-058B-4477-9B46-089E1214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6775F-2005-4C51-873C-BB48C8B9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1FA18-629F-4F01-A1A1-66F5D92F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E6600-0C23-4AF0-BE46-F90700DD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651-5C62-4DF4-9ABF-B59B3D43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C007D-106B-4A46-815F-519DFFD8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7888D-4C2E-4EA9-AED7-DE733826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4E42F-1B94-43DB-85FA-42AE96BD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F5934-3D4A-4DF9-813A-902DDABB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B83E3-EDF5-4AD3-BC60-C2B5BFE2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06F80-5BD8-4983-9979-15CB701C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3EC41-9153-413B-A070-797C3CCA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3146FD-D4CB-471F-8F73-F2F74944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FA5B4-6D4C-4787-A0DF-D156C646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AAAEB-7E11-41A6-A545-3ABE262B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F66-1842-4631-8050-8E4B771F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C2191-B8B6-460B-8A22-8057BF4F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C1435-400F-4716-B8F2-5E8234B6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90E606-35CA-4742-AFA7-9C699C98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A8A0E-2BF4-4C55-ABEE-58BEBB7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99242-286B-4E5E-9149-B543A824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6B3EC-590E-4729-AB8A-B1E3F61B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BEF2E-641D-4DA4-8F84-D9FF82BF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39A1D-5207-4137-B6E6-3FB050E0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F46F5-6644-4156-A4DE-436A6B6F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1D15F-73BE-453B-B19A-6B2D2B51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600-F7EA-430F-908D-FE6EECC2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D3788-B3DF-46E9-A2EB-465D05BD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8DE4E-CD2E-411F-969B-625E2292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75C44-8A6C-4748-AEA8-311C8B4A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45714-BCEE-4BDF-A628-9E814593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FB6D6-90FB-4DA8-8246-33D8B217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34B53-E534-4826-8BE6-4DFB6584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F23FC-D19A-4D89-9817-AEFADAD1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2C1AE-D31B-4A57-B410-906B675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7EDCE-E911-41C9-B3C6-CEC2338A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23B4F-BB7D-4C04-9285-4ACB22DF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371-8DFA-4385-B606-EB57CD95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D98C4-28A9-4817-B923-A9CB1A41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A062C-6229-47FA-B807-487A1073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E6FD0-33B4-4F3A-9B11-2051C83D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F1A03-691B-4F8B-A080-76EAD1E1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EFE32-E579-48C9-A0B1-E64A4E74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11509-D4B7-4D50-BA25-08D06FA4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8BD76-D795-4C37-8D7F-C16FDDE2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AB672-FE04-4964-B9AB-525CF671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2C307-DA95-4962-BDB0-0E3F5862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9E27B-CBE9-4A9B-BB40-4664F87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6D3-D496-46D0-AF6D-2EE563AE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09443-4DF3-4FE0-9F3F-7716E918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13B3A-2BDB-4ACE-827D-F0C35F6E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E082A-2AE7-4B98-9CFA-E2237F94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CB2-0069-42C2-9CAE-2284FD1D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9AF-35F2-4502-BBEC-ECDECF82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3AAE-12FD-4FD9-8E02-031F64ED1E6D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9AE2-EFF2-471B-A7AB-BA6BAC16FA9B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60B5-30B6-4637-A84C-0729F8A8B45C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632E-D702-47D8-AB8A-5ABDD725CE36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92EC-038F-44F9-A7AE-674CEAEF3508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04A5-25BB-4BC6-A79F-6E073D6E7130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hyperlink" Target="http://files.school-collection.edu.ru/dlrstore/669b5254-e921-11dc-95ff-0800200c9a66/4_12.sw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708360" y="4365720"/>
            <a:ext cx="48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ОУ «СОШ № 1»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Ивантеевки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гарина Марианна Сергеевн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7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4" descr=""/>
          <p:cNvPicPr/>
          <p:nvPr/>
        </p:nvPicPr>
        <p:blipFill>
          <a:blip r:embed="rId2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7" name="Рисунок 5" descr=""/>
          <p:cNvPicPr/>
          <p:nvPr/>
        </p:nvPicPr>
        <p:blipFill>
          <a:blip r:embed="rId3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9" descr=""/>
          <p:cNvPicPr/>
          <p:nvPr/>
        </p:nvPicPr>
        <p:blipFill>
          <a:blip r:embed="rId4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"/>
          <p:cNvPicPr/>
          <p:nvPr/>
        </p:nvPicPr>
        <p:blipFill>
          <a:blip r:embed="rId5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45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1700280"/>
            <a:ext cx="5194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4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9560" y="1197000"/>
            <a:ext cx="18900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"/>
          <p:cNvPicPr/>
          <p:nvPr/>
        </p:nvPicPr>
        <p:blipFill>
          <a:blip r:embed="rId4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Мама</cp:lastModifiedBy>
  <dcterms:modified xsi:type="dcterms:W3CDTF">2013-03-07T21:45:19Z</dcterms:modified>
  <cp:revision>43</cp:revision>
  <dc:subject/>
  <dc:title>Манометры</dc:title>
</cp:coreProperties>
</file>