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CF9F-FAE8-4CEA-A227-1B1A18D8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C1AA-3156-4D4C-9242-981B733B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9C0F-F4C7-4C7E-B255-64D90815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E5F0-E1E2-4936-8556-EAB4885E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F0608-F36F-4576-BA82-21F6864E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0062F-FE66-4249-8D5E-55807F4D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53EB9-D1B4-4A06-9CAA-1C9175E5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BBE47-21F6-4EF6-8301-DDC6FCF9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9F510-7767-42FA-BFD1-ECC2381E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1649C-0235-46A0-830B-3F6D2770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D39BB-6C02-42F4-A706-69D6A426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75F7-D77C-49A3-B2C2-9F32E4C8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627AE-8A32-4B05-8E65-83A10B4F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4C291-0DDB-4E29-8565-4A06F738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EB6EC-0EBD-4E3C-95A4-C42FD80D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8C1ED-FAC2-467E-AEAA-C5B77F59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47D40-DEE0-4C19-BFF7-90654040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415371-CDD5-4A18-ACC3-C397EDB2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9ADDE8-44B8-40CC-B56D-FCAB1317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C8C347-CDED-4B01-940F-E481A67C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E8485A-202F-40E0-8CDF-C8D5C3E6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9DFD07-A9B4-4524-92AD-61F24125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F8E5-ADCB-45B1-B551-AF784F65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46B9C7-4568-4B64-83E1-FAECDCA2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55C3F8-DAD0-4B1D-8A23-7DD06E5D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62E299-F083-453F-941A-8C0D676C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781C21-94C3-4482-93D6-8F26F0CF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A1F75D-67CE-4283-AF4B-DAA470E2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4402E1-DC62-45A8-AD41-F8840B94C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AA6256-886B-4839-8291-DC476AD4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457982-3C7D-4592-B8EA-03C74566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757099-44DC-4A4D-9660-68A87510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ED2940-2A41-42F2-AD58-0C61E6AB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4574-9F6C-48D7-962C-749AD50C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D5045E-DABC-43AF-BBC4-4C0F9B37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735440-92B4-41C4-B516-B439DC5A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1D457E-FC28-46F9-9F46-286E4364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47AD57-9139-4797-BE3B-27E981C3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32FB77-741B-4809-B6DF-147B57F8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1D1DCE-0CE3-495A-8A01-D0F237E5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88FCBE-CD12-4EBF-BDD1-F46E5208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F7447C-CFB9-4CA2-85FA-E4F702471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B93883-6CF2-4866-BFB9-A1274589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F98240-7831-40FC-9386-12428B65E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BE5E-2C24-46F8-B6A9-0E2491DC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9C9DFB-2694-4423-8632-9C1AE1BC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34E203-225A-4102-95A6-BAD7B0AB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7F8304-5192-487D-827F-0516DD3E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49D25E-6535-477C-BBC8-4122103F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9DD3C3-175A-4065-A4AD-D237532E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678B15-EA5E-410A-893C-382A693A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D4ABC6-FD3E-4664-B9FA-66ACB91D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F581E8-3DF4-41D6-BD65-95BB0410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20A9F8-0D7B-47A6-89EA-DEB265E8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996A14-D784-4594-BBED-47AC62EBB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7EA6-DEE8-42B4-BB22-6F7196F6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CDDE3A-F3D3-4307-91D1-1D77B26E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5EB0D4-0E52-41B3-BB00-519308AFA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A629FF-0CD0-4491-A0F9-5C58A701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F8CF3B-3E09-47A9-833B-64C80C32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FE8110-4125-4D9E-B676-E5E71FE7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150889-AD8F-48C8-9FED-A40E1C75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0FE391-E450-4015-B371-685E4EA3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520FE0-6564-4D4A-81D3-0D609E18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BD75A9-7343-4B74-AE7E-AEC6B1DA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B24312-9B6B-4F6F-AF79-3EE9C9A6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D45E-ADD7-49CC-81A3-F5C15128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07534C-5B75-4411-A79C-9B8C2E5C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52AC93-25AD-4718-9077-02F4337A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B34CBE-62B7-4366-98F2-4AB894039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E2DE-160F-4B8A-A1E4-2B59F920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D76F-37CE-40FB-A36B-C299F4DF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6B7C-832C-4997-8174-2180EE47AA55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96FE-2053-483A-8782-E16D8E3D6D7F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5363-4DF3-4FEF-899B-2819BE7E3E5A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162920" y="15505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B0E0-EB42-429B-85EE-8435689B4F1E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366B-1E08-4C99-B600-490FFDDF53D9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5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74B9-5F4E-4039-ACD2-ACCF0C85F810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8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gif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iles.school-collection.edu.ru/dlrstore/669b5254-e921-11dc-95ff-0800200c9a66/4_12.swf" TargetMode="External"/><Relationship Id="rId3" Type="http://schemas.openxmlformats.org/officeDocument/2006/relationships/hyperlink" Target="http://files.school-collection.edu.ru/dlrstore/669b5254-e921-11dc-95ff-0800200c9a66/4_12.swf" TargetMode="External"/><Relationship Id="rId4" Type="http://schemas.openxmlformats.org/officeDocument/2006/relationships/hyperlink" Target="http://files.school-collection.edu.ru/dlrstore/669b5254-e921-11dc-95ff-0800200c9a66/4_12.swf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1406160"/>
            <a:ext cx="717732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</a:t>
            </a:r>
            <a:br>
              <a:rPr sz="6600"/>
            </a:b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 КЛАСС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708360" y="4365720"/>
            <a:ext cx="4896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тор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физики МОУ «СОШ № 1»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 Ивантеевки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агарина Марианна Сергеевн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539280" y="333360"/>
            <a:ext cx="2519640" cy="2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4" name="Рисунок 3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390920" cy="4535640"/>
          </a:xfrm>
          <a:prstGeom prst="rect">
            <a:avLst/>
          </a:prstGeom>
          <a:ln w="0">
            <a:noFill/>
          </a:ln>
        </p:spPr>
      </p:pic>
      <p:sp>
        <p:nvSpPr>
          <p:cNvPr id="275" name="TextBox 5"/>
          <p:cNvSpPr/>
          <p:nvPr/>
        </p:nvSpPr>
        <p:spPr>
          <a:xfrm>
            <a:off x="5003640" y="404640"/>
            <a:ext cx="396108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ьте на вопросы: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В каких единицах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дуируется шкала 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аллического манометра?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Чему равна цена деления?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Назовите предел измерения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Какое давление показывает манометр?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Выразите это давление в Паскалях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178920" y="188640"/>
            <a:ext cx="87138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 применяются во всех случаях, когда необходимо знать, контролировать и регулировать давление. Наиболее часто манометры применяют в теплоэнергетике, на химических, нефтехимических предприятиях, предприятиях пищевой отрасли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8" name="Рисунок 7" descr=""/>
          <p:cNvPicPr/>
          <p:nvPr/>
        </p:nvPicPr>
        <p:blipFill>
          <a:blip r:embed="rId2"/>
          <a:stretch/>
        </p:blipFill>
        <p:spPr>
          <a:xfrm>
            <a:off x="3132000" y="2421000"/>
            <a:ext cx="1944720" cy="151272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8" descr=""/>
          <p:cNvPicPr/>
          <p:nvPr/>
        </p:nvPicPr>
        <p:blipFill>
          <a:blip r:embed="rId3"/>
          <a:stretch/>
        </p:blipFill>
        <p:spPr>
          <a:xfrm>
            <a:off x="7020000" y="5084640"/>
            <a:ext cx="1728720" cy="165744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9" descr=""/>
          <p:cNvPicPr/>
          <p:nvPr/>
        </p:nvPicPr>
        <p:blipFill>
          <a:blip r:embed="rId4"/>
          <a:stretch/>
        </p:blipFill>
        <p:spPr>
          <a:xfrm>
            <a:off x="5292720" y="2421000"/>
            <a:ext cx="3456000" cy="252072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10" descr=""/>
          <p:cNvPicPr/>
          <p:nvPr/>
        </p:nvPicPr>
        <p:blipFill>
          <a:blip r:embed="rId5"/>
          <a:stretch/>
        </p:blipFill>
        <p:spPr>
          <a:xfrm>
            <a:off x="179280" y="2781360"/>
            <a:ext cx="2737080" cy="360036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1" descr=""/>
          <p:cNvPicPr/>
          <p:nvPr/>
        </p:nvPicPr>
        <p:blipFill>
          <a:blip r:embed="rId6"/>
          <a:stretch/>
        </p:blipFill>
        <p:spPr>
          <a:xfrm>
            <a:off x="5292720" y="5084640"/>
            <a:ext cx="1511280" cy="165744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12" descr=""/>
          <p:cNvPicPr/>
          <p:nvPr/>
        </p:nvPicPr>
        <p:blipFill>
          <a:blip r:embed="rId7"/>
          <a:stretch/>
        </p:blipFill>
        <p:spPr>
          <a:xfrm>
            <a:off x="3132000" y="4367160"/>
            <a:ext cx="19447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Объект 4" descr=""/>
          <p:cNvPicPr/>
          <p:nvPr/>
        </p:nvPicPr>
        <p:blipFill>
          <a:blip r:embed="rId2"/>
          <a:stretch/>
        </p:blipFill>
        <p:spPr>
          <a:xfrm>
            <a:off x="1187280" y="2938320"/>
            <a:ext cx="2737080" cy="171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Прямоугольник 3"/>
          <p:cNvSpPr/>
          <p:nvPr/>
        </p:nvSpPr>
        <p:spPr>
          <a:xfrm>
            <a:off x="250920" y="26028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фигмоманометр (тонометр) — прибор для измерения артериального давления. Состоит из манжеты, надеваемой на руку пациенту, устройства для нагнетания воздуха в манжету и манометра, измеряющего давление воздуха в манжете. Также, сфигмоманометр оснащается либо стетоскопом, либо электронным устройством, регистрирующим пульсации воздуха в манжете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87" name="Рисунок 5" descr=""/>
          <p:cNvPicPr/>
          <p:nvPr/>
        </p:nvPicPr>
        <p:blipFill>
          <a:blip r:embed="rId3"/>
          <a:stretch/>
        </p:blipFill>
        <p:spPr>
          <a:xfrm>
            <a:off x="4643280" y="2938320"/>
            <a:ext cx="2592720" cy="171468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9" descr=""/>
          <p:cNvPicPr/>
          <p:nvPr/>
        </p:nvPicPr>
        <p:blipFill>
          <a:blip r:embed="rId4"/>
          <a:stretch/>
        </p:blipFill>
        <p:spPr>
          <a:xfrm>
            <a:off x="5940360" y="4727520"/>
            <a:ext cx="2448000" cy="194148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10" descr=""/>
          <p:cNvPicPr/>
          <p:nvPr/>
        </p:nvPicPr>
        <p:blipFill>
          <a:blip r:embed="rId5"/>
          <a:stretch/>
        </p:blipFill>
        <p:spPr>
          <a:xfrm>
            <a:off x="2340000" y="4727520"/>
            <a:ext cx="295272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95280" y="259920"/>
            <a:ext cx="8424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репление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какими приборами мы сегодня познакомились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чему в открытом манометре уровни жидкости в обоих коленах одинаковые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чему при погружении коробочки в воду изменяются уровни жидкости в коленах манометра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с помощью жидкостного манометра показать, что на одной и той же глубине давление одинаково по всем направлениям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устроен металлический манометр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аких единицах градуируется шкала металлического манометра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684000" y="476280"/>
            <a:ext cx="78483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ее задание:</a:t>
            </a:r>
            <a:endParaRPr b="0" i="1" lang="en-US" sz="36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§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45.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6560" y="1341000"/>
            <a:ext cx="57636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684000" y="476280"/>
            <a:ext cx="78483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6560" y="1341000"/>
            <a:ext cx="57636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96" name="Прямоугольник 3" descr=""/>
          <p:cNvPicPr/>
          <p:nvPr/>
        </p:nvPicPr>
        <p:blipFill>
          <a:blip r:embed="rId2"/>
          <a:stretch/>
        </p:blipFill>
        <p:spPr>
          <a:xfrm>
            <a:off x="2011320" y="1700280"/>
            <a:ext cx="519444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17240" y="379440"/>
            <a:ext cx="8258040" cy="61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точники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  А.В. Перышкин. Физика. 7 класс. - М.: Дроф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.М. Гутник, Е,В. Рыбакова. Методические материалы для учителя. Физика. 7 класс. - М.; Дроф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9a4"/>
                </a:solidFill>
                <a:uFillTx/>
                <a:latin typeface="Times New Roman"/>
                <a:ea typeface="Times New Roman"/>
                <a:hlinkClick r:id="rId2"/>
              </a:rPr>
              <a:t>http</a:t>
            </a:r>
            <a:r>
              <a:rPr b="0" lang="en-US" sz="2400" spc="-1" strike="noStrike" u="sng">
                <a:solidFill>
                  <a:srgbClr val="0079a4"/>
                </a:solidFill>
                <a:uFillTx/>
                <a:latin typeface="Times New Roman"/>
                <a:ea typeface="Times New Roman"/>
                <a:hlinkClick r:id="rId3"/>
              </a:rPr>
              <a:t>://</a:t>
            </a:r>
            <a:r>
              <a:rPr b="0" lang="en-US" sz="2400" spc="-1" strike="noStrike" u="sng">
                <a:solidFill>
                  <a:srgbClr val="0079a4"/>
                </a:solidFill>
                <a:uFillTx/>
                <a:latin typeface="Times New Roman"/>
                <a:ea typeface="Times New Roman"/>
                <a:hlinkClick r:id="rId4"/>
              </a:rPr>
              <a:t>files.school-collection.edu.ru/dlrstore/669b5254-e921-11dc-95ff-0800200c9a66/4_12.swf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://ru.wikipedia.org/wiki/%CC%E0%ED%EE%EC%E5%F2%F0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://images.yandex.ru/yandsearch?text=%D0%BC%D0%B0%D0%BD%D0%BE%D0%BC%D0%B5%D1%82%D1%80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50920" y="33336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урока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ть представление об устройстве и принципах работы жидкостного и металлического манометров, рассмотреть их применение в различных областях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: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бучающие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учить устройство и принцип действия открытого        жидкостного и металлического манометров; научить пользоваться ими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развивающие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познавательный интерес, коммуникативные и   экспериментаторские компетенции учащихся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оспитывающие: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ывать доброжелательное отношение к  участникам учебного процесса,  понимание необходимости заботиться о своем здоровье и приобретении житейских навыков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9920" y="1554120"/>
            <a:ext cx="46080" cy="44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ст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то из ученых предложил способ измерения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Ньютон            В) Ломоносов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Паскаль            Г) Торричелли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й буквой обозначают атмосферное давление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) р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 S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Какова единица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кг или г                            В) Н или кН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Па или мм рт. ст.             Г) м/с или км/ч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9560" y="1197000"/>
            <a:ext cx="189000" cy="44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68360" y="259920"/>
            <a:ext cx="8136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ст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Как называется прибор для измерения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альтимер                     В) мензурка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барометр                      Г) высотомер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Чему равно значение нормального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1 Н                              В) 760 Н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1 Па                             Г) 760 мм рт. ст.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Как называется прибор для измерения высоты, используемый в авиации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высотомер                  В) анероид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альтимер                     Г) ареометр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9640" y="691920"/>
            <a:ext cx="79200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ы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4360" y="2205000"/>
          <a:ext cx="7775280" cy="2247840"/>
        </p:xfrm>
        <a:graphic>
          <a:graphicData uri="http://schemas.openxmlformats.org/drawingml/2006/table">
            <a:tbl>
              <a:tblPr/>
              <a:tblGrid>
                <a:gridCol w="1295280"/>
                <a:gridCol w="1368360"/>
                <a:gridCol w="1368360"/>
                <a:gridCol w="1224000"/>
                <a:gridCol w="1295640"/>
                <a:gridCol w="1223640"/>
              </a:tblGrid>
              <a:tr h="1123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</a:tr>
              <a:tr h="1123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755280" y="691920"/>
            <a:ext cx="6924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урока:</a:t>
            </a:r>
            <a:endParaRPr b="0" i="1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</a:t>
            </a:r>
            <a:endParaRPr b="0" i="1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62244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Объект 3" descr=""/>
          <p:cNvPicPr/>
          <p:nvPr/>
        </p:nvPicPr>
        <p:blipFill>
          <a:blip r:embed="rId2"/>
          <a:stretch/>
        </p:blipFill>
        <p:spPr>
          <a:xfrm>
            <a:off x="755640" y="2708280"/>
            <a:ext cx="3384720" cy="39607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24720" cy="44640"/>
          </a:xfrm>
          <a:prstGeom prst="rect">
            <a:avLst/>
          </a:prstGeom>
          <a:noFill/>
          <a:ln w="0">
            <a:noFill/>
          </a:ln>
        </p:spPr>
        <p:txBody>
          <a:bodyPr tIns="-1080" bIns="-1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endParaRPr b="0" lang="en-US" sz="25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61" name="Рисунок 4" descr=""/>
          <p:cNvPicPr/>
          <p:nvPr/>
        </p:nvPicPr>
        <p:blipFill>
          <a:blip r:embed="rId3"/>
          <a:stretch/>
        </p:blipFill>
        <p:spPr>
          <a:xfrm>
            <a:off x="5003640" y="2708280"/>
            <a:ext cx="3456000" cy="396072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539640" y="260280"/>
            <a:ext cx="820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приборы для измерения давлений, больших или меньших атмосферного (от греческого «манос» – редкий, неплотной и «метрео» - измеряю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 бывают: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жидкостные                     б) металлические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136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250920" y="26028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идкостный манометр состоит из двухколенной стеклянной трубки, в которую налита какая – нибудь жидкость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ройство и принцип работы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крытого жидкостного манометра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65" name="Объект 7" descr=""/>
          <p:cNvPicPr/>
          <p:nvPr/>
        </p:nvPicPr>
        <p:blipFill>
          <a:blip r:embed="rId2"/>
          <a:stretch/>
        </p:blipFill>
        <p:spPr>
          <a:xfrm>
            <a:off x="250920" y="2565360"/>
            <a:ext cx="2736720" cy="388800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8" descr=""/>
          <p:cNvPicPr/>
          <p:nvPr/>
        </p:nvPicPr>
        <p:blipFill>
          <a:blip r:embed="rId3"/>
          <a:stretch/>
        </p:blipFill>
        <p:spPr>
          <a:xfrm>
            <a:off x="3203640" y="2565360"/>
            <a:ext cx="2736720" cy="388800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9" descr=""/>
          <p:cNvPicPr/>
          <p:nvPr/>
        </p:nvPicPr>
        <p:blipFill>
          <a:blip r:embed="rId4"/>
          <a:stretch/>
        </p:blipFill>
        <p:spPr>
          <a:xfrm>
            <a:off x="6156360" y="2541600"/>
            <a:ext cx="266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539280" y="333360"/>
            <a:ext cx="79930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ройство  металлического манометра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гнутая в дугу металлическая трубк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ычаг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убчатк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елк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  Кран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0" name="Рисунок 3" descr=""/>
          <p:cNvPicPr/>
          <p:nvPr/>
        </p:nvPicPr>
        <p:blipFill>
          <a:blip r:embed="rId2"/>
          <a:stretch/>
        </p:blipFill>
        <p:spPr>
          <a:xfrm>
            <a:off x="1042920" y="3213000"/>
            <a:ext cx="3168720" cy="338472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4" descr=""/>
          <p:cNvPicPr/>
          <p:nvPr/>
        </p:nvPicPr>
        <p:blipFill>
          <a:blip r:embed="rId3"/>
          <a:stretch/>
        </p:blipFill>
        <p:spPr>
          <a:xfrm>
            <a:off x="5364000" y="3213000"/>
            <a:ext cx="27370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3T20:50:36Z</dcterms:created>
  <dc:creator>Marianna</dc:creator>
  <dc:description/>
  <dc:language>en-US</dc:language>
  <cp:lastModifiedBy>Мама</cp:lastModifiedBy>
  <dcterms:modified xsi:type="dcterms:W3CDTF">2013-03-07T21:45:19Z</dcterms:modified>
  <cp:revision>43</cp:revision>
  <dc:subject/>
  <dc:title>Манометры</dc:title>
</cp:coreProperties>
</file>