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8B1-BEC3-430E-A305-59F59200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4614-E442-4333-AA44-6FF41FE8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B78-AD1C-4846-90DF-BEAFD916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174-0C16-45FE-A123-389C8108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01B08-BFF5-4C6A-BCB2-9E2B07FF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56E48-6BF7-49BE-8C0A-4C287106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5C00A-02F9-45DD-947D-5C2A7BBF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7BB7D-E2E8-44D1-B999-1C30ED39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57685-71F8-46A5-B0C4-C7076400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04BDE-D697-4001-8512-AE3F92A5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9745D-4DFC-4783-BA48-8F216129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B7E-9C92-4F83-8574-7EBAD2BE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32622-2509-4D3B-9334-04611098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81F07-8901-4CCD-9559-47E8C001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C451B-EAB3-45CD-92D7-94109E43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2839E-B7EF-4103-B26F-8E207C7C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48682-2545-4C39-ABF4-F89C1DB9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407ED-EED4-48C9-8933-0EE49CD1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20103-7A7E-441A-8B54-CA8C3502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5512F-D425-40FA-895B-A22E1F7B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E5208-398E-4339-815C-2D2D3F2D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DE9F4-41C3-4D30-A4E4-642879E9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C32-543F-4AAC-A371-54E1BDD1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5A435-89DD-4CE2-A557-79F2CA82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67D8F-8833-4DE5-9E33-CC0BC9B8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5FDF9-59FF-42C3-B434-EBDCBF50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31F67-8716-4A40-8388-D76BA73B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558005-8FEB-4AF4-A419-F491A36D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3C323-3415-4638-90B8-FADC6111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E08EFE-33A4-4721-A5F8-8C6FE536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2653BC-87E7-4C2E-A2FE-680A6BCF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41F70F-5B15-4847-BF77-9E841B7A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728292-295A-4614-8B96-68CE755A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5C9-EB9F-432E-A92E-09EB4DE7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9BB772-DBA3-4A81-ABF9-21AB6A7E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194F9E-4FCD-4DAD-9C46-92DBD52B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104945-8DCA-48D3-BFEB-58EC7028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2DDE68-3332-4FC8-97F7-7E2060FD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941463-EF37-4F20-BF49-51A6C68D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56DFC2-9047-4D42-84D9-CF30A103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ECB7E4-29AE-4EF1-9C46-4B329079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D1E663-6475-4BAB-81E8-73C6F7E1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8E60D0-1091-4C79-8E30-FED51A58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43457-0E4B-4B5D-AF72-C0AB9713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8E57-2EAA-4704-BF0B-E4D1D7DB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6A61F3-B0D6-44B8-A388-BF3A7334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BE56F4-7912-4563-938E-6F15FEDC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FD66F2-A9F3-440A-AB89-3A777C46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022406-3121-4A60-A6E6-984456A8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DC01F8-868A-4923-95CB-52B52364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931FF8-B4D9-4DDD-8CFB-6BC77372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AB662C-F35E-4880-8443-9887A311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E11897-AAF5-4B16-8604-834C5A97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761A9-FED6-4FB6-8A72-B34E0E64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653468-4C0E-457C-9347-F9CDCBA3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E37E-3B54-4FA9-B747-F23C3FD2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236F6D-0119-4AD9-B124-0DBC89DD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E92632-FFD2-4146-9E34-EDA0CCAF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3BA15A-D758-4F2D-B9DC-05C959C6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8DB623-02F4-462E-839D-2310BC60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21C9EC-E11F-411B-8A48-C0F8E90C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69B353-B0D5-4A2C-9D15-4675C85C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E9B45E-1108-4210-A52E-5BCDFD44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A65C4F-5514-4DB9-916E-1ED9569D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4FC381-F09F-4D99-8432-EE48A53D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A9D9D0-7E6D-413C-B4CC-6AB5EC37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DEEC-20C9-4879-8006-BA40D343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C0F7F4-9D18-4890-8A7E-095FD562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C14FBD-C698-40AA-B67B-37D30549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C9863-7B18-45BA-BE23-9DDDC86A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692-970B-4A9B-934B-88A71AD4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6C6-0B33-42D5-9B85-EE229157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6C61-7C65-4E4B-BA98-BF646A311788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1671-25A7-4C4A-8C55-178EC3AE2029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88DC-87AB-44B1-98A5-35A2A38488B5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83F3-E8DB-4AB6-896F-5661D0E9563A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1130-486A-4557-8902-934A5FFAE520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EA43-B6C4-41E4-919D-2C382C77A27C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les.school-collection.edu.ru/dlrstore/669b5254-e921-11dc-95ff-0800200c9a66/4_12.swf" TargetMode="External"/><Relationship Id="rId3" Type="http://schemas.openxmlformats.org/officeDocument/2006/relationships/hyperlink" Target="http://files.school-collection.edu.ru/dlrstore/669b5254-e921-11dc-95ff-0800200c9a66/4_12.swf" TargetMode="External"/><Relationship Id="rId4" Type="http://schemas.openxmlformats.org/officeDocument/2006/relationships/hyperlink" Target="http://files.school-collection.edu.ru/dlrstore/669b5254-e921-11dc-95ff-0800200c9a66/4_12.swf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717732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br>
              <a:rPr sz="6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 КЛАСС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708360" y="4365720"/>
            <a:ext cx="4896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ОУ «СОШ № 1»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Ивантеевки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гарина Марианна Сергеевн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539280" y="333360"/>
            <a:ext cx="251964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4" name="Рисунок 3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390920" cy="4535640"/>
          </a:xfrm>
          <a:prstGeom prst="rect">
            <a:avLst/>
          </a:prstGeom>
          <a:ln w="0">
            <a:noFill/>
          </a:ln>
        </p:spPr>
      </p:pic>
      <p:sp>
        <p:nvSpPr>
          <p:cNvPr id="275" name="TextBox 5"/>
          <p:cNvSpPr/>
          <p:nvPr/>
        </p:nvSpPr>
        <p:spPr>
          <a:xfrm>
            <a:off x="5003640" y="404640"/>
            <a:ext cx="39610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 каких единицах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дуируется шкала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ллического манометра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Чему равна цена деления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зовите предел измерения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ое давление показывает манометр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Выразите это давление в Паскалях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78920" y="188640"/>
            <a:ext cx="87138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применяются во всех случаях, когда необходимо знать, контролировать и регулировать давление. Наиболее часто манометры применяют в теплоэнергетике, на химических, нефтехимических предприятиях, предприятиях пищевой отрасли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8" name="Рисунок 7" descr=""/>
          <p:cNvPicPr/>
          <p:nvPr/>
        </p:nvPicPr>
        <p:blipFill>
          <a:blip r:embed="rId2"/>
          <a:stretch/>
        </p:blipFill>
        <p:spPr>
          <a:xfrm>
            <a:off x="3132000" y="242100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8" descr=""/>
          <p:cNvPicPr/>
          <p:nvPr/>
        </p:nvPicPr>
        <p:blipFill>
          <a:blip r:embed="rId3"/>
          <a:stretch/>
        </p:blipFill>
        <p:spPr>
          <a:xfrm>
            <a:off x="7020000" y="5084640"/>
            <a:ext cx="1728720" cy="16574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9" descr=""/>
          <p:cNvPicPr/>
          <p:nvPr/>
        </p:nvPicPr>
        <p:blipFill>
          <a:blip r:embed="rId4"/>
          <a:stretch/>
        </p:blipFill>
        <p:spPr>
          <a:xfrm>
            <a:off x="5292720" y="2421000"/>
            <a:ext cx="3456000" cy="25207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0" descr=""/>
          <p:cNvPicPr/>
          <p:nvPr/>
        </p:nvPicPr>
        <p:blipFill>
          <a:blip r:embed="rId5"/>
          <a:stretch/>
        </p:blipFill>
        <p:spPr>
          <a:xfrm>
            <a:off x="179280" y="2781360"/>
            <a:ext cx="2737080" cy="36003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1" descr=""/>
          <p:cNvPicPr/>
          <p:nvPr/>
        </p:nvPicPr>
        <p:blipFill>
          <a:blip r:embed="rId6"/>
          <a:stretch/>
        </p:blipFill>
        <p:spPr>
          <a:xfrm>
            <a:off x="5292720" y="5084640"/>
            <a:ext cx="1511280" cy="165744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2" descr=""/>
          <p:cNvPicPr/>
          <p:nvPr/>
        </p:nvPicPr>
        <p:blipFill>
          <a:blip r:embed="rId7"/>
          <a:stretch/>
        </p:blipFill>
        <p:spPr>
          <a:xfrm>
            <a:off x="3132000" y="4367160"/>
            <a:ext cx="1944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Объект 4" descr=""/>
          <p:cNvPicPr/>
          <p:nvPr/>
        </p:nvPicPr>
        <p:blipFill>
          <a:blip r:embed="rId2"/>
          <a:stretch/>
        </p:blipFill>
        <p:spPr>
          <a:xfrm>
            <a:off x="1187280" y="2938320"/>
            <a:ext cx="2737080" cy="171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250920" y="26028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игмоманометр (тонометр) — прибор для измерения артериального давления. Состоит из манжеты, надеваемой на руку пациенту, устройства для нагнетания воздуха в манжету и манометра, измеряющего давление воздуха в манжете. Также, сфигмоманометр оснащается либо стетоскопом, либо электронным устройством, регистрирующим пульсации воздуха в манжете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7" name="Рисунок 5" descr=""/>
          <p:cNvPicPr/>
          <p:nvPr/>
        </p:nvPicPr>
        <p:blipFill>
          <a:blip r:embed="rId3"/>
          <a:stretch/>
        </p:blipFill>
        <p:spPr>
          <a:xfrm>
            <a:off x="4643280" y="2938320"/>
            <a:ext cx="2592720" cy="17146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9" descr=""/>
          <p:cNvPicPr/>
          <p:nvPr/>
        </p:nvPicPr>
        <p:blipFill>
          <a:blip r:embed="rId4"/>
          <a:stretch/>
        </p:blipFill>
        <p:spPr>
          <a:xfrm>
            <a:off x="5940360" y="4727520"/>
            <a:ext cx="2448000" cy="194148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10" descr=""/>
          <p:cNvPicPr/>
          <p:nvPr/>
        </p:nvPicPr>
        <p:blipFill>
          <a:blip r:embed="rId5"/>
          <a:stretch/>
        </p:blipFill>
        <p:spPr>
          <a:xfrm>
            <a:off x="2340000" y="4727520"/>
            <a:ext cx="29527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95280" y="25992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ление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какими приборами мы сегодня познакомились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в открытом манометре уровни жидкости в обоих коленах одинаковы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при погружении коробочки в воду изменяются уровни жидкости в коленах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с помощью жидкостного манометра показать, что на одной и той же глубине давление одинаково по всем направлениям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устроен металлический манометр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их единицах градуируется шкала металлического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</a:t>
            </a: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§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45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96" name="Прямоугольник 3" descr=""/>
          <p:cNvPicPr/>
          <p:nvPr/>
        </p:nvPicPr>
        <p:blipFill>
          <a:blip r:embed="rId2"/>
          <a:stretch/>
        </p:blipFill>
        <p:spPr>
          <a:xfrm>
            <a:off x="2011320" y="1700280"/>
            <a:ext cx="519444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17240" y="379440"/>
            <a:ext cx="8258040" cy="61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 А.В. Перышкин. Физика. 7 класс. - М.: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.М. Гутник, Е,В. Рыбакова. Методические материалы для учителя. Физика. 7 класс. - М.;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2"/>
              </a:rPr>
              <a:t>http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3"/>
              </a:rPr>
              <a:t>://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4"/>
              </a:rPr>
              <a:t>files.school-collection.edu.ru/dlrstore/669b5254-e921-11dc-95ff-0800200c9a66/4_12.swf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ru.wikipedia.org/wiki/%CC%E0%ED%EE%EC%E5%F2%F0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images.yandex.ru/yandsearch?text=%D0%BC%D0%B0%D0%BD%D0%BE%D0%BC%D0%B5%D1%82%D1%80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920" y="33336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урок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ть представление об устройстве и принципах работы жидкостного и металлического манометров, рассмотреть их применение в различных областях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буч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ить устройство и принцип действия открытого        жидкостного и металлического манометров; научить пользоваться ими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вив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познавательный интерес, коммуникативные и   экспериментаторские компетенции учащихся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оспитывающие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ывать доброжелательное отношение к  участникам учебного процесса,  понимание необходимости заботиться о своем здоровье и приобретении житейских навыков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9920" y="1554120"/>
            <a:ext cx="4608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из ученых предложил способ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Ньютон            В) Ломоносов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скаль            Г) Торричелл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буквой обозначают атмосферное давлени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S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Какова единица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кг или г                            В) Н или к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 или мм рт. ст.             Г) м/с или км/ч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9560" y="1197000"/>
            <a:ext cx="18900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68360" y="25992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 называется прибор для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альтимер                     В) мензурк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барометр                      Г) высотоме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Чему равно значение нормального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1 Н                              В) 760 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1 Па                             Г) 760 мм рт. ст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Как называется прибор для измерения высоты, используемый в авиации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высотомер                  В) анероид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альтимер                     Г) ареомет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9640" y="691920"/>
            <a:ext cx="79200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ы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4360" y="2205000"/>
          <a:ext cx="7775280" cy="2247840"/>
        </p:xfrm>
        <a:graphic>
          <a:graphicData uri="http://schemas.openxmlformats.org/drawingml/2006/table">
            <a:tbl>
              <a:tblPr/>
              <a:tblGrid>
                <a:gridCol w="1295280"/>
                <a:gridCol w="1368360"/>
                <a:gridCol w="1368360"/>
                <a:gridCol w="1224000"/>
                <a:gridCol w="1295640"/>
                <a:gridCol w="1223640"/>
              </a:tblGrid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755280" y="691920"/>
            <a:ext cx="6924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:</a:t>
            </a: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endParaRPr b="0" i="1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62244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Объект 3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3384720" cy="39607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44640"/>
          </a:xfrm>
          <a:prstGeom prst="rect">
            <a:avLst/>
          </a:prstGeom>
          <a:noFill/>
          <a:ln w="0">
            <a:noFill/>
          </a:ln>
        </p:spPr>
        <p:txBody>
          <a:bodyPr tIns="-1080" bIns="-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1" name="Рисунок 4" descr=""/>
          <p:cNvPicPr/>
          <p:nvPr/>
        </p:nvPicPr>
        <p:blipFill>
          <a:blip r:embed="rId3"/>
          <a:stretch/>
        </p:blipFill>
        <p:spPr>
          <a:xfrm>
            <a:off x="5003640" y="2708280"/>
            <a:ext cx="3456000" cy="39607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539640" y="26028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приборы для измерения давлений, больших или меньших атмосферного (от греческого «манос» – редкий, неплотной и «метрео» - измеряю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бывают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жидкостные                     б) металлические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36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250920" y="26028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дкостный манометр состоит из двухколенной стеклянной трубки, в которую налита какая – нибудь жидкость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и принцип работы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ытого жидкостного манометра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5" name="Объект 7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8" descr=""/>
          <p:cNvPicPr/>
          <p:nvPr/>
        </p:nvPicPr>
        <p:blipFill>
          <a:blip r:embed="rId3"/>
          <a:stretch/>
        </p:blipFill>
        <p:spPr>
          <a:xfrm>
            <a:off x="320364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9" descr=""/>
          <p:cNvPicPr/>
          <p:nvPr/>
        </p:nvPicPr>
        <p:blipFill>
          <a:blip r:embed="rId4"/>
          <a:stretch/>
        </p:blipFill>
        <p:spPr>
          <a:xfrm>
            <a:off x="6156360" y="254160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39280" y="333360"/>
            <a:ext cx="79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 металлического манометр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нутая в дугу металлическая труб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ычаг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убчат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ел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  Кран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0" name="Рисунок 3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3168720" cy="33847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4" descr=""/>
          <p:cNvPicPr/>
          <p:nvPr/>
        </p:nvPicPr>
        <p:blipFill>
          <a:blip r:embed="rId3"/>
          <a:stretch/>
        </p:blipFill>
        <p:spPr>
          <a:xfrm>
            <a:off x="5364000" y="3213000"/>
            <a:ext cx="2737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20:50:36Z</dcterms:created>
  <dc:creator>Marianna</dc:creator>
  <dc:description/>
  <dc:language>en-US</dc:language>
  <cp:lastModifiedBy>Мама</cp:lastModifiedBy>
  <dcterms:modified xsi:type="dcterms:W3CDTF">2013-03-07T21:45:19Z</dcterms:modified>
  <cp:revision>43</cp:revision>
  <dc:subject/>
  <dc:title>Манометры</dc:title>
</cp:coreProperties>
</file>