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6C3-6707-401C-8977-49DE8B88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510-2841-4AD1-9B7E-012A3588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581-D320-4BBE-9846-5239D009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4B7-D991-4813-ACFB-F19EDA5C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3835B-6C67-44BF-9BAA-E48A68A3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BF82F-5846-4654-A6AF-32AF6922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3CCB4-262C-4AA1-ABCE-BA213CE4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ACF7D-458B-4D08-A204-74462A10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2059C-DFEA-45E3-A339-3A23D58E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E86D5-9222-4A7E-9655-675D195C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2572E-6728-4495-BDA5-19BEEF73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667-C51B-4F94-BCB9-EFA86C3C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120BA-2671-4791-9CFB-9D53C790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A7785-57A6-4CC4-AE52-9F77A950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AF13E-595B-4B0F-883A-05B83405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4E9CB-D9A8-43D8-8FC6-90FAA97F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1DC19-530F-4B64-B697-72C3DED7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95A9C-D604-4AC9-90A9-61209B56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2439A-B4D2-4FFB-B17D-F9C1CA11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575ED-778D-439A-A3B5-44082798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AAD6C-2FBA-405C-9929-5C853278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00841-32E9-4253-B668-52E13E7B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444-C736-4427-B52F-60FA5E2E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8EEA0-A6E8-4E04-86F1-282B3903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EAC1D-2C2E-438F-A8A5-ACA5D2F5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20622-E023-4490-BD8B-5FD8DE24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B1F6A-B81C-4F70-8C8E-059D8D1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77690-2743-400B-AC22-6C1B7195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B27AD-A154-41E5-A78D-2AB69B2D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85FA8-3CD3-4E89-927C-24A0CB44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0BB5FF-1963-43BB-82A9-AC952CE1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61BD23-0965-456F-92C9-BEEE68B5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2872B-48C4-45F7-9A2F-9246DA45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C72-35FF-4FA1-AF8E-BA65AC2A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F04AF1-213A-4DE2-971B-4C463E9A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44021-2913-448D-ACC6-6A2EA8C1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1DED00-A846-400C-B878-4258407D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A6A16-EE7B-4F35-88D9-7E337B49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6556F-7FA3-4787-9F67-540AAC88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6ECEC8-AD4A-4CEB-AB52-7B4D94E5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DF948D-AF6A-4F73-9AAF-BFE159CD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DE03A-8D28-4E0E-A965-C9CD0AF0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3C316A-33A2-43F5-9685-53074329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4C444-BB3B-4C94-A2EA-2C2A3B5F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EB6-8168-46BD-8427-AE222984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0FAEC-A2C2-43CE-B0C2-1E5A7F9C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ECFDA-46B9-4A8B-AE4B-D77B91A4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C6755-43A4-4296-80A1-C54BF23A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DCB29-5E00-452A-8E1D-BC1656DA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9DB38-A696-4A79-B411-A58B4DF4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7C494-49EF-4295-B661-B9076C41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05198-5A41-4DF6-8FE1-35221B6D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1270E-BD83-4880-B488-6F94C348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C1186-6A86-4A8D-80A3-D9483649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D0DF29-D5EC-4FB9-B0D1-B1D8CD26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62B7-3622-4F9D-9028-6B668E60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A1386-7E76-4808-886D-D7D73775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83981-709C-4329-BA47-EE531D9F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A9DBD-655B-40D0-ABC9-711C84E8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D8F86-89F9-490C-A7A5-5DBA8DC7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9F32F-3FC3-467F-9ABA-0B249745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B6E34-4FF6-4A8E-B682-26BA14DE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CD9AB-C9B6-4D4B-992F-EC0B2C35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AF4B4-6CCC-4397-A370-4FEA9782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17DC6-809B-43D0-8EE9-E7B469F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0901B0-11F4-4DCA-9EF6-3C871AC3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291-0ABA-446D-85A9-8EE5CC60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2A938-26CE-4169-A593-B4103872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AB9CC-CF1E-401F-8C02-79F3E236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A7F48-2EF4-40D4-93F7-4076EED5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121-59C7-40CE-9679-C8698CE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0B4-FFE4-4E03-9B3D-58680333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4D87-2E56-4D56-B0D6-A94C7DFA4654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0136-6DF6-4241-AC4B-DCCB880C6BF3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C9CD-30E5-46C7-8E56-55E3D2230D41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F639-06A2-4590-B2C7-BF181BC9DE3A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A765-82C6-4C05-BB78-4F52F6AD4203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EA0D-FF8B-4F42-B719-AFF832B4B899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669b5254-e921-11dc-95ff-0800200c9a66/4_12.swf" TargetMode="External"/><Relationship Id="rId3" Type="http://schemas.openxmlformats.org/officeDocument/2006/relationships/hyperlink" Target="http://files.school-collection.edu.ru/dlrstore/669b5254-e921-11dc-95ff-0800200c9a66/4_12.swf" TargetMode="External"/><Relationship Id="rId4" Type="http://schemas.openxmlformats.org/officeDocument/2006/relationships/hyperlink" Target="http://files.school-collection.edu.ru/dlrstore/669b5254-e921-11dc-95ff-0800200c9a66/4_12.swf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717732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br>
              <a:rPr sz="6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708360" y="4365720"/>
            <a:ext cx="48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ОУ «СОШ № 1»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Ивантеевки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гарина Марианна Сергеевн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39280" y="333360"/>
            <a:ext cx="25196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90920" cy="4535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5003640" y="404640"/>
            <a:ext cx="396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каких единицах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ируется шкала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ого манометра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Чему равна цена деления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предел изме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давление показывает манометр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Выразите это давление в Паскалях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8920" y="188640"/>
            <a:ext cx="871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применяются во всех случаях, когда необходимо знать, контролировать и регулировать давление. Наиболее часто манометры применяют в теплоэнергетике, на химических, нефтехимических предприятиях, предприятиях пищевой отрасл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9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45600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27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"/>
          <p:cNvPicPr/>
          <p:nvPr/>
        </p:nvPicPr>
        <p:blipFill>
          <a:blip r:embed="rId7"/>
          <a:stretch/>
        </p:blipFill>
        <p:spPr>
          <a:xfrm>
            <a:off x="3132000" y="4367160"/>
            <a:ext cx="1944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Объект 4" descr=""/>
          <p:cNvPicPr/>
          <p:nvPr/>
        </p:nvPicPr>
        <p:blipFill>
          <a:blip r:embed="rId2"/>
          <a:stretch/>
        </p:blipFill>
        <p:spPr>
          <a:xfrm>
            <a:off x="1187280" y="2938320"/>
            <a:ext cx="2737080" cy="171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50920" y="260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игмоманометр (тонометр) — прибор для измерения артериального давления. Состоит из манжеты, надеваемой на руку пациенту, устройства для нагнетания воздуха в манжету и манометра, измеряющего давление воздуха в манжете. Также, сфигмоманометр оснащается либо стетоскопом, либо электронным устройством, регистрирующим пульсации воздуха в манжет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7" name="Рисунок 5" descr=""/>
          <p:cNvPicPr/>
          <p:nvPr/>
        </p:nvPicPr>
        <p:blipFill>
          <a:blip r:embed="rId3"/>
          <a:stretch/>
        </p:blipFill>
        <p:spPr>
          <a:xfrm>
            <a:off x="4643280" y="2938320"/>
            <a:ext cx="2592720" cy="17146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9" descr=""/>
          <p:cNvPicPr/>
          <p:nvPr/>
        </p:nvPicPr>
        <p:blipFill>
          <a:blip r:embed="rId4"/>
          <a:stretch/>
        </p:blipFill>
        <p:spPr>
          <a:xfrm>
            <a:off x="5940360" y="472752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"/>
          <p:cNvPicPr/>
          <p:nvPr/>
        </p:nvPicPr>
        <p:blipFill>
          <a:blip r:embed="rId5"/>
          <a:stretch/>
        </p:blipFill>
        <p:spPr>
          <a:xfrm>
            <a:off x="2340000" y="4727520"/>
            <a:ext cx="29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и приборами мы сегодня познакомились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в открытом манометре уровни жидкости в обоих коленах одинаковы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при погружении коробочки в воду изменяются уровни жидкости в коленах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 помощью жидкостного манометра показать, что на одной и той же глубине давление одинаково по всем направлениям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строен металлический манометр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их единицах градуируется шкала металлического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45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1700280"/>
            <a:ext cx="5194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17240" y="379440"/>
            <a:ext cx="825804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А.В. Перышкин. Физика. 7 класс. - М.: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М. Гутник, Е,В. Рыбакова. Методические материалы для учителя. Физика. 7 класс. - М.;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4"/>
              </a:rPr>
              <a:t>files.school-collection.edu.ru/dlrstore/669b5254-e921-11dc-95ff-0800200c9a66/4_12.swf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ru.wikipedia.org/wiki/%CC%E0%ED%EE%EC%E5%F2%F0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ages.yandex.ru/yandsearch?text=%D0%BC%D0%B0%D0%BD%D0%BE%D0%BC%D0%B5%D1%82%D1%80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33336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б устройстве и принципах работы жидкостного и металлического манометров, рассмотреть их применение в различных областях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устройство и принцип действия открытого        жидкостного и металлического манометров; научить пользоваться им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познавательный интерес, коммуникативные и   экспериментаторские компетенции учащихс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ющие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е отношение к  участникам учебного процесса,  понимание необходимости заботиться о своем здоровье и приобретении житейских навыков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920" y="1554120"/>
            <a:ext cx="4608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з ученых предложил способ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Ньютон            В) Ломоносов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скаль            Г) Торричелл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буквой обозначают атмосферное давлени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S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акова единица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г или г                            В) Н или к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 или мм рт. ст.             Г) м/с или км/ч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9560" y="1197000"/>
            <a:ext cx="18900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 называется прибор для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альтимер                     В) мензурк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барометр                      Г) высотоме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Чему равно значение нормального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1 Н                              В) 760 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1 Па                             Г) 760 мм рт. ст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Как называется прибор для измерения высоты, используемый в авиации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ысотомер                  В) анероид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альтимер                     Г) ареомет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640" y="691920"/>
            <a:ext cx="7920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ы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4360" y="2205000"/>
          <a:ext cx="7775280" cy="224784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  <a:gridCol w="1368360"/>
                <a:gridCol w="1224000"/>
                <a:gridCol w="1295640"/>
                <a:gridCol w="122364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755280" y="691920"/>
            <a:ext cx="6924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endParaRPr b="0" i="1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622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4720" cy="39607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Рисунок 4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539640" y="260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иборы для измерения давлений, больших или меньших атмосферного (от греческого «манос» – редкий, неплотной и «метрео» - измеря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бывают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жидкостные                     б) металлическ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дкостный манометр состоит из двухколенной стеклянной трубки, в которую налита какая – нибудь жидкость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и принцип работы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ого жидкостного манометр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8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"/>
          <p:cNvPicPr/>
          <p:nvPr/>
        </p:nvPicPr>
        <p:blipFill>
          <a:blip r:embed="rId4"/>
          <a:stretch/>
        </p:blipFill>
        <p:spPr>
          <a:xfrm>
            <a:off x="6156360" y="254160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9280" y="333360"/>
            <a:ext cx="79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 металлического манометр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нутая в дугу металлическая труб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чаг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бчат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ел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Кран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27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20:50:36Z</dcterms:created>
  <dc:creator>Marianna</dc:creator>
  <dc:description/>
  <dc:language>en-US</dc:language>
  <cp:lastModifiedBy>Мама</cp:lastModifiedBy>
  <dcterms:modified xsi:type="dcterms:W3CDTF">2013-03-07T21:45:19Z</dcterms:modified>
  <cp:revision>43</cp:revision>
  <dc:subject/>
  <dc:title>Манометры</dc:title>
</cp:coreProperties>
</file>