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441-0D0D-4528-82D9-5045A6BD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2A4F-3D65-4840-AE06-4492E023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063-9D33-4DED-8C20-31859C73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3FD6-7B61-4F72-BB1D-8802A8E0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4DE4-0CF6-4D0F-BF00-1B5B64E2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62DD-3A40-4D73-A541-199C0B43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E64C-22DC-4E9F-BDD4-91187DE7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FC03-CAA4-4065-8E2B-48AEC5DA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79FA-B956-4B74-823F-38CF5CD0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C7DC-7423-4361-B4B7-513F2152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35BD-0581-47B4-AFAD-B0FC5B72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965-351A-4157-8CE7-5CB1F29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FC64-5432-4E8A-9795-08363413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F368-9B76-4157-8017-64E5739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C52B-D418-4AF9-B5C3-930FBCD8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2187-0830-488B-8666-C735B33A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0183-61ED-4B9D-8CA7-CC61A059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1AF1-3A4F-4A0C-833B-0D178077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AEC-CB83-4EE4-8254-E0D6AFB3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1E64-6444-4296-BBC8-0FF49CFA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F60-B4C5-4AB4-AEE2-6AD708B3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E85-165F-4162-A1C5-B3B8621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9B0-3326-4858-8157-D07482A3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7A0-C014-4DF0-9F70-34F813EF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7B58-6A6C-40C9-9DBD-2188711175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E182-9C72-4F27-85AA-AB997F81957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5/0808/11/03a5b123776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477/2270477/f_1852599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9114_c412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ложносокращённые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ь девятое октябр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Картинка 23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3848040"/>
            <a:ext cx="216396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6094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жносокращённые слова (или аббревиатуры) – это слова, образованные путём сложения сокращённых ос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кращенным словам всего лишь около ста лет. До событий 1917 г. в устной речи они почти не использовалис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1920-х гг. в советской республике появляется множество сложносокращенных слов типа “местком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совет”, “ЧК”, “ЦК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 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ЦИК”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52880" y="3835440"/>
            <a:ext cx="394020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7380360" y="0"/>
            <a:ext cx="17636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ова причина появления в русском языке таких сл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Экономия времени и мест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кие вы знаете способы сокращения слов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Часть слова + целое с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мкруж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Часть слова + час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вхо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Аббре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. </a:t>
            </a: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Прочитайте данные слова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Распределите их на три группы по способу сокращения слов.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директора, универмаг, канцтовары, МГУ,   химчистка, Сбербанк, ЖКХ,   военкомат, ПТУ , совхоз , ГИА, юнк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Блок-схема: несколько документов 3"/>
          <p:cNvSpPr/>
          <p:nvPr/>
        </p:nvSpPr>
        <p:spPr>
          <a:xfrm>
            <a:off x="5791320" y="2971800"/>
            <a:ext cx="3276360" cy="36576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5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2 балла за груп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353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ова + сл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. + часть с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мдире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ниверм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нцтов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енк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К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чис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х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Т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бербан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юнк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093240" cy="5867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640" y="152280"/>
            <a:ext cx="90946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определить род сложносокращённых слов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ите род сложносокращённых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Ф – Российская Федер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Т – Общественное российское телеви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У –Московский государственный университ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ОН – Организация объединенных н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И – Научно-исследовательский инстит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С – Министерство чрезвычайны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ДД – Государственная инспекция безопасности дорожного дв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Расшифруйте, определите главное слово, определите 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09720" y="3314160"/>
            <a:ext cx="2952720" cy="259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у за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Блок-схема: несколько документов 4"/>
          <p:cNvSpPr/>
          <p:nvPr/>
        </p:nvSpPr>
        <p:spPr>
          <a:xfrm>
            <a:off x="304920" y="1469880"/>
            <a:ext cx="4190760" cy="53881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Ф -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Т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У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ОН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ИИ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С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 Допишите глаголы, согласуя их со сложносокращенными словам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ЮЗ показал… новый спектакль для малы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ЭС начал… вырабатывать энер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И сообщил.. о победителях конкур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уз предостави…студентам общеж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ТУ пригласил…  учащихся на День открытых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несколько документов 3"/>
          <p:cNvSpPr/>
          <p:nvPr/>
        </p:nvSpPr>
        <p:spPr>
          <a:xfrm>
            <a:off x="5638680" y="2895480"/>
            <a:ext cx="3353040" cy="39625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7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1 баллу за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усадебный, пр..крикнуть, бе..сильный, пр..землился, …дес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..звучный, …гладить, ра..грузит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мудрый, пр..двинуть, ра..сортировать, земл..тр..с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йте набра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ы и запишите су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8 – 29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 – 27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рош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 – 15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довлетворитель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нее 15 баллов – нужно еще раз повторить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Блок-схема: несколько документов 3"/>
          <p:cNvSpPr/>
          <p:nvPr/>
        </p:nvSpPr>
        <p:spPr>
          <a:xfrm>
            <a:off x="5410080" y="228600"/>
            <a:ext cx="3586320" cy="20718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2 ми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ём 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овторили на урок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узнали о сложносокращенных словах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им новым термином познакомились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В каких речевых ситуациях могут использоваться сложносокращенны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иходится ли вам в разговорной речи использовать такие слова? Какие имен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задания вам особенно понрав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ие задания выз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что нужно дома повторить перед выполнением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Arial"/>
              </a:rPr>
              <a:t>ДЗ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Теория параграфа № 2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Упражнения 19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онаблюдайте за окружающим миром. Найдите сложносокращенные слова, встречающиеся в названии магазинов, фирм, организаций и т.д. Составьте с ними небольшой рассказ по теме “Сложносокращенные слова живут рядом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Картинка 7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90440"/>
            <a:ext cx="19731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ончи фразу… (устн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0666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ми называются сло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образуются в результате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образовании сложных слов чаще используются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Работа с текстами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текст на бумажных листах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76920" y="2732760"/>
            <a:ext cx="3412080" cy="301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ремя выполнения –    3 мину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ценить себя – по 0,5 балла за каждое найд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57200" y="1905120"/>
            <a:ext cx="441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йти в тексте и выписать в тетрадь все сложн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29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йте сложные существительны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ьте в них корни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черкните соединительные гласные о и 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600200"/>
          <a:ext cx="8382240" cy="48880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224" name="Блок-схема: несколько документов 3"/>
          <p:cNvSpPr/>
          <p:nvPr/>
        </p:nvSpPr>
        <p:spPr>
          <a:xfrm>
            <a:off x="5181480" y="2209680"/>
            <a:ext cx="3886200" cy="44197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а за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51051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ре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стопр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боч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лев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в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здухоплава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фемол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Картинка 79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267080"/>
            <a:ext cx="1917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осокращё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920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сложносокращённые слова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и слова одновременно являются и сложными(т.к. состоят из нескольких основ), и сокращёнными (т.к. эти основы использованы в усечённом вид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49:33Z</dcterms:created>
  <dc:creator>1</dc:creator>
  <dc:description/>
  <dc:language>en-US</dc:language>
  <cp:lastModifiedBy>Nata</cp:lastModifiedBy>
  <dcterms:modified xsi:type="dcterms:W3CDTF">2013-11-05T22:33:55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