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CB30-2B0A-4193-84C8-9A5BD144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C1CC-16E4-4B38-B94B-E80B62CE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18DA-105B-4403-84AD-F9CD82CC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D122-A603-4B2C-AA09-1F5AE747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BD73-6824-48E6-AFCD-B390FA48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D1B5-946C-4874-9CD1-86FD5341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5131-C589-4CEE-A4A9-62320FD0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18AC-5E9E-4F9F-918B-7CC4F23B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70F5-165F-4B8F-806A-86272A1E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072B-2C6C-4D62-A5A7-D6BEAEA6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A5C4-E7F7-47F7-BFA4-13A6B932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E8D4-042A-488B-9FAF-255DAF7F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6C4C-F474-4485-AB41-A49C63C7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BB04-3D5E-4D25-850F-9E8666B0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A3A4-CD19-4897-9000-92A2AA2D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9BF5-1490-4988-B321-F2FE2065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3BD0-F037-4672-8735-341367BA0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79EA-BC0C-4C8C-9E24-C3BB13FD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54DB-9ED9-4D56-9A8A-E3220289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FF2B-2D19-4163-B11D-AB7B7C88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43DC-79B4-43D8-91E6-D77FA2B1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4F32-4A0E-4467-9A57-FD70B858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EDFE-9574-4D7E-99DD-A6A89F13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0D6B-2CEE-4B14-8330-F6B45EB4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9F09-A169-4199-BFD9-BFA74D802B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0404-BDE2-46A6-88AB-18539994C09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49.radikal.ru/i125/0808/11/03a5b123776c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3/477/2270477/f_18525994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allday.ru/uploads/posts/1191269114_c4120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Сложносокращённые слов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вадцать девятое октябр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лассная работ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3" descr="Картинка 23 из 295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21360" y="3848040"/>
            <a:ext cx="2163960" cy="298764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1"/>
          <p:cNvSpPr/>
          <p:nvPr/>
        </p:nvSpPr>
        <p:spPr>
          <a:xfrm>
            <a:off x="609480" y="4952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 презент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знецова Татьяна Николаевна, учитель русского языка и литературы Лицея №15 г. Вышнего Волочка Тверской области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преде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ложносокращённые слова (или аббревиатуры) – это слова, образованные путём сложения сокращённых осн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ffff"/>
                </a:solidFill>
                <a:latin typeface="Arial"/>
              </a:rPr>
              <a:t>Знаете ли вы, что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жносокращенным словам всего лишь около ста лет. До событий 1917 г. в устной речи они почти не использовались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1920-х гг. в советской республике появляется множество сложносокращенных слов типа “местком”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ссовет”, “ЧК”, “ЦК”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“ “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ЦИК” и т. 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4952880" y="3835440"/>
            <a:ext cx="3940200" cy="2879640"/>
          </a:xfrm>
          <a:prstGeom prst="rect">
            <a:avLst/>
          </a:prstGeom>
          <a:ln w="0">
            <a:noFill/>
          </a:ln>
        </p:spPr>
      </p:pic>
      <p:sp>
        <p:nvSpPr>
          <p:cNvPr id="246" name="WordArt 4"/>
          <p:cNvSpPr txBox="1"/>
          <p:nvPr/>
        </p:nvSpPr>
        <p:spPr>
          <a:xfrm>
            <a:off x="7380360" y="0"/>
            <a:ext cx="1763640" cy="35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8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VivaldiD CL"/>
              </a:rPr>
              <a:t>?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VivaldiD CL"/>
              <a:ea typeface="VivaldiD C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акова причина появления в русском языке таких слов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(Экономия времени и места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Какие вы знаете способы сокращения слов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1. Часть слова + целое сло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рамкруж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2. Часть слова + часть слов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вхо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. Аббревиату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ЕГ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6. </a:t>
            </a: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Прочитайте данные слова. </a:t>
            </a:r>
            <a:br>
              <a:rPr sz="3200"/>
            </a:b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Распределите их на три группы по способу сокращения слов.  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мдиректора, универмаг, канцтовары, МГУ,   химчистка, Сбербанк, ЖКХ,   военкомат, ПТУ , совхоз , ГИА, юнко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Блок-схема: несколько документов 3"/>
          <p:cNvSpPr/>
          <p:nvPr/>
        </p:nvSpPr>
        <p:spPr>
          <a:xfrm>
            <a:off x="5791320" y="2971800"/>
            <a:ext cx="3276360" cy="365760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5 мину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ть себя – по 2 балла за групп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57200" y="1600200"/>
          <a:ext cx="8229600" cy="3535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ь слова + сло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асть сл. + часть сл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ббревиату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замдиректо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нивермаг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Г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анцтова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оенкома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ЖК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химчист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овхо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Т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бербан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юнко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ГИ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15840" y="990720"/>
            <a:ext cx="9093240" cy="58672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640" y="152280"/>
            <a:ext cx="909468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ак определить род сложносокращённых слов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пределите род сложносокращённых сл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Ф – Российская Федерац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Т – Общественное российское телевид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ГУ –Московский государственный университ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ОН – Организация объединенных нац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И – Научно-исследовательский институ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ЧС – Министерство чрезвычайных ситуац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БДД – Государственная инспекция безопасности дорожного дви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4. Расшифруйте, определите главное слово, определите р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409720" y="3314160"/>
            <a:ext cx="2952720" cy="25927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ff99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3 мину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ff99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ть себя – по 0,5 баллу за сло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Блок-схема: несколько документов 4"/>
          <p:cNvSpPr/>
          <p:nvPr/>
        </p:nvSpPr>
        <p:spPr>
          <a:xfrm>
            <a:off x="304920" y="1469880"/>
            <a:ext cx="4190760" cy="538812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Ф -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РТ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ГУ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ОН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ИИ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ЧС 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5. Допишите глаголы, согласуя их со сложносокращенными словами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282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ТЮЗ показал… новый спектакль для малыш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АЭС начал… вырабатывать энерг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СМИ сообщил.. о победителях конкур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Вуз предостави…студентам общежит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ПТУ пригласил…  учащихся на День открытых двер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Блок-схема: несколько документов 3"/>
          <p:cNvSpPr/>
          <p:nvPr/>
        </p:nvSpPr>
        <p:spPr>
          <a:xfrm>
            <a:off x="5638680" y="2895480"/>
            <a:ext cx="3353040" cy="396252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7 мину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ценить себя – по 1 баллу за предлож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ffff"/>
                </a:solidFill>
                <a:latin typeface="Arial"/>
              </a:rPr>
              <a:t>Орфографическая разми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28600" y="1447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..усадебный, пр..крикнуть, бе..сильный, пр..землился, …десь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е..звучный, …гладить, ра..грузить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..мудрый, пр..двинуть, ра..сортировать, земл..тр..се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029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цените свою работ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читайте набранны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ллы и запишите сум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ульта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8 – 29 баллов –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личн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0 – 27 баллов –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хорош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9 – 15 баллов –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удовлетворительно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енее 15 баллов – нужно еще раз повторить матери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Блок-схема: несколько документов 3"/>
          <p:cNvSpPr/>
          <p:nvPr/>
        </p:nvSpPr>
        <p:spPr>
          <a:xfrm>
            <a:off x="5410080" y="228600"/>
            <a:ext cx="3586320" cy="207180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2 мину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дведём ито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повторили на уроке?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узнали о сложносокращенных словах?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 каким новым термином познакомились?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В каких речевых ситуациях могут использоваться сложносокращенные слов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Приходится ли вам в разговорной речи использовать такие слова? Какие именн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Какие задания вам особенно понравилис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Какие задания вызвали затрудне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вы думаете, что нужно дома повторить перед выполнением домашнего зада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9ffff"/>
                </a:solidFill>
                <a:latin typeface="Arial"/>
              </a:rPr>
              <a:t>ДЗ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Теория параграфа № 20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Упражнения 199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Понаблюдайте за окружающим миром. Найдите сложносокращенные слова, встречающиеся в названии магазинов, фирм, организаций и т.д. Составьте с ними небольшой рассказ по теме “Сложносокращенные слова живут рядом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Картинка 7 из 295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190440"/>
            <a:ext cx="197316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 презентац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знецова Татьяна Николаевна, учитель русского языка и литературы Лицея №15 г. Вышнего Волочка Тверской области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акончи фразу… (устно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0880" y="1066680"/>
            <a:ext cx="830592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ложными называются слова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ни образуются в результате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 образовании сложных слов чаще используются 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2. Работа с текстами.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(текст на бумажных листах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876920" y="2732760"/>
            <a:ext cx="3412080" cy="3011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 fontScale="94000"/>
          </a:bodyPr>
          <a:p>
            <a:pPr marL="322200" indent="-322200">
              <a:lnSpc>
                <a:spcPct val="100000"/>
              </a:lnSpc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Время выполнения –    3 мину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Оценить себя – по 0,5 балла за каждое найденное сло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457200" y="1905120"/>
            <a:ext cx="441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айти в тексте и выписать в тетрадь все сложные слов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29ff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уйте сложные существительные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значьте в них корни и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черкните соединительные гласные о и 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: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80880" y="1600200"/>
          <a:ext cx="8382240" cy="4888080"/>
        </p:xfrm>
        <a:graphic>
          <a:graphicData uri="http://schemas.openxmlformats.org/drawingml/2006/table">
            <a:tbl>
              <a:tblPr/>
              <a:tblGrid>
                <a:gridCol w="2793960"/>
                <a:gridCol w="2794320"/>
                <a:gridCol w="279396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основа (кор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основа (кор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жное сло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хо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рав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уб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чист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л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ар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свали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ду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ла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ф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моло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о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</a:tbl>
          </a:graphicData>
        </a:graphic>
      </p:graphicFrame>
      <p:sp>
        <p:nvSpPr>
          <p:cNvPr id="224" name="Блок-схема: несколько документов 3"/>
          <p:cNvSpPr/>
          <p:nvPr/>
        </p:nvSpPr>
        <p:spPr>
          <a:xfrm>
            <a:off x="5181480" y="2209680"/>
            <a:ext cx="3886200" cy="4419720"/>
          </a:xfrm>
          <a:prstGeom prst="flowChartMultidocumen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ремя выполнения – 3 мину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ценить себя – по 0,5 балла за сло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Проверь себя!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28600" y="1219320"/>
          <a:ext cx="8610480" cy="5105160"/>
        </p:xfrm>
        <a:graphic>
          <a:graphicData uri="http://schemas.openxmlformats.org/drawingml/2006/table">
            <a:tbl>
              <a:tblPr/>
              <a:tblGrid>
                <a:gridCol w="2870280"/>
                <a:gridCol w="2870280"/>
                <a:gridCol w="2869920"/>
              </a:tblGrid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основа (кор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основа (корень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жное слов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хо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орехо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рав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остопра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уб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чист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рубочис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л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ар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талева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свали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амосва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ду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пла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оздухоплавате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ф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моло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кофемол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о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лководе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Сравните. </a:t>
            </a:r>
            <a:br>
              <a:rPr sz="3200"/>
            </a:b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Чем отличаются слова первого столбика от слов второго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томузы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ек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нзоб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вощехранилищ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егопа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хо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сес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у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рттова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у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2" descr="Картинка 79 из 295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4267080"/>
            <a:ext cx="1917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Сравните. </a:t>
            </a:r>
            <a:br>
              <a:rPr sz="3200"/>
            </a:br>
            <a:r>
              <a:rPr b="0" lang="ru-RU" sz="3200" spc="-1" strike="noStrike">
                <a:solidFill>
                  <a:srgbClr val="29ffff"/>
                </a:solidFill>
                <a:latin typeface="Arial"/>
              </a:rPr>
              <a:t>Чем отличаются слова первого столбика от слов второго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жные слов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томузы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ек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нзоб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вощехранилищ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егопа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жносокращён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хо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сес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у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рттова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у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7010280" y="4267080"/>
            <a:ext cx="19209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сните, почему сложносокращённые слова получили такое назван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ти слова одновременно являются и сложными(т.к. состоят из нескольких основ), и сокращёнными (т.к. эти основы использованы в усечённом виде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1:49:33Z</dcterms:created>
  <dc:creator>1</dc:creator>
  <dc:description/>
  <dc:language>en-US</dc:language>
  <cp:lastModifiedBy>Nata</cp:lastModifiedBy>
  <dcterms:modified xsi:type="dcterms:W3CDTF">2013-11-05T22:33:55Z</dcterms:modified>
  <cp:revision>9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