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89D1-0C94-4419-AE25-D2B70327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2029-1EF3-41F2-89A7-734501E8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CE97-3DFD-4158-BAB4-8F462F3C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20EE-5EF6-481C-8A45-541E55EC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9F7A-5041-44BA-B1BE-F7EBDBBA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BC1C-E4F7-40FD-8DFA-5F9ED34F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4D9D-D460-4795-A0A4-494F00BE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D7DE-A250-4460-B94E-D407EF23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2C45-0DAC-48D8-BE22-8994588B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B0FB-621C-45CC-96A8-349706AB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17E2-6208-483C-967F-BF796051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6030-3B42-46C4-9E6C-B6805CDB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387D-3DE8-40AF-992E-2D2BA14C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F1A3-9583-4406-993D-052B8713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EBBF-B3C6-4FE5-8364-07157AFB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5096-099F-4235-A073-B90CA6EF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66A5-CAB5-4F51-B9E8-E1F8DCBA8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91508-FC48-4E9A-B6CA-72070949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55B98-00EC-4951-B57D-79FC0D01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8DC62-F963-4730-B35E-5C657A7A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E0595-0F02-49EE-A67F-6D75BF33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E65ED-E638-4354-8963-4D87C6A3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F7C5-B435-4743-9273-ECB7BE34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82493-23CB-43F4-8E0B-98BC40B9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10622-564F-4B8A-BDE2-039C7C52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118DA-47AD-4670-8DFA-286D13C0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D2D86-6759-45B9-BCA1-7E868B8B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6E171-37A5-4617-B4D4-1B4AAD1A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A8B72-CBFD-4416-A4B9-D71E019EA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94D71-1EA0-46B2-8519-9937A8C12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30178-1D80-40C2-8853-0D6CFB1F8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772EA-B412-437C-B11F-014ED17C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B4986-D386-4319-AE1A-C97D6F5A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7725-8332-4D47-8CEA-4AF531D0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1B663-454E-4630-BB86-6CDDB12C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3FFDF-3DA9-476E-8807-ADA483FE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C15E1-6013-4199-8CDB-26FC69A6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53357-2EAA-44CE-9496-D795320A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AB7FA-8744-4C21-ACBB-F7D413A3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DDC11-DBF8-488E-BDD3-356E1FA2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5766C-E04D-47E2-A737-5CDA8C2A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309E1-F821-4C42-9BD6-0C37F44A4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6DFF2-15D1-40EE-AAC1-2C3DCBE0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76D21-7EFA-4B2A-8C29-D2529EC2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A7BC-48EF-4B0A-A9AB-02B2CC8A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280AC-5CF1-4EE0-840B-733C272E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BCD74-B4B4-4A28-970E-EE33E05A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6A8C3-A05B-4EA7-9816-98E8A566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2F3EB-C3DE-4C2F-BF54-571867C6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A3798-7D9C-4237-8C41-423BD1CF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0EAEF-7471-42CD-891B-1517D644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C07E8-DFE8-48B9-98D9-A393D127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7B502-478C-4042-9589-CFED4811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DE319-D4FD-4A9F-828F-1FF0E3E2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13483-FF09-4A5A-A2A3-2771C36C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C923-2405-4BC8-8B8F-EE81CE74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87CEC-CA4F-4B2C-B64A-4EE426A95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67EAE-CA23-457D-8162-3064E851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86A05-4378-4907-A912-80EE15F9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85292-421D-45EC-87D4-F8978AB5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38B44-822F-4AB3-9C2E-19818A72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47C1A-913C-494C-A1D2-26E1BE37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4C670-EEE6-42AF-AF09-17677CC4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56A48-6212-4C9C-8E66-2475EDCC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E8612-563D-48A3-9FC1-370D50E5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8BF12-5283-491C-977A-C7385069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B3FA-29E8-44BB-89E5-AA8E512C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A244B-6BE8-4755-9E15-706AFA89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647FF-3F5B-431C-AE73-A7C57379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76DDF-AF40-4977-9F4E-9AF2DAB54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2F17A-7BEA-4434-A6CB-B6510625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A3024-17F7-4513-8D8C-39866660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C4F20-DDA1-4FA6-9D3F-F09FCDC5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ED507-45F6-419D-9E26-7CA04952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188F6-A1E8-4C48-BBE4-AFD63DDD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2EDFB-3CEB-4E16-9B6B-259E625D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CC8A5-575C-4C12-98F8-1799A0C2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F481-3FFF-4024-B301-F2C7AAFE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F1D77-EAFC-4EB9-969C-54E940CF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36906-D1FD-41AE-AF11-ABAFDA55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76ED7-6A02-484C-820F-27872B82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3AA31-129F-49B1-834F-9C2E75D0B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2C068-967E-4BD7-901E-D6A20E5D9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B7ED-D226-4676-B6A6-CA6DF925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34F9-2C57-43C4-B55F-B9434294A75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4161-629F-4078-8881-3103DD08E2FD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1D05-7991-4B05-8170-1DEA02B32D1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B52D-414D-4A7B-90FE-D667459655ED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231D-1BCB-4BBD-B35C-A7C3378F9B5B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DDBD-2796-4C87-A9C0-83F3F047D653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99AF-7065-4488-9DE6-B2F0F4CD0C60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extBox 5" descr=""/>
          <p:cNvPicPr/>
          <p:nvPr/>
        </p:nvPicPr>
        <p:blipFill>
          <a:blip r:embed="rId1"/>
          <a:stretch/>
        </p:blipFill>
        <p:spPr>
          <a:xfrm>
            <a:off x="0" y="3071880"/>
            <a:ext cx="5931000" cy="2950920"/>
          </a:xfrm>
          <a:prstGeom prst="rect">
            <a:avLst/>
          </a:prstGeom>
          <a:ln w="0">
            <a:noFill/>
          </a:ln>
        </p:spPr>
      </p:pic>
      <p:pic>
        <p:nvPicPr>
          <p:cNvPr id="302" name="TextBox 7" descr=""/>
          <p:cNvPicPr/>
          <p:nvPr/>
        </p:nvPicPr>
        <p:blipFill>
          <a:blip r:embed="rId2"/>
          <a:stretch/>
        </p:blipFill>
        <p:spPr>
          <a:xfrm>
            <a:off x="2073240" y="317520"/>
            <a:ext cx="7070760" cy="2584440"/>
          </a:xfrm>
          <a:prstGeom prst="rect">
            <a:avLst/>
          </a:prstGeom>
          <a:ln w="0">
            <a:noFill/>
          </a:ln>
        </p:spPr>
      </p:pic>
      <p:pic>
        <p:nvPicPr>
          <p:cNvPr id="303" name="02 - Track  2.mp3" descr=""/>
          <p:cNvPicPr/>
          <p:nvPr/>
        </p:nvPicPr>
        <p:blipFill>
          <a:blip r:embed="rId3"/>
          <a:stretch/>
        </p:blipFill>
        <p:spPr>
          <a:xfrm>
            <a:off x="8643960" y="6429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Box 2"/>
          <p:cNvSpPr/>
          <p:nvPr/>
        </p:nvSpPr>
        <p:spPr>
          <a:xfrm>
            <a:off x="3143160" y="0"/>
            <a:ext cx="57150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 —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это тип речи, при помощи которого рассказывается о каких-либо событиях в их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временной</a:t>
            </a:r>
            <a:r>
              <a:rPr b="0" i="1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последовательности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; сообщается о последовательно сменяющих друг друга действиях или события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(содержание повествования можно передать лишь на нескольких кадрах фотоаппарат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Группа 3" descr=""/>
          <p:cNvPicPr/>
          <p:nvPr/>
        </p:nvPicPr>
        <p:blipFill>
          <a:blip r:embed="rId1"/>
          <a:stretch/>
        </p:blipFill>
        <p:spPr>
          <a:xfrm>
            <a:off x="103320" y="542880"/>
            <a:ext cx="3078000" cy="5802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3"/>
          <p:cNvSpPr/>
          <p:nvPr/>
        </p:nvSpPr>
        <p:spPr>
          <a:xfrm>
            <a:off x="500040" y="2214720"/>
            <a:ext cx="828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8ba"/>
                </a:solidFill>
                <a:latin typeface="Century Gothic"/>
              </a:rPr>
              <a:t>Повествование</a:t>
            </a:r>
            <a:r>
              <a:rPr b="0" lang="ru-RU" sz="3600" spc="-1" strike="noStrike">
                <a:solidFill>
                  <a:srgbClr val="ff88ba"/>
                </a:solidFill>
                <a:latin typeface="Century Gothic"/>
              </a:rPr>
              <a:t> </a:t>
            </a:r>
            <a:r>
              <a:rPr b="1" lang="ru-RU" sz="3600" spc="-1" strike="noStrike">
                <a:solidFill>
                  <a:srgbClr val="ff88ba"/>
                </a:solidFill>
                <a:latin typeface="Century Gothic"/>
              </a:rPr>
              <a:t>— это мир в движении</a:t>
            </a:r>
            <a:r>
              <a:rPr b="0" lang="ru-RU" sz="3600" spc="-1" strike="noStrike">
                <a:solidFill>
                  <a:srgbClr val="ff88ba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(один кадр сменяет другой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2"/>
          <p:cNvSpPr/>
          <p:nvPr/>
        </p:nvSpPr>
        <p:spPr>
          <a:xfrm>
            <a:off x="214200" y="1928880"/>
            <a:ext cx="8572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Повествование помогает наглядно представить </a:t>
            </a:r>
            <a:r>
              <a:rPr b="0" lang="ru-RU" sz="3600" spc="-1" strike="noStrike">
                <a:solidFill>
                  <a:srgbClr val="ff88ba"/>
                </a:solidFill>
                <a:latin typeface="Century Gothic"/>
              </a:rPr>
              <a:t>действия, движения людей и явлений</a:t>
            </a: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 во времени и пространств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2"/>
          <p:cNvSpPr/>
          <p:nvPr/>
        </p:nvSpPr>
        <p:spPr>
          <a:xfrm>
            <a:off x="642960" y="1349280"/>
            <a:ext cx="8358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И вдруг... случилось что-то необъяснимое, почти сверхъестественное. Мышастый дог внезапно грохнулся на спину, и какая-то невидимая сила повлекла его с тротуара. Вслед за этим та же невидимая сила плотно охватила горло изумленного Джека... Джек уперся передними ногами и яростно замотал головой. Но незримое «что-то» так стиснуло его шею, что коричневый пойнтер лишился сознания. (А. И. Куприн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TextBox 3" descr=""/>
          <p:cNvPicPr/>
          <p:nvPr/>
        </p:nvPicPr>
        <p:blipFill>
          <a:blip r:embed="rId1"/>
          <a:stretch/>
        </p:blipFill>
        <p:spPr>
          <a:xfrm>
            <a:off x="2992320" y="176040"/>
            <a:ext cx="2872080" cy="1298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extBox 2" descr=""/>
          <p:cNvPicPr/>
          <p:nvPr/>
        </p:nvPicPr>
        <p:blipFill>
          <a:blip r:embed="rId1"/>
          <a:stretch/>
        </p:blipFill>
        <p:spPr>
          <a:xfrm>
            <a:off x="285840" y="176040"/>
            <a:ext cx="8572320" cy="5475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extBox 2" descr=""/>
          <p:cNvPicPr/>
          <p:nvPr/>
        </p:nvPicPr>
        <p:blipFill>
          <a:blip r:embed="rId1"/>
          <a:stretch/>
        </p:blipFill>
        <p:spPr>
          <a:xfrm>
            <a:off x="573120" y="1225440"/>
            <a:ext cx="7997760" cy="4284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Box 2"/>
          <p:cNvSpPr/>
          <p:nvPr/>
        </p:nvSpPr>
        <p:spPr>
          <a:xfrm>
            <a:off x="285840" y="1285920"/>
            <a:ext cx="85010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В текстах повествовательного типа особая роль принадлежит </a:t>
            </a:r>
            <a:r>
              <a:rPr b="0" lang="ru-RU" sz="4000" spc="-1" strike="noStrike">
                <a:solidFill>
                  <a:srgbClr val="ff88ba"/>
                </a:solidFill>
                <a:latin typeface="Century Gothic"/>
              </a:rPr>
              <a:t>глаголам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, особенно в форме прошедшего времени несовершенного вид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(</a:t>
            </a:r>
            <a:r>
              <a:rPr b="0" i="1" lang="ru-RU" sz="4000" spc="-1" strike="noStrike">
                <a:solidFill>
                  <a:srgbClr val="ffffff"/>
                </a:solidFill>
                <a:latin typeface="Century Gothic"/>
              </a:rPr>
              <a:t>приехал, увидел, разработал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 и т. д.)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2"/>
          <p:cNvSpPr/>
          <p:nvPr/>
        </p:nvSpPr>
        <p:spPr>
          <a:xfrm>
            <a:off x="3214800" y="571680"/>
            <a:ext cx="5715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 —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то тип речи, при помощи которого </a:t>
            </a:r>
            <a:r>
              <a:rPr b="0" i="1" lang="ru-RU" sz="3200" spc="-1" strike="noStrike">
                <a:solidFill>
                  <a:srgbClr val="ff88ba"/>
                </a:solidFill>
                <a:latin typeface="Century Gothic"/>
              </a:rPr>
              <a:t>доказывается или объясняется какое-либо положение, мысль; говорится о причинах и следствиях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событий и явлений, оценках и чувствах (о том, что нельзя сфотографировать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Группа 3" descr=""/>
          <p:cNvPicPr/>
          <p:nvPr/>
        </p:nvPicPr>
        <p:blipFill>
          <a:blip r:embed="rId1"/>
          <a:stretch/>
        </p:blipFill>
        <p:spPr>
          <a:xfrm>
            <a:off x="23760" y="755640"/>
            <a:ext cx="3286080" cy="5821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3"/>
          <p:cNvSpPr/>
          <p:nvPr/>
        </p:nvSpPr>
        <p:spPr>
          <a:xfrm>
            <a:off x="489960" y="2000160"/>
            <a:ext cx="861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8ba"/>
                </a:solidFill>
                <a:latin typeface="Century Gothic"/>
              </a:rPr>
              <a:t>Рассуждение — это мысли о мире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8ba"/>
                </a:solidFill>
                <a:latin typeface="Century Gothic"/>
              </a:rPr>
              <a:t>а не сам ми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Box 2"/>
          <p:cNvSpPr/>
          <p:nvPr/>
        </p:nvSpPr>
        <p:spPr>
          <a:xfrm>
            <a:off x="357120" y="1500120"/>
            <a:ext cx="8572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Рассуждение помогает автору сделать мысль более </a:t>
            </a:r>
            <a:r>
              <a:rPr b="0" lang="ru-RU" sz="4400" spc="-1" strike="noStrike">
                <a:solidFill>
                  <a:srgbClr val="ff88ba"/>
                </a:solidFill>
                <a:latin typeface="Century Gothic"/>
              </a:rPr>
              <a:t>ясной и четкой</a:t>
            </a: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, а позицию — более </a:t>
            </a:r>
            <a:r>
              <a:rPr b="0" lang="ru-RU" sz="4400" spc="-1" strike="noStrike">
                <a:solidFill>
                  <a:srgbClr val="ff88ba"/>
                </a:solidFill>
                <a:latin typeface="Century Gothic"/>
              </a:rPr>
              <a:t>убедительной</a:t>
            </a: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1"/>
          <p:cNvSpPr/>
          <p:nvPr/>
        </p:nvSpPr>
        <p:spPr>
          <a:xfrm>
            <a:off x="428760" y="1714680"/>
            <a:ext cx="8358120" cy="34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Систематизировать и обобщить знания по тем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Научить различать тексты каждого типа речи и аргументировать свой отве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TextBox 2" descr=""/>
          <p:cNvPicPr/>
          <p:nvPr/>
        </p:nvPicPr>
        <p:blipFill>
          <a:blip r:embed="rId1"/>
          <a:stretch/>
        </p:blipFill>
        <p:spPr>
          <a:xfrm>
            <a:off x="1712880" y="237960"/>
            <a:ext cx="5931000" cy="1322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extBox 2" descr=""/>
          <p:cNvPicPr/>
          <p:nvPr/>
        </p:nvPicPr>
        <p:blipFill>
          <a:blip r:embed="rId1"/>
          <a:stretch/>
        </p:blipFill>
        <p:spPr>
          <a:xfrm>
            <a:off x="378000" y="103320"/>
            <a:ext cx="8686800" cy="6029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extBox 2" descr=""/>
          <p:cNvPicPr/>
          <p:nvPr/>
        </p:nvPicPr>
        <p:blipFill>
          <a:blip r:embed="rId1"/>
          <a:stretch/>
        </p:blipFill>
        <p:spPr>
          <a:xfrm>
            <a:off x="96840" y="426960"/>
            <a:ext cx="9047160" cy="5224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Таблица 3" descr=""/>
          <p:cNvPicPr/>
          <p:nvPr/>
        </p:nvPicPr>
        <p:blipFill>
          <a:blip r:embed="rId1"/>
          <a:stretch/>
        </p:blipFill>
        <p:spPr>
          <a:xfrm>
            <a:off x="208080" y="195120"/>
            <a:ext cx="8637480" cy="6351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2"/>
          <p:cNvSpPr/>
          <p:nvPr/>
        </p:nvSpPr>
        <p:spPr>
          <a:xfrm>
            <a:off x="642960" y="571680"/>
            <a:ext cx="8072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 текстах-рассуждениях особая роль принадлежит </a:t>
            </a:r>
            <a:r>
              <a:rPr b="0" i="1" lang="ru-RU" sz="3200" spc="-1" strike="noStrike">
                <a:solidFill>
                  <a:srgbClr val="ff88ba"/>
                </a:solidFill>
                <a:latin typeface="Century Gothic"/>
              </a:rPr>
              <a:t>вводным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 словам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, указывающим на связь мыслей, последовательность изложения 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(во-первых, во-вторых, итак, таким образом, следовательно, с одной стороны, с другой стороны)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, а также </a:t>
            </a:r>
            <a:r>
              <a:rPr b="0" i="1" lang="ru-RU" sz="3200" spc="-1" strike="noStrike">
                <a:solidFill>
                  <a:srgbClr val="ff88ba"/>
                </a:solidFill>
                <a:latin typeface="Century Gothic"/>
              </a:rPr>
              <a:t>подчинительным союзам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со значением причины, следствия, уступки (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для того чтобы, вследствие того чтобы, так как, хотя, несмотря на то что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и т. д.)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extBox 2" descr=""/>
          <p:cNvPicPr/>
          <p:nvPr/>
        </p:nvPicPr>
        <p:blipFill>
          <a:blip r:embed="rId1"/>
          <a:stretch/>
        </p:blipFill>
        <p:spPr>
          <a:xfrm>
            <a:off x="158760" y="208080"/>
            <a:ext cx="8845560" cy="587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0" y="1243080"/>
            <a:ext cx="9144000" cy="2841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1"/>
          <p:cNvSpPr/>
          <p:nvPr/>
        </p:nvSpPr>
        <p:spPr>
          <a:xfrm>
            <a:off x="3000240" y="142920"/>
            <a:ext cx="592956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то тип речи, при помощи которого 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изображается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какое-либо явление действительности путем перечисления его 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постоянных или одновременно присутствующих признаков или действий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(содержание описания можно передать на одном кадре фотоаппарат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Схема 2" descr=""/>
          <p:cNvPicPr/>
          <p:nvPr/>
        </p:nvPicPr>
        <p:blipFill>
          <a:blip r:embed="rId1"/>
          <a:stretch/>
        </p:blipFill>
        <p:spPr>
          <a:xfrm>
            <a:off x="115920" y="858960"/>
            <a:ext cx="2766960" cy="5627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1"/>
          <p:cNvSpPr/>
          <p:nvPr/>
        </p:nvSpPr>
        <p:spPr>
          <a:xfrm>
            <a:off x="1071720" y="2000160"/>
            <a:ext cx="7397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88ba"/>
                </a:solidFill>
                <a:latin typeface="Century Gothic"/>
              </a:rPr>
              <a:t>Описание</a:t>
            </a:r>
            <a:r>
              <a:rPr b="0" lang="ru-RU" sz="4400" spc="-1" strike="noStrike">
                <a:solidFill>
                  <a:srgbClr val="ff88ba"/>
                </a:solidFill>
                <a:latin typeface="Century Gothic"/>
              </a:rPr>
              <a:t> </a:t>
            </a:r>
            <a:r>
              <a:rPr b="1" lang="ru-RU" sz="4400" spc="-1" strike="noStrike">
                <a:solidFill>
                  <a:srgbClr val="ff88ba"/>
                </a:solidFill>
                <a:latin typeface="Century Gothic"/>
              </a:rPr>
              <a:t>— это мир в покое</a:t>
            </a:r>
            <a:r>
              <a:rPr b="0" lang="ru-RU" sz="4400" spc="-1" strike="noStrike">
                <a:solidFill>
                  <a:srgbClr val="ff88ba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(одна фотография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Box 1"/>
          <p:cNvSpPr/>
          <p:nvPr/>
        </p:nvSpPr>
        <p:spPr>
          <a:xfrm>
            <a:off x="428760" y="1428840"/>
            <a:ext cx="7858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Описание помогае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88ba"/>
                </a:solidFill>
                <a:latin typeface="Century Gothic"/>
              </a:rPr>
              <a:t>увидеть предмет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88ba"/>
                </a:solidFill>
                <a:latin typeface="Century Gothic"/>
              </a:rPr>
              <a:t>представить его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 в сознан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1"/>
          <p:cNvSpPr/>
          <p:nvPr/>
        </p:nvSpPr>
        <p:spPr>
          <a:xfrm>
            <a:off x="428760" y="928800"/>
            <a:ext cx="83581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Небо было ясное, чистое, нежно-голубого цвета. Легкие белые облака, освещенные с одной стороны розовым блеском, лениво плыли в прозрачной тишине. Восток алел и пламенел, отливая в иных местах перламутром и серебром. Из-за горизонта, точно гигантские растопыренные пальцы, тянулись вверх по небу золотые полосы от лучей еще не взошедшего солнца. (А. И. Куприн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TextBox 2" descr=""/>
          <p:cNvPicPr/>
          <p:nvPr/>
        </p:nvPicPr>
        <p:blipFill>
          <a:blip r:embed="rId1"/>
          <a:stretch/>
        </p:blipFill>
        <p:spPr>
          <a:xfrm>
            <a:off x="2914560" y="23760"/>
            <a:ext cx="3443400" cy="1317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extBox 1" descr=""/>
          <p:cNvPicPr/>
          <p:nvPr/>
        </p:nvPicPr>
        <p:blipFill>
          <a:blip r:embed="rId1"/>
          <a:stretch/>
        </p:blipFill>
        <p:spPr>
          <a:xfrm>
            <a:off x="212760" y="390600"/>
            <a:ext cx="8570880" cy="6089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Таблица 2" descr=""/>
          <p:cNvPicPr/>
          <p:nvPr/>
        </p:nvPicPr>
        <p:blipFill>
          <a:blip r:embed="rId1"/>
          <a:stretch/>
        </p:blipFill>
        <p:spPr>
          <a:xfrm>
            <a:off x="208080" y="195120"/>
            <a:ext cx="8564400" cy="6497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2"/>
          <p:cNvSpPr/>
          <p:nvPr/>
        </p:nvSpPr>
        <p:spPr>
          <a:xfrm>
            <a:off x="357120" y="285840"/>
            <a:ext cx="835812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 описании больше всего используются слова, обозначающие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качества, свойства предметов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(существительные, прилагательные, наречия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Глаголы чаще употребляются в форме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несовершенного вида прошедшего времени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, а для особой наглядности, изобразительности описания — и </a:t>
            </a:r>
            <a:r>
              <a:rPr b="0" lang="ru-RU" sz="2800" spc="-1" strike="noStrike">
                <a:solidFill>
                  <a:srgbClr val="ff88ba"/>
                </a:solidFill>
                <a:latin typeface="Century Gothic"/>
              </a:rPr>
              <a:t>в форме настоящего времен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Широко используются синонимы —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определения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(согласованные и несогласованные) и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назывные предложения</a:t>
            </a:r>
            <a:r>
              <a:rPr b="0" lang="ru-RU" sz="2800" spc="-1" strike="noStrike">
                <a:solidFill>
                  <a:srgbClr val="ff88ba"/>
                </a:solidFill>
                <a:latin typeface="Century Gothic"/>
              </a:rPr>
              <a:t>.</a:t>
            </a:r>
            <a:br>
              <a:rPr sz="32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05:06:10Z</dcterms:created>
  <dc:creator>Александр</dc:creator>
  <dc:description/>
  <dc:language>en-US</dc:language>
  <cp:lastModifiedBy>Nata</cp:lastModifiedBy>
  <dcterms:modified xsi:type="dcterms:W3CDTF">2013-11-06T00:09:40Z</dcterms:modified>
  <cp:revision>11</cp:revision>
  <dc:subject/>
  <dc:title>Слайд 1</dc:title>
</cp:coreProperties>
</file>