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A1C5-3450-4733-91C1-B6CF35ECD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D334-2F9F-498B-8559-AEF3383B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F9FF-B3C6-42EC-87DA-89B1589D1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847F-42D1-461E-80AD-2A58A013D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B6E9-514F-49BA-BEE5-505B02779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7333-3C3D-4A4B-A77A-CD20D567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C1DD-7D62-4D6C-BB32-16C7576E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C1CD2-A70A-44BB-A591-B43DBE61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F9D1C-12CA-4269-A50B-04BB41BF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A188-CC90-4404-902C-15516B2E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6215-065A-40DE-970B-C360243A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64D7-2963-48FF-B95D-F93FF8E9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06DA-81A3-4374-B9B4-64B05E03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0D355-82C5-4604-8BA3-E9F8E253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226F-5F59-4C4F-A9F0-82542718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69580-59D4-4489-BA41-861C32361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266B-5CA9-4CA2-9BCA-A5D836DAA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89885-71F2-440F-B12A-22CEE12D3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2740B-4BB6-40F2-8195-CC80531B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2B849-FE9F-4465-9205-EE848AB3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573FB-6553-4E9E-BCA7-1C9F0B3C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C02E0-B0DA-4C2C-81A0-42214145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D2BC-D413-4EA1-A62E-5F213E49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F20B3-A98F-47D5-8CD4-0F68FA12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387DF-381B-42C7-9D1E-3B05A0A2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6C553-7DCC-473B-BC41-989957E3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8CCD0-74E5-4DF8-A67B-F50F015C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A13CC-210B-414B-933B-63DD4797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BC1E0-D061-4BEB-A422-87A8053F3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2DDA4-F82C-41FD-9873-AC37A38CA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88525-6591-4878-9F6E-5628EAD1B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6A4BE-FB6A-486B-B91D-9EC32D59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2CF74-8418-4CC9-A3FA-016242D2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9E2C-B8F7-41AD-A97F-9A6636EE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58209-26A5-4C9F-B145-B7CCC8DF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C5698-4373-4EEA-AAD8-E60ED518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CB0CF-0C79-4531-B1F2-DE8AF05A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7C1C8-B622-4278-9756-C51D84B5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DDAB8-C4CD-49B9-96D4-6AE97A38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8F0C7-5801-4D66-B666-1B6420C7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16DD2-F109-43F6-9796-AD14F8EE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3CE06-07D6-4103-A0B6-19EE0D739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76C92-D5C2-4F1E-A197-9CED828F9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4CB2B-705D-43F2-B4A6-9C83743F1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EB42-39E6-48E4-977B-8EB2CF44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4E685-F37D-40D4-B895-D3191AB1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5A1E9-8163-4DFB-AC2D-0BFF1B55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E5662-22AC-4CB6-B699-AA445A4E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7158A-2DCE-47E3-93C8-BE7B9C3A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C76FD-3C09-4BF3-B0E6-91D0BA14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F45B7-D3F4-49B9-A099-3DED396D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70426-4541-46FC-9386-7ED586FE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ED288-66EA-4ED5-874C-2FD47167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F7202-BB21-4613-B560-40713BBC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61129-C3A8-41CF-8142-1AB888B7C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0E2F-EBF8-4C8F-9447-33818EBA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03D7C-D8EA-4CB1-81FF-A0E59CAC1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252B1-BD0E-44F5-AB59-B33A0F4FB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680F0-0465-4C3B-B0EC-71AD1E9F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E828C-9776-4726-BA47-732E997B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1F386-20BE-46D6-97A9-302ABD0B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D9870-B156-4CE4-8C8F-D4BD0F36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EB4C4-DA78-404F-8F7F-D5F7AF0A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9CB9F-8661-4FDE-915D-51EEA9C7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F41D0-03AD-4BCC-9D24-699CC10F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E6A25-684A-4BEE-9A26-B90F975E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4F6C-7574-4895-A742-84631C94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A7990-DC08-4760-8618-FDC92AFF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E55D6-253A-427C-9054-6C6C8DD57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E589B-4DDB-437B-940D-7BEBBCAA3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BA9A6-A645-416B-AFD8-129B5DECB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BAE1D-04D6-49AE-A2B0-0C9FE901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41E4D-EE5D-47CF-A5C3-671B15A9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A8175-B95D-4B86-B2B1-401702FA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0B1ED-6814-4B63-9225-9CC3A93F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D8179-EB64-431A-8C50-BF03F61D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76BFC-13EE-42E0-B3B9-6BCB44D3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66BA-9A06-4FAC-8CE7-6EC902B6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AF2B5-9935-484B-B690-B1734E9E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5039E-0B1B-458B-8C2D-560EE741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E21A3-F307-4B5A-B216-EB3CAE95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2D96F-9456-4D63-A556-48F9EA5C5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9604C-94FD-413B-B33C-91ADD5DCB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7735-5774-4B41-9FAC-777F1C05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A0C1-E8A8-4C9E-8EF5-799E805967A4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439F-A9CB-4AF6-B3D0-4D67B2AC09DE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1D44-5D62-4A01-A923-1E716785FDA2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941B-7454-4C01-B0DA-03CA709F975C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201D-7C1C-4976-B706-0DC3853EBCCE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DC46-727B-4FD5-B616-BAAC726B05CA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1F2E-1C36-4CC2-AE9B-350C6416E80F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TextBox 5" descr=""/>
          <p:cNvPicPr/>
          <p:nvPr/>
        </p:nvPicPr>
        <p:blipFill>
          <a:blip r:embed="rId1"/>
          <a:stretch/>
        </p:blipFill>
        <p:spPr>
          <a:xfrm>
            <a:off x="0" y="3071880"/>
            <a:ext cx="5931000" cy="2950920"/>
          </a:xfrm>
          <a:prstGeom prst="rect">
            <a:avLst/>
          </a:prstGeom>
          <a:ln w="0">
            <a:noFill/>
          </a:ln>
        </p:spPr>
      </p:pic>
      <p:pic>
        <p:nvPicPr>
          <p:cNvPr id="302" name="TextBox 7" descr=""/>
          <p:cNvPicPr/>
          <p:nvPr/>
        </p:nvPicPr>
        <p:blipFill>
          <a:blip r:embed="rId2"/>
          <a:stretch/>
        </p:blipFill>
        <p:spPr>
          <a:xfrm>
            <a:off x="2073240" y="317520"/>
            <a:ext cx="7070760" cy="2584440"/>
          </a:xfrm>
          <a:prstGeom prst="rect">
            <a:avLst/>
          </a:prstGeom>
          <a:ln w="0">
            <a:noFill/>
          </a:ln>
        </p:spPr>
      </p:pic>
      <p:pic>
        <p:nvPicPr>
          <p:cNvPr id="303" name="02 - Track  2.mp3" descr=""/>
          <p:cNvPicPr/>
          <p:nvPr/>
        </p:nvPicPr>
        <p:blipFill>
          <a:blip r:embed="rId3"/>
          <a:stretch/>
        </p:blipFill>
        <p:spPr>
          <a:xfrm>
            <a:off x="8643960" y="6429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Box 2"/>
          <p:cNvSpPr/>
          <p:nvPr/>
        </p:nvSpPr>
        <p:spPr>
          <a:xfrm>
            <a:off x="3143160" y="0"/>
            <a:ext cx="5715000" cy="66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 — 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это тип речи, при помощи которого рассказывается о каких-либо событиях в их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временной</a:t>
            </a:r>
            <a:r>
              <a:rPr b="0" i="1" lang="ru-RU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последовательности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; сообщается о последовательно сменяющих друг друга действиях или события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(содержание повествования можно передать лишь на нескольких кадрах фотоаппарат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Группа 3" descr=""/>
          <p:cNvPicPr/>
          <p:nvPr/>
        </p:nvPicPr>
        <p:blipFill>
          <a:blip r:embed="rId1"/>
          <a:stretch/>
        </p:blipFill>
        <p:spPr>
          <a:xfrm>
            <a:off x="103320" y="542880"/>
            <a:ext cx="3078000" cy="5802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Box 3"/>
          <p:cNvSpPr/>
          <p:nvPr/>
        </p:nvSpPr>
        <p:spPr>
          <a:xfrm>
            <a:off x="500040" y="2214720"/>
            <a:ext cx="8286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8ba"/>
                </a:solidFill>
                <a:latin typeface="Century Gothic"/>
              </a:rPr>
              <a:t>Повествование</a:t>
            </a:r>
            <a:r>
              <a:rPr b="0" lang="ru-RU" sz="3600" spc="-1" strike="noStrike">
                <a:solidFill>
                  <a:srgbClr val="ff88ba"/>
                </a:solidFill>
                <a:latin typeface="Century Gothic"/>
              </a:rPr>
              <a:t> </a:t>
            </a:r>
            <a:r>
              <a:rPr b="1" lang="ru-RU" sz="3600" spc="-1" strike="noStrike">
                <a:solidFill>
                  <a:srgbClr val="ff88ba"/>
                </a:solidFill>
                <a:latin typeface="Century Gothic"/>
              </a:rPr>
              <a:t>— это мир в движении</a:t>
            </a:r>
            <a:r>
              <a:rPr b="0" lang="ru-RU" sz="3600" spc="-1" strike="noStrike">
                <a:solidFill>
                  <a:srgbClr val="ff88ba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(один кадр сменяет другой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Box 2"/>
          <p:cNvSpPr/>
          <p:nvPr/>
        </p:nvSpPr>
        <p:spPr>
          <a:xfrm>
            <a:off x="214200" y="1928880"/>
            <a:ext cx="8572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Повествование помогает наглядно представить </a:t>
            </a:r>
            <a:r>
              <a:rPr b="0" lang="ru-RU" sz="3600" spc="-1" strike="noStrike">
                <a:solidFill>
                  <a:srgbClr val="ff88ba"/>
                </a:solidFill>
                <a:latin typeface="Century Gothic"/>
              </a:rPr>
              <a:t>действия, движения людей и явлений</a:t>
            </a: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 во времени и пространств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2"/>
          <p:cNvSpPr/>
          <p:nvPr/>
        </p:nvSpPr>
        <p:spPr>
          <a:xfrm>
            <a:off x="642960" y="1349280"/>
            <a:ext cx="8358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И вдруг... случилось что-то необъяснимое, почти сверхъестественное. Мышастый дог внезапно грохнулся на спину, и какая-то невидимая сила повлекла его с тротуара. Вслед за этим та же невидимая сила плотно охватила горло изумленного Джека... Джек уперся передними ногами и яростно замотал головой. Но незримое «что-то» так стиснуло его шею, что коричневый пойнтер лишился сознания. (А. И. Куприн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TextBox 3" descr=""/>
          <p:cNvPicPr/>
          <p:nvPr/>
        </p:nvPicPr>
        <p:blipFill>
          <a:blip r:embed="rId1"/>
          <a:stretch/>
        </p:blipFill>
        <p:spPr>
          <a:xfrm>
            <a:off x="2992320" y="176040"/>
            <a:ext cx="2872080" cy="1298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extBox 2" descr=""/>
          <p:cNvPicPr/>
          <p:nvPr/>
        </p:nvPicPr>
        <p:blipFill>
          <a:blip r:embed="rId1"/>
          <a:stretch/>
        </p:blipFill>
        <p:spPr>
          <a:xfrm>
            <a:off x="285840" y="176040"/>
            <a:ext cx="8572320" cy="5475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extBox 2" descr=""/>
          <p:cNvPicPr/>
          <p:nvPr/>
        </p:nvPicPr>
        <p:blipFill>
          <a:blip r:embed="rId1"/>
          <a:stretch/>
        </p:blipFill>
        <p:spPr>
          <a:xfrm>
            <a:off x="573120" y="1225440"/>
            <a:ext cx="7997760" cy="4284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Box 2"/>
          <p:cNvSpPr/>
          <p:nvPr/>
        </p:nvSpPr>
        <p:spPr>
          <a:xfrm>
            <a:off x="285840" y="1285920"/>
            <a:ext cx="85010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В текстах повествовательного типа особая роль принадлежит </a:t>
            </a:r>
            <a:r>
              <a:rPr b="0" lang="ru-RU" sz="4000" spc="-1" strike="noStrike">
                <a:solidFill>
                  <a:srgbClr val="ff88ba"/>
                </a:solidFill>
                <a:latin typeface="Century Gothic"/>
              </a:rPr>
              <a:t>глаголам</a:t>
            </a: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, особенно в форме прошедшего времени несовершенного вид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(</a:t>
            </a:r>
            <a:r>
              <a:rPr b="0" i="1" lang="ru-RU" sz="4000" spc="-1" strike="noStrike">
                <a:solidFill>
                  <a:srgbClr val="ffffff"/>
                </a:solidFill>
                <a:latin typeface="Century Gothic"/>
              </a:rPr>
              <a:t>приехал, увидел, разработал</a:t>
            </a: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 и т. д.)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2"/>
          <p:cNvSpPr/>
          <p:nvPr/>
        </p:nvSpPr>
        <p:spPr>
          <a:xfrm>
            <a:off x="3214800" y="571680"/>
            <a:ext cx="5715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 —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это тип речи, при помощи которого </a:t>
            </a:r>
            <a:r>
              <a:rPr b="0" i="1" lang="ru-RU" sz="3200" spc="-1" strike="noStrike">
                <a:solidFill>
                  <a:srgbClr val="ff88ba"/>
                </a:solidFill>
                <a:latin typeface="Century Gothic"/>
              </a:rPr>
              <a:t>доказывается или объясняется какое-либо положение, мысль; говорится о причинах и следствиях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событий и явлений, оценках и чувствах (о том, что нельзя сфотографировать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Группа 3" descr=""/>
          <p:cNvPicPr/>
          <p:nvPr/>
        </p:nvPicPr>
        <p:blipFill>
          <a:blip r:embed="rId1"/>
          <a:stretch/>
        </p:blipFill>
        <p:spPr>
          <a:xfrm>
            <a:off x="23760" y="755640"/>
            <a:ext cx="3286080" cy="5821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3"/>
          <p:cNvSpPr/>
          <p:nvPr/>
        </p:nvSpPr>
        <p:spPr>
          <a:xfrm>
            <a:off x="489960" y="2000160"/>
            <a:ext cx="861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8ba"/>
                </a:solidFill>
                <a:latin typeface="Century Gothic"/>
              </a:rPr>
              <a:t>Рассуждение — это мысли о мире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8ba"/>
                </a:solidFill>
                <a:latin typeface="Century Gothic"/>
              </a:rPr>
              <a:t>а не сам ми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Box 2"/>
          <p:cNvSpPr/>
          <p:nvPr/>
        </p:nvSpPr>
        <p:spPr>
          <a:xfrm>
            <a:off x="357120" y="1500120"/>
            <a:ext cx="85726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Рассуждение помогает автору сделать мысль более </a:t>
            </a:r>
            <a:r>
              <a:rPr b="0" lang="ru-RU" sz="4400" spc="-1" strike="noStrike">
                <a:solidFill>
                  <a:srgbClr val="ff88ba"/>
                </a:solidFill>
                <a:latin typeface="Century Gothic"/>
              </a:rPr>
              <a:t>ясной и четкой</a:t>
            </a: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, а позицию — более </a:t>
            </a:r>
            <a:r>
              <a:rPr b="0" lang="ru-RU" sz="4400" spc="-1" strike="noStrike">
                <a:solidFill>
                  <a:srgbClr val="ff88ba"/>
                </a:solidFill>
                <a:latin typeface="Century Gothic"/>
              </a:rPr>
              <a:t>убедительной</a:t>
            </a: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Box 1"/>
          <p:cNvSpPr/>
          <p:nvPr/>
        </p:nvSpPr>
        <p:spPr>
          <a:xfrm>
            <a:off x="428760" y="1714680"/>
            <a:ext cx="8358120" cy="34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Систематизировать и обобщить знания по тем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Научить различать тексты каждого типа речи и аргументировать свой отве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TextBox 2" descr=""/>
          <p:cNvPicPr/>
          <p:nvPr/>
        </p:nvPicPr>
        <p:blipFill>
          <a:blip r:embed="rId1"/>
          <a:stretch/>
        </p:blipFill>
        <p:spPr>
          <a:xfrm>
            <a:off x="1712880" y="237960"/>
            <a:ext cx="5931000" cy="1322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extBox 2" descr=""/>
          <p:cNvPicPr/>
          <p:nvPr/>
        </p:nvPicPr>
        <p:blipFill>
          <a:blip r:embed="rId1"/>
          <a:stretch/>
        </p:blipFill>
        <p:spPr>
          <a:xfrm>
            <a:off x="378000" y="103320"/>
            <a:ext cx="8686800" cy="6029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extBox 2" descr=""/>
          <p:cNvPicPr/>
          <p:nvPr/>
        </p:nvPicPr>
        <p:blipFill>
          <a:blip r:embed="rId1"/>
          <a:stretch/>
        </p:blipFill>
        <p:spPr>
          <a:xfrm>
            <a:off x="96840" y="426960"/>
            <a:ext cx="9047160" cy="5224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Таблица 3" descr=""/>
          <p:cNvPicPr/>
          <p:nvPr/>
        </p:nvPicPr>
        <p:blipFill>
          <a:blip r:embed="rId1"/>
          <a:stretch/>
        </p:blipFill>
        <p:spPr>
          <a:xfrm>
            <a:off x="208080" y="195120"/>
            <a:ext cx="8637480" cy="6351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Box 2"/>
          <p:cNvSpPr/>
          <p:nvPr/>
        </p:nvSpPr>
        <p:spPr>
          <a:xfrm>
            <a:off x="642960" y="571680"/>
            <a:ext cx="8072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 текстах-рассуждениях особая роль принадлежит </a:t>
            </a:r>
            <a:r>
              <a:rPr b="0" i="1" lang="ru-RU" sz="3200" spc="-1" strike="noStrike">
                <a:solidFill>
                  <a:srgbClr val="ff88ba"/>
                </a:solidFill>
                <a:latin typeface="Century Gothic"/>
              </a:rPr>
              <a:t>вводным</a:t>
            </a:r>
            <a:r>
              <a:rPr b="0" i="1" lang="ru-RU" sz="3200" spc="-1" strike="noStrike">
                <a:solidFill>
                  <a:srgbClr val="ffffff"/>
                </a:solidFill>
                <a:latin typeface="Century Gothic"/>
              </a:rPr>
              <a:t> словам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, указывающим на связь мыслей, последовательность изложения </a:t>
            </a:r>
            <a:r>
              <a:rPr b="0" i="1" lang="ru-RU" sz="3200" spc="-1" strike="noStrike">
                <a:solidFill>
                  <a:srgbClr val="ffffff"/>
                </a:solidFill>
                <a:latin typeface="Century Gothic"/>
              </a:rPr>
              <a:t>(во-первых, во-вторых, итак, таким образом, следовательно, с одной стороны, с другой стороны)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, а также </a:t>
            </a:r>
            <a:r>
              <a:rPr b="0" i="1" lang="ru-RU" sz="3200" spc="-1" strike="noStrike">
                <a:solidFill>
                  <a:srgbClr val="ff88ba"/>
                </a:solidFill>
                <a:latin typeface="Century Gothic"/>
              </a:rPr>
              <a:t>подчинительным союзам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со значением причины, следствия, уступки (</a:t>
            </a:r>
            <a:r>
              <a:rPr b="0" i="1" lang="ru-RU" sz="3200" spc="-1" strike="noStrike">
                <a:solidFill>
                  <a:srgbClr val="ffffff"/>
                </a:solidFill>
                <a:latin typeface="Century Gothic"/>
              </a:rPr>
              <a:t>для того чтобы, вследствие того чтобы, так как, хотя, несмотря на то что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и т. д.)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extBox 2" descr=""/>
          <p:cNvPicPr/>
          <p:nvPr/>
        </p:nvPicPr>
        <p:blipFill>
          <a:blip r:embed="rId1"/>
          <a:stretch/>
        </p:blipFill>
        <p:spPr>
          <a:xfrm>
            <a:off x="158760" y="208080"/>
            <a:ext cx="8845560" cy="5875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0" y="1243080"/>
            <a:ext cx="9144000" cy="2841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1"/>
          <p:cNvSpPr/>
          <p:nvPr/>
        </p:nvSpPr>
        <p:spPr>
          <a:xfrm>
            <a:off x="3000240" y="142920"/>
            <a:ext cx="592956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это тип речи, при помощи которого </a:t>
            </a:r>
            <a:r>
              <a:rPr b="0" i="1" lang="ru-RU" sz="3200" spc="-1" strike="noStrike">
                <a:solidFill>
                  <a:srgbClr val="ffffff"/>
                </a:solidFill>
                <a:latin typeface="Century Gothic"/>
              </a:rPr>
              <a:t>изображается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какое-либо явление действительности путем перечисления его </a:t>
            </a:r>
            <a:r>
              <a:rPr b="0" i="1" lang="ru-RU" sz="3200" spc="-1" strike="noStrike">
                <a:solidFill>
                  <a:srgbClr val="ffffff"/>
                </a:solidFill>
                <a:latin typeface="Century Gothic"/>
              </a:rPr>
              <a:t>постоянных или одновременно присутствующих признаков или действий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(содержание описания можно передать на одном кадре фотоаппарат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Схема 2" descr=""/>
          <p:cNvPicPr/>
          <p:nvPr/>
        </p:nvPicPr>
        <p:blipFill>
          <a:blip r:embed="rId1"/>
          <a:stretch/>
        </p:blipFill>
        <p:spPr>
          <a:xfrm>
            <a:off x="115920" y="858960"/>
            <a:ext cx="2766960" cy="5627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1"/>
          <p:cNvSpPr/>
          <p:nvPr/>
        </p:nvSpPr>
        <p:spPr>
          <a:xfrm>
            <a:off x="1071720" y="2000160"/>
            <a:ext cx="7397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88ba"/>
                </a:solidFill>
                <a:latin typeface="Century Gothic"/>
              </a:rPr>
              <a:t>Описание</a:t>
            </a:r>
            <a:r>
              <a:rPr b="0" lang="ru-RU" sz="4400" spc="-1" strike="noStrike">
                <a:solidFill>
                  <a:srgbClr val="ff88ba"/>
                </a:solidFill>
                <a:latin typeface="Century Gothic"/>
              </a:rPr>
              <a:t> </a:t>
            </a:r>
            <a:r>
              <a:rPr b="1" lang="ru-RU" sz="4400" spc="-1" strike="noStrike">
                <a:solidFill>
                  <a:srgbClr val="ff88ba"/>
                </a:solidFill>
                <a:latin typeface="Century Gothic"/>
              </a:rPr>
              <a:t>— это мир в покое</a:t>
            </a:r>
            <a:r>
              <a:rPr b="0" lang="ru-RU" sz="4400" spc="-1" strike="noStrike">
                <a:solidFill>
                  <a:srgbClr val="ff88ba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(одна фотография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Box 1"/>
          <p:cNvSpPr/>
          <p:nvPr/>
        </p:nvSpPr>
        <p:spPr>
          <a:xfrm>
            <a:off x="428760" y="1428840"/>
            <a:ext cx="7858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Описание помогае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88ba"/>
                </a:solidFill>
                <a:latin typeface="Century Gothic"/>
              </a:rPr>
              <a:t>увидеть предмет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88ba"/>
                </a:solidFill>
                <a:latin typeface="Century Gothic"/>
              </a:rPr>
              <a:t>представить его</a:t>
            </a: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 в сознани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Box 1"/>
          <p:cNvSpPr/>
          <p:nvPr/>
        </p:nvSpPr>
        <p:spPr>
          <a:xfrm>
            <a:off x="428760" y="928800"/>
            <a:ext cx="83581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Небо было ясное, чистое, нежно-голубого цвета. Легкие белые облака, освещенные с одной стороны розовым блеском, лениво плыли в прозрачной тишине. Восток алел и пламенел, отливая в иных местах перламутром и серебром. Из-за горизонта, точно гигантские растопыренные пальцы, тянулись вверх по небу золотые полосы от лучей еще не взошедшего солнца. (А. И. Куприн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TextBox 2" descr=""/>
          <p:cNvPicPr/>
          <p:nvPr/>
        </p:nvPicPr>
        <p:blipFill>
          <a:blip r:embed="rId1"/>
          <a:stretch/>
        </p:blipFill>
        <p:spPr>
          <a:xfrm>
            <a:off x="2914560" y="23760"/>
            <a:ext cx="3443400" cy="1317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extBox 1" descr=""/>
          <p:cNvPicPr/>
          <p:nvPr/>
        </p:nvPicPr>
        <p:blipFill>
          <a:blip r:embed="rId1"/>
          <a:stretch/>
        </p:blipFill>
        <p:spPr>
          <a:xfrm>
            <a:off x="212760" y="390600"/>
            <a:ext cx="8570880" cy="6089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Таблица 2" descr=""/>
          <p:cNvPicPr/>
          <p:nvPr/>
        </p:nvPicPr>
        <p:blipFill>
          <a:blip r:embed="rId1"/>
          <a:stretch/>
        </p:blipFill>
        <p:spPr>
          <a:xfrm>
            <a:off x="208080" y="195120"/>
            <a:ext cx="8564400" cy="6497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Box 2"/>
          <p:cNvSpPr/>
          <p:nvPr/>
        </p:nvSpPr>
        <p:spPr>
          <a:xfrm>
            <a:off x="357120" y="285840"/>
            <a:ext cx="835812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В описании больше всего используются слова, обозначающие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качества, свойства предметов 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(существительные, прилагательные, наречия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Глаголы чаще употребляются в форме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несовершенного вида прошедшего времени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, а для особой наглядности, изобразительности описания — и </a:t>
            </a:r>
            <a:r>
              <a:rPr b="0" lang="ru-RU" sz="2800" spc="-1" strike="noStrike">
                <a:solidFill>
                  <a:srgbClr val="ff88ba"/>
                </a:solidFill>
                <a:latin typeface="Century Gothic"/>
              </a:rPr>
              <a:t>в форме настоящего времен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Широко используются синонимы —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определения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 (согласованные и несогласованные) и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назывные предложения</a:t>
            </a:r>
            <a:r>
              <a:rPr b="0" lang="ru-RU" sz="2800" spc="-1" strike="noStrike">
                <a:solidFill>
                  <a:srgbClr val="ff88ba"/>
                </a:solidFill>
                <a:latin typeface="Century Gothic"/>
              </a:rPr>
              <a:t>.</a:t>
            </a:r>
            <a:br>
              <a:rPr sz="32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05:06:10Z</dcterms:created>
  <dc:creator>Александр</dc:creator>
  <dc:description/>
  <dc:language>en-US</dc:language>
  <cp:lastModifiedBy>Nata</cp:lastModifiedBy>
  <dcterms:modified xsi:type="dcterms:W3CDTF">2013-11-06T00:09:40Z</dcterms:modified>
  <cp:revision>11</cp:revision>
  <dc:subject/>
  <dc:title>Слайд 1</dc:title>
</cp:coreProperties>
</file>