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7642-127C-4443-8651-349008FA6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0FB4-7166-4FE7-88EF-A158BE9B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B497-60A9-4F9E-82E3-98C3A8883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3D0A-D09E-4687-8455-6304A4C21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4D59-AEC0-4CD3-849E-B3721AA77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46A6-16B9-444A-BCF3-19A85BEF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120F5-2A02-44A8-A033-F041DC41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D209-6CE3-4A4E-93C7-32A8AD16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5D07-CB8E-4A42-A727-31E5C48B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569E-0E36-43AA-95D2-9200E494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0E2D-90CA-4525-87F2-7A78311B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4AA0-381E-4706-B298-E8ABBCCE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1652-43F4-48A9-AEB1-8D95157D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A4634-B0DA-489A-AB11-FFA392BF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08ED-7D9B-4DC7-A2B7-26A232DE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7D4A-09E3-446A-80A8-5832DF677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B9F1-4411-42DD-BCFB-C83F7EEF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C363C-6585-43E6-9EDB-458A9AEE1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0A8B0-588E-44E8-A2A2-5423E949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2173B-F045-43FA-8FBA-66BD7E29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6D44A-C47F-4FE0-BB7A-BEBF4CDD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C833F-26F7-404F-8FDA-BEAEC76E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39EB-5C3D-4CCA-815F-A918E960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DFD61-099C-4D26-BD14-53F0314D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51DCE-259B-40E9-A559-C2B9C6D5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B85AD-51DA-42E0-83E5-F24352E0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69011-2DB7-4EE2-BFFC-7FA81CDB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A18E5-EF8E-4DF4-A133-3C11CCFC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44F77-31CE-44C7-8EA5-1D679F02B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15B52-D738-4A18-B42F-B58DF9252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9F968-CA93-4392-BAB7-72942BDDE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0451D-EB63-431E-84E7-CDB40CFF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CDE00-A43A-41E9-B536-30188D4E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F58E-6987-4133-A2EC-B72DFBD0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98DDE-7BD3-4138-9E64-20BD5A6E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FAC2F-72F7-4F03-B9FF-33D5311F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27A33-D3BB-4BED-83D6-ED2BF5F2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DBB9B-6E7C-4563-8534-4598473D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16443-39F2-4BF1-834C-27254FD5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5C49E-EC96-45F3-8CE5-57C9E2AC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E2945-31D7-4B96-BAC0-B5D98350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589FB-4B39-4709-B303-2175A7AE2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03BF2-A9B1-4433-ACDF-AD0373E4A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BF1CF-47CC-4370-9E86-9679ADF5F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9E51-A6A5-4332-925A-BC07F2D4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667D1-2C56-4B8C-909D-EACCB308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110DA-A333-462B-BC21-692E3AD8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A0D58-E9A7-4EFD-85B7-372EC52E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0B1E0-8FBB-4440-86D7-3FFF2C54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D9422-A1D8-4C69-AF4D-49338E7B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04546-0CCD-4EB3-B6BA-EFC53D62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BE6E1-0571-4355-A0BE-E32256F7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6C894-CF5C-44C3-8F62-51095317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06147-4C3B-4533-B60A-1D2FBAC7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2906A-71C4-4E57-BBD9-EC96C4D73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2171-31D9-4BD6-A4AE-E66E3779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6E928-BB35-415B-8049-E0CCD78D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61E47-EFA9-4CBC-B26C-67AD4009F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FBC3D-39E9-47C7-A522-F8B82A87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B6ED6-650A-4961-90C2-2C544A3E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B80D6-35B2-4732-95C1-0E4E0B24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337F7-5AA0-46F5-8290-14795E6A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55A08-628E-4E65-8E3A-ADA2EACA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7C7E5-DFF0-4E09-845C-A81BC2B7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F19C8-9CF5-4528-8460-88ACA30A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9277E-AF85-49A4-BACE-F6EC14A6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8E13-8325-4E23-97D7-A41C95E1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47218-D12F-4591-B944-2170AC80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74E68-D4EF-4A2C-A390-772CDF164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61FFB-EBE9-43A9-8AD6-D599FD3DE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C3418-E659-4172-A94E-2E845B3E5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2B08F-E71F-420F-97C8-7846C8CA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77966-87BF-4B78-A2BC-E9FBCBB7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1C9B6-3587-4452-A32F-B0BE51E5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3EA8C-21FC-4033-9430-EE82C004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84E92-BE5F-43D2-981E-A596CF5E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B1D80-BCF4-4BDE-A173-0EAA88BC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5B78-F7FA-4D00-92FF-D0122E39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8242F-1B42-48B5-9CB2-B2601D29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2035D-4AAA-470C-AD67-0C5D143A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FF032-783F-46DB-9D4F-1F44CDA1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60C5C-4C9A-4DCE-BDA8-0BCF177C0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8917E-E5B5-43AF-92E8-370AF6AC7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97B4-D666-4D91-8227-BF1301E3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26B5-55D9-4E24-9D05-58C8CC033E45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0ACA-741E-41FC-AB6A-9BEE732133ED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C9D4-17F7-4077-8906-BCBF26064D9F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3A23-D2E7-4727-AF60-A48B26B66A4B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ACBC-9F13-4BDF-AC7D-7A2114B0EE49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150A-C953-4A05-8D4E-BC0B1B3C2BD4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8B95-7102-4A25-9BEA-2AD72B1AF9AB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extBox 5" descr=""/>
          <p:cNvPicPr/>
          <p:nvPr/>
        </p:nvPicPr>
        <p:blipFill>
          <a:blip r:embed="rId1"/>
          <a:stretch/>
        </p:blipFill>
        <p:spPr>
          <a:xfrm>
            <a:off x="0" y="3071880"/>
            <a:ext cx="5931000" cy="2950920"/>
          </a:xfrm>
          <a:prstGeom prst="rect">
            <a:avLst/>
          </a:prstGeom>
          <a:ln w="0">
            <a:noFill/>
          </a:ln>
        </p:spPr>
      </p:pic>
      <p:pic>
        <p:nvPicPr>
          <p:cNvPr id="302" name="TextBox 7" descr=""/>
          <p:cNvPicPr/>
          <p:nvPr/>
        </p:nvPicPr>
        <p:blipFill>
          <a:blip r:embed="rId2"/>
          <a:stretch/>
        </p:blipFill>
        <p:spPr>
          <a:xfrm>
            <a:off x="2073240" y="317520"/>
            <a:ext cx="7070760" cy="2584440"/>
          </a:xfrm>
          <a:prstGeom prst="rect">
            <a:avLst/>
          </a:prstGeom>
          <a:ln w="0">
            <a:noFill/>
          </a:ln>
        </p:spPr>
      </p:pic>
      <p:pic>
        <p:nvPicPr>
          <p:cNvPr id="303" name="02 - Track  2.mp3" descr=""/>
          <p:cNvPicPr/>
          <p:nvPr/>
        </p:nvPicPr>
        <p:blipFill>
          <a:blip r:embed="rId3"/>
          <a:stretch/>
        </p:blipFill>
        <p:spPr>
          <a:xfrm>
            <a:off x="8643960" y="6429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Box 2"/>
          <p:cNvSpPr/>
          <p:nvPr/>
        </p:nvSpPr>
        <p:spPr>
          <a:xfrm>
            <a:off x="3143160" y="0"/>
            <a:ext cx="5715000" cy="66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 —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это тип речи, при помощи которого рассказывается о каких-либо событиях в их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временной</a:t>
            </a:r>
            <a:r>
              <a:rPr b="0" i="1" lang="ru-RU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последовательности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; сообщается о последовательно сменяющих друг друга действиях или события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(содержание повествования можно передать лишь на нескольких кадрах фотоаппарат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Группа 3" descr=""/>
          <p:cNvPicPr/>
          <p:nvPr/>
        </p:nvPicPr>
        <p:blipFill>
          <a:blip r:embed="rId1"/>
          <a:stretch/>
        </p:blipFill>
        <p:spPr>
          <a:xfrm>
            <a:off x="103320" y="542880"/>
            <a:ext cx="3078000" cy="5802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Box 3"/>
          <p:cNvSpPr/>
          <p:nvPr/>
        </p:nvSpPr>
        <p:spPr>
          <a:xfrm>
            <a:off x="500040" y="2214720"/>
            <a:ext cx="8286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8ba"/>
                </a:solidFill>
                <a:latin typeface="Century Gothic"/>
              </a:rPr>
              <a:t>Повествование</a:t>
            </a:r>
            <a:r>
              <a:rPr b="0" lang="ru-RU" sz="3600" spc="-1" strike="noStrike">
                <a:solidFill>
                  <a:srgbClr val="ff88ba"/>
                </a:solidFill>
                <a:latin typeface="Century Gothic"/>
              </a:rPr>
              <a:t> </a:t>
            </a:r>
            <a:r>
              <a:rPr b="1" lang="ru-RU" sz="3600" spc="-1" strike="noStrike">
                <a:solidFill>
                  <a:srgbClr val="ff88ba"/>
                </a:solidFill>
                <a:latin typeface="Century Gothic"/>
              </a:rPr>
              <a:t>— это мир в движении</a:t>
            </a:r>
            <a:r>
              <a:rPr b="0" lang="ru-RU" sz="3600" spc="-1" strike="noStrike">
                <a:solidFill>
                  <a:srgbClr val="ff88ba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(один кадр сменяет другой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2"/>
          <p:cNvSpPr/>
          <p:nvPr/>
        </p:nvSpPr>
        <p:spPr>
          <a:xfrm>
            <a:off x="214200" y="1928880"/>
            <a:ext cx="8572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Повествование помогает наглядно представить </a:t>
            </a:r>
            <a:r>
              <a:rPr b="0" lang="ru-RU" sz="3600" spc="-1" strike="noStrike">
                <a:solidFill>
                  <a:srgbClr val="ff88ba"/>
                </a:solidFill>
                <a:latin typeface="Century Gothic"/>
              </a:rPr>
              <a:t>действия, движения людей и явлений</a:t>
            </a: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 во времени и пространств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2"/>
          <p:cNvSpPr/>
          <p:nvPr/>
        </p:nvSpPr>
        <p:spPr>
          <a:xfrm>
            <a:off x="642960" y="1349280"/>
            <a:ext cx="8358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И вдруг... случилось что-то необъяснимое, почти сверхъестественное. Мышастый дог внезапно грохнулся на спину, и какая-то невидимая сила повлекла его с тротуара. Вслед за этим та же невидимая сила плотно охватила горло изумленного Джека... Джек уперся передними ногами и яростно замотал головой. Но незримое «что-то» так стиснуло его шею, что коричневый пойнтер лишился сознания. (А. И. Куприн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TextBox 3" descr=""/>
          <p:cNvPicPr/>
          <p:nvPr/>
        </p:nvPicPr>
        <p:blipFill>
          <a:blip r:embed="rId1"/>
          <a:stretch/>
        </p:blipFill>
        <p:spPr>
          <a:xfrm>
            <a:off x="2992320" y="176040"/>
            <a:ext cx="2872080" cy="1298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extBox 2" descr=""/>
          <p:cNvPicPr/>
          <p:nvPr/>
        </p:nvPicPr>
        <p:blipFill>
          <a:blip r:embed="rId1"/>
          <a:stretch/>
        </p:blipFill>
        <p:spPr>
          <a:xfrm>
            <a:off x="285840" y="176040"/>
            <a:ext cx="8572320" cy="5475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extBox 2" descr=""/>
          <p:cNvPicPr/>
          <p:nvPr/>
        </p:nvPicPr>
        <p:blipFill>
          <a:blip r:embed="rId1"/>
          <a:stretch/>
        </p:blipFill>
        <p:spPr>
          <a:xfrm>
            <a:off x="573120" y="1225440"/>
            <a:ext cx="7997760" cy="4284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Box 2"/>
          <p:cNvSpPr/>
          <p:nvPr/>
        </p:nvSpPr>
        <p:spPr>
          <a:xfrm>
            <a:off x="285840" y="1285920"/>
            <a:ext cx="85010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В текстах повествовательного типа особая роль принадлежит </a:t>
            </a:r>
            <a:r>
              <a:rPr b="0" lang="ru-RU" sz="4000" spc="-1" strike="noStrike">
                <a:solidFill>
                  <a:srgbClr val="ff88ba"/>
                </a:solidFill>
                <a:latin typeface="Century Gothic"/>
              </a:rPr>
              <a:t>глаголам</a:t>
            </a: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, особенно в форме прошедшего времени несовершенного вид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(</a:t>
            </a:r>
            <a:r>
              <a:rPr b="0" i="1" lang="ru-RU" sz="4000" spc="-1" strike="noStrike">
                <a:solidFill>
                  <a:srgbClr val="ffffff"/>
                </a:solidFill>
                <a:latin typeface="Century Gothic"/>
              </a:rPr>
              <a:t>приехал, увидел, разработал</a:t>
            </a: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 и т. д.)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2"/>
          <p:cNvSpPr/>
          <p:nvPr/>
        </p:nvSpPr>
        <p:spPr>
          <a:xfrm>
            <a:off x="3214800" y="571680"/>
            <a:ext cx="5715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 —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это тип речи, при помощи которого </a:t>
            </a:r>
            <a:r>
              <a:rPr b="0" i="1" lang="ru-RU" sz="3200" spc="-1" strike="noStrike">
                <a:solidFill>
                  <a:srgbClr val="ff88ba"/>
                </a:solidFill>
                <a:latin typeface="Century Gothic"/>
              </a:rPr>
              <a:t>доказывается или объясняется какое-либо положение, мысль; говорится о причинах и следствиях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событий и явлений, оценках и чувствах (о том, что нельзя сфотографировать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Группа 3" descr=""/>
          <p:cNvPicPr/>
          <p:nvPr/>
        </p:nvPicPr>
        <p:blipFill>
          <a:blip r:embed="rId1"/>
          <a:stretch/>
        </p:blipFill>
        <p:spPr>
          <a:xfrm>
            <a:off x="23760" y="755640"/>
            <a:ext cx="3286080" cy="5821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3"/>
          <p:cNvSpPr/>
          <p:nvPr/>
        </p:nvSpPr>
        <p:spPr>
          <a:xfrm>
            <a:off x="489960" y="2000160"/>
            <a:ext cx="861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8ba"/>
                </a:solidFill>
                <a:latin typeface="Century Gothic"/>
              </a:rPr>
              <a:t>Рассуждение — это мысли о мире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8ba"/>
                </a:solidFill>
                <a:latin typeface="Century Gothic"/>
              </a:rPr>
              <a:t>а не сам ми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Box 2"/>
          <p:cNvSpPr/>
          <p:nvPr/>
        </p:nvSpPr>
        <p:spPr>
          <a:xfrm>
            <a:off x="357120" y="1500120"/>
            <a:ext cx="85726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Рассуждение помогает автору сделать мысль более </a:t>
            </a:r>
            <a:r>
              <a:rPr b="0" lang="ru-RU" sz="4400" spc="-1" strike="noStrike">
                <a:solidFill>
                  <a:srgbClr val="ff88ba"/>
                </a:solidFill>
                <a:latin typeface="Century Gothic"/>
              </a:rPr>
              <a:t>ясной и четкой</a:t>
            </a: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, а позицию — более </a:t>
            </a:r>
            <a:r>
              <a:rPr b="0" lang="ru-RU" sz="4400" spc="-1" strike="noStrike">
                <a:solidFill>
                  <a:srgbClr val="ff88ba"/>
                </a:solidFill>
                <a:latin typeface="Century Gothic"/>
              </a:rPr>
              <a:t>убедительной</a:t>
            </a: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Box 1"/>
          <p:cNvSpPr/>
          <p:nvPr/>
        </p:nvSpPr>
        <p:spPr>
          <a:xfrm>
            <a:off x="428760" y="1714680"/>
            <a:ext cx="8358120" cy="34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Систематизировать и обобщить знания по тем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Научить различать тексты каждого типа речи и аргументировать свой отве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TextBox 2" descr=""/>
          <p:cNvPicPr/>
          <p:nvPr/>
        </p:nvPicPr>
        <p:blipFill>
          <a:blip r:embed="rId1"/>
          <a:stretch/>
        </p:blipFill>
        <p:spPr>
          <a:xfrm>
            <a:off x="1712880" y="237960"/>
            <a:ext cx="5931000" cy="1322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extBox 2" descr=""/>
          <p:cNvPicPr/>
          <p:nvPr/>
        </p:nvPicPr>
        <p:blipFill>
          <a:blip r:embed="rId1"/>
          <a:stretch/>
        </p:blipFill>
        <p:spPr>
          <a:xfrm>
            <a:off x="378000" y="103320"/>
            <a:ext cx="8686800" cy="6029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extBox 2" descr=""/>
          <p:cNvPicPr/>
          <p:nvPr/>
        </p:nvPicPr>
        <p:blipFill>
          <a:blip r:embed="rId1"/>
          <a:stretch/>
        </p:blipFill>
        <p:spPr>
          <a:xfrm>
            <a:off x="96840" y="426960"/>
            <a:ext cx="9047160" cy="5224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Таблица 3" descr=""/>
          <p:cNvPicPr/>
          <p:nvPr/>
        </p:nvPicPr>
        <p:blipFill>
          <a:blip r:embed="rId1"/>
          <a:stretch/>
        </p:blipFill>
        <p:spPr>
          <a:xfrm>
            <a:off x="208080" y="195120"/>
            <a:ext cx="8637480" cy="6351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2"/>
          <p:cNvSpPr/>
          <p:nvPr/>
        </p:nvSpPr>
        <p:spPr>
          <a:xfrm>
            <a:off x="642960" y="571680"/>
            <a:ext cx="8072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 текстах-рассуждениях особая роль принадлежит </a:t>
            </a:r>
            <a:r>
              <a:rPr b="0" i="1" lang="ru-RU" sz="3200" spc="-1" strike="noStrike">
                <a:solidFill>
                  <a:srgbClr val="ff88ba"/>
                </a:solidFill>
                <a:latin typeface="Century Gothic"/>
              </a:rPr>
              <a:t>вводным</a:t>
            </a: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 словам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, указывающим на связь мыслей, последовательность изложения </a:t>
            </a: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(во-первых, во-вторых, итак, таким образом, следовательно, с одной стороны, с другой стороны)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, а также </a:t>
            </a:r>
            <a:r>
              <a:rPr b="0" i="1" lang="ru-RU" sz="3200" spc="-1" strike="noStrike">
                <a:solidFill>
                  <a:srgbClr val="ff88ba"/>
                </a:solidFill>
                <a:latin typeface="Century Gothic"/>
              </a:rPr>
              <a:t>подчинительным союзам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со значением причины, следствия, уступки (</a:t>
            </a: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для того чтобы, вследствие того чтобы, так как, хотя, несмотря на то что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и т. д.)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extBox 2" descr=""/>
          <p:cNvPicPr/>
          <p:nvPr/>
        </p:nvPicPr>
        <p:blipFill>
          <a:blip r:embed="rId1"/>
          <a:stretch/>
        </p:blipFill>
        <p:spPr>
          <a:xfrm>
            <a:off x="158760" y="208080"/>
            <a:ext cx="8845560" cy="5875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0" y="1243080"/>
            <a:ext cx="9144000" cy="2841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1"/>
          <p:cNvSpPr/>
          <p:nvPr/>
        </p:nvSpPr>
        <p:spPr>
          <a:xfrm>
            <a:off x="3000240" y="142920"/>
            <a:ext cx="592956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это тип речи, при помощи которого </a:t>
            </a: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изображается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какое-либо явление действительности путем перечисления его </a:t>
            </a: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постоянных или одновременно присутствующих признаков или действий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(содержание описания можно передать на одном кадре фотоаппарат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Схема 2" descr=""/>
          <p:cNvPicPr/>
          <p:nvPr/>
        </p:nvPicPr>
        <p:blipFill>
          <a:blip r:embed="rId1"/>
          <a:stretch/>
        </p:blipFill>
        <p:spPr>
          <a:xfrm>
            <a:off x="115920" y="858960"/>
            <a:ext cx="2766960" cy="5627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1"/>
          <p:cNvSpPr/>
          <p:nvPr/>
        </p:nvSpPr>
        <p:spPr>
          <a:xfrm>
            <a:off x="1071720" y="2000160"/>
            <a:ext cx="7397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88ba"/>
                </a:solidFill>
                <a:latin typeface="Century Gothic"/>
              </a:rPr>
              <a:t>Описание</a:t>
            </a:r>
            <a:r>
              <a:rPr b="0" lang="ru-RU" sz="4400" spc="-1" strike="noStrike">
                <a:solidFill>
                  <a:srgbClr val="ff88ba"/>
                </a:solidFill>
                <a:latin typeface="Century Gothic"/>
              </a:rPr>
              <a:t> </a:t>
            </a:r>
            <a:r>
              <a:rPr b="1" lang="ru-RU" sz="4400" spc="-1" strike="noStrike">
                <a:solidFill>
                  <a:srgbClr val="ff88ba"/>
                </a:solidFill>
                <a:latin typeface="Century Gothic"/>
              </a:rPr>
              <a:t>— это мир в покое</a:t>
            </a:r>
            <a:r>
              <a:rPr b="0" lang="ru-RU" sz="4400" spc="-1" strike="noStrike">
                <a:solidFill>
                  <a:srgbClr val="ff88ba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(одна фотография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Box 1"/>
          <p:cNvSpPr/>
          <p:nvPr/>
        </p:nvSpPr>
        <p:spPr>
          <a:xfrm>
            <a:off x="428760" y="1428840"/>
            <a:ext cx="7858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Описание помогае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88ba"/>
                </a:solidFill>
                <a:latin typeface="Century Gothic"/>
              </a:rPr>
              <a:t>увидеть предмет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88ba"/>
                </a:solidFill>
                <a:latin typeface="Century Gothic"/>
              </a:rPr>
              <a:t>представить его</a:t>
            </a: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 в сознани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Box 1"/>
          <p:cNvSpPr/>
          <p:nvPr/>
        </p:nvSpPr>
        <p:spPr>
          <a:xfrm>
            <a:off x="428760" y="928800"/>
            <a:ext cx="83581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Небо было ясное, чистое, нежно-голубого цвета. Легкие белые облака, освещенные с одной стороны розовым блеском, лениво плыли в прозрачной тишине. Восток алел и пламенел, отливая в иных местах перламутром и серебром. Из-за горизонта, точно гигантские растопыренные пальцы, тянулись вверх по небу золотые полосы от лучей еще не взошедшего солнца. (А. И. Куприн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TextBox 2" descr=""/>
          <p:cNvPicPr/>
          <p:nvPr/>
        </p:nvPicPr>
        <p:blipFill>
          <a:blip r:embed="rId1"/>
          <a:stretch/>
        </p:blipFill>
        <p:spPr>
          <a:xfrm>
            <a:off x="2914560" y="23760"/>
            <a:ext cx="3443400" cy="1317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extBox 1" descr=""/>
          <p:cNvPicPr/>
          <p:nvPr/>
        </p:nvPicPr>
        <p:blipFill>
          <a:blip r:embed="rId1"/>
          <a:stretch/>
        </p:blipFill>
        <p:spPr>
          <a:xfrm>
            <a:off x="212760" y="390600"/>
            <a:ext cx="8570880" cy="6089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Таблица 2" descr=""/>
          <p:cNvPicPr/>
          <p:nvPr/>
        </p:nvPicPr>
        <p:blipFill>
          <a:blip r:embed="rId1"/>
          <a:stretch/>
        </p:blipFill>
        <p:spPr>
          <a:xfrm>
            <a:off x="208080" y="195120"/>
            <a:ext cx="8564400" cy="6497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Box 2"/>
          <p:cNvSpPr/>
          <p:nvPr/>
        </p:nvSpPr>
        <p:spPr>
          <a:xfrm>
            <a:off x="357120" y="285840"/>
            <a:ext cx="835812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В описании больше всего используются слова, обозначающие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качества, свойства предметов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(существительные, прилагательные, наречия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Глаголы чаще употребляются в форме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несовершенного вида прошедшего времени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, а для особой наглядности, изобразительности описания — и </a:t>
            </a:r>
            <a:r>
              <a:rPr b="0" lang="ru-RU" sz="2800" spc="-1" strike="noStrike">
                <a:solidFill>
                  <a:srgbClr val="ff88ba"/>
                </a:solidFill>
                <a:latin typeface="Century Gothic"/>
              </a:rPr>
              <a:t>в форме настоящего времен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Широко используются синонимы —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определения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(согласованные и несогласованные) и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назывные предложения</a:t>
            </a:r>
            <a:r>
              <a:rPr b="0" lang="ru-RU" sz="2800" spc="-1" strike="noStrike">
                <a:solidFill>
                  <a:srgbClr val="ff88ba"/>
                </a:solidFill>
                <a:latin typeface="Century Gothic"/>
              </a:rPr>
              <a:t>.</a:t>
            </a:r>
            <a:br>
              <a:rPr sz="32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05:06:10Z</dcterms:created>
  <dc:creator>Александр</dc:creator>
  <dc:description/>
  <dc:language>en-US</dc:language>
  <cp:lastModifiedBy>Nata</cp:lastModifiedBy>
  <dcterms:modified xsi:type="dcterms:W3CDTF">2013-11-06T00:09:40Z</dcterms:modified>
  <cp:revision>11</cp:revision>
  <dc:subject/>
  <dc:title>Слайд 1</dc:title>
</cp:coreProperties>
</file>