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20EF-1E47-48B9-A0DD-C8B534A7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F3C-14EF-4CA0-9FE7-3C9EE537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97B-A278-454F-A34A-62F173E4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D019-6974-42EA-ACAA-989A515B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1548-C9FE-4AE9-ABB2-0818B923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C1D5-2773-4332-B670-A8EC3492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E25A-D9D9-4B74-AF7B-748392D1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7769-A436-4782-B541-31235D81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8AFB-EA21-4A28-845B-4C7FB07A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4505-709B-48EA-A096-04D92FC5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6D3C-FB90-4334-B8AA-7EFF45F9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557-B428-4A3E-B356-3376D06C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D805-1AEA-4B68-8AFA-24FFCD39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76CD-7BBD-425F-A2AC-9F7BC2E3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C7A1-D82F-4D92-AC47-C0F2686C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19E6-34C4-418F-9968-8013B679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89AB-C45F-4480-A479-1C69CC84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C956E-75E9-4063-BDD0-E833563F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E2C47-B7D9-4685-9721-8F7C20F2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DB317-DD96-458E-8046-B7426CE9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00D31-43FF-42C8-80B1-F24AF37A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AA551-8385-45AB-B5B5-AE43E51F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471-B055-4A08-93F5-0F496D16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81914-EF1F-4B35-8A9D-B42AAB7A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2964E-3D9C-4033-8AEC-CBDFB813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FC744-A574-4F95-A28B-149E02E6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FDF36-B1E4-4252-89D8-F80A7EF1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3DE49-5F93-4803-AD2B-0C8952EE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2275A-F8BA-4C55-93FA-FA6D73B5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E8658-579E-4EE1-8AE4-6E8E4299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B9361-34E6-4FC5-B56F-890475DD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A1F1B-2DEC-4B0D-A366-0FD1D457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DACF7-A9B4-4ED1-B7B6-3B5C7867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5AE-E596-4BB5-89B9-899A6959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622EA-D0E4-4CFF-AC01-629E3AB8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F2D6A-1050-4917-82CF-B62DF6C6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EC185-4447-43D3-9CDC-B7C77A18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B5293-E841-4C7B-9789-F355E259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1DBA3-DBCB-421C-8378-3682EA46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7D7C4-0174-4A39-B4A5-F4CF5710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4253E-B6E3-4424-9CF8-B784DFD5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8DF61-E9CD-473E-95DB-1404FAB3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C6756-895F-4DAD-9B98-57F48312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191CB-A9B3-4866-AC57-D40A6947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8076-E07D-4B9B-89C8-A7999211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A510E-826E-4974-B1F9-2FB8074B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93EA7-F99C-426E-8076-E1CDC6BF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889E0-615F-4007-B8B7-EC8D89FE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172B4-C933-4BAC-8C97-9BBB6EDB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23838-94D9-4313-AD41-C2338CD0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D40BD-B856-43C4-A5B5-BE60C515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1703C-0AC2-48D0-9FB3-46DCBEBE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5F275-878A-4B6A-9566-0B118CF5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9DEDF-D8E4-488F-A825-912A7C49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8BF4D-B72F-4A1B-B4ED-995B3FCE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F35-5E64-4F93-ADEE-A65E8146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DC70E-D731-4BA9-A55A-A68CF611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6EDEB-23A7-447B-98E4-238CA027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79CA5-BCAE-4209-9CB7-F79CB6B4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ABB18-2A42-46CF-BBC7-8BB31BD5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BB913-A042-4663-BD2E-5A9B5FBE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51B15-9B53-43B0-BAB5-9100646A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8AB56-9A21-442D-A026-D0EE5CE0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E0DC8-7FE2-4130-8C77-639B6D7C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4DFF0-E307-4740-B50E-BA3C8756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974DD-40FD-475F-912E-C87F5902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8D5C-05EF-4B6D-B6E6-52D4D56E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162E4-17F3-476B-9469-33B20FBA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84888-F7B2-40FF-A5BE-F3D12A2B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8E08E-C566-43C1-890C-DAA711DE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B83CD-936C-48E1-B60E-E1CFF190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4DB9A-D790-4D55-B7D0-16D95D38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43C2C-B3CB-4F95-8197-00727787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BF63F-BADF-4376-A1A6-9AE6EE0E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E28EF-3ED9-4BE0-9C40-E56F0EEE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F74C7-43A2-4CFC-B13C-8BBC3F9B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2A306-0792-4E47-90C2-1A0A4BEC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02A-CB0C-4A16-9248-4BDC856F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6E1D5-9A54-4712-B102-52368423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C81E3-02C1-496D-AD4B-A3F72E80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00B2A-2A41-4BE5-9A63-BE05FD48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3B7DC-DFC2-43B1-800D-A98C8B38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D8CFD-41A2-4326-B136-0FCC0D6B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AB2-46CE-432C-A879-050A55A1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0A1D-B61E-435C-8BD0-5B147F6A2A5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5AD5-8294-4506-983F-90CE7A38C26C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3E2C-93E3-4FAF-80F4-948F63078F3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7326-B97C-4629-BC4E-CCDFBCC40848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6B7C-9192-4E9B-B9A1-C08BD4052F6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B082-7DEC-4C31-9A82-67FCD6E47E21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E105-90D0-48EF-B9EA-3E08780DA473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extBox 5" descr=""/>
          <p:cNvPicPr/>
          <p:nvPr/>
        </p:nvPicPr>
        <p:blipFill>
          <a:blip r:embed="rId1"/>
          <a:stretch/>
        </p:blipFill>
        <p:spPr>
          <a:xfrm>
            <a:off x="0" y="3071880"/>
            <a:ext cx="5931000" cy="2950920"/>
          </a:xfrm>
          <a:prstGeom prst="rect">
            <a:avLst/>
          </a:prstGeom>
          <a:ln w="0">
            <a:noFill/>
          </a:ln>
        </p:spPr>
      </p:pic>
      <p:pic>
        <p:nvPicPr>
          <p:cNvPr id="302" name="TextBox 7" descr=""/>
          <p:cNvPicPr/>
          <p:nvPr/>
        </p:nvPicPr>
        <p:blipFill>
          <a:blip r:embed="rId2"/>
          <a:stretch/>
        </p:blipFill>
        <p:spPr>
          <a:xfrm>
            <a:off x="2073240" y="317520"/>
            <a:ext cx="7070760" cy="2584440"/>
          </a:xfrm>
          <a:prstGeom prst="rect">
            <a:avLst/>
          </a:prstGeom>
          <a:ln w="0">
            <a:noFill/>
          </a:ln>
        </p:spPr>
      </p:pic>
      <p:pic>
        <p:nvPicPr>
          <p:cNvPr id="303" name="02 - Track  2.mp3" descr=""/>
          <p:cNvPicPr/>
          <p:nvPr/>
        </p:nvPicPr>
        <p:blipFill>
          <a:blip r:embed="rId3"/>
          <a:stretch/>
        </p:blipFill>
        <p:spPr>
          <a:xfrm>
            <a:off x="864396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2"/>
          <p:cNvSpPr/>
          <p:nvPr/>
        </p:nvSpPr>
        <p:spPr>
          <a:xfrm>
            <a:off x="3143160" y="0"/>
            <a:ext cx="5715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 —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рассказывается о каких-либо событиях в их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временной</a:t>
            </a:r>
            <a:r>
              <a:rPr b="0" i="1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последовательности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; сообщается о последовательно сменяющих друг друга действиях или события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содержание повествования можно передать лишь на нескольких кадрах фотоаппарат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Группа 3" descr=""/>
          <p:cNvPicPr/>
          <p:nvPr/>
        </p:nvPicPr>
        <p:blipFill>
          <a:blip r:embed="rId1"/>
          <a:stretch/>
        </p:blipFill>
        <p:spPr>
          <a:xfrm>
            <a:off x="103320" y="542880"/>
            <a:ext cx="3078000" cy="5802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3"/>
          <p:cNvSpPr/>
          <p:nvPr/>
        </p:nvSpPr>
        <p:spPr>
          <a:xfrm>
            <a:off x="500040" y="2214720"/>
            <a:ext cx="828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Повествование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 </a:t>
            </a: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— это мир в движении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(один кадр сменяет другой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2"/>
          <p:cNvSpPr/>
          <p:nvPr/>
        </p:nvSpPr>
        <p:spPr>
          <a:xfrm>
            <a:off x="214200" y="1928880"/>
            <a:ext cx="857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Повествование помогает наглядно представить </a:t>
            </a:r>
            <a:r>
              <a:rPr b="0" lang="ru-RU" sz="3600" spc="-1" strike="noStrike">
                <a:solidFill>
                  <a:srgbClr val="ff88ba"/>
                </a:solidFill>
                <a:latin typeface="Century Gothic"/>
              </a:rPr>
              <a:t>действия, движения людей и явлений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 во времени и пространств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2"/>
          <p:cNvSpPr/>
          <p:nvPr/>
        </p:nvSpPr>
        <p:spPr>
          <a:xfrm>
            <a:off x="642960" y="134928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 вдруг... случилось что-то необъяснимое, почти сверхъестественное. Мышастый дог внезапно грохнулся на спину, и какая-то невидимая сила повлекла его с тротуара. Вслед за этим та же невидимая сила плотно охватила горло изумленного Джека... Джек уперся передними ногами и яростно замотал головой. Но незримое «что-то» так стиснуло его шею, что коричневый пойнтер лишился сознания. (А. И. Купри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TextBox 3" descr=""/>
          <p:cNvPicPr/>
          <p:nvPr/>
        </p:nvPicPr>
        <p:blipFill>
          <a:blip r:embed="rId1"/>
          <a:stretch/>
        </p:blipFill>
        <p:spPr>
          <a:xfrm>
            <a:off x="2992320" y="176040"/>
            <a:ext cx="2872080" cy="1298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extBox 2" descr=""/>
          <p:cNvPicPr/>
          <p:nvPr/>
        </p:nvPicPr>
        <p:blipFill>
          <a:blip r:embed="rId1"/>
          <a:stretch/>
        </p:blipFill>
        <p:spPr>
          <a:xfrm>
            <a:off x="285840" y="176040"/>
            <a:ext cx="8572320" cy="5475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extBox 2" descr=""/>
          <p:cNvPicPr/>
          <p:nvPr/>
        </p:nvPicPr>
        <p:blipFill>
          <a:blip r:embed="rId1"/>
          <a:stretch/>
        </p:blipFill>
        <p:spPr>
          <a:xfrm>
            <a:off x="573120" y="1225440"/>
            <a:ext cx="7997760" cy="428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2"/>
          <p:cNvSpPr/>
          <p:nvPr/>
        </p:nvSpPr>
        <p:spPr>
          <a:xfrm>
            <a:off x="285840" y="1285920"/>
            <a:ext cx="8501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В текстах повествовательного типа особая роль принадлежит </a:t>
            </a: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глаголам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, особенно в форме прошедшего времени несовершенного вид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i="1" lang="ru-RU" sz="4000" spc="-1" strike="noStrike">
                <a:solidFill>
                  <a:srgbClr val="ffffff"/>
                </a:solidFill>
                <a:latin typeface="Century Gothic"/>
              </a:rPr>
              <a:t>приехал, увидел, разработал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и т. д.)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3214800" y="571680"/>
            <a:ext cx="5715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 —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доказывается или объясняется какое-либо положение, мысль; говорится о причинах и следствиях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бытий и явлений, оценках и чувствах (о том, что нельзя сфотографировать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Группа 3" descr=""/>
          <p:cNvPicPr/>
          <p:nvPr/>
        </p:nvPicPr>
        <p:blipFill>
          <a:blip r:embed="rId1"/>
          <a:stretch/>
        </p:blipFill>
        <p:spPr>
          <a:xfrm>
            <a:off x="23760" y="755640"/>
            <a:ext cx="3286080" cy="582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489960" y="2000160"/>
            <a:ext cx="861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Рассуждение — это мысли о мире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8ba"/>
                </a:solidFill>
                <a:latin typeface="Century Gothic"/>
              </a:rPr>
              <a:t>а не сам ми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2"/>
          <p:cNvSpPr/>
          <p:nvPr/>
        </p:nvSpPr>
        <p:spPr>
          <a:xfrm>
            <a:off x="357120" y="1500120"/>
            <a:ext cx="8572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Рассуждение помогает автору сделать мысль более 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ясной и четкой</a:t>
            </a: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, а позицию — более 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убедительной</a:t>
            </a: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1"/>
          <p:cNvSpPr/>
          <p:nvPr/>
        </p:nvSpPr>
        <p:spPr>
          <a:xfrm>
            <a:off x="428760" y="1714680"/>
            <a:ext cx="835812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Систематизировать и обобщить знания по тем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Научить различать тексты каждого типа речи и аргументировать свой отв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TextBox 2" descr=""/>
          <p:cNvPicPr/>
          <p:nvPr/>
        </p:nvPicPr>
        <p:blipFill>
          <a:blip r:embed="rId1"/>
          <a:stretch/>
        </p:blipFill>
        <p:spPr>
          <a:xfrm>
            <a:off x="1712880" y="237960"/>
            <a:ext cx="5931000" cy="1322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extBox 2" descr=""/>
          <p:cNvPicPr/>
          <p:nvPr/>
        </p:nvPicPr>
        <p:blipFill>
          <a:blip r:embed="rId1"/>
          <a:stretch/>
        </p:blipFill>
        <p:spPr>
          <a:xfrm>
            <a:off x="378000" y="103320"/>
            <a:ext cx="8686800" cy="602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extBox 2" descr=""/>
          <p:cNvPicPr/>
          <p:nvPr/>
        </p:nvPicPr>
        <p:blipFill>
          <a:blip r:embed="rId1"/>
          <a:stretch/>
        </p:blipFill>
        <p:spPr>
          <a:xfrm>
            <a:off x="96840" y="426960"/>
            <a:ext cx="9047160" cy="5224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Таблица 3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637480" cy="635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642960" y="571680"/>
            <a:ext cx="8072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 текстах-рассуждениях особая роль принадлежит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вводным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 словам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, указывающим на связь мыслей, последовательность изложения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(во-первых, во-вторых, итак, таким образом, следовательно, с одной стороны, с другой стороны)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, а также </a:t>
            </a:r>
            <a:r>
              <a:rPr b="0" i="1" lang="ru-RU" sz="3200" spc="-1" strike="noStrike">
                <a:solidFill>
                  <a:srgbClr val="ff88ba"/>
                </a:solidFill>
                <a:latin typeface="Century Gothic"/>
              </a:rPr>
              <a:t>подчинительным союзам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 значением причины, следствия, уступки (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для того чтобы, вследствие того чтобы, так как, хотя, несмотря на то что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и т. д.)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extBox 2" descr=""/>
          <p:cNvPicPr/>
          <p:nvPr/>
        </p:nvPicPr>
        <p:blipFill>
          <a:blip r:embed="rId1"/>
          <a:stretch/>
        </p:blipFill>
        <p:spPr>
          <a:xfrm>
            <a:off x="158760" y="208080"/>
            <a:ext cx="8845560" cy="587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0" y="1243080"/>
            <a:ext cx="9144000" cy="2841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3000240" y="142920"/>
            <a:ext cx="592956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то тип речи, при помощи которого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изображается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кое-либо явление действительности путем перечисления его </a:t>
            </a: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постоянных или одновременно присутствующих признаков или действий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(содержание описания можно передать на одном кадре фотоаппарат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Схема 2" descr=""/>
          <p:cNvPicPr/>
          <p:nvPr/>
        </p:nvPicPr>
        <p:blipFill>
          <a:blip r:embed="rId1"/>
          <a:stretch/>
        </p:blipFill>
        <p:spPr>
          <a:xfrm>
            <a:off x="115920" y="858960"/>
            <a:ext cx="2766960" cy="5627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1071720" y="2000160"/>
            <a:ext cx="739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88ba"/>
                </a:solidFill>
                <a:latin typeface="Century Gothic"/>
              </a:rPr>
              <a:t>Описание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 </a:t>
            </a:r>
            <a:r>
              <a:rPr b="1" lang="ru-RU" sz="4400" spc="-1" strike="noStrike">
                <a:solidFill>
                  <a:srgbClr val="ff88ba"/>
                </a:solidFill>
                <a:latin typeface="Century Gothic"/>
              </a:rPr>
              <a:t>— это мир в покое</a:t>
            </a:r>
            <a:r>
              <a:rPr b="0" lang="ru-RU" sz="4400" spc="-1" strike="noStrike">
                <a:solidFill>
                  <a:srgbClr val="ff88ba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(одна фотография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428760" y="1428840"/>
            <a:ext cx="785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Описание помогае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увидеть предмет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88ba"/>
                </a:solidFill>
                <a:latin typeface="Century Gothic"/>
              </a:rPr>
              <a:t>представить его</a:t>
            </a: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 в сознан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"/>
          <p:cNvSpPr/>
          <p:nvPr/>
        </p:nvSpPr>
        <p:spPr>
          <a:xfrm>
            <a:off x="428760" y="928800"/>
            <a:ext cx="83581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ебо было ясное, чистое, нежно-голубого цвета. Легкие белые облака, освещенные с одной стороны розовым блеском, лениво плыли в прозрачной тишине. Восток алел и пламенел, отливая в иных местах перламутром и серебром. Из-за горизонта, точно гигантские растопыренные пальцы, тянулись вверх по небу золотые полосы от лучей еще не взошедшего солнца. (А. И. Куприн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TextBox 2" descr=""/>
          <p:cNvPicPr/>
          <p:nvPr/>
        </p:nvPicPr>
        <p:blipFill>
          <a:blip r:embed="rId1"/>
          <a:stretch/>
        </p:blipFill>
        <p:spPr>
          <a:xfrm>
            <a:off x="2914560" y="23760"/>
            <a:ext cx="3443400" cy="1317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extBox 1" descr=""/>
          <p:cNvPicPr/>
          <p:nvPr/>
        </p:nvPicPr>
        <p:blipFill>
          <a:blip r:embed="rId1"/>
          <a:stretch/>
        </p:blipFill>
        <p:spPr>
          <a:xfrm>
            <a:off x="212760" y="390600"/>
            <a:ext cx="8570880" cy="6089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Таблица 2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564400" cy="649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2"/>
          <p:cNvSpPr/>
          <p:nvPr/>
        </p:nvSpPr>
        <p:spPr>
          <a:xfrm>
            <a:off x="357120" y="285840"/>
            <a:ext cx="83581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описании больше всего используются слова, обозначающие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качества, свойства предметов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(существительные, прилагательные, наречи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Глаголы чаще употребляются в форме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несовершенного вида прошедшего времени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, а для особой наглядности, изобразительности описания — и </a:t>
            </a:r>
            <a:r>
              <a:rPr b="0" lang="ru-RU" sz="2800" spc="-1" strike="noStrike">
                <a:solidFill>
                  <a:srgbClr val="ff88ba"/>
                </a:solidFill>
                <a:latin typeface="Century Gothic"/>
              </a:rPr>
              <a:t>в форме настоящего време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Широко используются синонимы —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определения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(согласованные и несогласованные) и </a:t>
            </a:r>
            <a:r>
              <a:rPr b="0" i="1" lang="ru-RU" sz="2800" spc="-1" strike="noStrike">
                <a:solidFill>
                  <a:srgbClr val="ff88ba"/>
                </a:solidFill>
                <a:latin typeface="Century Gothic"/>
              </a:rPr>
              <a:t>назывные предложения</a:t>
            </a:r>
            <a:r>
              <a:rPr b="0" lang="ru-RU" sz="2800" spc="-1" strike="noStrike">
                <a:solidFill>
                  <a:srgbClr val="ff88ba"/>
                </a:solidFill>
                <a:latin typeface="Century Gothic"/>
              </a:rPr>
              <a:t>.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5:06:10Z</dcterms:created>
  <dc:creator>Александр</dc:creator>
  <dc:description/>
  <dc:language>en-US</dc:language>
  <cp:lastModifiedBy>Nata</cp:lastModifiedBy>
  <dcterms:modified xsi:type="dcterms:W3CDTF">2013-11-06T00:09:40Z</dcterms:modified>
  <cp:revision>11</cp:revision>
  <dc:subject/>
  <dc:title>Слайд 1</dc:title>
</cp:coreProperties>
</file>