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4F1-ADA0-47AF-AFBE-C9D72A41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9ED3-B017-4709-8D50-09BD9E16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3FD2-76B6-495F-9AD4-78353717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1585-8F75-4EF4-8A18-E065897F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5125-D222-479D-A131-8EDF5E62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FBB6-10E5-4657-9B9B-D7A2F354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ECF6-B0DB-45A2-B8A3-E65368C1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28E5-8821-460A-8F4D-C19C79C7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55F3-4108-4207-8538-2176D4BC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154A-C705-4EC9-AFF5-032F64CB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9D72-77D4-48F4-AF98-A7201052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7B73-619C-4E49-ADA4-6CE19A42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08BC-E58E-4CDC-86D5-D48906A3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B3BD-156E-4469-A801-E1CE1D73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BE03-CD60-4620-A9C9-8CF6466B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C335-A64E-4BFD-BA22-93333F80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A8CC-052A-44C0-BB43-6128F318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AA4BE-C3B2-419A-B778-946CB1A6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25E9E-AF95-4161-BB48-D0C31A86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EE28F-5A6C-480D-AE44-87AF5C91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63B92-FB66-41D1-929D-F134DCAB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BFCF7-0410-4EDA-994F-D6769D22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10D1-EFDE-4617-ACFA-7355467C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C8775-F0E9-4914-9D9C-EE1D8CA9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8C4F5-6132-41AB-9EED-DC5DB904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8A3A9-F1AE-4224-A0DA-A6C952C5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E9C52-784A-4571-A155-11410CA2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0985F-CDB9-4F9C-B4F8-D0F7AE2F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EB2DA-087A-44B1-8811-4F5B69F2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18063-04B0-490A-AB2B-D4A92C5F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75B61-A03E-40A1-A5F8-FA24CC1C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92C48-BEBD-4782-A0E5-4DBCDB09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2F82F-BEA3-4677-9AA4-D67F41CB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BF7-5203-4C1C-B7B8-BDE220A2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62023-9047-4029-92F4-63B28B98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17392-C946-43E3-AEC0-4590FD8A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4A9CD-A4DC-47FB-B091-06134ABB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4DC56-B9D4-4117-9EF9-80A14E1D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70FE6-1931-4334-BE24-4C6351DB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70DD8-037F-4C68-970A-142E96DB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EFDEF-6E30-4B18-AAB2-501487E9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7100C-2ED6-4923-B507-4E80732A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4D2D8-6973-4E54-A28D-1704783C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A1AB5-C765-473E-9DC1-45ABB062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81D7-9B83-4C20-80D7-4C0A4217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51FA3-E4EE-40E0-9AD1-DDB1B336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D2EAC-16CC-48FC-93C9-A58A3195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57334-F553-4BF1-A581-B6551061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6F6A0-BC17-4B98-A1C0-E386FB15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9A936-7947-481C-81F0-E75774E1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BC622-8C8A-4DAF-85CD-98D56294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30F7D-0ABE-4206-A26D-E8D4E6F3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482C5-819B-435D-850F-DB5E8AD4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51D63-021C-44C8-9979-11C9BEAE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E74D9-8D64-49BD-BD08-3D44DEFA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EB5D-8CDC-424B-AAC6-72B5077F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C87AC-D0FD-434B-A38F-94EFB943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5FEBB-C1C5-4EC9-8CB0-FD91345E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20E86-21A8-416A-A0F5-6FBBFBE9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999B9-B17E-4F2B-B4F6-FDE214CC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FF17F-9A09-42DE-99A6-466D5239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64D9C-388C-43DF-AABA-BE7C3864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6F048-2AE6-4350-86A5-F4B44C24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A7FB4-F5F7-4140-AF4A-73D35426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284FD-469F-458E-A42D-CA841ACD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AD393-EC67-4BC7-8C15-294ED212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AE6-D5FD-4B4F-BACD-7A08ECA4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1C4D9-84A0-4EAD-8551-61F62FB0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5249E-FF10-4055-A161-1A9516AC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3C55F-9A8B-4CDD-B11C-EE970B02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0CAEF-B8E4-4E2A-8D6B-2DFD28C6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49A38-CDB9-43B1-9719-0F716BF8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4DBF2-517C-4E0D-8F3F-869338FD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5CB7F-49E0-4662-B61D-D91C95D7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EDF06-CAE0-4CCB-9878-F3C514AE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41989-48E0-443A-8F6D-933B2A55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D718E-42B8-4AD9-97B0-9065A61F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970-9511-4EB4-A351-B95AC21D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4E1F6-AD24-4AAD-B085-23A53771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83C7A-D248-4D64-BD03-61E41F8D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01B3E-F3A5-4FE9-B3F9-C9E99BBB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721A4-3CC4-4FDF-9170-94DA8122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5E514-289C-4B56-9953-40188E57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9778-FB5C-4BDA-956E-6480A5C7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0BBD-7369-474C-A29D-524BEA1C002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E099-90A4-4E2C-BA83-9DF32EE369BF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35FA-79E1-4090-9F3B-0EAC6A12FBB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D75F-A69E-45C1-87F1-CA8CDA89948B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5BE5-43B0-4665-9585-46E1CBC1A17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61D7-28ED-4872-A32C-A5C94F4A2E62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1FB3-20F9-4971-9CF6-B9E0A5E8AB7F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extBox 5" descr=""/>
          <p:cNvPicPr/>
          <p:nvPr/>
        </p:nvPicPr>
        <p:blipFill>
          <a:blip r:embed="rId1"/>
          <a:stretch/>
        </p:blipFill>
        <p:spPr>
          <a:xfrm>
            <a:off x="0" y="3071880"/>
            <a:ext cx="5931000" cy="2950920"/>
          </a:xfrm>
          <a:prstGeom prst="rect">
            <a:avLst/>
          </a:prstGeom>
          <a:ln w="0">
            <a:noFill/>
          </a:ln>
        </p:spPr>
      </p:pic>
      <p:pic>
        <p:nvPicPr>
          <p:cNvPr id="302" name="TextBox 7" descr=""/>
          <p:cNvPicPr/>
          <p:nvPr/>
        </p:nvPicPr>
        <p:blipFill>
          <a:blip r:embed="rId2"/>
          <a:stretch/>
        </p:blipFill>
        <p:spPr>
          <a:xfrm>
            <a:off x="2073240" y="317520"/>
            <a:ext cx="7070760" cy="2584440"/>
          </a:xfrm>
          <a:prstGeom prst="rect">
            <a:avLst/>
          </a:prstGeom>
          <a:ln w="0">
            <a:noFill/>
          </a:ln>
        </p:spPr>
      </p:pic>
      <p:pic>
        <p:nvPicPr>
          <p:cNvPr id="303" name="02 - Track  2.mp3" descr=""/>
          <p:cNvPicPr/>
          <p:nvPr/>
        </p:nvPicPr>
        <p:blipFill>
          <a:blip r:embed="rId3"/>
          <a:stretch/>
        </p:blipFill>
        <p:spPr>
          <a:xfrm>
            <a:off x="864396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2"/>
          <p:cNvSpPr/>
          <p:nvPr/>
        </p:nvSpPr>
        <p:spPr>
          <a:xfrm>
            <a:off x="3143160" y="0"/>
            <a:ext cx="5715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 —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рассказывается о каких-либо событиях в их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временной</a:t>
            </a:r>
            <a:r>
              <a:rPr b="0" i="1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последовательности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; сообщается о последовательно сменяющих друг друга действиях или события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содержание повествования можно передать лишь на нескольких кадрах фотоаппарат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Группа 3" descr=""/>
          <p:cNvPicPr/>
          <p:nvPr/>
        </p:nvPicPr>
        <p:blipFill>
          <a:blip r:embed="rId1"/>
          <a:stretch/>
        </p:blipFill>
        <p:spPr>
          <a:xfrm>
            <a:off x="103320" y="542880"/>
            <a:ext cx="3078000" cy="5802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3"/>
          <p:cNvSpPr/>
          <p:nvPr/>
        </p:nvSpPr>
        <p:spPr>
          <a:xfrm>
            <a:off x="500040" y="2214720"/>
            <a:ext cx="82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Повествование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 </a:t>
            </a: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— это мир в движении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(один кадр сменяет другой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2"/>
          <p:cNvSpPr/>
          <p:nvPr/>
        </p:nvSpPr>
        <p:spPr>
          <a:xfrm>
            <a:off x="214200" y="1928880"/>
            <a:ext cx="857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Повествование помогает наглядно представить 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действия, движения людей и явлений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 во времени и пространств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2"/>
          <p:cNvSpPr/>
          <p:nvPr/>
        </p:nvSpPr>
        <p:spPr>
          <a:xfrm>
            <a:off x="642960" y="134928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 вдруг... случилось что-то необъяснимое, почти сверхъестественное. Мышастый дог внезапно грохнулся на спину, и какая-то невидимая сила повлекла его с тротуара. Вслед за этим та же невидимая сила плотно охватила горло изумленного Джека... Джек уперся передними ногами и яростно замотал головой. Но незримое «что-то» так стиснуло его шею, что коричневый пойнтер лишился сознания. (А. И. Купри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TextBox 3" descr=""/>
          <p:cNvPicPr/>
          <p:nvPr/>
        </p:nvPicPr>
        <p:blipFill>
          <a:blip r:embed="rId1"/>
          <a:stretch/>
        </p:blipFill>
        <p:spPr>
          <a:xfrm>
            <a:off x="2992320" y="176040"/>
            <a:ext cx="2872080" cy="1298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extBox 2" descr=""/>
          <p:cNvPicPr/>
          <p:nvPr/>
        </p:nvPicPr>
        <p:blipFill>
          <a:blip r:embed="rId1"/>
          <a:stretch/>
        </p:blipFill>
        <p:spPr>
          <a:xfrm>
            <a:off x="285840" y="176040"/>
            <a:ext cx="8572320" cy="5475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extBox 2" descr=""/>
          <p:cNvPicPr/>
          <p:nvPr/>
        </p:nvPicPr>
        <p:blipFill>
          <a:blip r:embed="rId1"/>
          <a:stretch/>
        </p:blipFill>
        <p:spPr>
          <a:xfrm>
            <a:off x="573120" y="1225440"/>
            <a:ext cx="7997760" cy="428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2"/>
          <p:cNvSpPr/>
          <p:nvPr/>
        </p:nvSpPr>
        <p:spPr>
          <a:xfrm>
            <a:off x="285840" y="1285920"/>
            <a:ext cx="8501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В текстах повествовательного типа особая роль принадлежит </a:t>
            </a: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глаголам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, особенно в форме прошедшего времени несовершенного вид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i="1" lang="ru-RU" sz="4000" spc="-1" strike="noStrike">
                <a:solidFill>
                  <a:srgbClr val="ffffff"/>
                </a:solidFill>
                <a:latin typeface="Century Gothic"/>
              </a:rPr>
              <a:t>приехал, увидел, разработал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и т. д.)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3214800" y="571680"/>
            <a:ext cx="5715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 —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доказывается или объясняется какое-либо положение, мысль; говорится о причинах и следствиях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бытий и явлений, оценках и чувствах (о том, что нельзя сфотографировать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Группа 3" descr=""/>
          <p:cNvPicPr/>
          <p:nvPr/>
        </p:nvPicPr>
        <p:blipFill>
          <a:blip r:embed="rId1"/>
          <a:stretch/>
        </p:blipFill>
        <p:spPr>
          <a:xfrm>
            <a:off x="23760" y="755640"/>
            <a:ext cx="3286080" cy="582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489960" y="2000160"/>
            <a:ext cx="861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Рассуждение — это мысли о мире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а не сам ми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2"/>
          <p:cNvSpPr/>
          <p:nvPr/>
        </p:nvSpPr>
        <p:spPr>
          <a:xfrm>
            <a:off x="357120" y="1500120"/>
            <a:ext cx="8572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Рассуждение помогает автору сделать мысль более 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ясной и четкой</a:t>
            </a: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, а позицию — более 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убедительной</a:t>
            </a: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1"/>
          <p:cNvSpPr/>
          <p:nvPr/>
        </p:nvSpPr>
        <p:spPr>
          <a:xfrm>
            <a:off x="428760" y="1714680"/>
            <a:ext cx="835812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Систематизировать и обобщить знания по тем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Научить различать тексты каждого типа речи и аргументировать свой отв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TextBox 2" descr=""/>
          <p:cNvPicPr/>
          <p:nvPr/>
        </p:nvPicPr>
        <p:blipFill>
          <a:blip r:embed="rId1"/>
          <a:stretch/>
        </p:blipFill>
        <p:spPr>
          <a:xfrm>
            <a:off x="1712880" y="237960"/>
            <a:ext cx="5931000" cy="132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extBox 2" descr=""/>
          <p:cNvPicPr/>
          <p:nvPr/>
        </p:nvPicPr>
        <p:blipFill>
          <a:blip r:embed="rId1"/>
          <a:stretch/>
        </p:blipFill>
        <p:spPr>
          <a:xfrm>
            <a:off x="378000" y="103320"/>
            <a:ext cx="8686800" cy="602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extBox 2" descr=""/>
          <p:cNvPicPr/>
          <p:nvPr/>
        </p:nvPicPr>
        <p:blipFill>
          <a:blip r:embed="rId1"/>
          <a:stretch/>
        </p:blipFill>
        <p:spPr>
          <a:xfrm>
            <a:off x="96840" y="426960"/>
            <a:ext cx="9047160" cy="5224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Таблица 3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637480" cy="635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642960" y="571680"/>
            <a:ext cx="8072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текстах-рассуждениях особая роль принадлежит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вводным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 словам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, указывающим на связь мыслей, последовательность изложения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(во-первых, во-вторых, итак, таким образом, следовательно, с одной стороны, с другой стороны)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, а также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подчинительным союзам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 значением причины, следствия, уступки (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для того чтобы, вследствие того чтобы, так как, хотя, несмотря на то что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и т. д.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extBox 2" descr=""/>
          <p:cNvPicPr/>
          <p:nvPr/>
        </p:nvPicPr>
        <p:blipFill>
          <a:blip r:embed="rId1"/>
          <a:stretch/>
        </p:blipFill>
        <p:spPr>
          <a:xfrm>
            <a:off x="158760" y="208080"/>
            <a:ext cx="8845560" cy="587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0" y="1243080"/>
            <a:ext cx="9144000" cy="2841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3000240" y="142920"/>
            <a:ext cx="592956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изображается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кое-либо явление действительности путем перечисления его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постоянных или одновременно присутствующих признаков или действий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(содержание описания можно передать на одном кадре фотоаппарат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Схема 2" descr=""/>
          <p:cNvPicPr/>
          <p:nvPr/>
        </p:nvPicPr>
        <p:blipFill>
          <a:blip r:embed="rId1"/>
          <a:stretch/>
        </p:blipFill>
        <p:spPr>
          <a:xfrm>
            <a:off x="115920" y="858960"/>
            <a:ext cx="2766960" cy="5627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1071720" y="2000160"/>
            <a:ext cx="739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88ba"/>
                </a:solidFill>
                <a:latin typeface="Century Gothic"/>
              </a:rPr>
              <a:t>Описание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 </a:t>
            </a:r>
            <a:r>
              <a:rPr b="1" lang="ru-RU" sz="4400" spc="-1" strike="noStrike">
                <a:solidFill>
                  <a:srgbClr val="ff88ba"/>
                </a:solidFill>
                <a:latin typeface="Century Gothic"/>
              </a:rPr>
              <a:t>— это мир в покое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(одна фотография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428760" y="1428840"/>
            <a:ext cx="785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писание помогае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увидеть предмет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представить его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в сознан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"/>
          <p:cNvSpPr/>
          <p:nvPr/>
        </p:nvSpPr>
        <p:spPr>
          <a:xfrm>
            <a:off x="428760" y="928800"/>
            <a:ext cx="83581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ебо было ясное, чистое, нежно-голубого цвета. Легкие белые облака, освещенные с одной стороны розовым блеском, лениво плыли в прозрачной тишине. Восток алел и пламенел, отливая в иных местах перламутром и серебром. Из-за горизонта, точно гигантские растопыренные пальцы, тянулись вверх по небу золотые полосы от лучей еще не взошедшего солнца. (А. И. Куприн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TextBox 2" descr=""/>
          <p:cNvPicPr/>
          <p:nvPr/>
        </p:nvPicPr>
        <p:blipFill>
          <a:blip r:embed="rId1"/>
          <a:stretch/>
        </p:blipFill>
        <p:spPr>
          <a:xfrm>
            <a:off x="2914560" y="23760"/>
            <a:ext cx="3443400" cy="1317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extBox 1" descr=""/>
          <p:cNvPicPr/>
          <p:nvPr/>
        </p:nvPicPr>
        <p:blipFill>
          <a:blip r:embed="rId1"/>
          <a:stretch/>
        </p:blipFill>
        <p:spPr>
          <a:xfrm>
            <a:off x="212760" y="390600"/>
            <a:ext cx="8570880" cy="6089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Таблица 2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564400" cy="649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357120" y="285840"/>
            <a:ext cx="83581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описании больше всего используются слова, обозначающие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качества, свойства предметов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существительные, прилагательные, наречи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Глаголы чаще употребляются в форме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несовершенного вида прошедшего времени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, а для особой наглядности, изобразительности описания — и </a:t>
            </a:r>
            <a:r>
              <a:rPr b="0" lang="ru-RU" sz="2800" spc="-1" strike="noStrike">
                <a:solidFill>
                  <a:srgbClr val="ff88ba"/>
                </a:solidFill>
                <a:latin typeface="Century Gothic"/>
              </a:rPr>
              <a:t>в форме настоящего време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Широко используются синонимы —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определения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(согласованные и несогласованные) и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назывные предложения</a:t>
            </a:r>
            <a:r>
              <a:rPr b="0" lang="ru-RU" sz="2800" spc="-1" strike="noStrike">
                <a:solidFill>
                  <a:srgbClr val="ff88ba"/>
                </a:solidFill>
                <a:latin typeface="Century Gothic"/>
              </a:rPr>
              <a:t>.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5:06:10Z</dcterms:created>
  <dc:creator>Александр</dc:creator>
  <dc:description/>
  <dc:language>en-US</dc:language>
  <cp:lastModifiedBy>Nata</cp:lastModifiedBy>
  <dcterms:modified xsi:type="dcterms:W3CDTF">2013-11-06T00:09:40Z</dcterms:modified>
  <cp:revision>11</cp:revision>
  <dc:subject/>
  <dc:title>Слайд 1</dc:title>
</cp:coreProperties>
</file>