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EA58-32C3-40B7-AB1F-A6A746E9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93C2-72ED-44A3-81E3-412AC6B5C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50B-54CA-4760-94AB-DE17D20DF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2C0-ED39-43A6-B802-6E318733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74BB-D1E2-4394-9044-262697CD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FB3-9CEA-4FD7-ADAF-370D212E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89F-B5EB-404D-9DB5-DB8A5B02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4804-6DDF-4389-8039-C94CF5BF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A39-157E-4C71-A738-64140454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01A-BF5D-4796-BE37-2C639B6B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234A-CD99-4AE4-A9FA-02F3BF9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51D8-FDDF-4142-AB44-EB575409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D0622-1DE1-4EC3-A053-AC546F7BF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w.mit.edu/ans7870/21f/21f.027/opium_wars_01/image/a_1824_PZ0240_Lintin_n70297.jpg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8600" y="31240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33"/>
                </a:solidFill>
                <a:latin typeface="Arial"/>
              </a:rPr>
              <a:t>«Китай: сопротивление реформам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80"/>
            <a:ext cx="8686800" cy="9907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овая история, 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638680"/>
            <a:ext cx="7924680" cy="990720"/>
          </a:xfrm>
          <a:prstGeom prst="rect">
            <a:avLst/>
          </a:prstGeom>
          <a:gradFill rotWithShape="0">
            <a:gsLst>
              <a:gs pos="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оненкова А.В., 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76920" y="376560"/>
            <a:ext cx="8390160" cy="8924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собенности промышленной револю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ей Небесного государства стал город Нанкин, Хун Сюцюаня объявили «небесным князем». Восставшие пытались воплотить идеи уравнительного распределения материальных 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тайпин тяньго 1851-1864"/>
          <p:cNvPicPr/>
          <p:nvPr/>
        </p:nvPicPr>
        <p:blipFill>
          <a:blip r:embed="rId2"/>
          <a:stretch/>
        </p:blipFill>
        <p:spPr>
          <a:xfrm>
            <a:off x="152280" y="1523880"/>
            <a:ext cx="43624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Ещё в период существования государства тайпинов к власти в Китае пришла императрица Цыси, которая фактически руководила страной с 1861 по 1908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997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File:The Ci-Xi Imperial Dowager Empress (9.2).PNG"/>
          <p:cNvPicPr/>
          <p:nvPr/>
        </p:nvPicPr>
        <p:blipFill>
          <a:blip r:embed="rId2"/>
          <a:stretch/>
        </p:blipFill>
        <p:spPr>
          <a:xfrm>
            <a:off x="152280" y="1371600"/>
            <a:ext cx="4094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1160" y="294480"/>
            <a:ext cx="847800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урс на политику самоусил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1371600"/>
            <a:ext cx="861084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33"/>
                </a:solidFill>
                <a:uFillTx/>
                <a:latin typeface="Arial"/>
              </a:rPr>
              <a:t>Цел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имствовать западную технику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ьзовать новые знания для усиления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274320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3200400"/>
            <a:ext cx="8763120" cy="3429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ось строительство судоверфи, во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Закупали вооружение, суда, маш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Строились железные дорог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Рост бюрократического аппарата и корруп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Появились учебные заведения западно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Развивается банковское д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191120" y="1523880"/>
            <a:ext cx="44956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Раздираемый на части Кита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0" y="1676520"/>
            <a:ext cx="3657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 стр. 22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File:China imperialism cartoon.jpg"/>
          <p:cNvPicPr/>
          <p:nvPr/>
        </p:nvPicPr>
        <p:blipFill>
          <a:blip r:embed="rId2"/>
          <a:stretch/>
        </p:blipFill>
        <p:spPr>
          <a:xfrm>
            <a:off x="228600" y="1523880"/>
            <a:ext cx="38498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73356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идером реформаторов становится </a:t>
            </a: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Кан Ювэ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крупный учёный, специалист по древней китайской литературе, истории и философ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ступающие за проведение реформ и введение в стране парламентской монархии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File:Kang-youwei2-large.jpg"/>
          <p:cNvPicPr/>
          <p:nvPr/>
        </p:nvPicPr>
        <p:blipFill>
          <a:blip r:embed="rId2"/>
          <a:stretch/>
        </p:blipFill>
        <p:spPr>
          <a:xfrm>
            <a:off x="228600" y="1523880"/>
            <a:ext cx="35226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100 дней» реформ и их последств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50496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олодой император Гуансюй решил поддержать реформаторов и 11 июня 1898 г. издал первый указ о преобразова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File:The Imperial Portrait of Emperor Guangxu2.jpg"/>
          <p:cNvPicPr/>
          <p:nvPr/>
        </p:nvPicPr>
        <p:blipFill>
          <a:blip r:embed="rId2"/>
          <a:stretch/>
        </p:blipFill>
        <p:spPr>
          <a:xfrm>
            <a:off x="304920" y="1523880"/>
            <a:ext cx="28954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1144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33"/>
                </a:solidFill>
                <a:uFillTx/>
                <a:latin typeface="Arial"/>
              </a:rPr>
              <a:t>Ихэтуан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– тайное общество                « Кулак во имя мира и справедлив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File:BoxerSoldiers.jpg"/>
          <p:cNvPicPr/>
          <p:nvPr/>
        </p:nvPicPr>
        <p:blipFill>
          <a:blip r:embed="rId2"/>
          <a:stretch/>
        </p:blipFill>
        <p:spPr>
          <a:xfrm>
            <a:off x="228600" y="1600200"/>
            <a:ext cx="39117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0" y="160020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вшие уничтожали машины, рубили телеграфные столбы, ломали захваченные оружия, разбирали железные дор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File:Boxer-tianjing-left.jpeg"/>
          <p:cNvPicPr/>
          <p:nvPr/>
        </p:nvPicPr>
        <p:blipFill>
          <a:blip r:embed="rId2"/>
          <a:stretch/>
        </p:blipFill>
        <p:spPr>
          <a:xfrm>
            <a:off x="228600" y="1523880"/>
            <a:ext cx="4245120" cy="4572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52280" y="6095880"/>
            <a:ext cx="441972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этуани в Тяньцз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азнь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File:Execution of Boxer leaders at Hsi-Kou 1900-1901.jpg"/>
          <p:cNvPicPr/>
          <p:nvPr/>
        </p:nvPicPr>
        <p:blipFill>
          <a:blip r:embed="rId2"/>
          <a:stretch/>
        </p:blipFill>
        <p:spPr>
          <a:xfrm>
            <a:off x="457200" y="1447920"/>
            <a:ext cx="76201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сстание ихэтуан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File:BoxerTroops.jpg"/>
          <p:cNvPicPr/>
          <p:nvPr/>
        </p:nvPicPr>
        <p:blipFill>
          <a:blip r:embed="rId2"/>
          <a:stretch/>
        </p:blipFill>
        <p:spPr>
          <a:xfrm>
            <a:off x="457200" y="1447920"/>
            <a:ext cx="8153280" cy="52196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52280" y="6095880"/>
            <a:ext cx="8458200" cy="609840"/>
          </a:xfrm>
          <a:prstGeom prst="rect">
            <a:avLst/>
          </a:prstGeom>
          <a:solidFill>
            <a:srgbClr val="ff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оружённые силы альянса восьми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Открытие Китая» « Опиумный войны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вижение тайпин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урс на политику самоуси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здираемый на части Кита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100 дней реформ» и их последств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сстание ихэтуа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Новая политика» Цыс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71160" y="2944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862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Новая политика» Цыс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228-229 и докажите примерами, что в Китае действительно начались из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File:Empress Dowager Cixi (c. 1890).jpg"/>
          <p:cNvPicPr/>
          <p:nvPr/>
        </p:nvPicPr>
        <p:blipFill>
          <a:blip r:embed="rId2"/>
          <a:stretch/>
        </p:blipFill>
        <p:spPr>
          <a:xfrm>
            <a:off x="228600" y="1523880"/>
            <a:ext cx="362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гра « Крестики-ноли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28, записи, вопросы 4 или 5 письменн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ocw.mit.edu/ans7870/21f/21f.027/opium_wars_01/image/a_1824_PZ0240_Lintin_n7029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blog.holachina.net/wp-content/uploads/2009/03/chinese-opium-smoker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www.my-article.net/data/files/tinymce/68/img/aj/aj/as/as/as/ad/af/as/00012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ru.wikipedia.org/wiki/%D0%A2%D0%B0%D0%B9%D0%BF%D0%B8%D0%BD%D1%81%D0%BA%D0%BE%D0%B5_%D0%B2%D0%BE%D1%81%D1%81%D1%82%D0%B0%D0%BD%D0%B8%D0%B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://commons.wikimedia.org/wiki/File:Empress_Dowager_Cixi_(c._1890).jpg?uselang=ru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аботе использованы ресурс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800240" y="12952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1644 году Пекин был завоёван маньчжу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ласти, боясь колонизаторской политики европейских государств и разрушения традиций                      « закрыли» страну для европей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9960" y="285480"/>
            <a:ext cx="834408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войны китая"/>
          <p:cNvPicPr/>
          <p:nvPr/>
        </p:nvPicPr>
        <p:blipFill>
          <a:blip r:embed="rId2"/>
          <a:stretch/>
        </p:blipFill>
        <p:spPr>
          <a:xfrm>
            <a:off x="380880" y="1266840"/>
            <a:ext cx="4038840" cy="2793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80880" y="4038480"/>
            <a:ext cx="396252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392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орговля с Великобританией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кспорт чая и шелка, импорт опи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14880" y="309960"/>
            <a:ext cx="814212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ткрытие» Кита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чайный куст"/>
          <p:cNvPicPr/>
          <p:nvPr/>
        </p:nvPicPr>
        <p:blipFill>
          <a:blip r:embed="rId2"/>
          <a:stretch/>
        </p:blipFill>
        <p:spPr>
          <a:xfrm>
            <a:off x="228600" y="1523880"/>
            <a:ext cx="4495680" cy="2694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552760" y="4267080"/>
            <a:ext cx="2247840" cy="22482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52280" y="4267080"/>
            <a:ext cx="23814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419720" y="1371240"/>
            <a:ext cx="4419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крытое столкновение китайского народа с европейскими державами вылилось в опиумные войны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40-1842 и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       </a:t>
            </a: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1856 – 1860 г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6280" y="285480"/>
            <a:ext cx="830592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Опиумные войны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038480" cy="2698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28600" y="4114800"/>
            <a:ext cx="3962520" cy="22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267080" y="12193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Итогом войн стал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глия получила Гонко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остранцы – право торговать в важнейших пор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ешался ввоз опи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ропейские подданные освобождались от подчинения китайским на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алась активная колон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85480" y="285480"/>
            <a:ext cx="8573040" cy="80064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 Опиумные войн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3809880" cy="2506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88620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умайте, почему Китай проиграл эти « опиумные» войн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чему поражение Китая обозначало крах маньчжурской династ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10320" y="309960"/>
            <a:ext cx="8447040" cy="94932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«Опиумные»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3434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чины начала дви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86360" y="2590920"/>
            <a:ext cx="714240" cy="5331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5e46"/>
              </a:gs>
              <a:gs pos="50000">
                <a:srgbClr val="ffcc99"/>
              </a:gs>
              <a:gs pos="100000">
                <a:srgbClr val="755e4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280" y="3124080"/>
            <a:ext cx="8686800" cy="3276720"/>
          </a:xfrm>
          <a:prstGeom prst="rect">
            <a:avLst/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ражение в опиумных войн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езземелие крестья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кращение земельных налог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ромные налог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соответствие идеям конфуциа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84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оводителем движения был сельский учитель, выходец из крестьян. Хорошо знавший жизнь народа. Он утверждал о том, что Бог поручил ему избавить Китай от дьявола( династии Цинь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99400" y="416880"/>
            <a:ext cx="8173080" cy="857880"/>
          </a:xfrm>
          <a:prstGeom prst="rect">
            <a:avLst/>
          </a:prstGeom>
          <a:gradFill rotWithShape="0">
            <a:gsLst>
              <a:gs pos="0">
                <a:srgbClr val="63534f"/>
              </a:gs>
              <a:gs pos="50000">
                <a:srgbClr val="d8b5ac"/>
              </a:gs>
              <a:gs pos="100000">
                <a:srgbClr val="63534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вижение тайпин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File:Hong Xiuquan.jpg"/>
          <p:cNvPicPr/>
          <p:nvPr/>
        </p:nvPicPr>
        <p:blipFill>
          <a:blip r:embed="rId2"/>
          <a:stretch/>
        </p:blipFill>
        <p:spPr>
          <a:xfrm>
            <a:off x="228600" y="1523880"/>
            <a:ext cx="4029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5T18:01:5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