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036A-0BF4-4B03-99F1-245ED268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CF9-28A2-491F-BB31-2EEFE1EF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18F-D1F7-40E3-8BB1-A4CB45B1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7EFB-18D2-4887-BB5F-6497D379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7449-FDE7-40B4-B416-819A5AB0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347-D336-4DB6-9A96-E7B78232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9E5F-004C-497F-AF74-7B6389BF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EC8D-FBA6-4828-A503-0A663B94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5586-C117-410A-BE04-763812E9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DF4-4F9F-46A1-B1E5-0BA736D1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3208-279E-4706-80BF-6D373667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09DC-FDD1-4312-A376-34093D50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F4F4-5C38-4E2B-A6E6-E97BBCA71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cw.mit.edu/ans7870/21f/21f.027/opium_wars_01/image/a_1824_PZ0240_Lintin_n70297.jpg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1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31240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«Китай: сопротивление реформам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868680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вая история,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638680"/>
            <a:ext cx="7924680" cy="990720"/>
          </a:xfrm>
          <a:prstGeom prst="rect">
            <a:avLst/>
          </a:prstGeom>
          <a:gradFill rotWithShape="0">
            <a:gsLst>
              <a:gs pos="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тоненкова А.В., 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76920" y="376560"/>
            <a:ext cx="8390160" cy="8924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обенности промышленной ре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16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ей Небесного государства стал город Нанкин, Хун Сюцюаня объявили «небесным князем». Восставшие пытались воплотить идеи уравнительного распределения материальных б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тайпин тяньго 1851-1864"/>
          <p:cNvPicPr/>
          <p:nvPr/>
        </p:nvPicPr>
        <p:blipFill>
          <a:blip r:embed="rId2"/>
          <a:stretch/>
        </p:blipFill>
        <p:spPr>
          <a:xfrm>
            <a:off x="152280" y="1523880"/>
            <a:ext cx="4362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0" y="14475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щё в период существования государства тайпинов к власти в Китае пришла императрица Цыси, которая фактически руководила страной с 1861 по 1908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997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File:The Ci-Xi Imperial Dowager Empress (9.2).PNG"/>
          <p:cNvPicPr/>
          <p:nvPr/>
        </p:nvPicPr>
        <p:blipFill>
          <a:blip r:embed="rId2"/>
          <a:stretch/>
        </p:blipFill>
        <p:spPr>
          <a:xfrm>
            <a:off x="152280" y="1371600"/>
            <a:ext cx="409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71160" y="294480"/>
            <a:ext cx="847800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урс на политику самоуси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1371600"/>
            <a:ext cx="861084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Цел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имствовать западную технику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ть новые знания для усиления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7432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200400"/>
            <a:ext cx="8763120" cy="3429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ось строительство судоверфи, во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Закупали вооружение, суда,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Строились железные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Рост бюрократического аппарата и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Появились учебные заведения запа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Развивается банковск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дираемый на части Кита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 стр. 2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File:China imperialism cartoon.jpg"/>
          <p:cNvPicPr/>
          <p:nvPr/>
        </p:nvPicPr>
        <p:blipFill>
          <a:blip r:embed="rId2"/>
          <a:stretch/>
        </p:blipFill>
        <p:spPr>
          <a:xfrm>
            <a:off x="228600" y="1523880"/>
            <a:ext cx="3849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73356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дером реформаторов становится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Кан Ювэ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крупный учёный, специалист по древней китайской литературе, истории и философ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ступающие за проведение реформ и введение в стране парламентской монархии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File:Kang-youwei2-large.jpg"/>
          <p:cNvPicPr/>
          <p:nvPr/>
        </p:nvPicPr>
        <p:blipFill>
          <a:blip r:embed="rId2"/>
          <a:stretch/>
        </p:blipFill>
        <p:spPr>
          <a:xfrm>
            <a:off x="228600" y="1523880"/>
            <a:ext cx="3522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лодой император Гуансюй решил поддержать реформаторов и 11 июня 1898 г. издал первый указ о преобразов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File:The Imperial Portrait of Emperor Guangxu2.jpg"/>
          <p:cNvPicPr/>
          <p:nvPr/>
        </p:nvPicPr>
        <p:blipFill>
          <a:blip r:embed="rId2"/>
          <a:stretch/>
        </p:blipFill>
        <p:spPr>
          <a:xfrm>
            <a:off x="304920" y="1523880"/>
            <a:ext cx="2895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1144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33"/>
                </a:solidFill>
                <a:uFillTx/>
                <a:latin typeface="Arial"/>
              </a:rPr>
              <a:t>Ихэтуан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тайное общество                « Кулак во имя мира и справедлив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File:BoxerSoldiers.jpg"/>
          <p:cNvPicPr/>
          <p:nvPr/>
        </p:nvPicPr>
        <p:blipFill>
          <a:blip r:embed="rId2"/>
          <a:stretch/>
        </p:blipFill>
        <p:spPr>
          <a:xfrm>
            <a:off x="228600" y="1600200"/>
            <a:ext cx="3911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вшие уничтожали машины, рубили телеграфные столбы, ломали захваченные оружия, разбирали железные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File:Boxer-tianjing-left.jpeg"/>
          <p:cNvPicPr/>
          <p:nvPr/>
        </p:nvPicPr>
        <p:blipFill>
          <a:blip r:embed="rId2"/>
          <a:stretch/>
        </p:blipFill>
        <p:spPr>
          <a:xfrm>
            <a:off x="228600" y="1523880"/>
            <a:ext cx="424512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280" y="6095880"/>
            <a:ext cx="441972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этуани в Тяньцз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знь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File:Execution of Boxer leaders at Hsi-Kou 1900-1901.jpg"/>
          <p:cNvPicPr/>
          <p:nvPr/>
        </p:nvPicPr>
        <p:blipFill>
          <a:blip r:embed="rId2"/>
          <a:stretch/>
        </p:blipFill>
        <p:spPr>
          <a:xfrm>
            <a:off x="457200" y="1447920"/>
            <a:ext cx="7620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File:BoxerTroops.jpg"/>
          <p:cNvPicPr/>
          <p:nvPr/>
        </p:nvPicPr>
        <p:blipFill>
          <a:blip r:embed="rId2"/>
          <a:stretch/>
        </p:blipFill>
        <p:spPr>
          <a:xfrm>
            <a:off x="457200" y="1447920"/>
            <a:ext cx="8153280" cy="5219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280" y="6095880"/>
            <a:ext cx="845820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оружённые силы альянса восьми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Открытие Китая» « Опиумный войны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ижение тайп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рс на политику самоуси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ираемый на части Кит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100 дней реформ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ние ихэту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Новая политика» Цы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11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Новая политика» Цы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материал на стр. 228-229 и докажите примерами, что в Китае действительно начались из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File:Empress Dowager Cixi (c. 1890).jpg"/>
          <p:cNvPicPr/>
          <p:nvPr/>
        </p:nvPicPr>
        <p:blipFill>
          <a:blip r:embed="rId2"/>
          <a:stretch/>
        </p:blipFill>
        <p:spPr>
          <a:xfrm>
            <a:off x="228600" y="1523880"/>
            <a:ext cx="3621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гра « Крестики-нол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28, записи, вопросы 4 или 5 письм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cw.mit.edu/ans7870/21f/21f.027/opium_wars_01/image/a_1824_PZ0240_Lintin_n7029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blog.holachina.net/wp-content/uploads/2009/03/chinese-opium-smoker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my-article.net/data/files/tinymce/68/img/aj/aj/as/as/as/ad/af/as/00012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u.wikipedia.org/wiki/%D0%A2%D0%B0%D0%B9%D0%BF%D0%B8%D0%BD%D1%81%D0%BA%D0%BE%D0%B5_%D0%B2%D0%BE%D1%81%D1%81%D1%82%D0%B0%D0%BD%D0%B8%D0%B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commons.wikimedia.org/wiki/File:Empress_Dowager_Cixi_(c._1890).jpg?uselang=ru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работе использованы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644 году Пекин был завоёван маньчжу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сти, боясь колонизаторской политики европейских государств и разрушения традиций                      « закрыли» страну для европей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960" y="285480"/>
            <a:ext cx="834408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войны китая"/>
          <p:cNvPicPr/>
          <p:nvPr/>
        </p:nvPicPr>
        <p:blipFill>
          <a:blip r:embed="rId2"/>
          <a:stretch/>
        </p:blipFill>
        <p:spPr>
          <a:xfrm>
            <a:off x="380880" y="1266840"/>
            <a:ext cx="4038840" cy="2793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396252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39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ля с Великобританией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спорт чая и шелка, импорт опи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8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чайный куст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269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52760" y="4267080"/>
            <a:ext cx="2247840" cy="2248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4267080"/>
            <a:ext cx="23814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419720" y="1371240"/>
            <a:ext cx="4419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крытое столкновение китайского народа с европейскими державами вылилось в опиумные войны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40-1842 и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56 – 186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76280" y="285480"/>
            <a:ext cx="830592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Опиумные войны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038480" cy="269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3962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26708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Итогом войн ста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глия получила Гонко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странцы – право торговать в важнейших пор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ешался ввоз опи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ропейские подданные освобождались от подчинения китайским на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ась активная коло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480" y="285480"/>
            <a:ext cx="857304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пиумные вой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809880" cy="250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88620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умайте, почему Китай проиграл эти « опиумные» вой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поражение Китая обозначало крах маньчжурской династ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10320" y="309960"/>
            <a:ext cx="844704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Опиумные»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523880"/>
            <a:ext cx="8001000" cy="106704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чины начала дви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86360" y="2590920"/>
            <a:ext cx="71424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3124080"/>
            <a:ext cx="8686800" cy="3276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ражение в опиумных вой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земелие кресть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кращение земельных нал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громные нал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соответствие идеям конфуци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оводителем движения был сельский учитель, выходец из крестьян. Хорошо знавший жизнь народа. Он утверждал о том, что Бог поручил ему избавить Китай от дьявола( династии Цин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99400" y="416880"/>
            <a:ext cx="81730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File:Hong Xiuquan.jpg"/>
          <p:cNvPicPr/>
          <p:nvPr/>
        </p:nvPicPr>
        <p:blipFill>
          <a:blip r:embed="rId2"/>
          <a:stretch/>
        </p:blipFill>
        <p:spPr>
          <a:xfrm>
            <a:off x="228600" y="1523880"/>
            <a:ext cx="4029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5T18:01:5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