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C12-DF18-4F79-9C92-D54003FC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4D7-77EE-4E1E-8E26-5814898B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312-3807-4C96-B452-43CE361C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754-BCB3-4509-855D-BF8F698A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ABB-1BFF-4AED-81D4-17ABB3EE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4B7-82B3-465B-B7AF-8849DF0B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75C4-6B9D-4865-AB42-D1749198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02B-B21E-4426-98B2-4A52176B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3C0-AE83-4C82-84C1-648EBCF5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349-B10E-4EE6-9954-574C4EA9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589-A36B-44B1-BF93-B713916A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D40-902D-4C9C-837A-B8AAF502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F5FB-6FA4-4A2F-B82D-8F59234A9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w.mit.edu/ans7870/21f/21f.027/opium_wars_01/image/a_1824_PZ0240_Lintin_n70297.jp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Китай: сопротивление реформа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6920" y="37656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мышленн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ей Небесного государства стал город Нанкин, Хун Сюцюаня объявили «небесным князем». Восставшие пытались воплотить идеи уравнительного распределения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тайпин тяньго 1851-1864"/>
          <p:cNvPicPr/>
          <p:nvPr/>
        </p:nvPicPr>
        <p:blipFill>
          <a:blip r:embed="rId2"/>
          <a:stretch/>
        </p:blipFill>
        <p:spPr>
          <a:xfrm>
            <a:off x="152280" y="1523880"/>
            <a:ext cx="4362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в период существования государства тайпинов к власти в Китае пришла императрица Цыси, которая фактически руководила страной с 1861 по 19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The Ci-Xi Imperial Dowager Empress (9.2).PNG"/>
          <p:cNvPicPr/>
          <p:nvPr/>
        </p:nvPicPr>
        <p:blipFill>
          <a:blip r:embed="rId2"/>
          <a:stretch/>
        </p:blipFill>
        <p:spPr>
          <a:xfrm>
            <a:off x="152280" y="1371600"/>
            <a:ext cx="409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урс на политику самоуси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371600"/>
            <a:ext cx="86108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Це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имствовать западную техник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новые знания для усиления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8763120" cy="3429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сь строительство судоверфи, 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Закупали вооружение, суда,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троились железные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Рост бюрократического аппарата и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Появились учебные заведения запа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Развивается банков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ираемый на части Кита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стр. 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le:China imperialism cartoon.jpg"/>
          <p:cNvPicPr/>
          <p:nvPr/>
        </p:nvPicPr>
        <p:blipFill>
          <a:blip r:embed="rId2"/>
          <a:stretch/>
        </p:blipFill>
        <p:spPr>
          <a:xfrm>
            <a:off x="228600" y="1523880"/>
            <a:ext cx="3849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7335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дером реформаторов станови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ан Ювэ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упный учёный, специалист по древней китайской литературе, истории и философ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тупающие за проведение реформ и введение в стране парламентской монархи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File:Kang-youwei2-large.jpg"/>
          <p:cNvPicPr/>
          <p:nvPr/>
        </p:nvPicPr>
        <p:blipFill>
          <a:blip r:embed="rId2"/>
          <a:stretch/>
        </p:blipFill>
        <p:spPr>
          <a:xfrm>
            <a:off x="228600" y="1523880"/>
            <a:ext cx="3522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лодой император Гуансюй решил поддержать реформаторов и 11 июня 1898 г. издал первый указ о преобраз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File:The Imperial Portrait of Emperor Guangxu2.jpg"/>
          <p:cNvPicPr/>
          <p:nvPr/>
        </p:nvPicPr>
        <p:blipFill>
          <a:blip r:embed="rId2"/>
          <a:stretch/>
        </p:blipFill>
        <p:spPr>
          <a:xfrm>
            <a:off x="304920" y="1523880"/>
            <a:ext cx="2895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33"/>
                </a:solidFill>
                <a:uFillTx/>
                <a:latin typeface="Arial"/>
              </a:rPr>
              <a:t>Ихэтуа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тайное общество                « Кулак во имя мира и справедлив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BoxerSoldi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391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вшие уничтожали машины, рубили телеграфные столбы, ломали захваченные оружия, разбирали железные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File:Boxer-tianjing-left.jpeg"/>
          <p:cNvPicPr/>
          <p:nvPr/>
        </p:nvPicPr>
        <p:blipFill>
          <a:blip r:embed="rId2"/>
          <a:stretch/>
        </p:blipFill>
        <p:spPr>
          <a:xfrm>
            <a:off x="228600" y="1523880"/>
            <a:ext cx="424512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6095880"/>
            <a:ext cx="441972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этуани в Тяньц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знь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File:Execution of Boxer leaders at Hsi-Kou 1900-1901.jpg"/>
          <p:cNvPicPr/>
          <p:nvPr/>
        </p:nvPicPr>
        <p:blipFill>
          <a:blip r:embed="rId2"/>
          <a:stretch/>
        </p:blipFill>
        <p:spPr>
          <a:xfrm>
            <a:off x="457200" y="144792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File:BoxerTroops.jpg"/>
          <p:cNvPicPr/>
          <p:nvPr/>
        </p:nvPicPr>
        <p:blipFill>
          <a:blip r:embed="rId2"/>
          <a:stretch/>
        </p:blipFill>
        <p:spPr>
          <a:xfrm>
            <a:off x="457200" y="1447920"/>
            <a:ext cx="815328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6095880"/>
            <a:ext cx="845820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ружённые силы альянса восьми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Открытие Китая» « Опиумный войны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ижение тайп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рс на политику самоуси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ираемый на части Ки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100 дней реформ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ние ихэту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Новая политика» Цы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Новая политика» Цы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28-229 и докажите примерами, что в Китае действительно начались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File:Empress Dowager Cixi (c. 1890).jpg"/>
          <p:cNvPicPr/>
          <p:nvPr/>
        </p:nvPicPr>
        <p:blipFill>
          <a:blip r:embed="rId2"/>
          <a:stretch/>
        </p:blipFill>
        <p:spPr>
          <a:xfrm>
            <a:off x="228600" y="1523880"/>
            <a:ext cx="362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гра « Крестики-но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28, записи, вопросы 4 или 5 письм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cw.mit.edu/ans7870/21f/21f.027/opium_wars_01/image/a_1824_PZ0240_Lintin_n702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.holachina.net/wp-content/uploads/2009/03/chinese-opium-smoker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my-article.net/data/files/tinymce/68/img/aj/aj/as/as/as/ad/af/as/0001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D0%A2%D0%B0%D0%B9%D0%BF%D0%B8%D0%BD%D1%81%D0%BA%D0%BE%D0%B5_%D0%B2%D0%BE%D1%81%D1%81%D1%82%D0%B0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mmons.wikimedia.org/wiki/File:Empress_Dowager_Cixi_(c._1890).jpg?uselang=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644 году Пекин был завоёван маньчжу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сти, боясь колонизаторской политики европейских государств и разрушения традиций                      « закрыли» страну для европ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войны китая"/>
          <p:cNvPicPr/>
          <p:nvPr/>
        </p:nvPicPr>
        <p:blipFill>
          <a:blip r:embed="rId2"/>
          <a:stretch/>
        </p:blipFill>
        <p:spPr>
          <a:xfrm>
            <a:off x="380880" y="1266840"/>
            <a:ext cx="4038840" cy="279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3962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ля с Великобританией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орт чая и шелка, импорт опи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чайный куст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269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2760" y="4267080"/>
            <a:ext cx="2247840" cy="224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4267080"/>
            <a:ext cx="2381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столкновение китайского народа с европейскими державами вылилось в опиумные войны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40-1842 и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56 – 186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Опиумные войны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038480" cy="26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962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670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Итогом войн ста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ия получила Гонк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странцы – право торговать в важнейших по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ешался ввоз опи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е подданные освобождались от подчинения китайским на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активная кол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пиумные во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809880" cy="250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88620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умайте, почему Китай проиграл эти « опиумные»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поражение Китая обозначало крах маньчжурской динас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Опиумные»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3880"/>
            <a:ext cx="80010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начала дви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2590920"/>
            <a:ext cx="71424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124080"/>
            <a:ext cx="8686800" cy="327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ажение в опиумных вой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земелие кресть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щение земельных 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ромные нал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соответствие идеям конфуци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ем движения был сельский учитель, выходец из крестьян. Хорошо знавший жизнь народа. Он утверждал о том, что Бог поручил ему избавить Китай от дьявола( династии Цин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File:Hong Xiuquan.jpg"/>
          <p:cNvPicPr/>
          <p:nvPr/>
        </p:nvPicPr>
        <p:blipFill>
          <a:blip r:embed="rId2"/>
          <a:stretch/>
        </p:blipFill>
        <p:spPr>
          <a:xfrm>
            <a:off x="228600" y="15238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5T18:01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