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CE8D-5495-474E-A04F-5BEE0CD17B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оизмененный побе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яет собой орган растения, у которого форма и функция стебля, почек и листьев необратимо изменены в процессе эволюционных приспособлений к определенным условиям существования организма. У культурных растений видоизменение побега обусловлено вмешательство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морфозы побега могут быть как незначительными, так и существенными – до сильно измененных форм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морфозам подвергаются как главные, так и боковые побеги, а также почки и ли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BA11-77F8-4C46-A82D-43A2094659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евдобульба, или ложная луковица, или туберидий, или надземный клубень, или воздушный клубен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утолщённая верхушечная часть стебля у представителей семейства орхидных (Orchidaceae), характерный орган эпифитных представителей этого семе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ит растениям в качестве особого органа для хранения воды и питательных вещест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ECE1-B4E4-4E1B-8800-7EEF50B603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осполнения недостало питательных веществ в почве и прежде всего недостатка азота у насекомоядных растений (росянки круглолистной, пузырчатки обыкновенной, непентеса гибридного и др.) образуются видоизмененные листья —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вчие  аппар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AD18-3065-49F8-81AD-09F0B13657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идоизмененными побегами считаются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ская шишка - видоизмененный побег в виде маленькой красной шишечки, развивающейся на концах ветвей. 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ая шишка - видоизмененный побег в виде маленькой желтой шишечки, На чешуйках мужских шишек находятся пыльцевые мешки, где развивается пыльца, имеющая два воздушных пузыр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3095-879B-421C-8DE9-6C8D2610B4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идоизмененными побегами считаются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ская шишка - видоизмененный побег в виде маленькой красной шишечки, развивающейся на концах ветвей. 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ая шишка - видоизмененный побег в виде маленькой желтой шишечки, На чешуйках мужских шишек находятся пыльцевые мешки, где развивается пыльца, имеющая два воздушных пузыр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F8A1-AACF-4F42-A353-BA6485AC82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яду с типичными побегами, у которых листья осуществляют фотосинтез, а стебли обеспечивают наиболее целесообразное размещение листьев в пространстве, у растений часто развиваются видоизмененные побе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енные надземные побеги характерны для многих растений. При этом видоизменяются как отдельные части побега (стебель, листья, почки), так и побег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ёнными называются такие побеги, которые выполняют некоторые дополнительные функции: защита, лазание, запасание питательных вещест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идоизменённым побегам относят колючки, усики, клубни, сочные побеги, столоны, побеги насекомоядных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1309-318A-4DBA-AC56-E10C122680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ольно распространенными видоизменениями частей побега 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люч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некоторых растений в колючки превращаются листья (у барбариса, кактусов), прилистники (у белой акации) или черешок листа после опадения листовой пластинки (у астрагалов). У боярышника, жостера, дикой яблони, дикой груши в колючку преобразовывается стебель некоторых боковых побе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A225-C616-4BCC-B2ED-794AE511C4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к – это побег метамерной структуры без листьев, имеющий жгутовидную форму с разветвлениями или без них. Благодаря наличию стеблевых усиков, растение получает дополнительную опору. Выпрямленный участок усика без разветвлений является первым междоузлием пазушного побега, а закрученный более тонкий участок является видоизмененным листом. Усики развиваются у растений, которые не способны самостоятельно находиться в вертикальном положении. Усики есть у страстоцвета голубого, винограда, у многих представителей семейства Тыквенные (тыква, арбуз, дыня, огурец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FC41-CB60-4C0D-86D7-1F951AC9D0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додий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енный уплощенный стебель ряда растений, не имеющих настоящих листьев или их быстро сбрасывающ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одий выполняет функцию листьев (функцию фотосинтеза). Например, у кактусов опун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одий представляет собой боковой побег, подвергшийся видоизменению, который способен к продолжительному росту и имеющий зеленые уплощенные длинные стебли, берущие на себя функции листьев. Кладодий выполняет функцию фотосинтеза, так как под эпидермой расположены отлично развитые хлорофиллоносные клетки. К группе растений, имеющих кладодий, относят кактус-декабрист, опунцию, мюленбекию плоскоцветочную, кармихелию юж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7E59-5C62-4886-85D9-EEBFF811E0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локлад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видоизмененным плоским листовидным боковым побегом, который имеет ограниченный рост и выполняет роль листа в жизни растения. Боковые почки побега дают начало филлокладиям, в связи с чем, филлокладии всегда расположены в пазухах маленьких чешуевидных или пленчатых листьев. Такие видоизмененные побеги выполняют функцию фотосинтеза, поэтому внешне выглядят как листья. Их рост ограничен, а метамерной структуры строения нет. Филлокладии присущи таким растениям, как филлантус, смела, иглица, некоторым представителям рода Спар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308A-701F-4237-915E-E1132BFA1F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с видоизмененными побегами наиболее часто встречаются в засушливых районах, где ощущается недостаток влаги, и поэтому у вегетативных органов растений начинает преобладать функция запасания воды. Растения с такими побегами называ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уккулен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ч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суккулентный орган, образующийся у обычной культурной капусты. Приспособительная форма кочана возникла как видоизменение части розетки. у обыкновенной, или кочанной, капусты образу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чан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оящий из короткого стебля с многочисленными толстыми, перекрывающими друг друга листьями, почти лишенными хлоропластов. Кочан по существу представляет собой метаморфизированную гигантскую почку, т. е. зачаточный побе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44E4-C383-48D5-80A3-2E94275E93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ные побеги (суккулентные) – приспособление растений к жаркому и сухому климату. Их функция – запасать влагу. Вода может накапливаться в листьях (очиток, молодило, алоэ) или в стебле (молочай, кактус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ксиканские кактусы имеют мясистые стебли самой разнообразной формы: ребристые шары, колонны, цилиндры, даже канделябры и лепёшки. У кактусов нет зелёных листьев: они превратились в пучки колючек. Функцию фотосинтеза выполняют стеб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3BEF-0004-4F4B-8BB0-78E5FFACE3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fsdhn ifez iez 6754 fg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62444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ge </a:t>
            </a:r>
            <a:fld id="{93676BC0-1448-4284-9525-7AA18A48ED0F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89;&#1077;&#1074;&#1076;&#1086;&#1073;&#1091;&#1083;&#1100;&#1073;&#1072;%20&#1091;%20&#1086;&#1088;&#1093;&#1080;&#1076;&#1085;&#1099;&#1093;%20&#1092;&#1086;&#1090;&#1086;&amp;fp=0&amp;pos=2&amp;uinfo=ww-1349-wh-612-fw-1124-fh-448-pd-1&amp;rpt=simage&amp;img_url=http%3A%2F%2Fwww.fermer1.ru%2Fsites%2Fdefault%2Ffiles%2Fimagecache%2F500x500%2Fwysiwyg_imageupload%2F3220%2F080e4ca5f93d4c65eaea5eb97bf159bd.jp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2/20/2007-03-20CChlorophytum_comosum_Bonnie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88;&#1086;&#1089;&#1103;&#1085;&#1082;&#1080;%20&#1082;&#1088;&#1091;&#1075;&#1083;&#1086;&#1083;&#1080;&#1089;&#1090;&#1085;&#1086;&#1081;&amp;fp=0&amp;img_url=http%3A%2F%2Fclub.foto.ru%2Fgallery%2Fimages%2Fphoto%2F2007%2F12%2F12%2F1004993.jpg&amp;pos=15&amp;uinfo=ww-1349-wh-612-fw-1124-fh-448-pd-1&amp;rpt=simage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yandex.ru/yandsearch?text=&#1092;&#1086;&#1090;&#1086;%20&#1087;&#1091;&#1079;&#1099;&#1088;&#1095;&#1072;&#1090;&#1082;&#1072;%20&#1086;&#1073;&#1099;&#1082;&#1085;&#1086;&#1074;&#1077;&#1085;&#1085;&#1072;&#1103;&amp;fp=0&amp;img_url=http%3A%2F%2Fmolbiol.ru%2Fforums%2Fuploads%2Fa001%2Fb015%2Fpost-17068-1183295235.jpg&amp;pos=14&amp;uinfo=ww-1349-wh-612-fw-1124-fh-448-pd-1&amp;rpt=simage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yandex.ru/yandsearch?text=&#1092;&#1086;&#1090;&#1086;%20&#1085;&#1077;&#1087;&#1077;&#1085;&#1090;&#1077;&#1089;%20&#1075;&#1080;&#1073;&#1088;&#1080;&#1076;&#1085;&#1099;&#1081;&amp;fp=0&amp;pos=1&amp;uinfo=ww-1349-wh-612-fw-1124-fh-448-pd-1&amp;rpt=simage&amp;img_url=http%3A%2F%2Fcs3.a5.ru%2Fmedia%2Fc0%2F67%2F8f%2F512_c0678f4a6636180b5c232e05ca31308d.jpg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78;&#1077;&#1085;&#1089;&#1082;&#1072;&#1103;%20&#1080;%20&#1084;&#1091;&#1078;&#1089;&#1082;&#1072;&#1103;%20&#1096;&#1080;&#1096;&#1082;&#1072;%20&#1077;&#1083;&#1080;&amp;fp=0&amp;img_url=http%3A%2F%2Fimg1.liveinternet.ru%2Fimages%2Fattach%2Fc%2F8%2F100%2F817%2F100817863_tsvetushayaelzhenskieshishki.jpg&amp;pos=3&amp;uinfo=ww-1349-wh-612-fw-1124-fh-448-pd-1&amp;rpt=simage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%20&#1084;&#1091;&#1078;&#1089;&#1082;&#1072;&#1103;%20&#1096;&#1080;&#1096;&#1082;&#1072;%20&#1077;&#1083;&#1080;&amp;fp=0&amp;pos=23&amp;uinfo=ww-1349-wh-612-fw-1124-fh-448-pd-1&amp;rpt=simage&amp;img_url=http%3A%2F%2Fwww.murman.ru%2Fflora%2Fpictures%2Fp100046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86;&#1083;&#1102;&#1095;&#1082;&#1080;%20&#1073;&#1072;&#1088;&#1073;&#1072;&#1088;&#1080;&#1089;&#1072;%20&#1080;%20&#1082;&#1072;&#1082;&#1090;&#1091;&#1089;&#1072;&amp;fp=0&amp;pos=0&amp;uinfo=ww-1349-wh-612-fw-1124-fh-448-pd-1&amp;rpt=simage&amp;img_url=http%3A%2F%2Fppt4web.ru%2Fimages%2F8%2F7513%2F310%2Fimg26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yandex.ru/yandsearch?text=&#1087;&#1088;&#1080;&#1083;&#1080;&#1089;&#1090;&#1085;&#1080;&#1082;&#1080;%20&#1073;&#1077;&#1083;&#1086;&#1081;%20&#1072;&#1082;&#1072;&#1094;&#1080;&#1080;&amp;fp=0&amp;pos=3&amp;uinfo=ww-1349-wh-612-fw-1124-fh-448-pd-1&amp;rpt=simage&amp;img_url=http%3A%2F%2Fmedicalherbs.sci-lib.com%2Fimages%2Fmedherb004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yandex.ru/yandsearch?text=&#1095;&#1077;&#1088;&#1077;&#1096;&#1086;&#1082;%20&#1072;&#1089;&#1090;&#1088;&#1072;&#1075;&#1072;&#1083;&#1072;%20&amp;fp=0&amp;pos=4&amp;uinfo=ww-1349-wh-612-fw-1124-fh-448-pd-1&amp;rpt=simage&amp;img_url=http%3A%2F%2Fbioaktivlife.dir.bg%2F_files%2Ft1_5194576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yandex.ru/yandsearch?p=2&amp;text=&#1103;&#1073;&#1083;&#1086;&#1085;&#1103;%20&#1092;&#1086;&#1090;&#1086;%20&#1082;&#1086;&#1083;&#1102;&#1095;&#1082;&#1080;&amp;fp=2&amp;pos=71&amp;uinfo=ww-1349-wh-612-fw-1124-fh-448-pd-1&amp;rpt=simage&amp;img_url=http%3A%2F%2Fimg.encyc.yandex.net%2Fillustrations%2Fbse%2Fpictures%2F02297%2F509470-95x96_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d/da/Kurgiv&#228;&#228;t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92;&#1086;&#1090;&#1086;%20&#1082;&#1072;&#1082;&#1090;&#1091;&#1089;%20&#1076;&#1077;&#1082;&#1072;&#1073;&#1088;&#1080;&#1089;&#1090;&amp;fp=1&amp;pos=55&amp;uinfo=ww-1349-wh-612-fw-1124-fh-448-pd-1&amp;rpt=simage&amp;img_url=http%3A%2F%2Frastimdoma.ru%2Ffiles%2Fimagecache%2Ffoto%2FIMG_2290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6/6d/Ruscus_aculeatus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a/a2/Red_cabbage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2;&#1072;&#1082;&#1090;&#1091;&#1089;&#1099;%20&#1092;&#1086;&#1090;&#1086;&amp;fp=1&amp;pos=33&amp;uinfo=ww-1349-wh-612-fw-1124-fh-448-pd-1&amp;rpt=simage&amp;img_url=http%3A%2F%2F1001fact.ru%2Fwp-content%2Fuploads%2F2012%2F04%2FEchinocactus-grusonii2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yandex.ru/yandsearch?text=&#1072;&#1083;&#1086;&#1101;%20&#1092;&#1086;&#1090;&#1086;&amp;fp=0&amp;pos=2&amp;uinfo=ww-1349-wh-612-fw-1124-fh-448-pd-1&amp;rpt=simage&amp;img_url=http%3A%2F%2Fy.delfi.ua%2Forig%2F15252%2F417462_Sbj8Oh.jpe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yandex.ru/yandsearch?text=&#1084;&#1086;&#1083;&#1086;&#1076;&#1080;&#1083;&#1086;%20&#1092;&#1086;&#1090;&#1086;&amp;fp=0&amp;pos=4&amp;uinfo=ww-1349-wh-612-fw-1124-fh-448-pd-1&amp;rpt=simage&amp;img_url=http%3A%2F%2Fstatic.eva.ru%2Feva%2F110001-120000%2F112607%2Fcontest%2F123902.jpg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7" descr="nfv gfoj rze765 fjs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468360" y="2631960"/>
            <a:ext cx="82072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идоизменённые надземные побе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195640" y="5373720"/>
            <a:ext cx="69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читель биологии и эколо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ГБОУ СОШ №782 г. 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омнина Галина Никола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0" y="0"/>
            <a:ext cx="91440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севдобульб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ли ложная луковица 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www.fermer1.ru/sites/default/files/imagecache/500x500/wysiwyg_imageupload/3220/080e4ca5f93d4c65eaea5eb97bf159b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557360"/>
            <a:ext cx="5688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ile:2007-03-20CChlorophytum comosum Bonni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0"/>
            <a:ext cx="510048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0" y="559584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толо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хлорофитум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Chlorophytum comos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Bonni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0" y="2602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Ловчие аппар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im6-tub-ru.yandex.net/i?id=493052404-4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125360"/>
            <a:ext cx="3057480" cy="251964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0" y="3429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янка  круглолис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http://im2-tub-ru.yandex.net/i?id=52391647-20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933720"/>
            <a:ext cx="2519280" cy="25196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5"/>
          <p:cNvSpPr/>
          <p:nvPr/>
        </p:nvSpPr>
        <p:spPr>
          <a:xfrm>
            <a:off x="0" y="639612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зырчатка  обыкно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://www.varbak.com/galeri/et%E7il-bitkiler-b2059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1916280"/>
            <a:ext cx="2914560" cy="38862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7"/>
          <p:cNvSpPr/>
          <p:nvPr/>
        </p:nvSpPr>
        <p:spPr>
          <a:xfrm>
            <a:off x="4732560" y="595008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ентес гибрид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0" y="0"/>
            <a:ext cx="442764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Женская шиш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оизменённый побег в виде маленькой красной шишечки, развивающейся на концах ветв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im6-tub-ru.yandex.net/i?id=424151301-56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2852640"/>
            <a:ext cx="5186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0" y="0"/>
            <a:ext cx="442764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Мужская шиш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идоизменённый побе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иде малень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ёлтой шише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шуйках мужских шишек находятся пыльцевые мешки, где развивается пыльца, имеющая два воздушных пузырь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http://www.murman.ru/flora/pictures/p10004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3213000"/>
            <a:ext cx="53816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сный мир растен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eaplanet.ru/stebel_rasteniya/vidoizmenennye_pobegi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файл – научно – информационный журна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iofile.ru/bio/3589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bio.info/page.php?id=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писок литературы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циклопедия для детей. Биология. М., Аванта +, 199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тельная ботаника. А.Теремов, В. Рохлов, Книга для учащихся, учителей и родителей, – М., АСТ_ПРЕСС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765000"/>
            <a:ext cx="7885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идоизменённые надземные побеги характерны для многих растений. При этом видоизменяются как отдельные части побега (стебель, листья, почки), так и побег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оизменёнными называются такие побеги, которые выполняют некоторые дополнительные функции: защита, лазание, запасание питательных веществ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 видоизменённым побегам относят колючки, усики, кладодий, филлокладий, клубни, сочные суккулентные побеги, псевдобульба, или ложная луковица, столоны,  побеги насекомоядных растений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http://oo3e.mail.yandex.net/static/86b29e1c19e04fdbb55d6edc43a8bc28/tmpo_dvoq_html_m69293d2c.jpg"/>
          <p:cNvPicPr/>
          <p:nvPr/>
        </p:nvPicPr>
        <p:blipFill>
          <a:blip r:embed="rId1"/>
          <a:stretch/>
        </p:blipFill>
        <p:spPr>
          <a:xfrm>
            <a:off x="0" y="1989000"/>
            <a:ext cx="9117000" cy="4824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-21240"/>
            <a:ext cx="91440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Надземные  видоизменения  побе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– стеблевой суккулент; 2 – колючка; 3 – филлокладий иглицы; 4 – кладодий спаржи; 5 – почка капусты; 6 – столоны земляники; 7 – ус винограда; 8 – укороченный побег виш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 – цветочная стрелка одуванч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049120" y="260280"/>
            <a:ext cx="25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олючки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ppt4web.ru/images/8/7513/310/img2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870360"/>
            <a:ext cx="3992400" cy="298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ww.mastersoul.ru/p/N1343394677527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1125360"/>
            <a:ext cx="2523960" cy="38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herbalisthealer.ru/images/image075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15120" y="2421000"/>
            <a:ext cx="2828880" cy="3886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6592320" y="630864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траг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http://thelib.ru/books/00/10/57/00105743/i009-001-229750947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1268280"/>
            <a:ext cx="33480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1764720" y="260280"/>
            <a:ext cx="31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Усик огур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File:Kurgivää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ладодий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актуса декабр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moicvet.ru/wp-content/uploads/2011/04/zigokaktus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125360"/>
            <a:ext cx="71992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ile:Ruscus aculeat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395280" y="559584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Филлокладии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иглиц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Ruscus aculeat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ile:Red cabbag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0"/>
            <a:ext cx="4932360" cy="4932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460880" y="5084640"/>
            <a:ext cx="621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чные побег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оча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апуст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Brassica olerac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lampa4ka.users.photofile.ru/photo/lampa4ka/4077097/xlarge/10401442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im5-tub-ru.yandex.net/i?id=293816289-32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5493960" y="404640"/>
            <a:ext cx="36356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ч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обег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(суккуленты)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http://static.eva.ru/eva/110001-120000/112607/contest/12390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6158880" y="623736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о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"/>
          <p:cNvSpPr/>
          <p:nvPr/>
        </p:nvSpPr>
        <p:spPr>
          <a:xfrm>
            <a:off x="1763640" y="623736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лоди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2926800" y="9079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т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Наталья</cp:lastModifiedBy>
  <dcterms:modified xsi:type="dcterms:W3CDTF">2013-11-21T18:12:31Z</dcterms:modified>
  <cp:revision>97</cp:revision>
  <dc:subject/>
  <dc:title>Colorful Spring Flowers</dc:title>
</cp:coreProperties>
</file>