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70F-36AB-4A49-9F62-86237364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E2C-12B2-4124-82E4-2205AB61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708-8F63-435D-A690-C9A667EE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E5C-0E2A-4746-AA5A-02D4160F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FF84-5726-4AB2-B3CC-CFBC4218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F42E-9A9A-4014-B712-65E0C968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6850-0ABF-460B-B14B-249874EA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1A79-952F-4410-BC71-AF52B7FB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0FAD-0E54-46F2-8115-8D39D925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AD60-D820-41A3-AE46-A90453C7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7DD7-CF15-478A-868B-8E8E1DA2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835-3F38-4470-9C1A-5A2F501A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968C-E8D2-4336-9CB1-7D4EBB31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7808-4532-4089-8BBC-0F4FA6BF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6F93-6FF9-468A-96B0-2D45E764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7F87-84B7-4451-8DDD-428CD570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C6C0-29DE-4A00-80AC-D6C31FCC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1E05-0806-44D0-99F3-F792B14D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6DE-2CFB-42A0-B1A2-288FA55F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1335-3674-4241-AE9C-11BCCE93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2FAC-06A8-4C9D-B5BA-36AF0B52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6981-AC3D-462A-BA48-B8D15BE0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D8C3-39BD-499C-9C2C-72DE71B3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2946-73D2-457A-8307-B3C158F0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B994-D8D6-4CA3-8102-E7099BA6E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B94C-932B-4A73-BE28-934A3B29D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block" TargetMode="External"/><Relationship Id="rId2" Type="http://schemas.openxmlformats.org/officeDocument/2006/relationships/hyperlink" Target="file:///block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КЛЕТКИ - ОСНОВНЫЕ 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0" y="3789360"/>
            <a:ext cx="411480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БОУ «Большесосновская СОШ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алева Елена Серг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кз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ЗМАТИЧЕСКАЯ МЕМБРАН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043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слой липидов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дящимися в не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ка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аничивающий клет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арьер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тгараживает внутреннюю среду клетки от внеш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итатель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поглащает питательные вещества в виде капель(пиноцитоз), частиц(фагоцитоз) или путем диффуз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 rot="13710600">
            <a:off x="5900400" y="5753880"/>
            <a:ext cx="1428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ИТОПЛАЗМ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нутренняя сре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беспечива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еятельнос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 как един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й резервуар, окруженный двумя слоями мембран, пронизанных ядерными порами. Внутри находится ядерный сок, хромосомы (состоят из ДНК и белка) и ядрышки ( состоят из РНК и бел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ранение генетичес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формации и синт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3280" y="3716280"/>
            <a:ext cx="4032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альные тельц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щие из двух сло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мбраны: внешне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ладкого) и внутренне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разует складки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ст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9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АТФ п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ыхании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27986"/>
          <a:stretch/>
        </p:blipFill>
        <p:spPr>
          <a:xfrm>
            <a:off x="4248000" y="4616280"/>
            <a:ext cx="43563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плекс замкнут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зервуар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положенный вблиз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яд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жиров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лисахарид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анспорт веществ и 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креция, образ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зос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6652" t="16206" r="6652" b="20771"/>
          <a:stretch/>
        </p:blipFill>
        <p:spPr>
          <a:xfrm>
            <a:off x="4427640" y="4724280"/>
            <a:ext cx="4176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388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е мембран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льца, содержа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ермен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цепляю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ые веще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0072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вари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упающих в к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тательных веществ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разруш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мирающих клет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87640" y="4411800"/>
            <a:ext cx="37450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26d18"/>
                </a:solidFill>
                <a:latin typeface="Times New Roman"/>
              </a:rPr>
              <a:t>ЖИВОТНАЯ И РАСТИТЕЛЬНАЯ  КЛЕТК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140000" cy="5589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451400" y="1268280"/>
            <a:ext cx="4441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ХЛОР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стиды: хлоропласты, хромопласты, лейк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е органе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ой окрас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еле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ес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2920" y="1196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тосинтет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ас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гут переходить др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друга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42920" y="4653000"/>
            <a:ext cx="3313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ВЫВОД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Функции органоидо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ложны и многообразны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ни играют для клетки ту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же роль, что и органы дл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целого организм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883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Домашнее задание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нать строение органоидов и их функ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тгадать кроссворд по теме «Строение клет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исьменно ответить на три вопроса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полнительное задан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писок используемых источников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биология 2.6. ООО «Физикон» 2000-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ак, с чего же мы начнем, мистер Сайрес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– спросил Пенкроф на следующее утр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 самого начала, - ответил Сайрес См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юль Вер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то открыл клет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Роберт Гук 1663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 называется наука о клет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Цит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1081080" cy="91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812000" y="2421000"/>
            <a:ext cx="1081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457200" y="-5399280"/>
            <a:ext cx="457200" cy="1045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рганоидами называю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постоянно присутствующие 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клетке структуры, которы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выполняют строго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пределенные функци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мбранны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ЭП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мплекс Гольдж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Лиз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итохонд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мембран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иб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цитоскел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очный цент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47280" y="907920"/>
            <a:ext cx="15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9079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907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48360" y="9079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МЕМБРАН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нд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1025640"/>
            <a:ext cx="914400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17:46Z</dcterms:created>
  <dc:creator>Гуляев Сергей Павлович</dc:creator>
  <dc:description/>
  <dc:language>en-US</dc:language>
  <cp:lastModifiedBy>Горгаз</cp:lastModifiedBy>
  <dcterms:modified xsi:type="dcterms:W3CDTF">2013-11-11T10:10:55Z</dcterms:modified>
  <cp:revision>21</cp:revision>
  <dc:subject/>
  <dc:title>СТРОЕНИЕ КЛЕТКИ:  ОСНОВНЫЕ   ОРГАНОИДЫ</dc:title>
</cp:coreProperties>
</file>