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0A2-BEAA-4368-88DA-3C3AD25B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A7B-7A00-4FE8-AA49-3E0F8C5D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1BC-7458-4C2A-9FE9-4930CEAE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E46-6C73-4520-AF21-C00D6459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48B5-CD60-49C2-882B-1E069B4E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1F77-A281-417E-9F36-09123E09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BFC0-6627-4D4F-A682-B934402B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73F3-83B2-467D-AA09-F9870565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8814-1498-43A1-BA25-7B03F4FE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9B65-E716-47D8-8DD7-9BA650B8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76B0-AEBF-4FE6-B0E5-DB89E9F3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B83-F946-480C-8036-F4B8B6BD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37AC-DEEB-4DAF-8B98-0D5E93D6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5DC3-40C5-4E0F-8A87-00E168BE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C682-61CC-463C-B829-DA783F4F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934E-5E7E-4B27-9590-30D8379F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343E-F783-4A95-86BF-51107505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47C-B210-4384-A548-F28D917F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93E-C143-42D9-A0F1-175DD17B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A3E-0BB4-458D-AEC5-7A2E567D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18E-6AAB-4584-8E63-8E43EF79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92F7-8A57-4EB8-9785-06B981D2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EAD-342C-418C-BBA7-1EC85189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DC8-F9B9-48C1-A91E-81E90CF3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4A45-DF02-4EAD-AA99-8DA5F8790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9303-1996-49AA-B499-BB0EA3769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lock" TargetMode="External"/><Relationship Id="rId2" Type="http://schemas.openxmlformats.org/officeDocument/2006/relationships/hyperlink" Target="file:///block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КЛЕТКИ - ОСНОВНЫЕ 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0" y="3789360"/>
            <a:ext cx="41148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БОУ «Большесоснов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алева Елена Серг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кз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ЗМАТИЧЕСКАЯ МЕМБРАН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043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слой липидов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ящимися в н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ивающий кле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рье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тгараживает внутреннюю среду клетки от внеш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глащает питательные вещества в виде капель(пиноцитоз), частиц(фагоцитоз) или путем диффу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13710600">
            <a:off x="5900400" y="5753880"/>
            <a:ext cx="1428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нутренняя сре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еспечив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 как еди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й резервуар, окруженный двумя слоями мембран, пронизанных ядерными порами. Внутри находится ядерный сок, хромосомы (состоят из ДНК и белка) и ядрышки ( состоят из РНК и бел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ранение генет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и и синт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40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альные тельц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щие из двух сло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ы: внеш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адкого) и внутрен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разует складки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АТФ 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ыхании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27986"/>
          <a:stretch/>
        </p:blipFill>
        <p:spPr>
          <a:xfrm>
            <a:off x="4248000" y="4616280"/>
            <a:ext cx="43563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лекс замкнут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ервуар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положенный вблиз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д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жиров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исахари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анспорт веществ и 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креция, образ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6652" t="16206" r="6652" b="20771"/>
          <a:stretch/>
        </p:blipFill>
        <p:spPr>
          <a:xfrm>
            <a:off x="4427640" y="4724280"/>
            <a:ext cx="4176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3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е мембра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льца, содержа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ермен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цепляю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ые ве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007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вари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упающих в к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тательных вещест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разру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мирающих кле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4411800"/>
            <a:ext cx="3745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26d18"/>
                </a:solidFill>
                <a:latin typeface="Times New Roman"/>
              </a:rPr>
              <a:t>ЖИВОТНАЯ И РАСТИТЕЛЬНАЯ  КЛЕТК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40000" cy="5589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51400" y="1268280"/>
            <a:ext cx="444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ХЛОР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стиды: хлоропласты, хромопласты, лейк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е органе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ой о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ел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ес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тосинте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гут переходить д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руга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4653000"/>
            <a:ext cx="3313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ункции органоидо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жны и многообразны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ни играют для клетки т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е роль, что и органы дл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целого организм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88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нать строение органоидов и их функ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тгадать кроссворд по теме «Строение клет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исьменно ответить на три вопрос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олнительное зада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писок используемых источников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биология 2.6. ООО «Физикон» 2000-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ак, с чего же мы начнем, мистер Сайре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спросил Пенкроф на следующее ут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самого начала, - ответил Сайрес См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юль Вер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открыл кле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берт Гук 1663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называется наука о кл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Цит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1081080" cy="91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812000" y="2421000"/>
            <a:ext cx="1081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457200" y="-5399280"/>
            <a:ext cx="4572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рганоидами называю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стоянно присутствующие 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клетке структуры, которы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ыполняют стр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пределенные функ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мбранн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П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лекс Гольдж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из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мемб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ске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очный цен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47280" y="90792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907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МЕМБРАН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нд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1025640"/>
            <a:ext cx="914400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17:46Z</dcterms:created>
  <dc:creator>Гуляев Сергей Павлович</dc:creator>
  <dc:description/>
  <dc:language>en-US</dc:language>
  <cp:lastModifiedBy>Горгаз</cp:lastModifiedBy>
  <dcterms:modified xsi:type="dcterms:W3CDTF">2013-11-11T10:10:55Z</dcterms:modified>
  <cp:revision>21</cp:revision>
  <dc:subject/>
  <dc:title>СТРОЕНИЕ КЛЕТКИ:  ОСНОВНЫЕ   ОРГАНОИДЫ</dc:title>
</cp:coreProperties>
</file>