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gif" ContentType="image/gif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1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2F91-986E-4BD9-A5CC-6EF1DE597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B2A7-4F10-416B-952E-562AF1DF4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5D6E-5972-4592-BE7A-4F8FCEBA9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E40B-314B-4613-A0BB-E1A55A189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79550-785C-4E25-A415-115C7E565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F9EB5-A678-4444-9563-FE2FB88E4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3FDE2-0BE8-4453-8C86-4DE806722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4316E-B0D8-4A0C-83DA-8A641BAFB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91705-FD09-43C5-AE18-DBA58DE3A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B48C6-C57F-48A5-BE4C-2DCC1FE0D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83E46-55F0-4D47-9295-4A9A7864F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EDB5-EBC0-4369-AB66-BFDA54AA5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42772-4084-401D-9D90-11539398F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71409-39EB-409B-865D-93393254F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BDA6D-E7BE-41EC-8CCF-97F00E20A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15AB2-0083-42DF-BE10-445088F9E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7D623-DD3B-4850-8518-FD8D3D1D9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2C90-DCCF-4FD3-998C-800DE0E86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EC86-F041-43CB-991F-64D578135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3558-432C-4C29-934B-54B8A8065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3904-AFDD-4849-BCFF-81AE52F4D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436F-EC33-4890-9EB4-3DA363AF6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19D8-1A36-4E5B-B20E-CAFFB746B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49AD-6757-4090-81BA-97CB36533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62077-003B-4EBC-9705-7D53D20E69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A524F-40E2-44BA-A5D9-CE308C70EB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block" TargetMode="External"/><Relationship Id="rId2" Type="http://schemas.openxmlformats.org/officeDocument/2006/relationships/hyperlink" Target="file:///block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СТРОЕНИЕ КЛЕТКИ - ОСНОВНЫЕ </a:t>
            </a:r>
            <a:br>
              <a:rPr sz="4000"/>
            </a:b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ОРГАНОИДЫ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0" y="3789360"/>
            <a:ext cx="4114800" cy="23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Учитель биолог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МБОУ «Большесосновская СОШ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палева Елена Сергеев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Экзоцитоз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59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ПЛАЗМАТИЧЕСКАЯ МЕМБРАНА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404316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Times New Roman"/>
              </a:rPr>
              <a:t>СТРОЕНИ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ислой липидов с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ходящимися в нем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елками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граничивающий клетк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48320" y="1267920"/>
            <a:ext cx="40384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Times New Roman"/>
              </a:rPr>
              <a:t>ФУНКЦИ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Барьерна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отгараживает внутреннюю среду клетки от внешне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Питательная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– поглащает питательные вещества в виде капель(пиноцитоз), частиц(фагоцитоз) или путем диффуз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 rot="13710600">
            <a:off x="5900400" y="5753880"/>
            <a:ext cx="142884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ЦИТОПЛАЗМА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СТРО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Внутренняя среда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клетк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ФУНК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Обеспечивае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деятельность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клетки как единой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систем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ЯДРО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ЯДРО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СТРО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Замкнутый резервуар, окруженный двумя слоями мембран, пронизанных ядерными порами. Внутри находится ядерный сок, хромосомы (состоят из ДНК и белка) и ядрышки ( состоят из РНК и белка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48320" y="1483920"/>
            <a:ext cx="403848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ФУНК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Хранение генетической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информации и синтез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РН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4643280" y="3716280"/>
            <a:ext cx="403236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a26d18"/>
                </a:solidFill>
                <a:latin typeface="Times New Roman"/>
              </a:rPr>
              <a:t>МИТОХОНДРИЯ</a:t>
            </a:r>
            <a:endParaRPr b="1" lang="en-US" sz="48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849600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МИТОХОНДРИЯ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СТРО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вальные тельца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стоящие из двух слоев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ембраны: внешнего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гладкого) и внутреннег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образует складки –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ристы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859280" y="155700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ФУНК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интез АТФ пр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дыхании, способны к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амостоятельному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делени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27986"/>
          <a:stretch/>
        </p:blipFill>
        <p:spPr>
          <a:xfrm>
            <a:off x="4248000" y="4616280"/>
            <a:ext cx="4356360" cy="19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КОМПЛЕКС ГОЛЬДЖИ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58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КОМПЛЕКС ГОЛЬДЖИ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СТРО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Комплекс замкнутых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мембранных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резервуаров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расположенный вблиз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ядр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42920" y="1628640"/>
            <a:ext cx="403884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ФУНК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интез жиров 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олисахаридов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транспорт веществ и их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екреция, образовани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лизосо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rcRect l="6652" t="16206" r="6652" b="20771"/>
          <a:stretch/>
        </p:blipFill>
        <p:spPr>
          <a:xfrm>
            <a:off x="4427640" y="4724280"/>
            <a:ext cx="4176720" cy="17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4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ЦЕЛЬ УРОКА: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94920" y="2349000"/>
            <a:ext cx="838836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ассмотреть строени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рганоидов и определить их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функц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ЛИЗОСОМЫ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59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ЛИЗОСОМЫ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СТРО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Замкнутые мембранны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тельца, содержащи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ферменты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расцепляющи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различные веществ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клет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00720" y="90792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ФУНК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ереваривани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оступающих в клетку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итательных веществ,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аморазрушени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тмирающих клето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2987640" y="4411800"/>
            <a:ext cx="3745080" cy="24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26d18"/>
                </a:solidFill>
                <a:latin typeface="Times New Roman"/>
              </a:rPr>
              <a:t>ЖИВОТНАЯ И РАСТИТЕЛЬНАЯ  КЛЕТКА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4140000" cy="558972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4451400" y="1268280"/>
            <a:ext cx="444168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ХЛОРОПЛАСТЫ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907920"/>
            <a:ext cx="9144000" cy="59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70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Пластиды: хлоропласты, хромопласты, лейкопласты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СТРО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Мембранные органелл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различной окрас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Зелены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цветны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бесцветны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42920" y="1196640"/>
            <a:ext cx="40388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ФУНК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фотосинтетическа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запасна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могут переходить дру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 друга, способны к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амостоятельному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делени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1042920" y="4653000"/>
            <a:ext cx="3313080" cy="18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ВЫВОД: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Функции органоидов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сложны и многообразны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Они играют для клетки ту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же роль, что и органы для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целого организма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4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ЦЕЛЬ УРОКА: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94920" y="1844640"/>
            <a:ext cx="838836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Рассмотреть строение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органоидов и определить их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функции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Домашнее задание</a:t>
            </a: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 :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Знать строение органоидов и их функции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Отгадать кроссворд по теме «Строение клетки»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Письменно ответить на три вопроса (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ополнительное задание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Список используемых источников: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ткрытая биология 2.6. ООО «Физикон» 2000-2005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539640" y="476280"/>
            <a:ext cx="8229600" cy="543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Итак, с чего же мы начнем, мистер Сайрес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– спросил Пенкроф на следующее утро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С самого начала, - ответил Сайрес Смит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Жюль Вер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539640" y="1052640"/>
            <a:ext cx="822960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0000"/>
          </a:bodyPr>
          <a:p>
            <a:pPr marL="171360" indent="-17136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Кто открыл клетк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Роберт Гук 1663 г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Как называется наука о клет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Цитолог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292720" y="981000"/>
            <a:ext cx="1081080" cy="9190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7812000" y="2421000"/>
            <a:ext cx="108108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" dur="1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" dur="10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-457200" y="-5399280"/>
            <a:ext cx="457200" cy="1045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8000" y="836280"/>
            <a:ext cx="80643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Органоидами называют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постоянно присутствующие в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клетке структуры, которые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выполняют строго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определенные функции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Органоиды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Мембранные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ядр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ЭП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комплекс Гольдж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Лизосом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митохондри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Немембранны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рибосом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цитоскеле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клеточный цент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1547280" y="907920"/>
            <a:ext cx="151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47640" y="90792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84720" y="9079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948360" y="907920"/>
            <a:ext cx="0" cy="86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СТРОЕНИЕ МЕМБРАНЫ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Эндоцитоз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0" y="0"/>
          <a:ext cx="182520" cy="4947768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49477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hlinkClick r:id="rId1"/>
                        </a:rPr>
                        <a:t>  </a:t>
                      </a:r>
                      <a:r>
                        <a:rPr b="0" lang="en-US" sz="15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3" name=""/>
          <p:cNvGraphicFramePr/>
          <p:nvPr/>
        </p:nvGraphicFramePr>
        <p:xfrm>
          <a:off x="0" y="0"/>
          <a:ext cx="182520" cy="4947768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49477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hlinkClick r:id="rId2"/>
                        </a:rPr>
                        <a:t>  </a:t>
                      </a:r>
                      <a:r>
                        <a:rPr b="0" lang="en-US" sz="15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0" y="1025640"/>
            <a:ext cx="9144000" cy="60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3T11:17:46Z</dcterms:created>
  <dc:creator>Гуляев Сергей Павлович</dc:creator>
  <dc:description/>
  <dc:language>en-US</dc:language>
  <cp:lastModifiedBy>Горгаз</cp:lastModifiedBy>
  <dcterms:modified xsi:type="dcterms:W3CDTF">2013-11-11T10:10:55Z</dcterms:modified>
  <cp:revision>21</cp:revision>
  <dc:subject/>
  <dc:title>СТРОЕНИЕ КЛЕТКИ:  ОСНОВНЫЕ   ОРГАНОИДЫ</dc:title>
</cp:coreProperties>
</file>