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9A4-93FC-4D85-A570-D75D9B4B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5FB-2390-4AD0-8D93-AA32439E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EFF-F1C3-4BB0-B5B2-B4D54B9C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F03-104C-4DD0-BC88-C1F9D57B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CB71-8E08-4F56-9945-03A02B65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F7B3-CCEA-4667-81AA-2C4A0678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4834-2C74-4E01-AFA4-9FC03F5C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1732-6621-428E-A905-83F6F9D1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8967-7982-4C70-A841-FE2B26FA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F913-7F40-4D3C-B0B1-E967EEEA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0098-13D1-4A1C-998E-3516D13A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9698-33D0-4F80-A3F9-A6A6DB78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ECB7-66F1-4C20-9C6C-A82CD39E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E5E6-A09D-4584-A689-A475DA2D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F01A-B0A3-454E-8974-99C2D3A0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2DBC-975C-4430-85A0-C03F3857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75D2-9432-4239-BE60-70B01FFB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F8F2-4A6A-4132-8A6D-7F16BB32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0650-013E-46E5-B8F2-297220F4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999-D267-4A50-96BD-2DD10AF6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EF38-C15E-4DF8-B94E-5585A54E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720-CAE6-414E-8FF6-21DEE84D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EE0-1840-4C64-B68F-F2F0CEF9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523-4730-41DF-B680-BB22F6F9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A788-FB8C-4FCD-A864-5675AECF6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D64E-894B-4E02-8A5E-8143983EA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block" TargetMode="External"/><Relationship Id="rId2" Type="http://schemas.openxmlformats.org/officeDocument/2006/relationships/hyperlink" Target="file:///block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24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КЛЕТКИ - ОСНОВНЫЕ 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0" y="3789360"/>
            <a:ext cx="411480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БОУ «Большесосновская СОШ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алева Елена Серг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кз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ЗМАТИЧЕСКАЯ МЕМБРАН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04316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слой липидов 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ящимися в н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к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граничивающий клет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Барье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тгараживает внутреннюю среду клетки от внеш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итатель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поглащает питательные вещества в виде капель(пиноцитоз), частиц(фагоцитоз) или путем диффуз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 rot="13710600">
            <a:off x="5900400" y="5753880"/>
            <a:ext cx="14288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ИТОПЛАЗМ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нутренняя сре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Обеспечива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деятельнос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ки как едино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ДР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й резервуар, окруженный двумя слоями мембран, пронизанных ядерными порами. Внутри находится ядерный сок, хромосомы (состоят из ДНК и белка) и ядрышки ( состоят из РНК и белк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483920"/>
            <a:ext cx="40384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Хранение генетическ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нформации и синтез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3280" y="3716280"/>
            <a:ext cx="4032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МИТОХОНДР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альные тельц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щие из двух сло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мбраны: внешне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ладкого) и внутрен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разует складки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ст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9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АТФ п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ыхании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27986"/>
          <a:stretch/>
        </p:blipFill>
        <p:spPr>
          <a:xfrm>
            <a:off x="4248000" y="4616280"/>
            <a:ext cx="43563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КОМПЛЕКС ГОЛЬДЖ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плекс замкнут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зервуар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положенный вблиз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яд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интез жиров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лисахарид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анспорт веществ и 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креция, образо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лизос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6652" t="16206" r="6652" b="20771"/>
          <a:stretch/>
        </p:blipFill>
        <p:spPr>
          <a:xfrm>
            <a:off x="4427640" y="4724280"/>
            <a:ext cx="4176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8388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ИЗОСОМ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мкнутые мембран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льца, содержа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ермен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сцепляющ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ые веще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ле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00720" y="9079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ереварив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тупающих в клетк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итательных веществ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разруш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мирающих кле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87640" y="4411800"/>
            <a:ext cx="37450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26d18"/>
                </a:solidFill>
                <a:latin typeface="Times New Roman"/>
              </a:rPr>
              <a:t>ЖИВОТНАЯ И РАСТИТЕЛЬНАЯ  КЛЕТК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140000" cy="5589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451400" y="1268280"/>
            <a:ext cx="444168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ХЛОР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Пластиды: хлоропласты, хромопласты, лейкопласт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ТРО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ембранные органе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азличной окрас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еле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есцве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2920" y="11966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тосинтетическ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запасна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гут переходить дру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друга, способны 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амостоятельном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еле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42920" y="4653000"/>
            <a:ext cx="33130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ВЫВОД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Функции органоидо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ложны и многообразны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Они играют для клетки ту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же роль, что и органы дл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целого организма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ЦЕЛЬ УРОКА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3883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Рассмотреть строение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органоидов и определить их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Домашнее задание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 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Знать строение органоидов и их функ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Отгадать кроссворд по теме «Строение клетк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исьменно ответить на три вопроса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полнительное задан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писок используемых источников: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биология 2.6. ООО «Физикон» 2000-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ак, с чего же мы начнем, мистер Сайрес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– спросил Пенкроф на следующее утр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 самого начала, - ответил Сайрес См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юль Вер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то открыл клет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Роберт Гук 1663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 называется наука о клет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Цит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1081080" cy="91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812000" y="2421000"/>
            <a:ext cx="10810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457200" y="-5399280"/>
            <a:ext cx="457200" cy="1045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83628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рганоидами называю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постоянно присутствующие в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клетке структуры, которые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выполняют строго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пределенные функци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Органоид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мбранны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ядр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ЭП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мплекс Гольдж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Лиз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итохондр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емембранн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ибосо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цитоске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леточный цент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47280" y="907920"/>
            <a:ext cx="15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907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90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48360" y="90792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СТРОЕНИЕ МЕМБРАНЫ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Эндоцит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0" y="0"/>
          <a:ext cx="182520" cy="4947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947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"/>
                        </a:rPr>
                        <a:t>  </a:t>
                      </a:r>
                      <a:r>
                        <a:rPr b="0" lang="en-US" sz="15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1025640"/>
            <a:ext cx="9144000" cy="60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17:46Z</dcterms:created>
  <dc:creator>Гуляев Сергей Павлович</dc:creator>
  <dc:description/>
  <dc:language>en-US</dc:language>
  <cp:lastModifiedBy>Горгаз</cp:lastModifiedBy>
  <dcterms:modified xsi:type="dcterms:W3CDTF">2013-11-11T10:10:55Z</dcterms:modified>
  <cp:revision>21</cp:revision>
  <dc:subject/>
  <dc:title>СТРОЕНИЕ КЛЕТКИ:  ОСНОВНЫЕ   ОРГАНОИДЫ</dc:title>
</cp:coreProperties>
</file>