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E67-6E88-45CF-9BD8-3A9DE543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72F-7D0B-4F82-A3EB-C27E9DBF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9491-B0AF-4187-B456-29400199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5ED-BDE4-4521-91B0-2C36B8C2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3B8E-48A4-4CD3-8CD9-6B310046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AEF2-7534-46A6-B8A1-B7AE5CF4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56E5-9486-4FB6-99A6-7EBC35B9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ECEE-E86B-4C5C-9DB1-6D62C1A2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CAC3-57D8-473E-A918-096CAACE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97A5-8F88-459C-96B3-8576E1A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175A-344B-4E70-A525-77928C85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AC94-D7F1-4D8C-8359-A0EBBC85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E253-A9CA-4930-958A-B10AC1E3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2CD5-2A35-4480-A0C6-6ADB1031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03B1-7886-4E53-AAB7-D901F18C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1796-B01E-4093-9B03-D1CEA034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7797-A451-4D3B-886C-2A6E7843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1BE-037C-47A6-BEA9-20760905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758-C7E4-4774-9BD9-2A88B133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CB6-AAFE-406B-B98C-0FA16C6F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19D8-DAD9-45A8-AC53-4B6A152C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476-7229-4668-A0B1-186FF8FD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D7E8-7895-4177-91BC-21BD86EB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08D-96C6-47AD-9331-C77C49B2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89F2-4CDA-412D-A25D-222DB13708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9EF4-F215-475F-A639-AF74F2DDB3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enagold.ru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КАК ОСОБЫЙ УРОВЕНЬ ОРГАНИЗАЦИИ ЖИЗН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21" name="Picture 3" descr="Устричная банка"/>
          <p:cNvPicPr/>
          <p:nvPr/>
        </p:nvPicPr>
        <p:blipFill>
          <a:blip r:embed="rId1"/>
          <a:stretch/>
        </p:blipFill>
        <p:spPr>
          <a:xfrm>
            <a:off x="0" y="3402000"/>
            <a:ext cx="6048360" cy="3456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6156360" y="42210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географии и биологии МАОУ СОШ № 26 г. Сыктывкар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лосова Екатерина Александро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ТОП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7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а"/>
          <p:cNvPicPr/>
          <p:nvPr/>
        </p:nvPicPr>
        <p:blipFill>
          <a:blip r:embed="rId1"/>
          <a:stretch/>
        </p:blipFill>
        <p:spPr>
          <a:xfrm>
            <a:off x="395280" y="5157720"/>
            <a:ext cx="1611360" cy="12067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10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images"/>
          <p:cNvPicPr/>
          <p:nvPr/>
        </p:nvPicPr>
        <p:blipFill>
          <a:blip r:embed="rId2"/>
          <a:stretch/>
        </p:blipFill>
        <p:spPr>
          <a:xfrm>
            <a:off x="6659640" y="5084640"/>
            <a:ext cx="18730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4" name="AutoShape 6"/>
          <p:cNvSpPr/>
          <p:nvPr/>
        </p:nvSpPr>
        <p:spPr>
          <a:xfrm rot="19103400">
            <a:off x="4387320" y="2504880"/>
            <a:ext cx="505080" cy="2116080"/>
          </a:xfrm>
          <a:prstGeom prst="upDownArrow">
            <a:avLst>
              <a:gd name="adj1" fmla="val 50000"/>
              <a:gd name="adj2" fmla="val 8340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7"/>
          <p:cNvSpPr/>
          <p:nvPr/>
        </p:nvSpPr>
        <p:spPr>
          <a:xfrm>
            <a:off x="468360" y="907920"/>
            <a:ext cx="4248000" cy="208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ЦЕНО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8"/>
          <p:cNvSpPr/>
          <p:nvPr/>
        </p:nvSpPr>
        <p:spPr>
          <a:xfrm>
            <a:off x="4500720" y="4221000"/>
            <a:ext cx="4248000" cy="208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ОТО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989840" cy="30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ЦЕНОЗ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+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БИОТОП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Times New Roman"/>
              </a:rPr>
              <a:t>=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6600"/>
                </a:solidFill>
                <a:latin typeface="Times New Roman"/>
              </a:rPr>
              <a:t>БИОГЕОЦЕН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9" descr="л"/>
          <p:cNvPicPr/>
          <p:nvPr/>
        </p:nvPicPr>
        <p:blipFill>
          <a:blip r:embed="rId1"/>
          <a:stretch/>
        </p:blipFill>
        <p:spPr>
          <a:xfrm>
            <a:off x="7308720" y="4581360"/>
            <a:ext cx="1440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И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1" name="Picture 9" descr="antG05"/>
          <p:cNvPicPr/>
          <p:nvPr/>
        </p:nvPicPr>
        <p:blipFill>
          <a:blip r:embed="rId1"/>
          <a:stretch/>
        </p:blipFill>
        <p:spPr>
          <a:xfrm>
            <a:off x="209520" y="2349360"/>
            <a:ext cx="4286160" cy="3095640"/>
          </a:xfrm>
          <a:prstGeom prst="rect">
            <a:avLst/>
          </a:prstGeom>
          <a:ln w="0">
            <a:noFill/>
          </a:ln>
        </p:spPr>
      </p:pic>
      <p:pic>
        <p:nvPicPr>
          <p:cNvPr id="182" name="Содержимое 6" descr="299151.jpg"/>
          <p:cNvPicPr/>
          <p:nvPr/>
        </p:nvPicPr>
        <p:blipFill>
          <a:blip r:embed="rId2"/>
          <a:stretch/>
        </p:blipFill>
        <p:spPr>
          <a:xfrm>
            <a:off x="4648320" y="2351160"/>
            <a:ext cx="4171680" cy="30938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250920" y="573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ейник                                     Коралловый риф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animClr clrSpc="rgb">
                                      <p:cBhvr>
                                        <p:cTn id="2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e1a8"/>
                                      </p:to>
                                    </p:animClr>
                                    <p:set>
                                      <p:cBhvr>
                                        <p:cTn id="216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Ы МЕЗ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Содержимое 7" descr="1306822359_image_149.jpg"/>
          <p:cNvPicPr/>
          <p:nvPr/>
        </p:nvPicPr>
        <p:blipFill>
          <a:blip r:embed="rId1"/>
          <a:stretch/>
        </p:blipFill>
        <p:spPr>
          <a:xfrm>
            <a:off x="130320" y="1989000"/>
            <a:ext cx="4225680" cy="4565880"/>
          </a:xfrm>
          <a:prstGeom prst="rect">
            <a:avLst/>
          </a:prstGeom>
          <a:ln w="0">
            <a:noFill/>
          </a:ln>
        </p:spPr>
      </p:pic>
      <p:pic>
        <p:nvPicPr>
          <p:cNvPr id="186" name="Содержимое 8" descr="Mellon_Wetlands_2.jpg"/>
          <p:cNvPicPr/>
          <p:nvPr/>
        </p:nvPicPr>
        <p:blipFill>
          <a:blip r:embed="rId2"/>
          <a:stretch/>
        </p:blipFill>
        <p:spPr>
          <a:xfrm>
            <a:off x="4457880" y="2060640"/>
            <a:ext cx="4439880" cy="2952720"/>
          </a:xfrm>
          <a:prstGeom prst="rect">
            <a:avLst/>
          </a:prstGeom>
          <a:ln w="0">
            <a:noFill/>
          </a:ln>
        </p:spPr>
      </p:pic>
      <p:sp>
        <p:nvSpPr>
          <p:cNvPr id="187" name="TextBox 9"/>
          <p:cNvSpPr/>
          <p:nvPr/>
        </p:nvSpPr>
        <p:spPr>
          <a:xfrm>
            <a:off x="4716360" y="5373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ловый ле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 МАКРОУРОВН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9" name="Picture 6" descr="Gemsbok and Sand Dunes, SossusVlei, Namibia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4932360" y="6308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стын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ПРОЦЕССЫ, ПРОТЕКАЮЩИЕ В БИОГЕОЦЕНОЗЕ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оворот веществ и поток энерг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ирование биомасс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множества популяций в пространств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гулирование численности ви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4" descr="Metrosidoros polymorpha4"/>
          <p:cNvPicPr/>
          <p:nvPr/>
        </p:nvPicPr>
        <p:blipFill>
          <a:blip r:embed="rId1"/>
          <a:stretch/>
        </p:blipFill>
        <p:spPr>
          <a:xfrm>
            <a:off x="324000" y="1628640"/>
            <a:ext cx="429084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indefinite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ОРГАНИЗАЦИЯ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изуетс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ожностью структуры, обусловленной большим разнообразием видов, входящих в биосистему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ойчивостью связей и зависимостей между видами и со средой, основанных на пищевых, пространственных, средообразующих взаимоотношениях видов и энергети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начение биогеоценотического уровня 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существования многочисленных видов живых организм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ание биологического круговорота вещест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6" descr="Metrosidoros polymorpha3"/>
          <p:cNvPicPr/>
          <p:nvPr/>
        </p:nvPicPr>
        <p:blipFill>
          <a:blip r:embed="rId1"/>
          <a:stretch/>
        </p:blipFill>
        <p:spPr>
          <a:xfrm>
            <a:off x="4643280" y="2997360"/>
            <a:ext cx="4356360" cy="3500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B_Fly02"/>
          <p:cNvPicPr/>
          <p:nvPr/>
        </p:nvPicPr>
        <p:blipFill>
          <a:blip r:embed="rId2"/>
          <a:stretch/>
        </p:blipFill>
        <p:spPr>
          <a:xfrm>
            <a:off x="7236000" y="14130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Используемые источники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22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ология.10-11 класс. Учебник. Общая биология. Базовый уровень. Сивоглазов В.И., Агафонова И. Б., Захарова Е. Т. Биология. Базовый уровень. Учебник для 10 класса. И.Н. Пономарева, О.А. Корнилова, Т.Е. Лощинина, М.: - «Вентана-Граф», 201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://www.lenagold.ru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оллекция фонов и клипар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slovo.ws/urok/biology/11/01/txt/05.ht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Биоцено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school-collection.edu.ru/catalog/pupil/?class=4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диная коллекция цифровых образовательных ресурсов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kolyan.net/uploads/posts/2011-05/1306822359_image_149.jpg http://images.wikia.com/nation/images/e/ef/Mellon_Wetlands_2.jpg http://file.mobilmusic.ru/f9/99/5e/299151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УРОВНИ ОРГАНИЗАЦИИ ЖИВ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еточ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менны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пуляционно – видов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геоценотическ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иосфер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Цель урока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представление о биогеоценозе как о совершенной и устойчивой экологическ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ь определение биогеоценоз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ить структуру и компоненты биогеоценоза; его свойств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ть понятия «пищевая цепь» и «пищевая сеть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ть уровни биогеоценоз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БИОГЕ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ОТКРЫТАЯ ЖИВАЯ СИСТЕМА (БИОСИСТЕМА), ЭВОЛЮЦИОННО СЛОЖИВШАЯСЯ ИЗ РАЗНЫХ ВИДОВ МИКРООРГАНИЗМОВ, РАСТЕНИЙ И ЖИВОТНЫХ, СОВМЕСТНО ЗАСЕЛЯЮЩИХ ОПРЕДЕЛЕННЫЕ МЕСТА ОБИТ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00D05C610003_87"/>
          <p:cNvPicPr/>
          <p:nvPr/>
        </p:nvPicPr>
        <p:blipFill>
          <a:blip r:embed="rId1"/>
          <a:stretch/>
        </p:blipFill>
        <p:spPr>
          <a:xfrm>
            <a:off x="4716360" y="1700280"/>
            <a:ext cx="40388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СТРУКТУРА БИОГЕОЦЕНОЗА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2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4"/>
          <p:cNvSpPr/>
          <p:nvPr/>
        </p:nvSpPr>
        <p:spPr>
          <a:xfrm>
            <a:off x="3276720" y="1125360"/>
            <a:ext cx="295092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6" descr="tulip06"/>
          <p:cNvPicPr/>
          <p:nvPr/>
        </p:nvPicPr>
        <p:blipFill>
          <a:blip r:embed="rId1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7" descr="tulip07"/>
          <p:cNvPicPr/>
          <p:nvPr/>
        </p:nvPicPr>
        <p:blipFill>
          <a:blip r:embed="rId2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8" descr="01"/>
          <p:cNvPicPr/>
          <p:nvPr/>
        </p:nvPicPr>
        <p:blipFill>
          <a:blip r:embed="rId3"/>
          <a:stretch/>
        </p:blipFill>
        <p:spPr>
          <a:xfrm>
            <a:off x="179280" y="3860640"/>
            <a:ext cx="1935360" cy="2303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7-5"/>
          <p:cNvPicPr/>
          <p:nvPr/>
        </p:nvPicPr>
        <p:blipFill>
          <a:blip r:embed="rId4"/>
          <a:stretch/>
        </p:blipFill>
        <p:spPr>
          <a:xfrm>
            <a:off x="5651640" y="5013360"/>
            <a:ext cx="2592360" cy="1440000"/>
          </a:xfrm>
          <a:prstGeom prst="rect">
            <a:avLst/>
          </a:prstGeom>
          <a:ln w="0">
            <a:noFill/>
          </a:ln>
        </p:spPr>
      </p:pic>
      <p:sp>
        <p:nvSpPr>
          <p:cNvPr id="139" name="Oval 22"/>
          <p:cNvSpPr/>
          <p:nvPr/>
        </p:nvSpPr>
        <p:spPr>
          <a:xfrm>
            <a:off x="5292720" y="3068640"/>
            <a:ext cx="287964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23"/>
          <p:cNvSpPr/>
          <p:nvPr/>
        </p:nvSpPr>
        <p:spPr>
          <a:xfrm>
            <a:off x="1042920" y="3068640"/>
            <a:ext cx="2808360" cy="144000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9" descr="7-5"/>
          <p:cNvPicPr/>
          <p:nvPr/>
        </p:nvPicPr>
        <p:blipFill>
          <a:blip r:embed="rId1"/>
          <a:stretch/>
        </p:blipFill>
        <p:spPr>
          <a:xfrm>
            <a:off x="6372360" y="5229360"/>
            <a:ext cx="2592360" cy="14396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БИОЦЕНОЗ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3" name="Oval 3"/>
          <p:cNvSpPr/>
          <p:nvPr/>
        </p:nvSpPr>
        <p:spPr>
          <a:xfrm>
            <a:off x="3203640" y="1413000"/>
            <a:ext cx="295092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971640" y="4005360"/>
            <a:ext cx="280836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СУМ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5435640" y="4005360"/>
            <a:ext cx="2879640" cy="1439640"/>
          </a:xfrm>
          <a:prstGeom prst="ellipse">
            <a:avLst/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УЦЕН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 rot="18261600">
            <a:off x="201600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 rot="14285400">
            <a:off x="5327640" y="2960640"/>
            <a:ext cx="2016000" cy="647640"/>
          </a:xfrm>
          <a:prstGeom prst="leftRightArrow">
            <a:avLst>
              <a:gd name="adj1" fmla="val 50000"/>
              <a:gd name="adj2" fmla="val 619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08360" y="4581360"/>
            <a:ext cx="1871640" cy="505080"/>
          </a:xfrm>
          <a:prstGeom prst="leftRightArrow">
            <a:avLst>
              <a:gd name="adj1" fmla="val 50000"/>
              <a:gd name="adj2" fmla="val 73769"/>
            </a:avLst>
          </a:prstGeom>
          <a:solidFill>
            <a:srgbClr val="ffd0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5" descr="01"/>
          <p:cNvPicPr/>
          <p:nvPr/>
        </p:nvPicPr>
        <p:blipFill>
          <a:blip r:embed="rId2"/>
          <a:stretch/>
        </p:blipFill>
        <p:spPr>
          <a:xfrm>
            <a:off x="250920" y="2276640"/>
            <a:ext cx="1935000" cy="2303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tulip06"/>
          <p:cNvPicPr/>
          <p:nvPr/>
        </p:nvPicPr>
        <p:blipFill>
          <a:blip r:embed="rId3"/>
          <a:stretch/>
        </p:blipFill>
        <p:spPr>
          <a:xfrm>
            <a:off x="1042920" y="1052640"/>
            <a:ext cx="2552760" cy="1298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tulip07"/>
          <p:cNvPicPr/>
          <p:nvPr/>
        </p:nvPicPr>
        <p:blipFill>
          <a:blip r:embed="rId4"/>
          <a:stretch/>
        </p:blipFill>
        <p:spPr>
          <a:xfrm>
            <a:off x="5334120" y="907920"/>
            <a:ext cx="3809880" cy="1751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tulip07"/>
          <p:cNvPicPr/>
          <p:nvPr/>
        </p:nvPicPr>
        <p:blipFill>
          <a:blip r:embed="rId5"/>
          <a:stretch/>
        </p:blipFill>
        <p:spPr>
          <a:xfrm>
            <a:off x="6156360" y="836640"/>
            <a:ext cx="380988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320364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18728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5076720" y="2708280"/>
            <a:ext cx="288000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924360" y="33577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3059280" y="4797360"/>
            <a:ext cx="2879640" cy="172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8"/>
          <p:cNvSpPr/>
          <p:nvPr/>
        </p:nvSpPr>
        <p:spPr>
          <a:xfrm rot="18666000">
            <a:off x="5651280" y="4723920"/>
            <a:ext cx="1297080" cy="287280"/>
          </a:xfrm>
          <a:prstGeom prst="leftRightArrow">
            <a:avLst>
              <a:gd name="adj1" fmla="val 50000"/>
              <a:gd name="adj2" fmla="val 89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9"/>
          <p:cNvSpPr/>
          <p:nvPr/>
        </p:nvSpPr>
        <p:spPr>
          <a:xfrm rot="2310000">
            <a:off x="2195640" y="4653000"/>
            <a:ext cx="1296720" cy="287280"/>
          </a:xfrm>
          <a:prstGeom prst="leftRightArrow">
            <a:avLst>
              <a:gd name="adj1" fmla="val 50000"/>
              <a:gd name="adj2" fmla="val 898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42:53Z</dcterms:created>
  <dc:creator>RETGO</dc:creator>
  <dc:description/>
  <dc:language>en-US</dc:language>
  <cp:lastModifiedBy>Admin</cp:lastModifiedBy>
  <dcterms:modified xsi:type="dcterms:W3CDTF">2013-05-14T19:45:12Z</dcterms:modified>
  <cp:revision>18</cp:revision>
  <dc:subject/>
  <dc:title>Слайд 1</dc:title>
</cp:coreProperties>
</file>