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F52-D809-404F-B641-DF38C522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EFF-53AA-4C22-BB20-08B6BFCA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FA45-8B24-4181-A07C-62A95C69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B36-DCEC-45F2-B4F2-A790FD57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52B9-607B-4ECC-A7EA-3C421747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296C-85A0-4D79-9FF3-E78F17FE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F3F7-1E1D-4F0F-8069-073AE30D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2BFD-93C4-4CCE-896D-3B6251F6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E271-266C-4CBF-98A0-B7D32B7C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B8B9-A6F0-46A8-A802-31B7E358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9490-2CA9-4D51-87C2-9A52BB4D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F4B-DA37-46F7-B824-4062127E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2412-75BF-4F7F-8228-6F92AD35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8A99-7ED5-480C-A3E0-B1D6BFCA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FE40-95FA-4206-86CB-53D60331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DAF3-ED38-4F1C-98E1-3FAF8F8A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4771-D77F-4E8A-B935-2545D23F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546-19F7-4235-8844-F9543C37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69A-F239-4131-A4C0-4E71E678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E0B-4512-42CD-93E0-14BFD3DE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940-1C86-4C58-9761-2B8C0BA7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BC8-2B3A-4FAF-AC80-639121E9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27B-CA65-4D51-B021-C6FFC135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FBA-5271-4F68-96CB-89DDB74F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2A47-B6F2-4E38-9648-24737B6D8D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C1A7-3486-45B4-AEB9-E9BE0AA684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enagold.ru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КАК ОСОБЫЙ УРОВЕНЬ ОРГАНИЗАЦИИ ЖИЗН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1" name="Picture 3" descr="Устричная банка"/>
          <p:cNvPicPr/>
          <p:nvPr/>
        </p:nvPicPr>
        <p:blipFill>
          <a:blip r:embed="rId1"/>
          <a:stretch/>
        </p:blipFill>
        <p:spPr>
          <a:xfrm>
            <a:off x="0" y="3402000"/>
            <a:ext cx="6048360" cy="3456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6156360" y="4221000"/>
            <a:ext cx="29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географии и биологии МАОУ СОШ № 26 г. Сыктывка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осова Екатерина Александ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ТОП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а"/>
          <p:cNvPicPr/>
          <p:nvPr/>
        </p:nvPicPr>
        <p:blipFill>
          <a:blip r:embed="rId1"/>
          <a:stretch/>
        </p:blipFill>
        <p:spPr>
          <a:xfrm>
            <a:off x="395280" y="5157720"/>
            <a:ext cx="1611360" cy="12067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10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images"/>
          <p:cNvPicPr/>
          <p:nvPr/>
        </p:nvPicPr>
        <p:blipFill>
          <a:blip r:embed="rId2"/>
          <a:stretch/>
        </p:blipFill>
        <p:spPr>
          <a:xfrm>
            <a:off x="6659640" y="5084640"/>
            <a:ext cx="1873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 rot="19103400">
            <a:off x="4387320" y="2504880"/>
            <a:ext cx="505080" cy="2116080"/>
          </a:xfrm>
          <a:prstGeom prst="upDownArrow">
            <a:avLst>
              <a:gd name="adj1" fmla="val 50000"/>
              <a:gd name="adj2" fmla="val 834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468360" y="907920"/>
            <a:ext cx="424800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4500720" y="4221000"/>
            <a:ext cx="4248000" cy="208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Т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989840" cy="30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ЦЕНОЗ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+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ТОП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=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БИОГЕОЦЕНО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9" descr="л"/>
          <p:cNvPicPr/>
          <p:nvPr/>
        </p:nvPicPr>
        <p:blipFill>
          <a:blip r:embed="rId1"/>
          <a:stretch/>
        </p:blipFill>
        <p:spPr>
          <a:xfrm>
            <a:off x="7308720" y="4581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И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1" name="Picture 9" descr="antG05"/>
          <p:cNvPicPr/>
          <p:nvPr/>
        </p:nvPicPr>
        <p:blipFill>
          <a:blip r:embed="rId1"/>
          <a:stretch/>
        </p:blipFill>
        <p:spPr>
          <a:xfrm>
            <a:off x="209520" y="2349360"/>
            <a:ext cx="4286160" cy="309564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6" descr="299151.jpg"/>
          <p:cNvPicPr/>
          <p:nvPr/>
        </p:nvPicPr>
        <p:blipFill>
          <a:blip r:embed="rId2"/>
          <a:stretch/>
        </p:blipFill>
        <p:spPr>
          <a:xfrm>
            <a:off x="4648320" y="2351160"/>
            <a:ext cx="4171680" cy="30938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250920" y="5732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авейник                                     Коралловый ри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animClr clrSpc="rgb">
                                      <p:cBhvr>
                                        <p:cTn id="2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set>
                                      <p:cBhvr>
                                        <p:cTn id="216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ЕЗ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Содержимое 7" descr="1306822359_image_149.jpg"/>
          <p:cNvPicPr/>
          <p:nvPr/>
        </p:nvPicPr>
        <p:blipFill>
          <a:blip r:embed="rId1"/>
          <a:stretch/>
        </p:blipFill>
        <p:spPr>
          <a:xfrm>
            <a:off x="130320" y="1989000"/>
            <a:ext cx="4225680" cy="456588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8" descr="Mellon_Wetlands_2.jpg"/>
          <p:cNvPicPr/>
          <p:nvPr/>
        </p:nvPicPr>
        <p:blipFill>
          <a:blip r:embed="rId2"/>
          <a:stretch/>
        </p:blipFill>
        <p:spPr>
          <a:xfrm>
            <a:off x="4457880" y="2060640"/>
            <a:ext cx="4439880" cy="29527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9"/>
          <p:cNvSpPr/>
          <p:nvPr/>
        </p:nvSpPr>
        <p:spPr>
          <a:xfrm>
            <a:off x="4716360" y="537372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ловый л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МА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9" name="Picture 6" descr="Gemsbok and Sand Dunes, SossusVlei, Namibia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4932360" y="6308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ы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ПРОЦЕССЫ, ПРОТЕКАЮЩИЕ В БИОГЕОЦЕНОЗЕ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веществ и поток энерг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ирование биомасс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множества популяций в пространств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улирование численности ви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Metrosidoros polymorpha4"/>
          <p:cNvPicPr/>
          <p:nvPr/>
        </p:nvPicPr>
        <p:blipFill>
          <a:blip r:embed="rId1"/>
          <a:stretch/>
        </p:blipFill>
        <p:spPr>
          <a:xfrm>
            <a:off x="324000" y="1628640"/>
            <a:ext cx="429084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ОРГАНИЗАЦИЯ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изу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стью структуры, обусловленной большим разнообразием видов, входящих в биосистем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ойчивостью связей и зависимостей между видами и со средой, основанных на пищевых, пространственных, средообразующих взаимоотношениях видов и энерге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Значение биогеоценотического уровня 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лагоприятных условий для существования многочисленных видов живых организм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держание биологического круговорота вещест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Metrosidoros polymorpha3"/>
          <p:cNvPicPr/>
          <p:nvPr/>
        </p:nvPicPr>
        <p:blipFill>
          <a:blip r:embed="rId1"/>
          <a:stretch/>
        </p:blipFill>
        <p:spPr>
          <a:xfrm>
            <a:off x="4643280" y="2997360"/>
            <a:ext cx="4356360" cy="3500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B_Fly02"/>
          <p:cNvPicPr/>
          <p:nvPr/>
        </p:nvPicPr>
        <p:blipFill>
          <a:blip r:embed="rId2"/>
          <a:stretch/>
        </p:blipFill>
        <p:spPr>
          <a:xfrm>
            <a:off x="7236000" y="14130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Используемые источник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логия.10-11 класс. Учебник. Общая биология. Базовый уровень. Сивоглазов В.И., Агафонова И. Б., Захарова Е. Т. Биология. Базовый уровень. Учебник для 10 класса. И.Н. Пономарева, О.А. Корнилова, Т.Е. Лощинина, М.: - «Вентана-Граф», 20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//www.lenagold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ллекция фонов и клипар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lovo.ws/urok/biology/11/01/txt/05.ht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Биоцено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school-collection.edu.ru/catalog/pupil/?class=4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диная коллекция цифровых образовательных ресурсов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kolyan.net/uploads/posts/2011-05/1306822359_image_149.jpg http://images.wikia.com/nation/images/e/ef/Mellon_Wetlands_2.jpg http://file.mobilmusic.ru/f9/99/5e/299151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УРОВНИ ОРГАНИЗАЦИИ ЖИВОГ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еточ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мен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уляционно – видово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геоценотическ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сфер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Цель урок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ть представление о биогеоценозе как о совершенной и устойчивой экологической сис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ь определение биогеоценоз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ь структуру и компоненты биогеоценоза; его свойст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ть понятия «пищевая цепь» и «пищевая сеть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ть уровни биогеоцено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ОТКРЫТАЯ ЖИВАЯ СИСТЕМА (БИОСИСТЕМА), ЭВОЛЮЦИОННО СЛОЖИВШАЯСЯ ИЗ РАЗНЫХ ВИДОВ МИКРООРГАНИЗМОВ, РАСТЕНИЙ И ЖИВОТНЫХ, СОВМЕСТНО ЗАСЕЛЯЮЩИХ ОПРЕДЕЛЕННЫЕ МЕСТА ОБИТ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00D05C610003_87"/>
          <p:cNvPicPr/>
          <p:nvPr/>
        </p:nvPicPr>
        <p:blipFill>
          <a:blip r:embed="rId1"/>
          <a:stretch/>
        </p:blipFill>
        <p:spPr>
          <a:xfrm>
            <a:off x="4716360" y="1700280"/>
            <a:ext cx="40388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СТРУКТУРА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4"/>
          <p:cNvSpPr/>
          <p:nvPr/>
        </p:nvSpPr>
        <p:spPr>
          <a:xfrm>
            <a:off x="3276720" y="1125360"/>
            <a:ext cx="295092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6" descr="tulip06"/>
          <p:cNvPicPr/>
          <p:nvPr/>
        </p:nvPicPr>
        <p:blipFill>
          <a:blip r:embed="rId1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tulip07"/>
          <p:cNvPicPr/>
          <p:nvPr/>
        </p:nvPicPr>
        <p:blipFill>
          <a:blip r:embed="rId2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8" descr="01"/>
          <p:cNvPicPr/>
          <p:nvPr/>
        </p:nvPicPr>
        <p:blipFill>
          <a:blip r:embed="rId3"/>
          <a:stretch/>
        </p:blipFill>
        <p:spPr>
          <a:xfrm>
            <a:off x="179280" y="3860640"/>
            <a:ext cx="1935360" cy="2303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9" descr="7-5"/>
          <p:cNvPicPr/>
          <p:nvPr/>
        </p:nvPicPr>
        <p:blipFill>
          <a:blip r:embed="rId4"/>
          <a:stretch/>
        </p:blipFill>
        <p:spPr>
          <a:xfrm>
            <a:off x="5651640" y="501336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139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9" descr="7-5"/>
          <p:cNvPicPr/>
          <p:nvPr/>
        </p:nvPicPr>
        <p:blipFill>
          <a:blip r:embed="rId1"/>
          <a:stretch/>
        </p:blipFill>
        <p:spPr>
          <a:xfrm>
            <a:off x="6372360" y="5229360"/>
            <a:ext cx="2592360" cy="1439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3203640" y="1413000"/>
            <a:ext cx="295092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971640" y="4005360"/>
            <a:ext cx="280836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5"/>
          <p:cNvSpPr/>
          <p:nvPr/>
        </p:nvSpPr>
        <p:spPr>
          <a:xfrm>
            <a:off x="5435640" y="4005360"/>
            <a:ext cx="287964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 rot="18261600">
            <a:off x="201600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/>
          <p:cNvSpPr/>
          <p:nvPr/>
        </p:nvSpPr>
        <p:spPr>
          <a:xfrm rot="14285400">
            <a:off x="532764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708360" y="4581360"/>
            <a:ext cx="1871640" cy="505080"/>
          </a:xfrm>
          <a:prstGeom prst="leftRightArrow">
            <a:avLst>
              <a:gd name="adj1" fmla="val 50000"/>
              <a:gd name="adj2" fmla="val 737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5" descr="01"/>
          <p:cNvPicPr/>
          <p:nvPr/>
        </p:nvPicPr>
        <p:blipFill>
          <a:blip r:embed="rId2"/>
          <a:stretch/>
        </p:blipFill>
        <p:spPr>
          <a:xfrm>
            <a:off x="250920" y="2276640"/>
            <a:ext cx="1935000" cy="230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tulip06"/>
          <p:cNvPicPr/>
          <p:nvPr/>
        </p:nvPicPr>
        <p:blipFill>
          <a:blip r:embed="rId3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tulip07"/>
          <p:cNvPicPr/>
          <p:nvPr/>
        </p:nvPicPr>
        <p:blipFill>
          <a:blip r:embed="rId4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tulip07"/>
          <p:cNvPicPr/>
          <p:nvPr/>
        </p:nvPicPr>
        <p:blipFill>
          <a:blip r:embed="rId5"/>
          <a:stretch/>
        </p:blipFill>
        <p:spPr>
          <a:xfrm>
            <a:off x="6156360" y="836640"/>
            <a:ext cx="38098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320364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8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9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4:42:53Z</dcterms:created>
  <dc:creator>RETGO</dc:creator>
  <dc:description/>
  <dc:language>en-US</dc:language>
  <cp:lastModifiedBy>Admin</cp:lastModifiedBy>
  <dcterms:modified xsi:type="dcterms:W3CDTF">2013-05-14T19:45:12Z</dcterms:modified>
  <cp:revision>18</cp:revision>
  <dc:subject/>
  <dc:title>Слайд 1</dc:title>
</cp:coreProperties>
</file>