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E15-2829-4034-89A0-50C9114B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07F-E681-4EFF-9063-B621EA80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5262-9B40-490F-A387-D55387C5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0ED-8276-40D5-A241-E8768EAF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72CE-7BDD-4600-94B2-45E97C65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B272-106D-4F77-80C5-DDD88EDC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6CBA-565B-4B67-85A6-8F1B7494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EA7C-FA8F-4BF7-8E6D-9768B026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4796-9222-44BE-B814-71B18260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92C5-E159-4B9E-92C7-D488F512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5FE2-0BDA-4C48-B069-3FC7539E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8CAC-AD5C-48A6-81C4-90902D2A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8AEB-C90D-4974-A31F-399137B8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7239-D902-42A6-AA5E-5E4EAC06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7738-2BCC-4F5F-B1FA-13628219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416B-52F0-4641-B9B7-8CC18F0C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5D56-81D9-4FE6-B9F9-1D6423E2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7AEE-AB1C-4346-93FE-EE56FB6E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9E7-D6E8-4C7E-AE1D-F94335C8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ADA8-F0EF-446B-9E48-22596597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795A-A950-4FA3-9103-76C54894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90D-5324-4049-9242-55489CC5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292C-3963-4B1F-BDA1-C2F3C048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5E9-D50D-479B-842E-FCC68F8B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B9B1-7F32-4D0A-B524-DE7E0A9783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96EA-E8F7-44A4-B3C9-DEF4C5D798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enagold.ru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 КАК ОСОБЫЙ УРОВЕНЬ ОРГАНИЗАЦИИ ЖИЗН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1" name="Picture 3" descr="Устричная банка"/>
          <p:cNvPicPr/>
          <p:nvPr/>
        </p:nvPicPr>
        <p:blipFill>
          <a:blip r:embed="rId1"/>
          <a:stretch/>
        </p:blipFill>
        <p:spPr>
          <a:xfrm>
            <a:off x="0" y="3402000"/>
            <a:ext cx="6048360" cy="3456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6156360" y="4221000"/>
            <a:ext cx="29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географии и биологии МАОУ СОШ № 26 г. Сыктывка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осова Екатерина Александ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БИОТОП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3924360" y="33577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305928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7"/>
          <p:cNvSpPr/>
          <p:nvPr/>
        </p:nvSpPr>
        <p:spPr>
          <a:xfrm rot="18666000">
            <a:off x="5651280" y="47239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а"/>
          <p:cNvPicPr/>
          <p:nvPr/>
        </p:nvPicPr>
        <p:blipFill>
          <a:blip r:embed="rId1"/>
          <a:stretch/>
        </p:blipFill>
        <p:spPr>
          <a:xfrm>
            <a:off x="395280" y="5157720"/>
            <a:ext cx="1611360" cy="120672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10"/>
          <p:cNvSpPr/>
          <p:nvPr/>
        </p:nvSpPr>
        <p:spPr>
          <a:xfrm rot="2310000">
            <a:off x="2195640" y="4653000"/>
            <a:ext cx="1296720" cy="287280"/>
          </a:xfrm>
          <a:prstGeom prst="leftRightArrow">
            <a:avLst>
              <a:gd name="adj1" fmla="val 50000"/>
              <a:gd name="adj2" fmla="val 89858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images"/>
          <p:cNvPicPr/>
          <p:nvPr/>
        </p:nvPicPr>
        <p:blipFill>
          <a:blip r:embed="rId2"/>
          <a:stretch/>
        </p:blipFill>
        <p:spPr>
          <a:xfrm>
            <a:off x="6659640" y="5084640"/>
            <a:ext cx="1873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 rot="19103400">
            <a:off x="4387320" y="2504880"/>
            <a:ext cx="505080" cy="2116080"/>
          </a:xfrm>
          <a:prstGeom prst="upDownArrow">
            <a:avLst>
              <a:gd name="adj1" fmla="val 50000"/>
              <a:gd name="adj2" fmla="val 834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468360" y="907920"/>
            <a:ext cx="4248000" cy="20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ЦЕН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4500720" y="4221000"/>
            <a:ext cx="4248000" cy="208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Т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989840" cy="30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БИОЦЕНОЗ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+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БИОТОП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=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БИОГЕОЦЕНО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9" descr="л"/>
          <p:cNvPicPr/>
          <p:nvPr/>
        </p:nvPicPr>
        <p:blipFill>
          <a:blip r:embed="rId1"/>
          <a:stretch/>
        </p:blipFill>
        <p:spPr>
          <a:xfrm>
            <a:off x="7308720" y="4581360"/>
            <a:ext cx="1440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Ы МИКР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1" name="Picture 9" descr="antG05"/>
          <p:cNvPicPr/>
          <p:nvPr/>
        </p:nvPicPr>
        <p:blipFill>
          <a:blip r:embed="rId1"/>
          <a:stretch/>
        </p:blipFill>
        <p:spPr>
          <a:xfrm>
            <a:off x="209520" y="2349360"/>
            <a:ext cx="4286160" cy="309564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6" descr="299151.jpg"/>
          <p:cNvPicPr/>
          <p:nvPr/>
        </p:nvPicPr>
        <p:blipFill>
          <a:blip r:embed="rId2"/>
          <a:stretch/>
        </p:blipFill>
        <p:spPr>
          <a:xfrm>
            <a:off x="4648320" y="2351160"/>
            <a:ext cx="4171680" cy="30938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250920" y="5732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равейник                                     Коралловый ри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animClr clrSpc="rgb">
                                      <p:cBhvr>
                                        <p:cTn id="2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set>
                                      <p:cBhvr>
                                        <p:cTn id="216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Ы МЕЗ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5" name="Содержимое 7" descr="1306822359_image_149.jpg"/>
          <p:cNvPicPr/>
          <p:nvPr/>
        </p:nvPicPr>
        <p:blipFill>
          <a:blip r:embed="rId1"/>
          <a:stretch/>
        </p:blipFill>
        <p:spPr>
          <a:xfrm>
            <a:off x="130320" y="1989000"/>
            <a:ext cx="4225680" cy="456588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8" descr="Mellon_Wetlands_2.jpg"/>
          <p:cNvPicPr/>
          <p:nvPr/>
        </p:nvPicPr>
        <p:blipFill>
          <a:blip r:embed="rId2"/>
          <a:stretch/>
        </p:blipFill>
        <p:spPr>
          <a:xfrm>
            <a:off x="4457880" y="2060640"/>
            <a:ext cx="4439880" cy="29527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9"/>
          <p:cNvSpPr/>
          <p:nvPr/>
        </p:nvSpPr>
        <p:spPr>
          <a:xfrm>
            <a:off x="4716360" y="537372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ловый л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 МАКР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9" name="Picture 6" descr="Gemsbok and Sand Dunes, SossusVlei, Namibia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4932360" y="6308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ы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ПРОЦЕССЫ, ПРОТЕКАЮЩИЕ В БИОГЕОЦЕНОЗЕ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орот веществ и поток энерг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ирование биомасс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множества популяций в пространств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улирование численности ви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Metrosidoros polymorpha4"/>
          <p:cNvPicPr/>
          <p:nvPr/>
        </p:nvPicPr>
        <p:blipFill>
          <a:blip r:embed="rId1"/>
          <a:stretch/>
        </p:blipFill>
        <p:spPr>
          <a:xfrm>
            <a:off x="324000" y="1628640"/>
            <a:ext cx="429084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ОРГАНИЗАЦИЯ БИОГЕОЦЕНОЗ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изу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стью структуры, обусловленной большим разнообразием видов, входящих в биосистем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ойчивостью связей и зависимостей между видами и со средой, основанных на пищевых, пространственных, средообразующих взаимоотношениях видов и энергет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Значение биогеоценотического уровня 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благоприятных условий для существования многочисленных видов живых организм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держание биологического круговорота вещест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6" descr="Metrosidoros polymorpha3"/>
          <p:cNvPicPr/>
          <p:nvPr/>
        </p:nvPicPr>
        <p:blipFill>
          <a:blip r:embed="rId1"/>
          <a:stretch/>
        </p:blipFill>
        <p:spPr>
          <a:xfrm>
            <a:off x="4643280" y="2997360"/>
            <a:ext cx="4356360" cy="3500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B_Fly02"/>
          <p:cNvPicPr/>
          <p:nvPr/>
        </p:nvPicPr>
        <p:blipFill>
          <a:blip r:embed="rId2"/>
          <a:stretch/>
        </p:blipFill>
        <p:spPr>
          <a:xfrm>
            <a:off x="7236000" y="14130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Используемые источник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ология.10-11 класс. Учебник. Общая биология. Базовый уровень. Сивоглазов В.И., Агафонова И. Б., Захарова Е. Т. Биология. Базовый уровень. Учебник для 10 класса. И.Н. Пономарева, О.А. Корнилова, Т.Е. Лощинина, М.: - «Вентана-Граф», 20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://www.lenagold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ллекция фонов и клипар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lovo.ws/urok/biology/11/01/txt/05.ht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Биоцено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school-collection.edu.ru/catalog/pupil/?class=4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диная коллекция цифровых образовательных ресурсов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kolyan.net/uploads/posts/2011-05/1306822359_image_149.jpg http://images.wikia.com/nation/images/e/ef/Mellon_Wetlands_2.jpg http://file.mobilmusic.ru/f9/99/5e/299151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УРОВНИ ОРГАНИЗАЦИИ ЖИВОГ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яр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еточ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мен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уляционно – видово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геоценотическ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сфер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Цель урок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ть представление о биогеоценозе как о совершенной и устойчивой экологической систе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ь определение биогеоценоз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ь структуру и компоненты биогеоценоза; его свойст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помнить понятия «пищевая цепь» и «пищевая сеть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ть уровни биогеоцено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ОТКРЫТАЯ ЖИВАЯ СИСТЕМА (БИОСИСТЕМА), ЭВОЛЮЦИОННО СЛОЖИВШАЯСЯ ИЗ РАЗНЫХ ВИДОВ МИКРООРГАНИЗМОВ, РАСТЕНИЙ И ЖИВОТНЫХ, СОВМЕСТНО ЗАСЕЛЯЮЩИХ ОПРЕДЕЛЕННЫЕ МЕСТА ОБИТ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00D05C610003_87"/>
          <p:cNvPicPr/>
          <p:nvPr/>
        </p:nvPicPr>
        <p:blipFill>
          <a:blip r:embed="rId1"/>
          <a:stretch/>
        </p:blipFill>
        <p:spPr>
          <a:xfrm>
            <a:off x="4716360" y="1700280"/>
            <a:ext cx="40388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СТРУКТУРА БИОГЕОЦЕНОЗ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Oval 22"/>
          <p:cNvSpPr/>
          <p:nvPr/>
        </p:nvSpPr>
        <p:spPr>
          <a:xfrm>
            <a:off x="5292720" y="3068640"/>
            <a:ext cx="287964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1042920" y="3068640"/>
            <a:ext cx="280836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4"/>
          <p:cNvSpPr/>
          <p:nvPr/>
        </p:nvSpPr>
        <p:spPr>
          <a:xfrm>
            <a:off x="3276720" y="1125360"/>
            <a:ext cx="295092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6" descr="tulip06"/>
          <p:cNvPicPr/>
          <p:nvPr/>
        </p:nvPicPr>
        <p:blipFill>
          <a:blip r:embed="rId1"/>
          <a:stretch/>
        </p:blipFill>
        <p:spPr>
          <a:xfrm>
            <a:off x="1042920" y="1052640"/>
            <a:ext cx="2552760" cy="1298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7" descr="tulip07"/>
          <p:cNvPicPr/>
          <p:nvPr/>
        </p:nvPicPr>
        <p:blipFill>
          <a:blip r:embed="rId2"/>
          <a:stretch/>
        </p:blipFill>
        <p:spPr>
          <a:xfrm>
            <a:off x="5334120" y="907920"/>
            <a:ext cx="3809880" cy="1751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8" descr="01"/>
          <p:cNvPicPr/>
          <p:nvPr/>
        </p:nvPicPr>
        <p:blipFill>
          <a:blip r:embed="rId3"/>
          <a:stretch/>
        </p:blipFill>
        <p:spPr>
          <a:xfrm>
            <a:off x="179280" y="3860640"/>
            <a:ext cx="1935360" cy="2303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9" descr="7-5"/>
          <p:cNvPicPr/>
          <p:nvPr/>
        </p:nvPicPr>
        <p:blipFill>
          <a:blip r:embed="rId4"/>
          <a:stretch/>
        </p:blipFill>
        <p:spPr>
          <a:xfrm>
            <a:off x="5651640" y="501336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139" name="Oval 22"/>
          <p:cNvSpPr/>
          <p:nvPr/>
        </p:nvSpPr>
        <p:spPr>
          <a:xfrm>
            <a:off x="5292720" y="3068640"/>
            <a:ext cx="287964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23"/>
          <p:cNvSpPr/>
          <p:nvPr/>
        </p:nvSpPr>
        <p:spPr>
          <a:xfrm>
            <a:off x="1042920" y="3068640"/>
            <a:ext cx="280836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9" descr="7-5"/>
          <p:cNvPicPr/>
          <p:nvPr/>
        </p:nvPicPr>
        <p:blipFill>
          <a:blip r:embed="rId1"/>
          <a:stretch/>
        </p:blipFill>
        <p:spPr>
          <a:xfrm>
            <a:off x="6372360" y="5229360"/>
            <a:ext cx="2592360" cy="1439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БИОЦЕН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3" name="Oval 3"/>
          <p:cNvSpPr/>
          <p:nvPr/>
        </p:nvSpPr>
        <p:spPr>
          <a:xfrm>
            <a:off x="3203640" y="1413000"/>
            <a:ext cx="295092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971640" y="4005360"/>
            <a:ext cx="280836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5"/>
          <p:cNvSpPr/>
          <p:nvPr/>
        </p:nvSpPr>
        <p:spPr>
          <a:xfrm>
            <a:off x="5435640" y="4005360"/>
            <a:ext cx="287964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 rot="18261600">
            <a:off x="2016000" y="2960640"/>
            <a:ext cx="2016000" cy="647640"/>
          </a:xfrm>
          <a:prstGeom prst="leftRightArrow">
            <a:avLst>
              <a:gd name="adj1" fmla="val 50000"/>
              <a:gd name="adj2" fmla="val 619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/>
          <p:cNvSpPr/>
          <p:nvPr/>
        </p:nvSpPr>
        <p:spPr>
          <a:xfrm rot="14285400">
            <a:off x="5327640" y="2960640"/>
            <a:ext cx="2016000" cy="647640"/>
          </a:xfrm>
          <a:prstGeom prst="leftRightArrow">
            <a:avLst>
              <a:gd name="adj1" fmla="val 50000"/>
              <a:gd name="adj2" fmla="val 619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708360" y="4581360"/>
            <a:ext cx="1871640" cy="505080"/>
          </a:xfrm>
          <a:prstGeom prst="leftRightArrow">
            <a:avLst>
              <a:gd name="adj1" fmla="val 50000"/>
              <a:gd name="adj2" fmla="val 737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5" descr="01"/>
          <p:cNvPicPr/>
          <p:nvPr/>
        </p:nvPicPr>
        <p:blipFill>
          <a:blip r:embed="rId2"/>
          <a:stretch/>
        </p:blipFill>
        <p:spPr>
          <a:xfrm>
            <a:off x="250920" y="2276640"/>
            <a:ext cx="1935000" cy="2303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tulip06"/>
          <p:cNvPicPr/>
          <p:nvPr/>
        </p:nvPicPr>
        <p:blipFill>
          <a:blip r:embed="rId3"/>
          <a:stretch/>
        </p:blipFill>
        <p:spPr>
          <a:xfrm>
            <a:off x="1042920" y="1052640"/>
            <a:ext cx="2552760" cy="1298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tulip07"/>
          <p:cNvPicPr/>
          <p:nvPr/>
        </p:nvPicPr>
        <p:blipFill>
          <a:blip r:embed="rId4"/>
          <a:stretch/>
        </p:blipFill>
        <p:spPr>
          <a:xfrm>
            <a:off x="5334120" y="907920"/>
            <a:ext cx="3809880" cy="1751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tulip07"/>
          <p:cNvPicPr/>
          <p:nvPr/>
        </p:nvPicPr>
        <p:blipFill>
          <a:blip r:embed="rId5"/>
          <a:stretch/>
        </p:blipFill>
        <p:spPr>
          <a:xfrm>
            <a:off x="6156360" y="836640"/>
            <a:ext cx="38098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320364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924360" y="33577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305928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8"/>
          <p:cNvSpPr/>
          <p:nvPr/>
        </p:nvSpPr>
        <p:spPr>
          <a:xfrm rot="18666000">
            <a:off x="5651280" y="47239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9"/>
          <p:cNvSpPr/>
          <p:nvPr/>
        </p:nvSpPr>
        <p:spPr>
          <a:xfrm rot="2310000">
            <a:off x="2195640" y="4653000"/>
            <a:ext cx="1296720" cy="287280"/>
          </a:xfrm>
          <a:prstGeom prst="leftRightArrow">
            <a:avLst>
              <a:gd name="adj1" fmla="val 50000"/>
              <a:gd name="adj2" fmla="val 898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4:42:53Z</dcterms:created>
  <dc:creator>RETGO</dc:creator>
  <dc:description/>
  <dc:language>en-US</dc:language>
  <cp:lastModifiedBy>Admin</cp:lastModifiedBy>
  <dcterms:modified xsi:type="dcterms:W3CDTF">2013-05-14T19:45:12Z</dcterms:modified>
  <cp:revision>18</cp:revision>
  <dc:subject/>
  <dc:title>Слайд 1</dc:title>
</cp:coreProperties>
</file>