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07A-39BC-467C-B003-7A919637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C53-D88D-4414-94D3-FB9D203C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7FD-05E4-4B95-8023-50B9029B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4E8-C29A-4AB3-9653-D4C017BB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6C76-2D31-4969-8A79-8FCCAC11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5B1E-EF98-4B94-9E79-F148D670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84CC-6569-4843-8BF9-D8D8E579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9D10-94CE-4713-AF40-C15A2E63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1F1D-4C33-4916-9674-B3BA918B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C9FD-7866-41FD-B3A0-61AD0583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21DC-A6B5-47DA-9F9D-223A1A42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09B-B412-48AA-90A7-BF5C7505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0650-CB4D-4AB9-BC44-A976A99D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FB23-DEF7-4A6C-95E1-5706135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5D1E-9EFC-4FF6-BA30-C58D8710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8714-1BB7-4674-AA8A-3F65ED12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D989-E1AF-4BE4-8D12-393F3728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077-C527-444A-9853-D8023384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ADA-CF45-408A-A7C2-24905024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45E-3510-4ADA-8394-21B52333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C64-62F0-43C4-9C3F-959B8105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883-4270-49C4-9602-BDDC0EE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1D1-6941-4380-858D-E8DB49DB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48D-9E9C-42A3-AF5E-E40DC90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65F9-AA48-414A-BD6F-5C89C6DF9F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ABB0-008B-4D2B-B99D-D776CB5590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enagold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КАК ОСОБЫЙ УРОВЕНЬ ОРГАНИЗАЦИИ ЖИЗН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3" descr="Устричная банка"/>
          <p:cNvPicPr/>
          <p:nvPr/>
        </p:nvPicPr>
        <p:blipFill>
          <a:blip r:embed="rId1"/>
          <a:stretch/>
        </p:blipFill>
        <p:spPr>
          <a:xfrm>
            <a:off x="0" y="3402000"/>
            <a:ext cx="604836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6156360" y="42210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еографии и биологии МАОУ СОШ № 26 г. Сыктывк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сов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ТО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а"/>
          <p:cNvPicPr/>
          <p:nvPr/>
        </p:nvPicPr>
        <p:blipFill>
          <a:blip r:embed="rId1"/>
          <a:stretch/>
        </p:blipFill>
        <p:spPr>
          <a:xfrm>
            <a:off x="395280" y="5157720"/>
            <a:ext cx="1611360" cy="1206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0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images"/>
          <p:cNvPicPr/>
          <p:nvPr/>
        </p:nvPicPr>
        <p:blipFill>
          <a:blip r:embed="rId2"/>
          <a:stretch/>
        </p:blipFill>
        <p:spPr>
          <a:xfrm>
            <a:off x="6659640" y="508464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 rot="19103400">
            <a:off x="4387320" y="2504880"/>
            <a:ext cx="505080" cy="2116080"/>
          </a:xfrm>
          <a:prstGeom prst="upDownArrow">
            <a:avLst>
              <a:gd name="adj1" fmla="val 50000"/>
              <a:gd name="adj2" fmla="val 834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68360" y="907920"/>
            <a:ext cx="4248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500720" y="4221000"/>
            <a:ext cx="4248000" cy="208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89840" cy="30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ЦЕНОЗ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+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ТОП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БИОГЕОЦЕН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л"/>
          <p:cNvPicPr/>
          <p:nvPr/>
        </p:nvPicPr>
        <p:blipFill>
          <a:blip r:embed="rId1"/>
          <a:stretch/>
        </p:blipFill>
        <p:spPr>
          <a:xfrm>
            <a:off x="7308720" y="4581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И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9" descr="antG05"/>
          <p:cNvPicPr/>
          <p:nvPr/>
        </p:nvPicPr>
        <p:blipFill>
          <a:blip r:embed="rId1"/>
          <a:stretch/>
        </p:blipFill>
        <p:spPr>
          <a:xfrm>
            <a:off x="209520" y="234936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6" descr="299151.jpg"/>
          <p:cNvPicPr/>
          <p:nvPr/>
        </p:nvPicPr>
        <p:blipFill>
          <a:blip r:embed="rId2"/>
          <a:stretch/>
        </p:blipFill>
        <p:spPr>
          <a:xfrm>
            <a:off x="4648320" y="2351160"/>
            <a:ext cx="4171680" cy="309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50920" y="573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ейник                                     Коралловый ри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ЕЗ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Содержимое 7" descr="1306822359_image_149.jpg"/>
          <p:cNvPicPr/>
          <p:nvPr/>
        </p:nvPicPr>
        <p:blipFill>
          <a:blip r:embed="rId1"/>
          <a:stretch/>
        </p:blipFill>
        <p:spPr>
          <a:xfrm>
            <a:off x="130320" y="1989000"/>
            <a:ext cx="4225680" cy="45658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8" descr="Mellon_Wetlands_2.jpg"/>
          <p:cNvPicPr/>
          <p:nvPr/>
        </p:nvPicPr>
        <p:blipFill>
          <a:blip r:embed="rId2"/>
          <a:stretch/>
        </p:blipFill>
        <p:spPr>
          <a:xfrm>
            <a:off x="4457880" y="2060640"/>
            <a:ext cx="4439880" cy="2952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4716360" y="5373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овый л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МА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9" name="Picture 6" descr="Gemsbok and Sand Dunes, SossusVlei, Namibia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932360" y="63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ы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ОЦЕССЫ, ПРОТЕКАЮЩИЕ В БИОГЕОЦЕНОЗ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веществ и поток энерг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ирование биомас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множества популяций в простран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численности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Metrosidoros polymorpha4"/>
          <p:cNvPicPr/>
          <p:nvPr/>
        </p:nvPicPr>
        <p:blipFill>
          <a:blip r:embed="rId1"/>
          <a:stretch/>
        </p:blipFill>
        <p:spPr>
          <a:xfrm>
            <a:off x="324000" y="1628640"/>
            <a:ext cx="42908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7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ИЗАЦИЯ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зу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стью структуры, обусловленной большим разнообразием видов, входящих в биосист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остью связей и зависимостей между видами и со средой, основанных на пищевых, пространственных, средообразующих взаимоотношениях видов и энерге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начение биогеоценотического уровня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существования многочисленных видов живых организм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ание биологического круговорота веще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Metrosidoros polymorpha3"/>
          <p:cNvPicPr/>
          <p:nvPr/>
        </p:nvPicPr>
        <p:blipFill>
          <a:blip r:embed="rId1"/>
          <a:stretch/>
        </p:blipFill>
        <p:spPr>
          <a:xfrm>
            <a:off x="4643280" y="2997360"/>
            <a:ext cx="4356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B_Fly02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спользуемые источни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я.10-11 класс. Учебник. Общая биология. Базовый уровень. Сивоглазов В.И., Агафонова И. Б., Захарова Е. Т. Биология. Базовый уровень. Учебник для 10 класса. И.Н. Пономарева, О.А. Корнилова, Т.Е. Лощинина, М.: - «Вентана-Граф»,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//www.lenagol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лекция фонов и клипар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lovo.ws/urok/biology/11/01/txt/05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иоцено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chool-collection.edu.ru/catalog/pupil/?class=4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диная коллекция цифровых образовательных ресурсов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olyan.net/uploads/posts/2011-05/1306822359_image_149.jpg http://images.wikia.com/nation/images/e/ef/Mellon_Wetlands_2.jpg http://file.mobilmusic.ru/f9/99/5e/29915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УРОВНИ ОРГАНИЗАЦИИ ЖИВ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еточ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м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ционно – видо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геоценотиче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сфе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биогеоценозе как о совершенной и устойчивой экологическ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определение биогеоцено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труктуру и компоненты биогеоценоза; его св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понятия «пищевая цепь» и «пищевая сеть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ть уровни биогеоцен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КРЫТАЯ ЖИВАЯ СИСТЕМА (БИОСИСТЕМА), ЭВОЛЮЦИОННО СЛОЖИВШАЯСЯ ИЗ РАЗНЫХ ВИДОВ МИКРООРГАНИЗМОВ, РАСТЕНИЙ И ЖИВОТНЫХ, СОВМЕСТНО ЗАСЕЛЯЮЩИХ ОПРЕДЕЛЕННЫЕ МЕСТА ОБ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00D05C610003_87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УКТУРА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3276720" y="1125360"/>
            <a:ext cx="295092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6" descr="tulip06"/>
          <p:cNvPicPr/>
          <p:nvPr/>
        </p:nvPicPr>
        <p:blipFill>
          <a:blip r:embed="rId1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tulip07"/>
          <p:cNvPicPr/>
          <p:nvPr/>
        </p:nvPicPr>
        <p:blipFill>
          <a:blip r:embed="rId2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01"/>
          <p:cNvPicPr/>
          <p:nvPr/>
        </p:nvPicPr>
        <p:blipFill>
          <a:blip r:embed="rId3"/>
          <a:stretch/>
        </p:blipFill>
        <p:spPr>
          <a:xfrm>
            <a:off x="179280" y="3860640"/>
            <a:ext cx="193536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7-5"/>
          <p:cNvPicPr/>
          <p:nvPr/>
        </p:nvPicPr>
        <p:blipFill>
          <a:blip r:embed="rId4"/>
          <a:stretch/>
        </p:blipFill>
        <p:spPr>
          <a:xfrm>
            <a:off x="565164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7-5"/>
          <p:cNvPicPr/>
          <p:nvPr/>
        </p:nvPicPr>
        <p:blipFill>
          <a:blip r:embed="rId1"/>
          <a:stretch/>
        </p:blipFill>
        <p:spPr>
          <a:xfrm>
            <a:off x="6372360" y="5229360"/>
            <a:ext cx="259236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203640" y="1413000"/>
            <a:ext cx="295092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971640" y="4005360"/>
            <a:ext cx="280836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5435640" y="4005360"/>
            <a:ext cx="287964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261600">
            <a:off x="201600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14285400">
            <a:off x="532764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08360" y="4581360"/>
            <a:ext cx="1871640" cy="505080"/>
          </a:xfrm>
          <a:prstGeom prst="leftRightArrow">
            <a:avLst>
              <a:gd name="adj1" fmla="val 50000"/>
              <a:gd name="adj2" fmla="val 737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01"/>
          <p:cNvPicPr/>
          <p:nvPr/>
        </p:nvPicPr>
        <p:blipFill>
          <a:blip r:embed="rId2"/>
          <a:stretch/>
        </p:blipFill>
        <p:spPr>
          <a:xfrm>
            <a:off x="250920" y="2276640"/>
            <a:ext cx="1935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tulip06"/>
          <p:cNvPicPr/>
          <p:nvPr/>
        </p:nvPicPr>
        <p:blipFill>
          <a:blip r:embed="rId3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tulip07"/>
          <p:cNvPicPr/>
          <p:nvPr/>
        </p:nvPicPr>
        <p:blipFill>
          <a:blip r:embed="rId4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tulip07"/>
          <p:cNvPicPr/>
          <p:nvPr/>
        </p:nvPicPr>
        <p:blipFill>
          <a:blip r:embed="rId5"/>
          <a:stretch/>
        </p:blipFill>
        <p:spPr>
          <a:xfrm>
            <a:off x="6156360" y="836640"/>
            <a:ext cx="3809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20364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42:53Z</dcterms:created>
  <dc:creator>RETGO</dc:creator>
  <dc:description/>
  <dc:language>en-US</dc:language>
  <cp:lastModifiedBy>Admin</cp:lastModifiedBy>
  <dcterms:modified xsi:type="dcterms:W3CDTF">2013-05-14T19:45:12Z</dcterms:modified>
  <cp:revision>18</cp:revision>
  <dc:subject/>
  <dc:title>Слайд 1</dc:title>
</cp:coreProperties>
</file>