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A310-C7BA-43D9-9BE2-58D8124C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808C-A5E0-4058-81D9-6A11A03C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77C7-3863-4A61-AEC0-2720C550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3494-0BFB-4C7A-BE23-C286A96B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D5F0-9E28-4AB7-885C-EC5C6533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2788-8C1D-4DF7-882E-C9D39EB6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6126-6AE7-4E3A-8B64-B68E0603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FEBC-86A0-47FB-A628-C138005B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9E2A-655B-4936-93A1-771F881F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7938-E80F-416A-B035-BFE0D47D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C266-AC1A-40D0-8967-F65486B4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AF52-7BEC-43E0-B58E-2A84F99B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7172-A78D-4372-BF33-11CAB354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3F42-95AD-4609-8514-6B9CA135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7CF8-3E44-401C-90D0-9E3D814D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8E3E-78AF-410A-AF67-B013A8BF9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1E29-0066-4ACF-A9E6-7EC15BEA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5417-1277-4028-9472-D859B193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5846-7359-4DBD-A5B0-14E6EF66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3836-AE0F-4D60-93F9-0154FAE0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36C0-A7CD-4F39-BA38-035DB544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48B9-0F2D-4F35-B373-37C697C5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694E-76AF-46A8-B5A9-9D5B4612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4479-5658-42C9-AE88-FFC55F50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5E8D-F982-45F7-81A2-E7F20C6197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1049-63B4-4F65-B766-CBA0E105D6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meduniver.com/Medical/Biology/81.html" TargetMode="External"/><Relationship Id="rId2" Type="http://schemas.openxmlformats.org/officeDocument/2006/relationships/hyperlink" Target="http://wreferat.bazareferat.ru/&#1050;&#1086;&#1074;&#1072;&#1083;&#1077;&#1085;&#1090;&#1085;&#1072;&#1103;_&#1089;&#1074;&#1103;&#1079;&#1100;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nice-one.ru/publ/uchebnye_materialy/materialovedenie/tipy_khimicheskikh_svjazej/44-1-0-1161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7160" y="1589040"/>
            <a:ext cx="807696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Неорганические вещества клет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92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биологии в 10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БОУ «Самусьский лицей имени акад. В.В. Пекарско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биологии Борзунова Ольга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большей части воды мног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мы гибнут, а ряд одноклеточных и да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оклеточных организмов временно утрачи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признаки жизни (анабиоз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воды до 2% массы тела (1-1,5 л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является жажда, при утрате 6-8% наступа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обморочное состоя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нехватке 10% появляются галлюцинаци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шается глот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воды в объеме 12 % от масс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а, человек погиб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00000" y="1125360"/>
            <a:ext cx="748836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и 20% потери вод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ступает СМЕР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3333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окое содержание воды в клетке - важнейшее условие ее деятельност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Строение молекулы вод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024360" cy="3384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851280" y="1773360"/>
            <a:ext cx="439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состоит из двух атомов водорода и одного атома кислорода и при этом электронейтральна. Но электрический заряд внутри молекулы распределен неравномерно. Следовательно, частица воды – дипо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йства воды довольно необычны и связаны с малыми размерами молекулы воды, с полярностью ее молекул и с их способностью соединяться друг с другом водородными связ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4537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чение воды в клетк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341360"/>
            <a:ext cx="79930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ода – хороший раствор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превосходный растворитель полярных веществ (соли, сахара, простые спирты). Растворимые вещества в воде называются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идрофи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бсолютно неполярные вещества типа жиров или масел вода не растворяет и не смешивается с ними, поскольку она  не может образовывать с ними водородные связи. Нерастворимые в воде вещества называются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идрофоб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2.Транспортн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обеспечивает передвижение веществ в клетку, из клетки, а также внутри самой клетки и организ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Метаболическ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является средой для всех биохимических реакций в клет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реакции гидроли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В процессе фотосинтеза вода является донором электронов и источником атомов водорода. Она же является источником свободного кислорода.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Фотолиз вод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асщепление воды под действием света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+ и О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Структурн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топлазма клеток содержит от 60 до 95 % воды. У растений вода определяет тургор клеток, а у некото­рых животных выполняет опорные функции, являясь гидростатическим скелетом (круглые 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ьчатые черви, иглокож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49173" r="0" b="0"/>
          <a:stretch/>
        </p:blipFill>
        <p:spPr>
          <a:xfrm>
            <a:off x="1332000" y="4221000"/>
            <a:ext cx="604836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6912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участвует в образовании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смазывающих жидкост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синовиальная в суставах позвоночных; плевральная в плевральной полости, перикардиальная в околосердечной сумке) и слизей (которые облегчают передвижение веществ по кишечнику, создают влажную среду на слизистых оболочках дыхательных путей). Она входит в состав слюны, желчи, слез, сперм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80258" t="0" r="0" b="0"/>
          <a:stretch/>
        </p:blipFill>
        <p:spPr>
          <a:xfrm>
            <a:off x="6372360" y="1700280"/>
            <a:ext cx="21524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5545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Теплорегуля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Вода обладае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сокой удельной теплоемкостью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свойство обеспечивает поддержание теплового баланса организма при значительных перепадах температуры в окружающей среде. Кроме того, вода обладае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сокой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теплопроводность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позволяет организму поддерживать одинаковую температуру во всем его объ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934240" y="1700280"/>
            <a:ext cx="2493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Минеральные соли клет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ы солей в водном растворе распадаются на катионы и ани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2421000"/>
            <a:ext cx="208908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2997360"/>
            <a:ext cx="208908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соц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48000" y="3500280"/>
            <a:ext cx="1943280" cy="2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56000" y="3284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4149720"/>
            <a:ext cx="3313440" cy="172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4221000"/>
            <a:ext cx="31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ельно заряж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атио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4149720"/>
            <a:ext cx="3097080" cy="172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CO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SO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90520" y="4149720"/>
            <a:ext cx="308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рицательно заряж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анио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843280" y="378936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6720" y="378936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чение ионов соле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сть между количеством катионов и анионов на поверхности и внутри клетки обеспечивает возникновени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тенциала действия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что лежит в основе возникновения нервного и мышечного возбу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стью концентрации ионов по разные стороны мембраны обусловлен активный перенос веществ через мембрану, а также преобразование энерг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динство химического состава живой мате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кроэлемен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о 0,00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98%(от всех макроэлементов)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от 0,1 до 0,001%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 Mg Na Ca Fe S  P 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икроэлемен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т 0,001 до 0,000001%)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ны тяжелых металлов, входящих в состав ферментов, гормонов и др.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 Co  Cu  Mo Zn J  Br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льтрамикроэле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 менее 0,000001%)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роль в организме не всегда установлена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U(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ран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  Au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 золото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Hg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ртуть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Be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бериллий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Se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сел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должение. Значение ионов со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цепление клеток между собой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ферность клетки – способность поддержива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постоянном уровне (7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ны некоторых металлов являются компонентами многих ферментов, гормонов и витаминов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остав гемоглобина кров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гормона инсулин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 состав хлорофил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единения азота, фосфора, кальция и др. неорганические вещества используются для синтеза органических молекул (аминокислот, белков, нуклеиновых кислот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health.passion.ru/l.php/serotonin_1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meduniver.com/Medical/Biology/8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http://wreferat.bazareferat.ru/%D0%9A%D0%BE%D0%B2%D0%B0%D0%BB%D0%B5%D0%BD%D1%82%D0%BD%D0%B0%D1%8F_%D1%81%D0%B2%D1%8F%D0%B7%D1%8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nice-one.ru/publ/uchebnye_materialy/materialovedenie/tipy_khimicheskikh_svjazej/44-1-0-11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pochemuha.ru/kak-soedinyayutsya-neodinakovye-atomy-molekuly-uglekislogo-g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-doctor.ru/toknow_stomatologia_medvedkovo/about_therapy/anatomiy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finalhearts.narod.ru/chronocross/keyitem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old.kpfu.ru/nilkto/cell/rasdel1/r1_p4_s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peredelka.tv/articles/flat/systems-constructions/communications/filtry-dlya-vod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Биогенные элемен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иогенные эле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химические элементы которые входят в состав клеток и выполняют биологические функции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P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S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3960720" cy="2946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076720" y="3716280"/>
            <a:ext cx="38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а серотонина, секретный код сча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держание химических соединений в кле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1600200"/>
          <a:ext cx="7924680" cy="441900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имическое соеди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одержание в клет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-8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в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-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клеиновые кисл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ические вещ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онная связь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оторая образуется тогда, когда атом отдает другому атому один из нескольких электро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7920" y="260280"/>
            <a:ext cx="77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живых организмах важную роль игр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ри типа химических свя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16360" y="2708280"/>
            <a:ext cx="3281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Ковалентная связь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разующаяся при возникновении у двух атомов обобществленной пары электронов – по одному электрону от каждого атома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892600" y="2924280"/>
            <a:ext cx="26920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Водородная связь, в образовании которой участвует водородный атом, соединенный с каким-нибудь другим атомом ковалентной полярной связью. В сравнении с ионной или ковалентной связью одиночная водородная связь – слабая. Она легко рвется, но множество таких связей способно породить силу, на которой в прямом смысле и «держится» все жив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6689"/>
          <a:stretch/>
        </p:blipFill>
        <p:spPr>
          <a:xfrm>
            <a:off x="4500720" y="4292640"/>
            <a:ext cx="338436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– одно из самых распространенных веществ на Земле, она покрывает большую часть земной поверхности и входит в состав всех живых организм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&amp;Vcy;&amp;ocy;&amp;dcy;&amp;acy;: &amp;vcy;&amp;icy;&amp;dcy; &amp;mcy;&amp;ocy;&amp;lcy;&amp;iecy;&amp;kcy;&amp;ucy;&amp;lcy;&amp;ycy;"/>
          <p:cNvPicPr/>
          <p:nvPr/>
        </p:nvPicPr>
        <p:blipFill>
          <a:blip r:embed="rId1"/>
          <a:stretch/>
        </p:blipFill>
        <p:spPr>
          <a:xfrm>
            <a:off x="4356000" y="2971800"/>
            <a:ext cx="35290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06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еди веществ клетки на первом месте по массе стоит вода. Содержание воды в разных клетках колеблется от 60 до 98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48843" t="0" r="25602" b="0"/>
          <a:stretch/>
        </p:blipFill>
        <p:spPr>
          <a:xfrm>
            <a:off x="5848200" y="1989000"/>
            <a:ext cx="2397240" cy="280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796000" y="4724280"/>
            <a:ext cx="28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летках эмбриона- 90-95%, в старых организмах –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95280" y="2276640"/>
            <a:ext cx="1879560" cy="3385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1280" y="1557360"/>
            <a:ext cx="302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Это зависит от типа 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67280" y="1557360"/>
            <a:ext cx="45370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 интенсивности обмена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551664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йрон – 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46530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ти –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573408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убная эмаль –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rcRect l="0" t="0" r="27407" b="0"/>
          <a:stretch/>
        </p:blipFill>
        <p:spPr>
          <a:xfrm>
            <a:off x="4067280" y="2708280"/>
            <a:ext cx="15444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7:36:05Z</dcterms:created>
  <dc:creator>Борзунов Вячеслав</dc:creator>
  <dc:description/>
  <dc:language>en-US</dc:language>
  <cp:lastModifiedBy>Home</cp:lastModifiedBy>
  <dcterms:modified xsi:type="dcterms:W3CDTF">2013-02-27T14:34:37Z</dcterms:modified>
  <cp:revision>20</cp:revision>
  <dc:subject/>
  <dc:title>Слайд 1</dc:title>
</cp:coreProperties>
</file>