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399A-0F28-4F74-85EB-6BB0C6B2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B22C-D19F-4A1C-80B3-A1470BE8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3942-550C-430F-84EC-121B8AA9E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D89F-A1AE-4663-977A-83C8B5A37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1A4A-B9E0-4FAF-93CF-5D3BD2572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DA25-0CC1-464E-8862-64024FAA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7023-87C1-4A52-8893-AA6ED340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AAF2-C5BB-4542-9CA8-DB41D9C5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FD3F-D59A-445B-B9A2-C07AB2DF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950B-CA57-43B4-83F8-5C85B4FB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B9D5-6609-41DD-B54F-0277031D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3641-CF4A-421B-A0E2-2AB27470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E2D1-DB80-4ACE-8117-D68D1607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B781-CFFF-4BCE-A2F3-27344A0F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CD62-211F-4DB8-B52F-42A1A5BF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FFDC-46ED-44B6-891D-C5F5CA9B9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1463-DAFA-4D86-9822-2EF76E58D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F11E-2BF0-49E1-BC7A-628A1EC8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3EF4-9C6F-4708-BD42-CC508A6B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6A63-D2A7-45A5-8D2F-80095A60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0F45-ABCD-4443-837D-6D97E367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9000-3D2F-4DD5-AE17-1D7730F6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F7A1-A2B6-4369-A4DD-9C4907C3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DDAC-BB67-435B-B12D-D5A47909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9E9D-D40C-4FE0-890F-47C2B97927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AEE6-DDCE-44B9-A39C-B28F41BD65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meduniver.com/Medical/Biology/81.html" TargetMode="External"/><Relationship Id="rId2" Type="http://schemas.openxmlformats.org/officeDocument/2006/relationships/hyperlink" Target="http://wreferat.bazareferat.ru/&#1050;&#1086;&#1074;&#1072;&#1083;&#1077;&#1085;&#1090;&#1085;&#1072;&#1103;_&#1089;&#1074;&#1103;&#1079;&#1100;" TargetMode="Externa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nice-one.ru/publ/uchebnye_materialy/materialovedenie/tipy_khimicheskikh_svjazej/44-1-0-1161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7160" y="1589040"/>
            <a:ext cx="807696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Arial"/>
              </a:rPr>
              <a:t>Неорганические вещества клет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92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ок биологии в 10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БОУ «Самусьский лицей имени акад. В.В. Пекарског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итель биологии Борзунова Ольга Анато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отере большей части воды мног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измы гибнут, а ряд одноклеточных и да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огоклеточных организмов временно утрачив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 признаки жизни (анабиоз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отере воды до 2% массы тела (1-1,5 л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является жажда, при утрате 6-8% наступае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уобморочное состоя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нехватке 10% появляются галлюцинации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ушается глот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отере воды в объеме 12 % от масс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ла, человек погиб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00000" y="1125360"/>
            <a:ext cx="7488360" cy="32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и 20% потери вод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ступает СМЕРТ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33336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сокое содержание воды в клетке - важнейшее условие ее деятельност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Строение молекулы воды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024360" cy="3384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851280" y="1773360"/>
            <a:ext cx="439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состоит из двух атомов водорода и одного атома кислорода и при этом электронейтральна. Но электрический заряд внутри молекулы распределен неравномерно. Следовательно, частица воды – дипо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ойства воды довольно необычны и связаны с малыми размерами молекулы воды, с полярностью ее молекул и с их способностью соединяться друг с другом водородными связ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124000" y="3213000"/>
            <a:ext cx="4537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начение воды в клетк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1341360"/>
            <a:ext cx="79930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Вода – хороший раствор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превосходный растворитель полярных веществ (соли, сахара, простые спирты). Растворимые вещества в воде называются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гидрофиль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бсолютно неполярные вещества типа жиров или масел вода не растворяет и не смешивается с ними, поскольку она  не может образовывать с ними водородные связи. Нерастворимые в воде вещества называются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гидрофоб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2.Транспортная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обеспечивает передвижение веществ в клетку, из клетки, а также внутри самой клетки и организ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Метаболическая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является средой для всех биохимических реакций в клет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реакции гидроли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В процессе фотосинтеза вода является донором электронов и источником атомов водорода. Она же является источником свободного кислорода.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Фотолиз вод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асщепление воды под действием света д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+ и О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Структурная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топлазма клеток содержит от 60 до 95 % воды. У растений вода определяет тургор клеток, а у некото­рых животных выполняет опорные функции, являясь гидростатическим скелетом (круглые 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льчатые черви, иглокож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49173" r="0" b="0"/>
          <a:stretch/>
        </p:blipFill>
        <p:spPr>
          <a:xfrm>
            <a:off x="1332000" y="4221000"/>
            <a:ext cx="604836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6912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участвует в образовании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смазывающих жидкост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синовиальная в суставах позвоночных; плевральная в плевральной полости, перикардиальная в околосердечной сумке) и слизей (которые облегчают передвижение веществ по кишечнику, создают влажную среду на слизистых оболочках дыхательных путей). Она входит в состав слюны, желчи, слез, спермы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80258" t="0" r="0" b="0"/>
          <a:stretch/>
        </p:blipFill>
        <p:spPr>
          <a:xfrm>
            <a:off x="6372360" y="1700280"/>
            <a:ext cx="215244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4920" y="1599840"/>
            <a:ext cx="5545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Теплорегуля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Вода обладае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ысокой удельной теплоемкостью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свойство обеспечивает поддержание теплового баланса организма при значительных перепадах температуры в окружающей среде. Кроме того, вода обладае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ысокой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теплопроводность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позволяет организму поддерживать одинаковую температуру во всем его объе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934240" y="1700280"/>
            <a:ext cx="2493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Минеральные соли клет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ы солей в водном растворе распадаются на катионы и анио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2421000"/>
            <a:ext cx="208908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2997360"/>
            <a:ext cx="2089080" cy="28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ссоци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48000" y="3500280"/>
            <a:ext cx="1943280" cy="21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27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56000" y="3284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4149720"/>
            <a:ext cx="3313440" cy="172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00000" y="4221000"/>
            <a:ext cx="312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ительно заряж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атио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4149720"/>
            <a:ext cx="3097080" cy="172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CO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SO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90520" y="4149720"/>
            <a:ext cx="308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рицательно заряж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анио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843280" y="378936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76720" y="3789360"/>
            <a:ext cx="358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начение ионов соле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ность между количеством катионов и анионов на поверхности и внутри клетки обеспечивает возникновени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тенциала действия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что лежит в основе возникновения нервного и мышечного возбуж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ностью концентрации ионов по разные стороны мембраны обусловлен активный перенос веществ через мембрану, а также преобразование энерг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динство химического состава живой мате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акроэлемен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о 0,00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98%(от всех макроэлементов)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от 0,1 до 0,001%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 Mg Na Ca Fe S  P 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икроэлемен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т 0,001 до 0,000001%)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оны тяжелых металлов, входящих в состав ферментов, гормонов и др.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 Co  Cu  Mo Zn J  Br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льтрамикроэлем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 менее 0,000001%)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х роль в организме не всегда установлена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U(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ран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  Au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( золото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Hg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(ртуть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Be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(бериллий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Se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(селе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одолжение. Значение ионов со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цепление клеток между собой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ферность клетки – способность поддерживат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постоянном уровне (7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оны некоторых металлов являются компонентами многих ферментов, гормонов и витаминов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состав гемоглобина крови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гормона инсулина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 состав хлорофил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единения азота, фосфора, кальция и др. неорганические вещества используются для синтеза органических молекул (аминокислот, белков, нуклеиновых кислот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health.passion.ru/l.php/serotonin_1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meduniver.com/Medical/Biology/81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http://wreferat.bazareferat.ru/%D0%9A%D0%BE%D0%B2%D0%B0%D0%BB%D0%B5%D0%BD%D1%82%D0%BD%D0%B0%D1%8F_%D1%81%D0%B2%D1%8F%D0%B7%D1%8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nice-one.ru/publ/uchebnye_materialy/materialovedenie/tipy_khimicheskikh_svjazej/44-1-0-11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pochemuha.ru/kak-soedinyayutsya-neodinakovye-atomy-molekuly-uglekislogo-g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-doctor.ru/toknow_stomatologia_medvedkovo/about_therapy/anatomiya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finalhearts.narod.ru/chronocross/keyitem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old.kpfu.ru/nilkto/cell/rasdel1/r1_p4_s1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peredelka.tv/articles/flat/systems-constructions/communications/filtry-dlya-vod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Биогенные элемент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иогенные элем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химические элементы которые входят в состав клеток и выполняют биологические функции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O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C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P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S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3960720" cy="2946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076720" y="3716280"/>
            <a:ext cx="38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а серотонина, секретный код счаст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держание химических соединений в клет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480" y="1600200"/>
          <a:ext cx="7924680" cy="4419000"/>
        </p:xfrm>
        <a:graphic>
          <a:graphicData uri="http://schemas.openxmlformats.org/drawingml/2006/table">
            <a:tbl>
              <a:tblPr/>
              <a:tblGrid>
                <a:gridCol w="3962160"/>
                <a:gridCol w="396252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имическое соеди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одержание в клет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-8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лев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-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клеиновые кисл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рганические веще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онная связь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оторая образуется тогда, когда атом отдает другому атому один из нескольких электрон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7920" y="260280"/>
            <a:ext cx="778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живых организмах важную роль игр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ри типа химических свя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16360" y="2708280"/>
            <a:ext cx="32814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. Ковалентная связь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бразующаяся при возникновении у двух атомов обобществленной пары электронов – по одному электрону от каждого атома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892600" y="2924280"/>
            <a:ext cx="269208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Водородная связь, в образовании которой участвует водородный атом, соединенный с каким-нибудь другим атомом ковалентной полярной связью. В сравнении с ионной или ковалентной связью одиночная водородная связь – слабая. Она легко рвется, но множество таких связей способно породить силу, на которой в прямом смысле и «держится» все жив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6689"/>
          <a:stretch/>
        </p:blipFill>
        <p:spPr>
          <a:xfrm>
            <a:off x="4500720" y="4292640"/>
            <a:ext cx="338436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– одно из самых распространенных веществ на Земле, она покрывает большую часть земной поверхности и входит в состав всех живых организм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од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&amp;Vcy;&amp;ocy;&amp;dcy;&amp;acy;: &amp;vcy;&amp;icy;&amp;dcy; &amp;mcy;&amp;ocy;&amp;lcy;&amp;iecy;&amp;kcy;&amp;ucy;&amp;lcy;&amp;ycy;"/>
          <p:cNvPicPr/>
          <p:nvPr/>
        </p:nvPicPr>
        <p:blipFill>
          <a:blip r:embed="rId1"/>
          <a:stretch/>
        </p:blipFill>
        <p:spPr>
          <a:xfrm>
            <a:off x="4356000" y="2971800"/>
            <a:ext cx="35290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064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еди веществ клетки на первом месте по массе стоит вода. Содержание воды в разных клетках колеблется от 60 до 98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rcRect l="48843" t="0" r="25602" b="0"/>
          <a:stretch/>
        </p:blipFill>
        <p:spPr>
          <a:xfrm>
            <a:off x="5848200" y="1989000"/>
            <a:ext cx="2397240" cy="2808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796000" y="4724280"/>
            <a:ext cx="288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летках эмбриона- 90-95%, в старых организмах – 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95280" y="2276640"/>
            <a:ext cx="1879560" cy="3385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11280" y="1557360"/>
            <a:ext cx="302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Это зависит от типа кл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67280" y="1557360"/>
            <a:ext cx="453708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и интенсивности обмена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551664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йрон – 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50920" y="465300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сти –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56000" y="5734080"/>
            <a:ext cx="35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убная эмаль –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rcRect l="0" t="0" r="27407" b="0"/>
          <a:stretch/>
        </p:blipFill>
        <p:spPr>
          <a:xfrm>
            <a:off x="4067280" y="2708280"/>
            <a:ext cx="154440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7:36:05Z</dcterms:created>
  <dc:creator>Борзунов Вячеслав</dc:creator>
  <dc:description/>
  <dc:language>en-US</dc:language>
  <cp:lastModifiedBy>Home</cp:lastModifiedBy>
  <dcterms:modified xsi:type="dcterms:W3CDTF">2013-02-27T14:34:37Z</dcterms:modified>
  <cp:revision>20</cp:revision>
  <dc:subject/>
  <dc:title>Слайд 1</dc:title>
</cp:coreProperties>
</file>