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6048-4D98-4ABD-BE2C-874107AA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5E8-468C-4731-B7FD-262D1E81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4C4-A6B4-477C-A561-11043786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88D-81AA-4D60-BA44-794532E0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9329-4C9C-4C79-BE29-1BB29D36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4AB6-F258-4ED3-9A9B-47A63463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602E-10EA-484C-8468-71175919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51CF-B204-42C9-A475-7D48E073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3C8E-06D2-49DC-9C7E-F35EC1B8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C51F-44F8-4881-B08C-21E0808C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B2EF-9A4B-457E-8E31-3B8132DD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48A-DA97-4305-83A6-EE610DF2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EBB2-EE6D-4E79-8D2E-25264C19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F1C9-22BE-4276-AB15-E6433166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2C1E-B1DC-46E1-A6E2-14746E98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710C-38A3-4A85-BB26-953613C2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5244-D5A4-4198-8F51-54EC926C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2A95-1DC5-4F27-B354-A54C114E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602-232F-44CD-ABC2-388BBDB9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F4E-55FE-4A71-8345-2D225CBF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28D-089F-43D2-8BB6-5BC21807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EC1-9BAF-45BE-B507-B2E0637B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2F31-3AB7-4252-880A-FE9C4A1C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764-19AD-409A-A024-23461E5A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B9D3-92B1-4D05-B313-0C7FE34A59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9E66-85E7-4F6F-B9C6-0221FEEEE0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eduniver.com/Medical/Biology/81.html" TargetMode="External"/><Relationship Id="rId2" Type="http://schemas.openxmlformats.org/officeDocument/2006/relationships/hyperlink" Target="http://wreferat.bazareferat.ru/&#1050;&#1086;&#1074;&#1072;&#1083;&#1077;&#1085;&#1090;&#1085;&#1072;&#1103;_&#1089;&#1074;&#1103;&#1079;&#1100;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nice-one.ru/publ/uchebnye_materialy/materialovedenie/tipy_khimicheskikh_svjazej/44-1-0-1161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7160" y="1589040"/>
            <a:ext cx="807696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Неорганические вещества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92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БОУ «Самусьский лицей имени акад. В.В. Пекарско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биологии Борзунова Ольг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большей части воды мно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мы гибнут, а ряд одноклеточных и д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клеточных организмов временно утрач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признаки жизни (анабиоз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до 2% массы тела (1-1,5 л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вляется жажда, при утрате 6-8% наступа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обморочное состоя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хватке 10% появляются галлюцинаци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ается глот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в объеме 12 % от масс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а, человек погиб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1125360"/>
            <a:ext cx="7488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 20% потери во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тупает СМЕР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33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окое содержание воды в клетке - важнейшее условие ее деятельно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троение молекулы вод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024360" cy="338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51280" y="1773360"/>
            <a:ext cx="43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состоит из двух атомов водорода и одного атома кислорода и при этом электронейтральна. Но электрический заряд внутри молекулы распределен неравномерно. Следовательно, частица воды – дипо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ства воды довольно необычны и связаны с малыми размерами молекулы воды, с полярностью ее молекул и с их способностью соединяться друг с другом водородными связ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53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воды в клетк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341360"/>
            <a:ext cx="79930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ода – хороший раствор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превосходный растворитель полярных веществ (соли, сахара, простые спирты). Растворимые вещества в воде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и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солютно неполярные вещества типа жиров или масел вода не растворяет и не смешивается с ними, поскольку она  не может образовывать с ними водородные связи. Нерастворимые в воде вещества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об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2.Транспорт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обеспечивает передвижение веществ в клетку, из клетки, а также внутри самой клетки и организ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Метаболическ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является средой для всех биохимических реакций в кле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реакции гидрол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В процессе фотосинтеза вода является донором электронов и источником атомов водорода. Она же является источником свободного кислорода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Фотолиз во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асщепление воды под действием света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+ и О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труктур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топлазма клеток содержит от 60 до 95 % воды. У растений вода определяет тургор клеток, а у некото­рых животных выполняет опорные функции, являясь гидростатическим скелетом (круглые 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ьчатые черви, иглокож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49173" r="0" b="0"/>
          <a:stretch/>
        </p:blipFill>
        <p:spPr>
          <a:xfrm>
            <a:off x="1332000" y="4221000"/>
            <a:ext cx="604836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6912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участвует в образовании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мазывающих жидкос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иновиальная в суставах позвоночных; плевральная в плевральной полости, перикардиальная в околосердечной сумке) и слизей (которые облегчают передвижение веществ по кишечнику, создают влажную среду на слизистых оболочках дыхательных путей). Она входит в состав слюны, желчи, слез, сперм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80258" t="0" r="0" b="0"/>
          <a:stretch/>
        </p:blipFill>
        <p:spPr>
          <a:xfrm>
            <a:off x="6372360" y="1700280"/>
            <a:ext cx="2152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5545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регуля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удельной теплоемкостью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войство обеспечивает поддержание теплового баланса организма при значительных перепадах температуры в окружающей среде. Кроме того,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проводность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позволяет организму поддерживать одинаковую температуру во всем его объ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934240" y="1700280"/>
            <a:ext cx="249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Минеральные соли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солей в водном растворе распадаются на катионы и ани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421000"/>
            <a:ext cx="20890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997360"/>
            <a:ext cx="208908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3500280"/>
            <a:ext cx="194328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4149720"/>
            <a:ext cx="331344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4221000"/>
            <a:ext cx="31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т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149720"/>
            <a:ext cx="309708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C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S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90520" y="414972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ица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н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43280" y="378936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3789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ионов сол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 между количеством катионов и анионов на поверхности и внутри клетки обеспечивает возникновени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енциала действия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что лежит в основе возникновения нервного и мышечного возбу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ю концентрации ионов по разные стороны мембраны обусловлен активный перенос веществ через мембрану, а также преобразование энер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динство химического состава живой мат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о 0,00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98%(от всех макроэлементов)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от 0,1 до 0,001%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 Mg Na Ca Fe S  P 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и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0,001 до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тяжелых металлов, входящих в состав ферментов, гормонов и др.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 Co  Cu  Mo Zn J  Br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льтрамикро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менее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роль в организме не всегда установлена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U(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ран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  Au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 золото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H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ртуть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B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бериллий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сел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должение. Значение ионов с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пление клеток между собой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ферность клетки – способность поддержив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постоянном уровне (7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некоторых металлов являются компонентами многих ферментов, гормонов и витаминов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остав гемоглобина кров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ормона инсулин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 состав хлорофи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ия азота, фосфора, кальция и др. неорганические вещества используются для синтеза органических молекул (аминокислот, белков, нуклеиновых кислот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ealth.passion.ru/l.php/serotonin_1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meduniver.com/Medical/Biology/8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://wreferat.bazareferat.ru/%D0%9A%D0%BE%D0%B2%D0%B0%D0%BB%D0%B5%D0%BD%D1%82%D0%BD%D0%B0%D1%8F_%D1%81%D0%B2%D1%8F%D0%B7%D1%8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nice-one.ru/publ/uchebnye_materialy/materialovedenie/tipy_khimicheskikh_svjazej/44-1-0-11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ochemuha.ru/kak-soedinyayutsya-neodinakovye-atomy-molekuly-uglekislogo-g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-doctor.ru/toknow_stomatologia_medvedkovo/about_therapy/anatomiy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inalhearts.narod.ru/chronocross/keyite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old.kpfu.ru/nilkto/cell/rasdel1/r1_p4_s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peredelka.tv/articles/flat/systems-constructions/communications/filtry-dlya-vod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Биогенные элемен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иогенные 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имические элементы которые входят в состав клеток и выполняют биологические функции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P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S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3960720" cy="294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76720" y="371628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серотонина, секретный код 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держание химических соединений в кле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600200"/>
          <a:ext cx="7924680" cy="44190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имическое соеди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держание в кле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иновые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онная связь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торая образуется тогда, когда атом отдает другому атому один из нескольких электро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7920" y="260280"/>
            <a:ext cx="77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живых организмах важную роль игр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и типа химических св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281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Ковалентная связь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разующаяся при возникновении у двух атомов обобществленной пары электронов – по одному электрону от каждого атом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92600" y="2924280"/>
            <a:ext cx="26920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Водородная связь, в образовании которой участвует водородный атом, соединенный с каким-нибудь другим атомом ковалентной полярной связью. В сравнении с ионной или ковалентной связью одиночная водородная связь – слабая. Она легко рвется, но множество таких связей способно породить силу, на которой в прямом смысле и «держится» все жив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6689"/>
          <a:stretch/>
        </p:blipFill>
        <p:spPr>
          <a:xfrm>
            <a:off x="4500720" y="4292640"/>
            <a:ext cx="3384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– одно из самых распространенных веществ на Земле, она покрывает большую часть земной поверхности и входит в состав всех живых организ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&amp;Vcy;&amp;ocy;&amp;dcy;&amp;acy;: &amp;vcy;&amp;icy;&amp;dcy; &amp;mcy;&amp;ocy;&amp;lcy;&amp;iecy;&amp;kcy;&amp;ucy;&amp;lcy;&amp;ycy;"/>
          <p:cNvPicPr/>
          <p:nvPr/>
        </p:nvPicPr>
        <p:blipFill>
          <a:blip r:embed="rId1"/>
          <a:stretch/>
        </p:blipFill>
        <p:spPr>
          <a:xfrm>
            <a:off x="4356000" y="2971800"/>
            <a:ext cx="3529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06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и веществ клетки на первом месте по массе стоит вода. Содержание воды в разных клетках колеблется от 60 до 98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48843" t="0" r="25602" b="0"/>
          <a:stretch/>
        </p:blipFill>
        <p:spPr>
          <a:xfrm>
            <a:off x="5848200" y="1989000"/>
            <a:ext cx="239724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96000" y="472428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летках эмбриона- 90-95%, в старых организмах –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95280" y="2276640"/>
            <a:ext cx="1879560" cy="338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1557360"/>
            <a:ext cx="302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Это зависит от типа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7280" y="1557360"/>
            <a:ext cx="4537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интенсивности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516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йрон –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653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ти –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73408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убная эмаль –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rcRect l="0" t="0" r="27407" b="0"/>
          <a:stretch/>
        </p:blipFill>
        <p:spPr>
          <a:xfrm>
            <a:off x="4067280" y="2708280"/>
            <a:ext cx="15444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7:36:05Z</dcterms:created>
  <dc:creator>Борзунов Вячеслав</dc:creator>
  <dc:description/>
  <dc:language>en-US</dc:language>
  <cp:lastModifiedBy>Home</cp:lastModifiedBy>
  <dcterms:modified xsi:type="dcterms:W3CDTF">2013-02-27T14:34:37Z</dcterms:modified>
  <cp:revision>20</cp:revision>
  <dc:subject/>
  <dc:title>Слайд 1</dc:title>
</cp:coreProperties>
</file>