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00EF-7336-440E-AEC0-B4C7FBB0A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43A0-7A40-4441-91EE-FD23B4538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5C01-B581-4B8C-8393-84C030EFB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F68A-A3E8-4B22-A97C-9A7942805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5BB05-CE95-4FBC-9DD1-8CFB99C6A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9146E-9765-4754-92FD-B60666F13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66081-D798-407E-918D-1D7090734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54A8A-A9FA-4B2A-A3FE-62DF1171A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DD7E9-2D75-4C5F-BA98-2C52CC1C2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4B260-AF2C-41F3-9F8E-D8BF533F1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20835-CA99-4352-A45E-29C1069B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931E-BBE7-410F-90CD-BCF06E4A9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CAA5D-1263-44BD-AF42-98114B75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DF906-9A37-47F6-96E8-90ED5FFF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D8E83-A127-43E5-94F8-64845085E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E667D-6920-4221-BFE7-A2AB2DDC5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08BEB-17C6-4134-A550-484F636F9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C002-0E08-4A91-9829-DF2D7829E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D947-C596-4711-A275-F8D9FE37A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8EE9-F6F1-4B24-982C-61F214E97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BC83-B9D8-4101-BD59-0D6ECD044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11D8-2927-484A-9CF9-39925F8B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D30F-594B-4485-B936-1E5E863F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118A-BEDC-4885-B814-B675F445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B3BF1-DD25-4051-9A23-F0365E06A2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22824-E703-4D5C-AA41-F77FFE28C8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meduniver.com/Medical/Biology/81.html" TargetMode="External"/><Relationship Id="rId2" Type="http://schemas.openxmlformats.org/officeDocument/2006/relationships/hyperlink" Target="http://wreferat.bazareferat.ru/&#1050;&#1086;&#1074;&#1072;&#1083;&#1077;&#1085;&#1090;&#1085;&#1072;&#1103;_&#1089;&#1074;&#1103;&#1079;&#1100;" TargetMode="External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nice-one.ru/publ/uchebnye_materialy/materialovedenie/tipy_khimicheskikh_svjazej/44-1-0-1161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7160" y="1589040"/>
            <a:ext cx="807696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ff"/>
                </a:solidFill>
                <a:latin typeface="Arial"/>
              </a:rPr>
              <a:t>Неорганические вещества клетк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4292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рок биологии в 10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БОУ «Самусьский лицей имени акад. В.В. Пекарског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итель биологии Борзунова Ольга Анатол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потере большей части воды мног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рганизмы гибнут, а ряд одноклеточных и даж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ногоклеточных организмов временно утрачив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е признаки жизни (анабиоз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потере воды до 2% массы тела (1-1,5 л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является жажда, при утрате 6-8% наступае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уобморочное состоян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нехватке 10% появляются галлюцинации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рушается глота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потере воды в объеме 12 % от масс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ла, человек погиба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00000" y="1125360"/>
            <a:ext cx="7488360" cy="324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и 20% потери воды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аступает СМЕРТЬ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71640" y="333360"/>
            <a:ext cx="64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ысокое содержание воды в клетке - важнейшее условие ее деятельност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Строение молекулы воды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3024360" cy="3384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851280" y="1773360"/>
            <a:ext cx="439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а состоит из двух атомов водорода и одного атома кислорода и при этом электронейтральна. Но электрический заряд внутри молекулы распределен неравномерно. Следовательно, частица воды – дипол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войства воды довольно необычны и связаны с малыми размерами молекулы воды, с полярностью ее молекул и с их способностью соединяться друг с другом водородными связя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124000" y="3213000"/>
            <a:ext cx="45370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Значение воды в клетк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1341360"/>
            <a:ext cx="79930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Вода – хороший раствор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а превосходный растворитель полярных веществ (соли, сахара, простые спирты). Растворимые вещества в воде называются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гидрофиль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бсолютно неполярные вещества типа жиров или масел вода не растворяет и не смешивается с ними, поскольку она  не может образовывать с ними водородные связи. Нерастворимые в воде вещества называются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гидрофоб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Продолжение. Значение воды в клетке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2.Транспортная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а обеспечивает передвижение веществ в клетку, из клетки, а также внутри самой клетки и организм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Метаболическая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а является средой для всех биохимических реакций в клет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) реакции гидроли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) В процессе фотосинтеза вода является донором электронов и источником атомов водорода. Она же является источником свободного кислорода.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Фотолиз вод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расщепление воды под действием света д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+ и О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Продолжение. Значение воды в клетке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Структурная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итоплазма клеток содержит от 60 до 95 % воды. У растений вода определяет тургор клеток, а у некото­рых животных выполняет опорные функции, являясь гидростатическим скелетом (круглые 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льчатые черви, иглокож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49173" r="0" b="0"/>
          <a:stretch/>
        </p:blipFill>
        <p:spPr>
          <a:xfrm>
            <a:off x="1332000" y="4221000"/>
            <a:ext cx="6048360" cy="18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Продолжение. Значение воды в клетке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569124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а участвует в образовании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смазывающих жидкосте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синовиальная в суставах позвоночных; плевральная в плевральной полости, перикардиальная в околосердечной сумке) и слизей (которые облегчают передвижение веществ по кишечнику, создают влажную среду на слизистых оболочках дыхательных путей). Она входит в состав слюны, желчи, слез, спермы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80258" t="0" r="0" b="0"/>
          <a:stretch/>
        </p:blipFill>
        <p:spPr>
          <a:xfrm>
            <a:off x="6372360" y="1700280"/>
            <a:ext cx="215244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Продолжение. Значение воды в клетке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4920" y="1599840"/>
            <a:ext cx="5545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Теплорегуляц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Вода обладает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ысокой удельной теплоемкостью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свойство обеспечивает поддержание теплового баланса организма при значительных перепадах температуры в окружающей среде. Кроме того, вода обладает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ысокой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теплопроводностью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 позволяет организму поддерживать одинаковую температуру во всем его объем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934240" y="1700280"/>
            <a:ext cx="24937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Минеральные соли клетк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лекулы солей в водном растворе распадаются на катионы и анио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2421000"/>
            <a:ext cx="208908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2997360"/>
            <a:ext cx="2089080" cy="288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иссоци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348000" y="3500280"/>
            <a:ext cx="1943280" cy="216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27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356000" y="32846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4149720"/>
            <a:ext cx="3313440" cy="1727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00000" y="4221000"/>
            <a:ext cx="312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ожительно заряж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катион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88000" y="4149720"/>
            <a:ext cx="3097080" cy="1727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HCO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HSO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90520" y="4149720"/>
            <a:ext cx="308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рицательно заряж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анион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843280" y="378936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076720" y="3789360"/>
            <a:ext cx="358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Значение ионов солей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ность между количеством катионов и анионов на поверхности и внутри клетки обеспечивает возникновение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потенциала действия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что лежит в основе возникновения нервного и мышечного возбужд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ностью концентрации ионов по разные стороны мембраны обусловлен активный перенос веществ через мембрану, а также преобразование энерг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динство химического состава живой матер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акроэлемент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до 0,001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98%(от всех макроэлементов)-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N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от 0,1 до 0,001%-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K Mg Na Ca Fe S  P 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икроэлемент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от 0,001 до 0,000001%)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оны тяжелых металлов, входящих в состав ферментов, гормонов и др.-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 Co  Cu  Mo Zn J  Br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Ультрамикроэлемен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 менее 0,000001%)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х роль в организме не всегда установлена-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U(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уран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)  Au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( золото)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Hg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(ртуть)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Be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(бериллий)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Se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(селе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одолжение. Значение ионов сол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цепление клеток между собой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ферность клетки – способность поддерживат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постоянном уровне (7,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оны некоторых металлов являются компонентами многих ферментов, гормонов и витаминов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состав гемоглобина крови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гормона инсулина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в состав хлорофилл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единения азота, фосфора, кальция и др. неорганические вещества используются для синтеза органических молекул (аминокислот, белков, нуклеиновых кислот и д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health.passion.ru/l.php/serotonin_1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http://meduniver.com/Medical/Biology/81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6666"/>
                </a:solidFill>
                <a:uFillTx/>
                <a:latin typeface="Arial"/>
                <a:hlinkClick r:id="rId2"/>
              </a:rPr>
              <a:t>http://wreferat.bazareferat.ru/%D0%9A%D0%BE%D0%B2%D0%B0%D0%BB%D0%B5%D0%BD%D1%82%D0%BD%D0%B0%D1%8F_%D1%81%D0%B2%D1%8F%D0%B7%D1%8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http://nice-one.ru/publ/uchebnye_materialy/materialovedenie/tipy_khimicheskikh_svjazej/44-1-0-116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pochemuha.ru/kak-soedinyayutsya-neodinakovye-atomy-molekuly-uglekislogo-ga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v-doctor.ru/toknow_stomatologia_medvedkovo/about_therapy/anatomiya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finalhearts.narod.ru/chronocross/keyitem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old.kpfu.ru/nilkto/cell/rasdel1/r1_p4_s1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peredelka.tv/articles/flat/systems-constructions/communications/filtry-dlya-vody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Биогенные элемент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Биогенные элемен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химические элементы которые входят в состав клеток и выполняют биологические функции (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O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N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C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P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S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042920" y="2924280"/>
            <a:ext cx="3960720" cy="29462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076720" y="3716280"/>
            <a:ext cx="38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лекула серотонина, секретный код счаст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одержание химических соединений в клет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9480" y="1600200"/>
          <a:ext cx="7924680" cy="4419000"/>
        </p:xfrm>
        <a:graphic>
          <a:graphicData uri="http://schemas.openxmlformats.org/drawingml/2006/table">
            <a:tbl>
              <a:tblPr/>
              <a:tblGrid>
                <a:gridCol w="3962160"/>
                <a:gridCol w="396252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Химическое соеди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одержание в клет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-8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2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лево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-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уклеиновые кисло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рганические вещест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1,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Ионная связь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которая образуется тогда, когда атом отдает другому атому один из нескольких электрон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87920" y="260280"/>
            <a:ext cx="778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живых организмах важную роль играю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три типа химических связ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916360" y="2708280"/>
            <a:ext cx="328140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10920" y="16282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2. Ковалентная связь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бразующаяся при возникновении у двух атомов обобществленной пары электронов – по одному электрону от каждого атома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892600" y="2924280"/>
            <a:ext cx="269208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Водородная связь, в образовании которой участвует водородный атом, соединенный с каким-нибудь другим атомом ковалентной полярной связью. В сравнении с ионной или ковалентной связью одиночная водородная связь – слабая. Она легко рвется, но множество таких связей способно породить силу, на которой в прямом смысле и «держится» все живо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6689"/>
          <a:stretch/>
        </p:blipFill>
        <p:spPr>
          <a:xfrm>
            <a:off x="4500720" y="4292640"/>
            <a:ext cx="338436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а – одно из самых распространенных веществ на Земле, она покрывает большую часть земной поверхности и входит в состав всех живых организм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Вод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&amp;Vcy;&amp;ocy;&amp;dcy;&amp;acy;: &amp;vcy;&amp;icy;&amp;dcy; &amp;mcy;&amp;ocy;&amp;lcy;&amp;iecy;&amp;kcy;&amp;ucy;&amp;lcy;&amp;ycy;"/>
          <p:cNvPicPr/>
          <p:nvPr/>
        </p:nvPicPr>
        <p:blipFill>
          <a:blip r:embed="rId1"/>
          <a:stretch/>
        </p:blipFill>
        <p:spPr>
          <a:xfrm>
            <a:off x="4356000" y="2971800"/>
            <a:ext cx="352908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979640" y="213372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79280" y="115560"/>
            <a:ext cx="80647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реди веществ клетки на первом месте по массе стоит вода. Содержание воды в разных клетках колеблется от 60 до 98%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rcRect l="48843" t="0" r="25602" b="0"/>
          <a:stretch/>
        </p:blipFill>
        <p:spPr>
          <a:xfrm>
            <a:off x="5848200" y="1989000"/>
            <a:ext cx="2397240" cy="2808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796000" y="4724280"/>
            <a:ext cx="288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клетках эмбриона- 90-95%, в старых организмах – 6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95280" y="2276640"/>
            <a:ext cx="1879560" cy="3385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11280" y="1557360"/>
            <a:ext cx="3024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Это зависит от типа кле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067280" y="1557360"/>
            <a:ext cx="4537080" cy="12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и интенсивности обмена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551664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йрон – 8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50920" y="465300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сти – 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56000" y="5734080"/>
            <a:ext cx="35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убная эмаль – 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rcRect l="0" t="0" r="27407" b="0"/>
          <a:stretch/>
        </p:blipFill>
        <p:spPr>
          <a:xfrm>
            <a:off x="4067280" y="2708280"/>
            <a:ext cx="154440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1T07:36:05Z</dcterms:created>
  <dc:creator>Борзунов Вячеслав</dc:creator>
  <dc:description/>
  <dc:language>en-US</dc:language>
  <cp:lastModifiedBy>Home</cp:lastModifiedBy>
  <dcterms:modified xsi:type="dcterms:W3CDTF">2013-02-27T14:34:37Z</dcterms:modified>
  <cp:revision>20</cp:revision>
  <dc:subject/>
  <dc:title>Слайд 1</dc:title>
</cp:coreProperties>
</file>