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1B3-5695-4AE9-B0AF-DD3B7244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BA6-D34F-454B-AB64-F84D6E98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9D0-B7AA-4B9D-9A7B-F55D3325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3FAB-A96E-4201-9814-B02EA433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D072-99C3-40FF-A9A2-C53BE4D6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3BBE-DC3F-47BE-9AC6-0E9CB80A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E89C-B192-49B5-A103-30475BE4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703B-C832-4FD9-AAD2-D31C47FC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2C7A-85D4-4025-95E7-00D21F8B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7B0D-00EE-41D4-BEE7-043AA5B2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B6F7-9DAB-4BB7-8045-FFB86E77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BB5-7ADD-46B8-9E93-66615EE5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FB07-850E-4D6D-991D-B145F6E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1604-4FE1-4729-9A67-080F72B8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25EA-68F7-4951-9143-90FA7DC6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D181-2986-4389-AFEC-3EE3183E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58CD-944F-4232-9169-8517158B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66E-D7B2-4BDF-8793-71BE12AF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8F3-A293-488F-A237-9787A2C0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E5B-46B0-4D8F-8359-D64DF21C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1C8-AFE8-4DB5-979B-5FADAB1E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0D1-D2FA-4601-8DDC-1A83F4A2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D75-A6A6-41A3-BDD9-00B29771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AD15-170B-43E4-A2C7-39B86767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EACA-BDE7-4B0F-9401-D3CA6B08C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9A35-4223-4D1A-8265-6F0CD898E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eduniver.com/Medical/Biology/81.html" TargetMode="External"/><Relationship Id="rId2" Type="http://schemas.openxmlformats.org/officeDocument/2006/relationships/hyperlink" Target="http://wreferat.bazareferat.ru/&#1050;&#1086;&#1074;&#1072;&#1083;&#1077;&#1085;&#1090;&#1085;&#1072;&#1103;_&#1089;&#1074;&#1103;&#1079;&#1100;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nice-one.ru/publ/uchebnye_materialy/materialovedenie/tipy_khimicheskikh_svjazej/44-1-0-1161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7160" y="1589040"/>
            <a:ext cx="807696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Неорганические вещества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БОУ «Самусьский лицей имени акад. В.В. Пекарско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биологии Борзунова Ольга Анато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большей части воды мно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ганизмы гибнут, а ряд одноклеточных и да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оклеточных организмов временно утрач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признаки жизни (анабиоз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до 2% массы тела (1-1,5 л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является жажда, при утрате 6-8% наступ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обморочное состоя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хватке 10% появляются галлюцинаци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шается гло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тере воды в объеме 12 % от масс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а, человек погиб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125360"/>
            <a:ext cx="7488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 20% потери во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тупает СМЕР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окое содержание воды в клетке - важнейшее условие ее деятельност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троение молекулы вод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02436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851280" y="177336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состоит из двух атомов водорода и одного атома кислорода и при этом электронейтральна. Но электрический заряд внутри молекулы распределен неравномерно. Следовательно, частица воды – дип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йства воды довольно необычны и связаны с малыми размерами молекулы воды, с полярностью ее молекул и с их способностью соединяться друг с другом водородными связ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53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воды в клетк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1341360"/>
            <a:ext cx="7993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ода – хороший раствор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превосходный растворитель полярных веществ (соли, сахара, простые спирты). Растворимые вещества в воде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иль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бсолютно неполярные вещества типа жиров или масел вода не растворяет и не смешивается с ними, поскольку она  не может образовывать с ними водородные связи. Нерастворимые в воде вещества называются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гидроф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2.Транспорт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обеспечивает передвижение веществ в клетку, из клетки, а также внутри самой клетки и организ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Метаболическ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является средой для всех биохимических реакций в кл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реакции гидро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В процессе фотосинтеза вода является донором электронов и источником атомов водорода. Она же является источником свободного кислорода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Фотолиз в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расщепление воды под действием света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+ и О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труктурная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топлазма клеток содержит от 60 до 95 % воды. У растений вода определяет тургор клеток, а у некото­рых животных выполняет опорные функции, являясь гидростатическим скелетом (круглые 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ьчатые черви, иглокож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49173" r="0" b="0"/>
          <a:stretch/>
        </p:blipFill>
        <p:spPr>
          <a:xfrm>
            <a:off x="1332000" y="4221000"/>
            <a:ext cx="60483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6912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участвует в образовании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смазывающих жидк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иновиальная в суставах позвоночных; плевральная в плевральной полости, перикардиальная в околосердечной сумке) и слизей (которые облегчают передвижение веществ по кишечнику, создают влажную среду на слизистых оболочках дыхательных путей). Она входит в состав слюны, желчи, слез, сперм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80258" t="0" r="0" b="0"/>
          <a:stretch/>
        </p:blipFill>
        <p:spPr>
          <a:xfrm>
            <a:off x="6372360" y="1700280"/>
            <a:ext cx="215244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одолжение. Значение воды в клетк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5545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регуля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удельной теплоемкостью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свойство обеспечивает поддержание теплового баланса организма при значительных перепадах температуры в окружающей среде. Кроме того, вода обладае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сокой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теплопроводность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озволяет организму поддерживать одинаковую температуру во всем его объ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934240" y="1700280"/>
            <a:ext cx="2493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инеральные соли клет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солей в водном растворе распадаются на катионы и ани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2421000"/>
            <a:ext cx="20890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997360"/>
            <a:ext cx="2089080" cy="288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3500280"/>
            <a:ext cx="1943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84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4149720"/>
            <a:ext cx="331344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4221000"/>
            <a:ext cx="31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т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149720"/>
            <a:ext cx="309708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C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SO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90520" y="4149720"/>
            <a:ext cx="308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ицательно заряж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ан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843280" y="378936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6720" y="3789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чение ионов с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 между количеством катионов и анионов на поверхности и внутри клетки обеспечивает возникнов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тенциала действи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то лежит в основе возникновения нервного и мышечного возбу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стью концентрации ионов по разные стороны мембраны обусловлен активный перенос веществ через мембрану, а также преобразование энерг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динство химического состава живой ма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о 0,00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98%(от всех макроэлементов)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от 0,1 до 0,001%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 Mg Na Ca Fe S  P 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икроэлемент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 0,001 до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тяжелых металлов, входящих в состав ферментов, гормонов и др.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 Co  Cu  Mo Zn J  Br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льтрамикро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 менее 0,000001%)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оль в организме не всегда установлена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U(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ран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 Au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 золото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Hg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ртуть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B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(бериллий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сел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должение. Значение ионов с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пление клеток между собой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ферность клетки – способность поддержива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остоянном уровне (7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оны некоторых металлов являются компонентами многих ферментов, гормонов и витаминов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остав гемоглобина кров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ормона инсул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 состав хлорофил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ия азота, фосфора, кальция и др. неорганические вещества используются для синтеза органических молекул (аминокислот, белков, нуклеиновых кислот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ealth.passion.ru/l.php/serotonin_1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meduniver.com/Medical/Biology/8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http://wreferat.bazareferat.ru/%D0%9A%D0%BE%D0%B2%D0%B0%D0%BB%D0%B5%D0%BD%D1%82%D0%BD%D0%B0%D1%8F_%D1%81%D0%B2%D1%8F%D0%B7%D1%8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nice-one.ru/publ/uchebnye_materialy/materialovedenie/tipy_khimicheskikh_svjazej/44-1-0-11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pochemuha.ru/kak-soedinyayutsya-neodinakovye-atomy-molekuly-uglekislogo-g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v-doctor.ru/toknow_stomatologia_medvedkovo/about_therapy/anatomiy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finalhearts.narod.ru/chronocross/keyite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old.kpfu.ru/nilkto/cell/rasdel1/r1_p4_s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peredelka.tv/articles/flat/systems-constructions/communications/filtry-dlya-vod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иогенные элемен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иогенные эле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имические элементы которые входят в состав клеток и выполняют биологические функции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C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P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S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3960720" cy="2946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076720" y="371628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серотонина, секретный код 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держание химических соединений в кле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имическое соеди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держание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иновые кисл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Ионная связь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торая образуется тогда, когда атом отдает другому атому один из нескольких электрон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920" y="260280"/>
            <a:ext cx="77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живых организмах важную роль игр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и типа химически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81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Ковалентная связь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бразующаяся при возникновении у двух атомов обобществленной пары электронов – по одному электрону от каждого атом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92600" y="2924280"/>
            <a:ext cx="2692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Водородная связь, в образовании которой участвует водородный атом, соединенный с каким-нибудь другим атомом ковалентной полярной связью. В сравнении с ионной или ковалентной связью одиночная водородная связь – слабая. Она легко рвется, но множество таких связей способно породить силу, на которой в прямом смысле и «держится» все жив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6689"/>
          <a:stretch/>
        </p:blipFill>
        <p:spPr>
          <a:xfrm>
            <a:off x="4500720" y="4292640"/>
            <a:ext cx="3384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– одно из самых распространенных веществ на Земле, она покрывает большую часть земной поверхности и входит в состав всех живых организ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&amp;Vcy;&amp;ocy;&amp;dcy;&amp;acy;: &amp;vcy;&amp;icy;&amp;dcy; &amp;mcy;&amp;ocy;&amp;lcy;&amp;iecy;&amp;kcy;&amp;ucy;&amp;lcy;&amp;ycy;"/>
          <p:cNvPicPr/>
          <p:nvPr/>
        </p:nvPicPr>
        <p:blipFill>
          <a:blip r:embed="rId1"/>
          <a:stretch/>
        </p:blipFill>
        <p:spPr>
          <a:xfrm>
            <a:off x="4356000" y="2971800"/>
            <a:ext cx="3529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еди веществ клетки на первом месте по массе стоит вода. Содержание воды в разных клетках колеблется от 60 до 98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48843" t="0" r="25602" b="0"/>
          <a:stretch/>
        </p:blipFill>
        <p:spPr>
          <a:xfrm>
            <a:off x="5848200" y="1989000"/>
            <a:ext cx="239724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96000" y="472428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летках эмбриона- 90-95%, в старых организмах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879560" cy="3385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1557360"/>
            <a:ext cx="302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Это зависит от типа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67280" y="1557360"/>
            <a:ext cx="453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 интенсивности обмена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йрон –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4653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ти –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73408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убная эмаль –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rcRect l="0" t="0" r="27407" b="0"/>
          <a:stretch/>
        </p:blipFill>
        <p:spPr>
          <a:xfrm>
            <a:off x="4067280" y="2708280"/>
            <a:ext cx="15444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7:36:05Z</dcterms:created>
  <dc:creator>Борзунов Вячеслав</dc:creator>
  <dc:description/>
  <dc:language>en-US</dc:language>
  <cp:lastModifiedBy>Home</cp:lastModifiedBy>
  <dcterms:modified xsi:type="dcterms:W3CDTF">2013-02-27T14:34:37Z</dcterms:modified>
  <cp:revision>20</cp:revision>
  <dc:subject/>
  <dc:title>Слайд 1</dc:title>
</cp:coreProperties>
</file>