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85.gif" ContentType="image/gif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107.gif" ContentType="image/gif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26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32.png" ContentType="image/png"/>
  <Override PartName="/ppt/media/image93.jpeg" ContentType="image/jpeg"/>
  <Override PartName="/ppt/media/image25.jpeg" ContentType="image/jpeg"/>
  <Override PartName="/ppt/media/image84.jpeg" ContentType="image/jpeg"/>
  <Override PartName="/ppt/media/image94.gif" ContentType="image/gif"/>
  <Override PartName="/ppt/media/image90.gif" ContentType="image/gif"/>
  <Override PartName="/ppt/media/image63.jpeg" ContentType="image/jpeg"/>
  <Override PartName="/ppt/media/image65.jpeg" ContentType="image/jpeg"/>
  <Override PartName="/ppt/media/image67.jpeg" ContentType="image/jpeg"/>
  <Override PartName="/ppt/media/image92.jpeg" ContentType="image/jpeg"/>
  <Override PartName="/ppt/media/image109.gif" ContentType="image/gif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106.gif" ContentType="image/gif"/>
  <Override PartName="/ppt/media/image77.jpeg" ContentType="image/jpeg"/>
  <Override PartName="/ppt/media/image60.jpeg" ContentType="image/jpeg"/>
  <Override PartName="/ppt/media/image3.jpeg" ContentType="image/jpeg"/>
  <Override PartName="/ppt/media/image15.jpeg" ContentType="image/jpeg"/>
  <Override PartName="/ppt/media/image108.png" ContentType="image/png"/>
  <Override PartName="/ppt/media/image105.gif" ContentType="image/gif"/>
  <Override PartName="/ppt/media/image14.jpeg" ContentType="image/jpeg"/>
  <Override PartName="/ppt/media/image70.jpeg" ContentType="image/jpeg"/>
  <Override PartName="/ppt/media/image99.jpeg" ContentType="image/jpeg"/>
  <Override PartName="/ppt/media/image98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96.jpeg" ContentType="image/jpeg"/>
  <Override PartName="/ppt/media/image76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5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03.gif" ContentType="image/gif"/>
  <Override PartName="/ppt/media/image16.jpeg" ContentType="image/jpeg"/>
  <Override PartName="/ppt/media/image41.jpeg" ContentType="image/jpeg"/>
  <Override PartName="/ppt/media/image66.png" ContentType="image/png"/>
  <Override PartName="/ppt/media/image72.gif" ContentType="image/gif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4.gif" ContentType="image/gif"/>
  <Override PartName="/ppt/media/image24.jpeg" ContentType="image/jpeg"/>
  <Override PartName="/ppt/media/image8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98B-D1AB-47CC-9EDD-CDA7AF36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E15-FC1B-44F3-924E-50B5DDF3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5C2-AB1F-4475-BC6D-B98E5824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EE8-BB95-47DD-8E03-91A3A449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8247-B7D4-4A87-B2C2-9405F274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FFB7-723D-45BD-8A45-81D1E5D0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E1B5-95F2-461C-B3A3-E9D7A6BC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932D-82CC-469B-9002-EBC2521E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CE53-3D34-47FF-A990-1BA2A3CD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D0C4-8939-4D96-8B10-0B84C67D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F9DF-E352-4220-9EF4-4F3D8600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C66-7375-45D4-9F1A-25C2D1D7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63B5-6034-466F-AB86-351BDECF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6BF8-8FE6-49F5-9EF0-24BB24E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CD90-AB96-4877-87A0-2F633844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35E0-D6A7-4972-919F-1F6557BD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FE98-FBBC-4E4C-9417-0637EFF8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5A8-203C-4471-907F-69E3D1FA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CE4-A14E-461A-97BD-3742E7F4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B04-5D9B-479E-999B-D6A4A060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881-9DB4-477B-A3F5-015D8AAB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4B0-285A-4CCC-AC5C-0A5D07EB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BBF-7367-4731-8AD9-1BE8F2B3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5ED-82D3-44C0-A9DD-F5D12006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5683-E56F-42D8-A64D-B4F09CA68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137D-F806-4B5F-8D7A-78F60D94B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gi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gif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gif"/><Relationship Id="rId2" Type="http://schemas.openxmlformats.org/officeDocument/2006/relationships/image" Target="../media/image105.gif"/><Relationship Id="rId3" Type="http://schemas.openxmlformats.org/officeDocument/2006/relationships/image" Target="../media/image106.gif"/><Relationship Id="rId4" Type="http://schemas.openxmlformats.org/officeDocument/2006/relationships/image" Target="../media/image107.gif"/><Relationship Id="rId5" Type="http://schemas.openxmlformats.org/officeDocument/2006/relationships/image" Target="../media/image108.png"/><Relationship Id="rId6" Type="http://schemas.openxmlformats.org/officeDocument/2006/relationships/image" Target="../media/image109.gif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zooschool.ru/attach/img/1088.jpg" TargetMode="External"/><Relationship Id="rId2" Type="http://schemas.openxmlformats.org/officeDocument/2006/relationships/hyperlink" Target="http://www.smachno.ua/img/forall/a/126/66.jpg" TargetMode="External"/><Relationship Id="rId3" Type="http://schemas.openxmlformats.org/officeDocument/2006/relationships/hyperlink" Target="http://namonitore.ru/uploads/catalog/dikie/gepard_2_1280.jpg" TargetMode="External"/><Relationship Id="rId4" Type="http://schemas.openxmlformats.org/officeDocument/2006/relationships/hyperlink" Target="http://img0.liveinternet.ru/images/attach/c/2//69/270/69270037_2043.jpg" TargetMode="External"/><Relationship Id="rId5" Type="http://schemas.openxmlformats.org/officeDocument/2006/relationships/hyperlink" Target="http://altay-hunting.com/files/upload/&#1079;&#1072;&#1103;&#1094;.jpg" TargetMode="External"/><Relationship Id="rId6" Type="http://schemas.openxmlformats.org/officeDocument/2006/relationships/hyperlink" Target="http://zooh.narod.ru/_chimpanzee.jpg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5fba512-f820-4ee9-b488-a65a94ca9cfa/%5BBI7ZD_13-05%5D_%5BIL_02%5D-k.jpg" TargetMode="External"/><Relationship Id="rId2" Type="http://schemas.openxmlformats.org/officeDocument/2006/relationships/hyperlink" Target="http://vse-pro-vseh.info/uploads/thumbnails/201212/p17fo1s8k7ojnu3li2s2lps841_100x100.jpg" TargetMode="External"/><Relationship Id="rId3" Type="http://schemas.openxmlformats.org/officeDocument/2006/relationships/hyperlink" Target="http://900igr.net/datai/o-zhivotnykh/Avstralija-2.files/0010-015-Utkonos.jpg" TargetMode="External"/><Relationship Id="rId4" Type="http://schemas.openxmlformats.org/officeDocument/2006/relationships/hyperlink" Target="http://900igr.net/datai/o-zhivotnykh/Avstralija-2.files/0010-015-Utkonos.jpg" TargetMode="External"/><Relationship Id="rId5" Type="http://schemas.openxmlformats.org/officeDocument/2006/relationships/hyperlink" Target="http://dl.ziza.es/upload//image/102012/25/animales_raros_alcyon/animales_raros%20%2833%29.jpg" TargetMode="External"/><Relationship Id="rId6" Type="http://schemas.openxmlformats.org/officeDocument/2006/relationships/hyperlink" Target="http://dic.academic.ru/pictures/enc_biology/animals/ris._6_16.jpg" TargetMode="External"/><Relationship Id="rId7" Type="http://schemas.openxmlformats.org/officeDocument/2006/relationships/hyperlink" Target="http://uwd.ru/uploads/posts/2012-11/1352012724_mimimi_dna_0_001.jpg" TargetMode="External"/><Relationship Id="rId8" Type="http://schemas.openxmlformats.org/officeDocument/2006/relationships/hyperlink" Target="http://animalworld.com.ua/images/2009/October_09/Animal/Marsupiala/Marsupiala_7.jpg" TargetMode="External"/><Relationship Id="rId9" Type="http://schemas.openxmlformats.org/officeDocument/2006/relationships/hyperlink" Target="http://www.vokrugsveta.ru/img/ann/news/main//2011/06/28/12367.jpg" TargetMode="External"/><Relationship Id="rId10" Type="http://schemas.openxmlformats.org/officeDocument/2006/relationships/hyperlink" Target="http://lolanimals.ru/wp-content/gallery/kengaroo/kangaroo_in_pouch.jpg" TargetMode="External"/><Relationship Id="rId11" Type="http://schemas.openxmlformats.org/officeDocument/2006/relationships/hyperlink" Target="http://rudocs.exdat.com/pars_docs/tw_refs/284/283532/283532_html_m394f3427.jpg" TargetMode="Externa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4/Erinaceus_europaeus.jpg/800px-Erinaceus_europaeus.jpg" TargetMode="External"/><Relationship Id="rId2" Type="http://schemas.openxmlformats.org/officeDocument/2006/relationships/hyperlink" Target="http://animalbox.ru/wp-content/uploads/2011/02/vyhuhol2-300x219.jpg" TargetMode="External"/><Relationship Id="rId3" Type="http://schemas.openxmlformats.org/officeDocument/2006/relationships/hyperlink" Target="http://animalworld.com.ua/images/2009/upload/zemler.jpg" TargetMode="External"/><Relationship Id="rId4" Type="http://schemas.openxmlformats.org/officeDocument/2006/relationships/hyperlink" Target="http://mlekopitajuschie.ru/images/2012-02-17/krot_2.jpg" TargetMode="External"/><Relationship Id="rId5" Type="http://schemas.openxmlformats.org/officeDocument/2006/relationships/hyperlink" Target="http://proxy11.media.online.ua/uol/r3-280c953f56/4f1d290b1a45c.jpg" TargetMode="External"/><Relationship Id="rId6" Type="http://schemas.openxmlformats.org/officeDocument/2006/relationships/hyperlink" Target="http://dic.academic.ru/pictures/wiki/files/49/100px-Plecotus_auritus_01.jpg" TargetMode="External"/><Relationship Id="rId7" Type="http://schemas.openxmlformats.org/officeDocument/2006/relationships/hyperlink" Target="http://infa.ws/animal/images/2470.jpg" TargetMode="External"/><Relationship Id="rId8" Type="http://schemas.openxmlformats.org/officeDocument/2006/relationships/hyperlink" Target="http://www.zoogeo365.ru/images/public/20101122/nochnica_brandta_big.jpg" TargetMode="External"/><Relationship Id="rId9" Type="http://schemas.openxmlformats.org/officeDocument/2006/relationships/hyperlink" Target="http://skuky.net/wp-content/uploads/2009/08/flying-fox7.jpg" TargetMode="External"/><Relationship Id="rId10" Type="http://schemas.openxmlformats.org/officeDocument/2006/relationships/hyperlink" Target="http://img11.nnm.ru/0/7/5/9/7/66b925e322d26c1f6a552b01f4c.jpg" TargetMode="External"/><Relationship Id="rId11" Type="http://schemas.openxmlformats.org/officeDocument/2006/relationships/hyperlink" Target="http://upload.wikimedia.org/wikipedia/commons/thumb/a/a8/Streifenhoernchen.jpg/275px-Streifenhoernchen.jpg" TargetMode="External"/><Relationship Id="rId12" Type="http://schemas.openxmlformats.org/officeDocument/2006/relationships/hyperlink" Target="http://upload.wikimedia.org/wikipedia/commons/thumb/b/bd/Apodemus_sylvaticus_bosmuis.jpg/265px-Apodemus_sylvaticus_bosmuis.jpg" TargetMode="External"/><Relationship Id="rId13" Type="http://schemas.openxmlformats.org/officeDocument/2006/relationships/hyperlink" Target="http://animals-wild.ru/uploads/1299758699_1227745848_36.jpg" TargetMode="Externa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lants-and-animals.ru/images/photoalbum/album_6/bober_t2.jpg" TargetMode="External"/><Relationship Id="rId2" Type="http://schemas.openxmlformats.org/officeDocument/2006/relationships/hyperlink" Target="http://sobiratelzvezd.ru/wallpapers/wikimedia_23.jpg" TargetMode="External"/><Relationship Id="rId3" Type="http://schemas.openxmlformats.org/officeDocument/2006/relationships/hyperlink" Target="http://img-fotki.yandex.ru/get/3105/savinovserega.16/0_1da73_e33c2083_L.jpeg" TargetMode="External"/><Relationship Id="rId4" Type="http://schemas.openxmlformats.org/officeDocument/2006/relationships/hyperlink" Target="http://www.animalsglobe.ru/wp-content/uploads/2011/09/&#1082;&#1088;&#1086;&#1083;&#1080;&#1082;.jpg" TargetMode="External"/><Relationship Id="rId5" Type="http://schemas.openxmlformats.org/officeDocument/2006/relationships/hyperlink" Target="http://upload.wikimedia.org/wikipedia/commons/thumb/3/3b/Ochotona_princeps.jpg/275px-Ochotona_princeps.jpg" TargetMode="External"/><Relationship Id="rId6" Type="http://schemas.openxmlformats.org/officeDocument/2006/relationships/hyperlink" Target="http://sectorplus.ru/wp-content/uploads/2012/03/lisa1-300x221.jpg" TargetMode="External"/><Relationship Id="rId7" Type="http://schemas.openxmlformats.org/officeDocument/2006/relationships/hyperlink" Target="http://www.walland.ru/fotos/1270250139_29.jpg" TargetMode="External"/><Relationship Id="rId8" Type="http://schemas.openxmlformats.org/officeDocument/2006/relationships/hyperlink" Target="http://www.animalsglobe.ru/wp-content/uploads/2011/09/d0bfd0b0d0bdd182d0b5d180d0b0-2.jpg" TargetMode="External"/><Relationship Id="rId9" Type="http://schemas.openxmlformats.org/officeDocument/2006/relationships/hyperlink" Target="http://www.artzveri.ru/jivitniy_mir0952.jpg" TargetMode="External"/><Relationship Id="rId10" Type="http://schemas.openxmlformats.org/officeDocument/2006/relationships/hyperlink" Target="http://img3.nnm.ru/d/d/7/a/d/dd7ad41613bee8b945f98b1351341e60_full.jpg" TargetMode="External"/><Relationship Id="rId11" Type="http://schemas.openxmlformats.org/officeDocument/2006/relationships/hyperlink" Target="http://3.bp.blogspot.com/-7GzfkHgHKFo/T2m-QeNYpdI/AAAAAAAAEyk/t4vk4AtTIeI/s1600/&#1083;2.jpg" TargetMode="External"/><Relationship Id="rId12" Type="http://schemas.openxmlformats.org/officeDocument/2006/relationships/hyperlink" Target="http://www.zdjecia.biz.pl/zdjecia/duze/beagle-slodki-harrier.jpeg" TargetMode="External"/><Relationship Id="rId13" Type="http://schemas.openxmlformats.org/officeDocument/2006/relationships/hyperlink" Target="http://zateevo.ru/userfiles/image/Zveri_Dikie/Tigr/tigr_dikii01.jpg" TargetMode="External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4.bp.blogspot.com/-eubZ7gLdGrY/T6vnqbW-xWI/AAAAAAAAFqA/223fZ4ntpd0/s1600/&#1083;&#1077;&#1074;.jpg" TargetMode="External"/><Relationship Id="rId2" Type="http://schemas.openxmlformats.org/officeDocument/2006/relationships/hyperlink" Target="http://upload.wikimedia.org/wikipedia/commons/thumb/6/68/Lynx_lynx_poing.jpg/275px-Lynx_lynx_poing.jpg" TargetMode="External"/><Relationship Id="rId3" Type="http://schemas.openxmlformats.org/officeDocument/2006/relationships/hyperlink" Target="http://hakasiya.rgo.ru/files/2010/09/bars-300x225.jpg" TargetMode="External"/><Relationship Id="rId4" Type="http://schemas.openxmlformats.org/officeDocument/2006/relationships/hyperlink" Target="http://upload.wikimedia.org/wikipedia/commons/thumb/8/82/Medved_mzoo.jpg/220px-Medved_mzoo.jpg" TargetMode="External"/><Relationship Id="rId5" Type="http://schemas.openxmlformats.org/officeDocument/2006/relationships/hyperlink" Target="http://oboxote.ru/wp-content/uploads/2011/03/057.jpg" TargetMode="External"/><Relationship Id="rId6" Type="http://schemas.openxmlformats.org/officeDocument/2006/relationships/hyperlink" Target="http://www.tigerworld.ru/images/med/med3.jpg" TargetMode="External"/><Relationship Id="rId7" Type="http://schemas.openxmlformats.org/officeDocument/2006/relationships/hyperlink" Target="http://zoofayna.ru/wp-content/uploads/2011/06/kunica_lesnaya.jpg" TargetMode="External"/><Relationship Id="rId8" Type="http://schemas.openxmlformats.org/officeDocument/2006/relationships/hyperlink" Target="http://www.all-about-pets.ru/uploads/posts/1305878419_bolshaya.png" TargetMode="External"/><Relationship Id="rId9" Type="http://schemas.openxmlformats.org/officeDocument/2006/relationships/hyperlink" Target="http://vikipendia.ru/wp-content/uploads/2013/02/Udivitelnoe-chudo-prirody-norka-Chast-1-4.jpg" TargetMode="External"/><Relationship Id="rId10" Type="http://schemas.openxmlformats.org/officeDocument/2006/relationships/hyperlink" Target="http://upload.wikimedia.org/wikipedia/commons/thumb/e/e3/Mustela_nivalis_-British_Wildlife_Centre-4.jpg/275px-Mustela_nivalis_-British_Wildlife_Centre-4.jpg" TargetMode="External"/><Relationship Id="rId11" Type="http://schemas.openxmlformats.org/officeDocument/2006/relationships/hyperlink" Target="http://tyulen-foto.narod.ru/tyulen-foto/grenlandskiy-tyulen-foto01.jpg" TargetMode="External"/><Relationship Id="rId12" Type="http://schemas.openxmlformats.org/officeDocument/2006/relationships/hyperlink" Target="http://photo-day.ru/wp-content/uploads/2010/04/ba-APTOPIX_Germa_0501431861.jpg" TargetMode="External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dopol/givotnye/morg_01.jpg" TargetMode="External"/><Relationship Id="rId2" Type="http://schemas.openxmlformats.org/officeDocument/2006/relationships/hyperlink" Target="http://doseng.org/uploads/posts/2008-05/1210592606_morskie-kotiki_8194_s__1.jpg" TargetMode="External"/><Relationship Id="rId3" Type="http://schemas.openxmlformats.org/officeDocument/2006/relationships/hyperlink" Target="http://media.tumblr.com/8668480f47978db24b7105c73bc36193/tumblr_inline_mi01amfBIh1qz4rgp.jpg" TargetMode="External"/><Relationship Id="rId4" Type="http://schemas.openxmlformats.org/officeDocument/2006/relationships/hyperlink" Target="http://www.ebio.ru/images/06071102.jpg" TargetMode="External"/><Relationship Id="rId5" Type="http://schemas.openxmlformats.org/officeDocument/2006/relationships/hyperlink" Target="http://mostinfo.su/most/sinij-kit.jpg" TargetMode="External"/><Relationship Id="rId6" Type="http://schemas.openxmlformats.org/officeDocument/2006/relationships/hyperlink" Target="http://flot.com/upload/blog/7cc//2_1_~1.JPG" TargetMode="External"/><Relationship Id="rId7" Type="http://schemas.openxmlformats.org/officeDocument/2006/relationships/hyperlink" Target="http://animalbox.ru/wp-content/uploads/2012/03/kashalot.jpg" TargetMode="External"/><Relationship Id="rId8" Type="http://schemas.openxmlformats.org/officeDocument/2006/relationships/hyperlink" Target="http://daler.ru/pictures/1/1600x1200/Kasatka-3527.jpg" TargetMode="External"/><Relationship Id="rId9" Type="http://schemas.openxmlformats.org/officeDocument/2006/relationships/hyperlink" Target="http://gusevale1.narod.ru/geludok.gif" TargetMode="External"/><Relationship Id="rId10" Type="http://schemas.openxmlformats.org/officeDocument/2006/relationships/hyperlink" Target="http://supple.image.newsru.com/images/big/92_70_927051_1187604408.jpg" TargetMode="External"/><Relationship Id="rId11" Type="http://schemas.openxmlformats.org/officeDocument/2006/relationships/hyperlink" Target="http://www.symbolsbook.ru/images/O/Deer.jpg" TargetMode="External"/><Relationship Id="rId12" Type="http://schemas.openxmlformats.org/officeDocument/2006/relationships/hyperlink" Target="http://www.dangeranimals.ru/wp-content/uploads/2010/09/&#1050;&#1072;&#1073;&#1072;&#1085;-2.jpg" TargetMode="External"/><Relationship Id="rId13" Type="http://schemas.openxmlformats.org/officeDocument/2006/relationships/hyperlink" Target="http://www.kartinki24.ru/uploads/gallery/main/40/kartinki24ru_begemot_07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ientificrussia.ru/data/shared/top_10/10_faktov_sbornik/HDpics_ru_d2247368_2274.jpg" TargetMode="External"/><Relationship Id="rId2" Type="http://schemas.openxmlformats.org/officeDocument/2006/relationships/hyperlink" Target="http://upload.wikimedia.org/wikipedia/commons/thumb/7/7b/Donkey_1_arp_750px.jpg/275px-Donkey_1_arp_750px.jpg" TargetMode="External"/><Relationship Id="rId3" Type="http://schemas.openxmlformats.org/officeDocument/2006/relationships/hyperlink" Target="http://www.zoomagazin.info/images/245953908_818116d6b3.jpg" TargetMode="External"/><Relationship Id="rId4" Type="http://schemas.openxmlformats.org/officeDocument/2006/relationships/hyperlink" Target="http://zoo-farm.ru/wp-content/uploads/2012/07/pokupka-loshadi-kak-ne-oshibitsya.jpg" TargetMode="External"/><Relationship Id="rId5" Type="http://schemas.openxmlformats.org/officeDocument/2006/relationships/hyperlink" Target="http://usiter.com/uploads/20120528/nosorog+55664695280.jpg" TargetMode="External"/><Relationship Id="rId6" Type="http://schemas.openxmlformats.org/officeDocument/2006/relationships/hyperlink" Target="http://zateevo.ru/userfiles/image/Zveri_Dikie/Slony/Slon4.jpg" TargetMode="External"/><Relationship Id="rId7" Type="http://schemas.openxmlformats.org/officeDocument/2006/relationships/hyperlink" Target="http://upload.wikimedia.org/wikipedia/commons/thumb/9/96/200407_Elephant_9.JPG/265px-200407_Elephant_9.JPG" TargetMode="External"/><Relationship Id="rId8" Type="http://schemas.openxmlformats.org/officeDocument/2006/relationships/hyperlink" Target="http://upload.wikimedia.org/wikipedia/commons/thumb/f/f3/Loxodontacyclotis.jpg/275px-Loxodontacyclotis.jpg" TargetMode="External"/><Relationship Id="rId9" Type="http://schemas.openxmlformats.org/officeDocument/2006/relationships/hyperlink" Target="http://cwer.ws/files/u165477/0802/primates2.jpg" TargetMode="External"/><Relationship Id="rId10" Type="http://schemas.openxmlformats.org/officeDocument/2006/relationships/hyperlink" Target="http://terramia.ru/wp-content/uploads/2013/01/makaki1.jpg" TargetMode="External"/><Relationship Id="rId11" Type="http://schemas.openxmlformats.org/officeDocument/2006/relationships/hyperlink" Target="http://like-zoo.com/data/animals/normal/zm1_0.jpg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0/275px-Papio_hamadryas_-_02.jpg" TargetMode="External"/><Relationship Id="rId2" Type="http://schemas.openxmlformats.org/officeDocument/2006/relationships/hyperlink" Target="http://upload.wikimedia.org/wikipedia/commons/thumb/8/82/Proboscis_Monkey.jpg/275px-Proboscis_Monkey.jpg" TargetMode="External"/><Relationship Id="rId3" Type="http://schemas.openxmlformats.org/officeDocument/2006/relationships/hyperlink" Target="http://upload.wikimedia.org/wikipedia/commons/5/50/Male_gorilla_in_SF_zoo.jpg" TargetMode="External"/><Relationship Id="rId4" Type="http://schemas.openxmlformats.org/officeDocument/2006/relationships/hyperlink" Target="http://t3.gstatic.com/images?q=tbn:ANd9GcQM5Y1lgpo0DQnmmDnaFM3kf9R5DNLq9ItrmhVXr9mrhGbxc4jgjg" TargetMode="External"/><Relationship Id="rId5" Type="http://schemas.openxmlformats.org/officeDocument/2006/relationships/hyperlink" Target="http://world.fedpress.ru/sites/fedpress/files/didenko/news/shimpanze.jpg" TargetMode="External"/><Relationship Id="rId6" Type="http://schemas.openxmlformats.org/officeDocument/2006/relationships/hyperlink" Target="http://s10.rimg.info/1de658c82606f42751f1f255643eb47a.gif" TargetMode="External"/><Relationship Id="rId7" Type="http://schemas.openxmlformats.org/officeDocument/2006/relationships/hyperlink" Target="http://s7.rimg.info/f880633ce885ee5037951e532996cb5b.gif" TargetMode="External"/><Relationship Id="rId8" Type="http://schemas.openxmlformats.org/officeDocument/2006/relationships/hyperlink" Target="http://s19.rimg.info/7e9b7a8f3211455adefe41b7983f408c.gif" TargetMode="External"/><Relationship Id="rId9" Type="http://schemas.openxmlformats.org/officeDocument/2006/relationships/hyperlink" Target="http://s10.rimg.info/aabd5b7a70c8aaebd5ee7e2f828c11dc.gif" TargetMode="External"/><Relationship Id="rId10" Type="http://schemas.openxmlformats.org/officeDocument/2006/relationships/hyperlink" Target="http://s17.rimg.info/24ff25697f1000eecaf71d819965babe.gif" TargetMode="External"/><Relationship Id="rId11" Type="http://schemas.openxmlformats.org/officeDocument/2006/relationships/hyperlink" Target="http://s19.rimg.info/208057ff530477dbd79a77cb8af3160e.gif" TargetMode="External"/><Relationship Id="rId12" Type="http://schemas.openxmlformats.org/officeDocument/2006/relationships/hyperlink" Target="http://s8.rimg.info/a699dc3fbe3bf8688b00378ab5fd5738.gif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10.rimg.info/d40371fc3fce76d21d2aaa6e92f6ef0d.gif" TargetMode="External"/><Relationship Id="rId2" Type="http://schemas.openxmlformats.org/officeDocument/2006/relationships/hyperlink" Target="http://s3.rimg.info/e75bb3de4182f6167349a4ddbd27856b.gif" TargetMode="External"/><Relationship Id="rId3" Type="http://schemas.openxmlformats.org/officeDocument/2006/relationships/hyperlink" Target="http://s10.rimg.info/792914d6f68fa4c9fd3c3b05a01b9f61.gif" TargetMode="External"/><Relationship Id="rId4" Type="http://schemas.openxmlformats.org/officeDocument/2006/relationships/hyperlink" Target="http://s10.rimg.info/aac3515762e6fc22f1ceb1fdd2f1a50b.gif" TargetMode="External"/><Relationship Id="rId5" Type="http://schemas.openxmlformats.org/officeDocument/2006/relationships/hyperlink" Target="http://s10.rimg.info/b07ec85a9da69db2e4eb0f44f143eba3.gif" TargetMode="External"/><Relationship Id="rId6" Type="http://schemas.openxmlformats.org/officeDocument/2006/relationships/hyperlink" Target="http://s10.rimg.info/7b165bdda301ca97337d0df9050ba4cb.gif" TargetMode="External"/><Relationship Id="rId7" Type="http://schemas.openxmlformats.org/officeDocument/2006/relationships/hyperlink" Target="http://s3.rimg.info/da32bd4cb19fd46fbe9a39a3bdb63cd0.gif" TargetMode="External"/><Relationship Id="rId8" Type="http://schemas.openxmlformats.org/officeDocument/2006/relationships/hyperlink" Target="http://s19.rimg.info/9f51342b1501283793f8775a0515252d.gif" TargetMode="External"/><Relationship Id="rId9" Type="http://schemas.openxmlformats.org/officeDocument/2006/relationships/hyperlink" Target="http://s18.rimg.info/14e5bf1b762ea70b81b966c6cb4f715b.gi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тряды млекопитающих</a:t>
            </a:r>
            <a:endParaRPr b="1" i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Рисунок 11" descr="1088.jpg"/>
          <p:cNvPicPr/>
          <p:nvPr/>
        </p:nvPicPr>
        <p:blipFill>
          <a:blip r:embed="rId1"/>
          <a:stretch/>
        </p:blipFill>
        <p:spPr>
          <a:xfrm>
            <a:off x="0" y="0"/>
            <a:ext cx="277164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66.jpg"/>
          <p:cNvPicPr/>
          <p:nvPr/>
        </p:nvPicPr>
        <p:blipFill>
          <a:blip r:embed="rId2"/>
          <a:stretch/>
        </p:blipFill>
        <p:spPr>
          <a:xfrm>
            <a:off x="2700360" y="0"/>
            <a:ext cx="3166920" cy="2475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gepard_2_1280.jpg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69270037_2043.jpg"/>
          <p:cNvPicPr/>
          <p:nvPr/>
        </p:nvPicPr>
        <p:blipFill>
          <a:blip r:embed="rId4"/>
          <a:stretch/>
        </p:blipFill>
        <p:spPr>
          <a:xfrm>
            <a:off x="7164360" y="2421000"/>
            <a:ext cx="197964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492360" y="56610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рова  Наталья  Анатольевна,  учитель биологии МБОУ СОШ №207 г.Новосиби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2" descr="заяц.jpg"/>
          <p:cNvPicPr/>
          <p:nvPr/>
        </p:nvPicPr>
        <p:blipFill>
          <a:blip r:embed="rId5"/>
          <a:stretch/>
        </p:blipFill>
        <p:spPr>
          <a:xfrm>
            <a:off x="0" y="4873680"/>
            <a:ext cx="3419640" cy="198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_chimpanzee.jpg"/>
          <p:cNvPicPr/>
          <p:nvPr/>
        </p:nvPicPr>
        <p:blipFill>
          <a:blip r:embed="rId6"/>
          <a:stretch/>
        </p:blipFill>
        <p:spPr>
          <a:xfrm>
            <a:off x="0" y="220500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Грызун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50012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, под землей, в пресных водоем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, покрыты эмалью, стачиваются и расту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тонкий или уплощенный хвос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плодовитост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кишечни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Рисунок 3" descr="24ff25697f1000eecaf71d819965babe.gif"/>
          <p:cNvPicPr/>
          <p:nvPr/>
        </p:nvPicPr>
        <p:blipFill>
          <a:blip r:embed="rId1"/>
          <a:stretch/>
        </p:blipFill>
        <p:spPr>
          <a:xfrm>
            <a:off x="6929280" y="0"/>
            <a:ext cx="148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index.jpg"/>
          <p:cNvPicPr/>
          <p:nvPr/>
        </p:nvPicPr>
        <p:blipFill>
          <a:blip r:embed="rId2"/>
          <a:stretch/>
        </p:blipFill>
        <p:spPr>
          <a:xfrm>
            <a:off x="1258920" y="49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275px-Streifenhoernchen.jpg"/>
          <p:cNvPicPr/>
          <p:nvPr/>
        </p:nvPicPr>
        <p:blipFill>
          <a:blip r:embed="rId3"/>
          <a:stretch/>
        </p:blipFill>
        <p:spPr>
          <a:xfrm>
            <a:off x="5435640" y="3943440"/>
            <a:ext cx="273672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Грызунов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Содержимое 5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s.jpg"/>
          <p:cNvPicPr/>
          <p:nvPr/>
        </p:nvPicPr>
        <p:blipFill>
          <a:blip r:embed="rId2"/>
          <a:stretch/>
        </p:blipFill>
        <p:spPr>
          <a:xfrm>
            <a:off x="4714920" y="1071720"/>
            <a:ext cx="442908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ages.jpg"/>
          <p:cNvPicPr/>
          <p:nvPr/>
        </p:nvPicPr>
        <p:blipFill>
          <a:blip r:embed="rId3"/>
          <a:stretch/>
        </p:blipFill>
        <p:spPr>
          <a:xfrm>
            <a:off x="4714920" y="3952800"/>
            <a:ext cx="4429080" cy="2905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images.jpg"/>
          <p:cNvPicPr/>
          <p:nvPr/>
        </p:nvPicPr>
        <p:blipFill>
          <a:blip r:embed="rId4"/>
          <a:stretch/>
        </p:blipFill>
        <p:spPr>
          <a:xfrm>
            <a:off x="0" y="3917880"/>
            <a:ext cx="4357800" cy="294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4714920" y="1143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0" y="112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ая мы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16360" y="40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ел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Зайце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: малые и крупные. Покрыты эмал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Рисунок 3" descr="208057ff530477dbd79a77cb8af3160e.gif"/>
          <p:cNvPicPr/>
          <p:nvPr/>
        </p:nvPicPr>
        <p:blipFill>
          <a:blip r:embed="rId1"/>
          <a:stretch/>
        </p:blipFill>
        <p:spPr>
          <a:xfrm>
            <a:off x="7500960" y="214200"/>
            <a:ext cx="1285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275px-Arctic_Hare.jpg"/>
          <p:cNvPicPr/>
          <p:nvPr/>
        </p:nvPicPr>
        <p:blipFill>
          <a:blip r:embed="rId2"/>
          <a:stretch/>
        </p:blipFill>
        <p:spPr>
          <a:xfrm>
            <a:off x="142920" y="2428920"/>
            <a:ext cx="3908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275px-Ochotona_princeps.jpg"/>
          <p:cNvPicPr/>
          <p:nvPr/>
        </p:nvPicPr>
        <p:blipFill>
          <a:blip r:embed="rId3"/>
          <a:stretch/>
        </p:blipFill>
        <p:spPr>
          <a:xfrm>
            <a:off x="2987640" y="4143240"/>
            <a:ext cx="3357720" cy="2714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000240" y="400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щ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785960" y="2428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10" descr="index.jpg"/>
          <p:cNvPicPr/>
          <p:nvPr/>
        </p:nvPicPr>
        <p:blipFill>
          <a:blip r:embed="rId4"/>
          <a:stretch/>
        </p:blipFill>
        <p:spPr>
          <a:xfrm>
            <a:off x="5248440" y="2060640"/>
            <a:ext cx="389556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5292720" y="2133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ищные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 и вод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ючицы отсутству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азные: резцы, клыки, коренные, хищн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извил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лепые и гол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3" descr="a699dc3fbe3bf8688b00378ab5fd5738.gif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index.jpg"/>
          <p:cNvPicPr/>
          <p:nvPr/>
        </p:nvPicPr>
        <p:blipFill>
          <a:blip r:embed="rId2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ndex.jpg"/>
          <p:cNvPicPr/>
          <p:nvPr/>
        </p:nvPicPr>
        <p:blipFill>
          <a:blip r:embed="rId3"/>
          <a:stretch/>
        </p:blipFill>
        <p:spPr>
          <a:xfrm>
            <a:off x="285840" y="4857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index.jpg"/>
          <p:cNvPicPr/>
          <p:nvPr/>
        </p:nvPicPr>
        <p:blipFill>
          <a:blip r:embed="rId4"/>
          <a:stretch/>
        </p:blipFill>
        <p:spPr>
          <a:xfrm>
            <a:off x="3214800" y="4857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Вол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6760" y="1143000"/>
            <a:ext cx="5429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дли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 преследуют добы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и уши остр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пушист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тупые, не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Рисунок 3" descr="d40371fc3fce76d21d2aaa6e92f6ef0d.gif"/>
          <p:cNvPicPr/>
          <p:nvPr/>
        </p:nvPicPr>
        <p:blipFill>
          <a:blip r:embed="rId1"/>
          <a:stretch/>
        </p:blipFill>
        <p:spPr>
          <a:xfrm>
            <a:off x="6929280" y="214200"/>
            <a:ext cx="2095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index.jpg"/>
          <p:cNvPicPr/>
          <p:nvPr/>
        </p:nvPicPr>
        <p:blipFill>
          <a:blip r:embed="rId2"/>
          <a:stretch/>
        </p:blipFill>
        <p:spPr>
          <a:xfrm>
            <a:off x="0" y="3960720"/>
            <a:ext cx="29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mages.jpg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images.jpg"/>
          <p:cNvPicPr/>
          <p:nvPr/>
        </p:nvPicPr>
        <p:blipFill>
          <a:blip r:embed="rId4"/>
          <a:stretch/>
        </p:blipFill>
        <p:spPr>
          <a:xfrm>
            <a:off x="5715000" y="1214280"/>
            <a:ext cx="3286080" cy="2462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6396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10" descr="beagle-slodki-harrier.jpeg"/>
          <p:cNvPicPr/>
          <p:nvPr/>
        </p:nvPicPr>
        <p:blipFill>
          <a:blip r:embed="rId5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>
            <a:off x="28432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012000" y="400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оша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5143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стройное, гибк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округ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 слу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лапах подушеч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острые,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бычу подстерега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7" name="Рисунок 3" descr="e75bb3de4182f6167349a4ddbd27856b.gif"/>
          <p:cNvPicPr/>
          <p:nvPr/>
        </p:nvPicPr>
        <p:blipFill>
          <a:blip r:embed="rId1"/>
          <a:stretch/>
        </p:blipFill>
        <p:spPr>
          <a:xfrm>
            <a:off x="7429680" y="21420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images.jpg"/>
          <p:cNvPicPr/>
          <p:nvPr/>
        </p:nvPicPr>
        <p:blipFill>
          <a:blip r:embed="rId2"/>
          <a:stretch/>
        </p:blipFill>
        <p:spPr>
          <a:xfrm>
            <a:off x="5357880" y="92880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index.jpg"/>
          <p:cNvPicPr/>
          <p:nvPr/>
        </p:nvPicPr>
        <p:blipFill>
          <a:blip r:embed="rId3"/>
          <a:stretch/>
        </p:blipFill>
        <p:spPr>
          <a:xfrm>
            <a:off x="0" y="393372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images.jpg"/>
          <p:cNvPicPr/>
          <p:nvPr/>
        </p:nvPicPr>
        <p:blipFill>
          <a:blip r:embed="rId4"/>
          <a:stretch/>
        </p:blipFill>
        <p:spPr>
          <a:xfrm>
            <a:off x="5643720" y="392904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images.jpg"/>
          <p:cNvPicPr/>
          <p:nvPr/>
        </p:nvPicPr>
        <p:blipFill>
          <a:blip r:embed="rId5"/>
          <a:stretch/>
        </p:blipFill>
        <p:spPr>
          <a:xfrm>
            <a:off x="3419640" y="3933720"/>
            <a:ext cx="2247840" cy="2924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5364000" y="907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иг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97964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41964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651640" y="3933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едвеж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999720"/>
            <a:ext cx="395784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тяжел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массив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оходящ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больш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8" name="Рисунок 3" descr="792914d6f68fa4c9fd3c3b05a01b9f61.gif"/>
          <p:cNvPicPr/>
          <p:nvPr/>
        </p:nvPicPr>
        <p:blipFill>
          <a:blip r:embed="rId1"/>
          <a:stretch/>
        </p:blipFill>
        <p:spPr>
          <a:xfrm>
            <a:off x="7572240" y="1429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images.jpg"/>
          <p:cNvPicPr/>
          <p:nvPr/>
        </p:nvPicPr>
        <p:blipFill>
          <a:blip r:embed="rId2"/>
          <a:stretch/>
        </p:blipFill>
        <p:spPr>
          <a:xfrm>
            <a:off x="4143240" y="928800"/>
            <a:ext cx="264348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images.jpg"/>
          <p:cNvPicPr/>
          <p:nvPr/>
        </p:nvPicPr>
        <p:blipFill>
          <a:blip r:embed="rId3"/>
          <a:stretch/>
        </p:blipFill>
        <p:spPr>
          <a:xfrm>
            <a:off x="0" y="3857760"/>
            <a:ext cx="4183200" cy="3000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index.jpg"/>
          <p:cNvPicPr/>
          <p:nvPr/>
        </p:nvPicPr>
        <p:blipFill>
          <a:blip r:embed="rId4"/>
          <a:stretch/>
        </p:blipFill>
        <p:spPr>
          <a:xfrm>
            <a:off x="5605560" y="4206960"/>
            <a:ext cx="3538440" cy="265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ун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1143000"/>
            <a:ext cx="4600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ща грызуны и пти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т ценный ме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Рисунок 3" descr="058710da06a7592109a52f6979aa65c2.gif"/>
          <p:cNvPicPr/>
          <p:nvPr/>
        </p:nvPicPr>
        <p:blipFill>
          <a:blip r:embed="rId1"/>
          <a:stretch/>
        </p:blipFill>
        <p:spPr>
          <a:xfrm>
            <a:off x="7000920" y="42876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images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71920" cy="2489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images.jpg"/>
          <p:cNvPicPr/>
          <p:nvPr/>
        </p:nvPicPr>
        <p:blipFill>
          <a:blip r:embed="rId3"/>
          <a:stretch/>
        </p:blipFill>
        <p:spPr>
          <a:xfrm>
            <a:off x="2928960" y="3857760"/>
            <a:ext cx="3259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mages.jpg"/>
          <p:cNvPicPr/>
          <p:nvPr/>
        </p:nvPicPr>
        <p:blipFill>
          <a:blip r:embed="rId4"/>
          <a:stretch/>
        </p:blipFill>
        <p:spPr>
          <a:xfrm>
            <a:off x="0" y="3857760"/>
            <a:ext cx="29289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index.jpg"/>
          <p:cNvPicPr/>
          <p:nvPr/>
        </p:nvPicPr>
        <p:blipFill>
          <a:blip r:embed="rId5"/>
          <a:stretch/>
        </p:blipFill>
        <p:spPr>
          <a:xfrm>
            <a:off x="6143760" y="3857760"/>
            <a:ext cx="3000240" cy="2385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57150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356000" y="4149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14200" y="3929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21504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Ластоног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8400" y="11430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воде и на суше одновреме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рсть редкая, груб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 и обтекаем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жир для защиты от холода, дает запас, повышает плотность тел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ушу выходят для размножения, линьки и отдых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 густым мех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размножении ведут стадны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Рисунок 3" descr="b07ec85a9da69db2e4eb0f44f143eba3.gif"/>
          <p:cNvPicPr/>
          <p:nvPr/>
        </p:nvPicPr>
        <p:blipFill>
          <a:blip r:embed="rId1"/>
          <a:stretch/>
        </p:blipFill>
        <p:spPr>
          <a:xfrm>
            <a:off x="721512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s.jpg"/>
          <p:cNvPicPr/>
          <p:nvPr/>
        </p:nvPicPr>
        <p:blipFill>
          <a:blip r:embed="rId2"/>
          <a:stretch/>
        </p:blipFill>
        <p:spPr>
          <a:xfrm>
            <a:off x="6227640" y="165888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Ластоноги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Содержимое 5" descr="morg_01.jpg"/>
          <p:cNvPicPr/>
          <p:nvPr/>
        </p:nvPicPr>
        <p:blipFill>
          <a:blip r:embed="rId1"/>
          <a:stretch/>
        </p:blipFill>
        <p:spPr>
          <a:xfrm>
            <a:off x="142920" y="928800"/>
            <a:ext cx="430056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1210592606_morskie-kotiki_8194_s__1.jpg"/>
          <p:cNvPicPr/>
          <p:nvPr/>
        </p:nvPicPr>
        <p:blipFill>
          <a:blip r:embed="rId2"/>
          <a:stretch/>
        </p:blipFill>
        <p:spPr>
          <a:xfrm>
            <a:off x="0" y="3905280"/>
            <a:ext cx="42861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images.jpg"/>
          <p:cNvPicPr/>
          <p:nvPr/>
        </p:nvPicPr>
        <p:blipFill>
          <a:blip r:embed="rId3"/>
          <a:stretch/>
        </p:blipFill>
        <p:spPr>
          <a:xfrm>
            <a:off x="4643280" y="392904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index.jpg"/>
          <p:cNvPicPr/>
          <p:nvPr/>
        </p:nvPicPr>
        <p:blipFill>
          <a:blip r:embed="rId4"/>
          <a:stretch/>
        </p:blipFill>
        <p:spPr>
          <a:xfrm>
            <a:off x="4714920" y="857160"/>
            <a:ext cx="4214880" cy="2994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4714920" y="3214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юл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500200" y="40719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ские 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ервозвер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ороньи кости, клоа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 24-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ют яйц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Рисунок 3" descr="index.jpg"/>
          <p:cNvPicPr/>
          <p:nvPr/>
        </p:nvPicPr>
        <p:blipFill>
          <a:blip r:embed="rId1"/>
          <a:stretch/>
        </p:blipFill>
        <p:spPr>
          <a:xfrm>
            <a:off x="1571760" y="3591000"/>
            <a:ext cx="5357520" cy="3267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e658c82606f42751f1f255643eb47a.gif"/>
          <p:cNvPicPr/>
          <p:nvPr/>
        </p:nvPicPr>
        <p:blipFill>
          <a:blip r:embed="rId2"/>
          <a:stretch/>
        </p:blipFill>
        <p:spPr>
          <a:xfrm>
            <a:off x="7093080" y="1268280"/>
            <a:ext cx="1641240" cy="9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Кито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214280"/>
            <a:ext cx="82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только в морях и океан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торпедообраз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жа го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ние конечност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них конечностей н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зовые кости в виде остат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хвостовой плавник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ячими, сформиров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7" name="Рисунок 3" descr="61beca4dcfc7a8618bc8c015f6607267.gif"/>
          <p:cNvPicPr/>
          <p:nvPr/>
        </p:nvPicPr>
        <p:blipFill>
          <a:blip r:embed="rId1"/>
          <a:stretch/>
        </p:blipFill>
        <p:spPr>
          <a:xfrm>
            <a:off x="7286760" y="14292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images.jpg"/>
          <p:cNvPicPr/>
          <p:nvPr/>
        </p:nvPicPr>
        <p:blipFill>
          <a:blip r:embed="rId2"/>
          <a:stretch/>
        </p:blipFill>
        <p:spPr>
          <a:xfrm>
            <a:off x="5429160" y="42148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Китообраз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214280"/>
            <a:ext cx="4317840" cy="2786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images.jpg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delfin.jpg"/>
          <p:cNvPicPr/>
          <p:nvPr/>
        </p:nvPicPr>
        <p:blipFill>
          <a:blip r:embed="rId3"/>
          <a:stretch/>
        </p:blipFill>
        <p:spPr>
          <a:xfrm>
            <a:off x="4357800" y="114300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f_17410741.jpg"/>
          <p:cNvPicPr/>
          <p:nvPr/>
        </p:nvPicPr>
        <p:blipFill>
          <a:blip r:embed="rId4"/>
          <a:stretch/>
        </p:blipFill>
        <p:spPr>
          <a:xfrm>
            <a:off x="4500720" y="4000680"/>
            <a:ext cx="450036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14200" y="1428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иний к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714920" y="1214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льф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57120" y="6357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ал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72160" y="4143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с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2142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четное число 2/4, из них 2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екоторых ро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вач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жный желудок (рубец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ка, книжка, сычуг); зубы резцы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коренные с широко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жвач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простой, зубы резцы, клыки,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Рисунок 3" descr="dbe856b67c89a5348218ac84a657dccd.gif"/>
          <p:cNvPicPr/>
          <p:nvPr/>
        </p:nvPicPr>
        <p:blipFill>
          <a:blip r:embed="rId1"/>
          <a:stretch/>
        </p:blipFill>
        <p:spPr>
          <a:xfrm>
            <a:off x="7286760" y="285840"/>
            <a:ext cx="160956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ages.jpg"/>
          <p:cNvPicPr/>
          <p:nvPr/>
        </p:nvPicPr>
        <p:blipFill>
          <a:blip r:embed="rId2"/>
          <a:stretch/>
        </p:blipFill>
        <p:spPr>
          <a:xfrm>
            <a:off x="6715080" y="3143160"/>
            <a:ext cx="2428920" cy="22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Парнокопыт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Рисунок 4" descr="index.jpg"/>
          <p:cNvPicPr/>
          <p:nvPr/>
        </p:nvPicPr>
        <p:blipFill>
          <a:blip r:embed="rId1"/>
          <a:stretch/>
        </p:blipFill>
        <p:spPr>
          <a:xfrm>
            <a:off x="4714920" y="857160"/>
            <a:ext cx="4286160" cy="3011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images.jpg"/>
          <p:cNvPicPr/>
          <p:nvPr/>
        </p:nvPicPr>
        <p:blipFill>
          <a:blip r:embed="rId2"/>
          <a:stretch/>
        </p:blipFill>
        <p:spPr>
          <a:xfrm>
            <a:off x="0" y="4087800"/>
            <a:ext cx="442764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images.jpg"/>
          <p:cNvPicPr/>
          <p:nvPr/>
        </p:nvPicPr>
        <p:blipFill>
          <a:blip r:embed="rId3"/>
          <a:stretch/>
        </p:blipFill>
        <p:spPr>
          <a:xfrm>
            <a:off x="4714920" y="3968640"/>
            <a:ext cx="4429080" cy="288936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12" descr="92_70_927051_1187604408.jpg"/>
          <p:cNvPicPr/>
          <p:nvPr/>
        </p:nvPicPr>
        <p:blipFill>
          <a:blip r:embed="rId4"/>
          <a:stretch/>
        </p:blipFill>
        <p:spPr>
          <a:xfrm>
            <a:off x="0" y="83664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index.jpg"/>
          <p:cNvPicPr/>
          <p:nvPr/>
        </p:nvPicPr>
        <p:blipFill>
          <a:blip r:embed="rId5"/>
          <a:stretch/>
        </p:blipFill>
        <p:spPr>
          <a:xfrm>
            <a:off x="2050920" y="1557360"/>
            <a:ext cx="5214960" cy="417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е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07136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нечетное число 1/3, 1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езцы, клыки и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однокамер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Рисунок 3" descr="9f51342b1501283793f8775a0515252d.gif"/>
          <p:cNvPicPr/>
          <p:nvPr/>
        </p:nvPicPr>
        <p:blipFill>
          <a:blip r:embed="rId1"/>
          <a:stretch/>
        </p:blipFill>
        <p:spPr>
          <a:xfrm>
            <a:off x="7643880" y="428760"/>
            <a:ext cx="139536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ages.jpg"/>
          <p:cNvPicPr/>
          <p:nvPr/>
        </p:nvPicPr>
        <p:blipFill>
          <a:blip r:embed="rId2"/>
          <a:stretch/>
        </p:blipFill>
        <p:spPr>
          <a:xfrm>
            <a:off x="5857920" y="2071800"/>
            <a:ext cx="3282840" cy="2222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index.jpg"/>
          <p:cNvPicPr/>
          <p:nvPr/>
        </p:nvPicPr>
        <p:blipFill>
          <a:blip r:embed="rId3"/>
          <a:stretch/>
        </p:blipFill>
        <p:spPr>
          <a:xfrm>
            <a:off x="0" y="3214800"/>
            <a:ext cx="319716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index.jpg"/>
          <p:cNvPicPr/>
          <p:nvPr/>
        </p:nvPicPr>
        <p:blipFill>
          <a:blip r:embed="rId4"/>
          <a:stretch/>
        </p:blipFill>
        <p:spPr>
          <a:xfrm>
            <a:off x="2857680" y="4357800"/>
            <a:ext cx="310968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images.jpg"/>
          <p:cNvPicPr/>
          <p:nvPr/>
        </p:nvPicPr>
        <p:blipFill>
          <a:blip r:embed="rId5"/>
          <a:stretch/>
        </p:blipFill>
        <p:spPr>
          <a:xfrm>
            <a:off x="6000840" y="4429080"/>
            <a:ext cx="3106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обо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бот – верхняя губа, сросшаяся с нос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вни – это видоизмененные рез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ыков нет, есть 4 коренных зуб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Рисунок 3" descr="14e5bf1b762ea70b81b966c6cb4f715b.gif"/>
          <p:cNvPicPr/>
          <p:nvPr/>
        </p:nvPicPr>
        <p:blipFill>
          <a:blip r:embed="rId1"/>
          <a:stretch/>
        </p:blipFill>
        <p:spPr>
          <a:xfrm>
            <a:off x="7429680" y="0"/>
            <a:ext cx="1512720" cy="123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an_slon.jpg"/>
          <p:cNvPicPr/>
          <p:nvPr/>
        </p:nvPicPr>
        <p:blipFill>
          <a:blip r:embed="rId2"/>
          <a:stretch/>
        </p:blipFill>
        <p:spPr>
          <a:xfrm>
            <a:off x="0" y="3214800"/>
            <a:ext cx="310680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275px-Loxodontacyclotis.jpg"/>
          <p:cNvPicPr/>
          <p:nvPr/>
        </p:nvPicPr>
        <p:blipFill>
          <a:blip r:embed="rId3"/>
          <a:stretch/>
        </p:blipFill>
        <p:spPr>
          <a:xfrm>
            <a:off x="5429160" y="321480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265px-200407_Elephant_9.JPG"/>
          <p:cNvPicPr/>
          <p:nvPr/>
        </p:nvPicPr>
        <p:blipFill>
          <a:blip r:embed="rId4"/>
          <a:stretch/>
        </p:blipFill>
        <p:spPr>
          <a:xfrm>
            <a:off x="2500200" y="4357800"/>
            <a:ext cx="3329280" cy="250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500200" y="6396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ат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0080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о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римат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нокулярное з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отдел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па преоблада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конечностях н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т стадный образ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6" name="Рисунок 3" descr="56daf3d4e56ac1dd23ba316a81fd5744.gif"/>
          <p:cNvPicPr/>
          <p:nvPr/>
        </p:nvPicPr>
        <p:blipFill>
          <a:blip r:embed="rId1"/>
          <a:stretch/>
        </p:blipFill>
        <p:spPr>
          <a:xfrm>
            <a:off x="7786800" y="244440"/>
            <a:ext cx="928440" cy="1455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primates2.jpg"/>
          <p:cNvPicPr/>
          <p:nvPr/>
        </p:nvPicPr>
        <p:blipFill>
          <a:blip r:embed="rId2"/>
          <a:stretch/>
        </p:blipFill>
        <p:spPr>
          <a:xfrm>
            <a:off x="4305240" y="2000160"/>
            <a:ext cx="483876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артышков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 деревья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таются растен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защечные меш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Рисунок 3" descr="275px-Chlorocebus_sabaeus_0024.jpg"/>
          <p:cNvPicPr/>
          <p:nvPr/>
        </p:nvPicPr>
        <p:blipFill>
          <a:blip r:embed="rId1"/>
          <a:stretch/>
        </p:blipFill>
        <p:spPr>
          <a:xfrm>
            <a:off x="5500800" y="928800"/>
            <a:ext cx="3492360" cy="2616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5786280" y="3929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Рисунок 7" descr="275px-Papio_hamadryas_-_02.jpg"/>
          <p:cNvPicPr/>
          <p:nvPr/>
        </p:nvPicPr>
        <p:blipFill>
          <a:blip r:embed="rId2"/>
          <a:stretch/>
        </p:blipFill>
        <p:spPr>
          <a:xfrm>
            <a:off x="3708360" y="3639960"/>
            <a:ext cx="2143080" cy="3218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3786120" y="6286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мадр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9" descr="275px-Proboscis_Monkey.jpg"/>
          <p:cNvPicPr/>
          <p:nvPr/>
        </p:nvPicPr>
        <p:blipFill>
          <a:blip r:embed="rId3"/>
          <a:stretch/>
        </p:blipFill>
        <p:spPr>
          <a:xfrm>
            <a:off x="5715000" y="3929040"/>
            <a:ext cx="3286080" cy="2604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6286680" y="607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с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572080" y="30002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12" descr="makaki1.jpg"/>
          <p:cNvPicPr/>
          <p:nvPr/>
        </p:nvPicPr>
        <p:blipFill>
          <a:blip r:embed="rId4"/>
          <a:stretch/>
        </p:blipFill>
        <p:spPr>
          <a:xfrm>
            <a:off x="0" y="2637000"/>
            <a:ext cx="3780000" cy="27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0" y="4869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понские мак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Человекообразных обезьян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1214280"/>
            <a:ext cx="4500720" cy="26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е лиц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уш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тягивающиеся губ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мим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ьзуются оруд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1" name="Рисунок 3" descr="index.jpg"/>
          <p:cNvPicPr/>
          <p:nvPr/>
        </p:nvPicPr>
        <p:blipFill>
          <a:blip r:embed="rId1"/>
          <a:stretch/>
        </p:blipFill>
        <p:spPr>
          <a:xfrm>
            <a:off x="4786200" y="135720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index.jpg"/>
          <p:cNvPicPr/>
          <p:nvPr/>
        </p:nvPicPr>
        <p:blipFill>
          <a:blip r:embed="rId2"/>
          <a:stretch/>
        </p:blipFill>
        <p:spPr>
          <a:xfrm>
            <a:off x="500040" y="378612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images.jpg"/>
          <p:cNvPicPr/>
          <p:nvPr/>
        </p:nvPicPr>
        <p:blipFill>
          <a:blip r:embed="rId3"/>
          <a:stretch/>
        </p:blipFill>
        <p:spPr>
          <a:xfrm>
            <a:off x="4143240" y="4000680"/>
            <a:ext cx="335772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aramond"/>
              </a:rPr>
              <a:t>Домашнее задан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ься к контрольной работе по темам «Птицы» и «Млекопитающие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По желанию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россворд с оформлением, презентации по темам: «рекорды в мире млекопитающих» , «Необычные Звери», «Млекопитающие Красной Книг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6" name="Рисунок 3" descr="5e4da78a599e4848adb5822c215ac63f.gif"/>
          <p:cNvPicPr/>
          <p:nvPr/>
        </p:nvPicPr>
        <p:blipFill>
          <a:blip r:embed="rId1"/>
          <a:stretch/>
        </p:blipFill>
        <p:spPr>
          <a:xfrm>
            <a:off x="7429680" y="714240"/>
            <a:ext cx="1312560" cy="10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Утконос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356840"/>
            <a:ext cx="5286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я: вод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ет норы в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6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густой, коро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с -  роговой клю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 с перепонко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уплоще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ет 2 яйц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Рисунок 3" descr="71628458_most_unusual_mammal_1.jpg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3038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images.jpg"/>
          <p:cNvPicPr/>
          <p:nvPr/>
        </p:nvPicPr>
        <p:blipFill>
          <a:blip r:embed="rId2"/>
          <a:stretch/>
        </p:blipFill>
        <p:spPr>
          <a:xfrm>
            <a:off x="5214960" y="4219560"/>
            <a:ext cx="3929040" cy="26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1" i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Рисунок 2" descr="3f776e11cb41d23b3f420e40763fb9e7.gif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687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60fc440029f6c4d702ec231ca2de48e7.gif"/>
          <p:cNvPicPr/>
          <p:nvPr/>
        </p:nvPicPr>
        <p:blipFill>
          <a:blip r:embed="rId2"/>
          <a:stretch/>
        </p:blipFill>
        <p:spPr>
          <a:xfrm>
            <a:off x="1000080" y="714240"/>
            <a:ext cx="1643040" cy="1517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b0c8cb42c960b5d28b53e0b65635d35c.gif"/>
          <p:cNvPicPr/>
          <p:nvPr/>
        </p:nvPicPr>
        <p:blipFill>
          <a:blip r:embed="rId3"/>
          <a:stretch/>
        </p:blipFill>
        <p:spPr>
          <a:xfrm>
            <a:off x="4000680" y="714240"/>
            <a:ext cx="1447560" cy="187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26077df12484b96d8f8645d6b1e5a266.gif"/>
          <p:cNvPicPr/>
          <p:nvPr/>
        </p:nvPicPr>
        <p:blipFill>
          <a:blip r:embed="rId4"/>
          <a:stretch/>
        </p:blipFill>
        <p:spPr>
          <a:xfrm>
            <a:off x="1071720" y="41338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7500d36fa98c374d53d47d9a0e4e878e.gif"/>
          <p:cNvPicPr/>
          <p:nvPr/>
        </p:nvPicPr>
        <p:blipFill>
          <a:blip r:embed="rId5"/>
          <a:stretch/>
        </p:blipFill>
        <p:spPr>
          <a:xfrm>
            <a:off x="6286680" y="4572000"/>
            <a:ext cx="1904760" cy="1095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0123f44c00113262fa5c60a56780f656.gif"/>
          <p:cNvPicPr/>
          <p:nvPr/>
        </p:nvPicPr>
        <p:blipFill>
          <a:blip r:embed="rId6"/>
          <a:stretch/>
        </p:blipFill>
        <p:spPr>
          <a:xfrm>
            <a:off x="3786120" y="3929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54900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М.А. Козлов. Учебник для 7-8 классов общеобразовательных учрежден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.: Просвещение,199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2. А.И.Никишов, И.Х.Шарова Биология. Животные. 7-8 класс для общеобразовательных учреждений. М.: Просвещение ,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.Б.Захаров, Н.И.Сонин: Биология. Многообразие живых организмов. 7 класс: учебник для общеобразовательных учреждений. М.: Дрофа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4. Кумченко В.С. , Сухорукова Л.Н. Биология. Разнообразие живых организмов. 7 класс. Учебник для общеобразовательных учреждений. М.: Просвещение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артинки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ы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zooschool.ru/attach/img/108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smachno.ua/img/forall/a/126/6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епард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namonitore.ru/uploads/catalog/dikie/gepard_2_1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img0.liveinternet.ru/images/attach/c/2//69/270/69270037_204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altay-hunting.com/files/upload/%D0%B7%D0%B0%D1%8F%D1%8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ooh.narod.ru/_chimpanze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и ехидн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files.school-collection.edu.ru/dlrstore/b5fba512-f820-4ee9-b488-a65a94ca9cfa/%5BBI7ZD_13-05%5D_%5BIL_02%5D-k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vse-pro-vseh.info/uploads/thumbnails/201212/p17fo1s8k7ojnu3li2s2lps841_100x10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900igr.net/datai/o-zhivotnykh/Avstralija-2.files/0010-015-Utkono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dl.ziza.es/upload//image/102012/25/animales_raros_alcyon/animales_raros%20%2833%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enc_biology/animals/ris._6_1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wd.ru/uploads/posts/2012-11/1352012724_mimimi_dna_0_0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ряд сумчат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animalworld.com.ua/images/2009/October_09/Animal/Marsupiala/Marsupiala_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асманский дьяво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vokrugsveta.ru/img/ann/news/main//2011/06/28/1236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теныш кенгур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lolanimals.ru/wp-content/gallery/kengaroo/kangaroo_in_pouch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секомоя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rudocs.exdat.com/pars_docs/tw_refs/284/283532/283532_html_m394f34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upload.wikimedia.org/wikipedia/commons/thumb/7/74/Erinaceus_europaeus.jpg/800px-Erinaceus_europaeu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хух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animalbox.ru/wp-content/uploads/2011/02/vyhuhol2-300x21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млерой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animalworld.com.ua/images/2009/upload/zeml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mlekopitajuschie.ru/images/2012-02-17/krot_2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proxy11.media.online.ua/uol/r3-280c953f56/4f1d290b1a45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ша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wiki/files/49/100px-Plecotus_auritus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жая вечерн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infa.ws/animal/images/247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чниц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zoogeo365.ru/images/public/20101122/nochnica_brandta_bi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лис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kuky.net/wp-content/uploads/2009/08/flying-fox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Хомя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11.nnm.ru/0/7/5/9/7/66b925e322d26c1f6a552b01f4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унду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upload.wikimedia.org/wikipedia/commons/thumb/a/a8/Streifenhoernchen.jpg/275px-Streifenhoernchen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upload.wikimedia.org/wikipedia/commons/thumb/b/bd/Apodemus_sylvaticus_bosmuis.jpg/265px-Apodemus_sylvaticus_bosmu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дат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animals-wild.ru/uploads/1299758699_1227745848_3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обр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www.plants-and-animals.ru/images/photoalbum/album_6/bober_t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obiratelzvezd.ru/wallpapers/wikimedia_2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img-fotki.yandex.ru/get/3105/savinovserega.16/0_1da73_e33c2083_L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ли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animalsglobe.ru/wp-content/uploads/2011/09/%D0%BA%D1%80%D0%BE%D0%BB%D0%B8%D0%B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ищуха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pload.wikimedia.org/wikipedia/commons/thumb/3/3b/Ochotona_princeps.jpg/275px-Ochotona_princep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1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ectorplus.ru/wp-content/uploads/2012/03/lisa1-300x22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едвед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www.walland.ru/fotos/1270250139_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анте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nimalsglobe.ru/wp-content/uploads/2011/09/d0bfd0b0d0bdd182d0b5d180d0b0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есе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artzveri.ru/jivitniy_mir095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3.nnm.ru/d/d/7/a/d/dd7ad41613bee8b945f98b1351341e60_full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3.bp.blogspot.com/-7GzfkHgHKFo/T2m-QeNYpdI/AAAAAAAAEyk/t4vk4AtTIeI/s1600/%D0%B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а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zdjecia.biz.pl/zdjecia/duze/beagle-slodki-harrier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игр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zateevo.ru/userfiles/image/Zveri_Dikie/Tigr/tigr_dikii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в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4.bp.blogspot.com/-eubZ7gLdGrY/T6vnqbW-xWI/AAAAAAAAFqA/223fZ4ntpd0/s1600/%D0%BB%D0%B5%D0%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6/68/Lynx_lynx_poing.jpg/275px-Lynx_lynx_poin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hakasiya.rgo.ru/files/2010/09/bars-300x225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ый медвед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upload.wikimedia.org/wikipedia/commons/thumb/8/82/Medved_mzoo.jpg/220px-Medved_m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ы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oboxote.ru/wp-content/uploads/2011/03/05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ималайски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www.tigerworld.ru/images/med/med3.jpg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zoofayna.ru/wp-content/uploads/2011/06/kunica_lesna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ll-about-pets.ru/uploads/posts/1305878419_bolshaya.p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р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vikipendia.ru/wp-content/uploads/2013/02/Udivitelnoe-chudo-prirody-norka-Chast-1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ас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upload.wikimedia.org/wikipedia/commons/thumb/e/e3/Mustela_nivalis_-British_Wildlife_Centre-4.jpg/275px-Mustela_nivalis_-British_Wildlife_Centre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tyulen-foto.narod.ru/tyulen-foto/grenlandskiy-tyulen-foto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2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photo-day.ru/wp-content/uploads/2010/04/ba-APTOPIX_Germa_050143186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aminpro.narod.ru/dopoln/kartinki/dopol/givotnye/morg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doseng.org/uploads/posts/2008-05/1210592606_morskie-kotiki_8194_s__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media.tumblr.com/8668480f47978db24b7105c73bc36193/tumblr_inline_mi01amfBIh1qz4rgp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итообразн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ebio.ru/images/060711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ний ки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mostinfo.su/most/sinij-ki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flot.com/upload/blog/7cc//2_1_~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шал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animalbox.ru/wp-content/uploads/2012/03/kashalo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daler.ru/pictures/1/1600x1200/Kasatka-35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елудок коров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gusevale1.narod.ru/geludok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upple.image.newsru.com/images/big/92_70_927051_118760440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www.symbolsbook.ru/images/O/De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б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dangeranimals.ru/wp-content/uploads/2010/09/%D0%9A%D0%B0%D0%B1%D0%B0%D0%BD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гем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www.kartinki24.ru/uploads/gallery/main/40/kartinki24ru_begemot_0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cientificrussia.ru/data/shared/top_10/10_faktov_sbornik/HDpics_ru_d2247368_227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сёл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7/7b/Donkey_1_arp_750px.jpg/275px-Donkey_1_arp_750px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zoomagazin.info/images/245953908_818116d6b3.jpg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zoo-farm.ru/wp-content/uploads/2012/07/pokupka-loshadi-kak-ne-oshibits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оро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siter.com/uploads/20120528/nosorog+55664695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фрикан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ateevo.ru/userfiles/image/Zveri_Dikie/Slony/Slon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зиат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pload.wikimedia.org/wikipedia/commons/thumb/9/96/200407_Elephant_9.JPG/265px-200407_Elephant_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о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upload.wikimedia.org/wikipedia/commons/thumb/f/f3/Loxodontacyclotis.jpg/275px-Loxodontacyclot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римат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cwer.ws/files/u165477/0802/primates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Японские макаки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terramia.ru/wp-content/uploads/2013/01/makaki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леная мартыш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like-zoo.com/data/animals/normal/zm1_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амадри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dic.academic.ru/pictures/wiki/files/50/275px-Papio_hamadryas_-_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ач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8/82/Proboscis_Monkey.jpg/275px-Proboscis_Monkey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орилл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upload.wikimedia.org/wikipedia/commons/5/50/Male_gorilla_in_SF_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рангутан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t3.gstatic.com/images?q=tbn:ANd9GcQM5Y1lgpo0DQnmmDnaFM3kf9R5DNLq9ItrmhVXr9mrhGbxc4jgj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orld.fedpress.ru/sites/fedpress/files/didenko/news/shimpanz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нимаци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1de658c82606f42751f1f255643eb47a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енгур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7.rimg.info/f880633ce885ee5037951e532996cb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и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7e9b7a8f3211455adefe41b7983f408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0.rimg.info/aabd5b7a70c8aaebd5ee7e2f828c11d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17.rimg.info/24ff25697f1000eecaf71d819965bab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s19.rimg.info/208057ff530477dbd79a77cb8af3160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и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s8.rimg.info/a699dc3fbe3bf8688b00378ab5fd5738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10.rimg.info/d40371fc3fce76d21d2aaa6e92f6ef0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ьвено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3.rimg.info/e75bb3de4182f6167349a4ddbd27856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иш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s10.rimg.info/792914d6f68fa4c9fd3c3b05a01b9f61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s10.rimg.info/aac3515762e6fc22f1ceb1fdd2f1a50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s10.rimg.info/b07ec85a9da69db2e4eb0f44f143eba3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7b165bdda301ca97337d0df9050ba4c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3.rimg.info/da32bd4cb19fd46fbe9a39a3bdb63cd0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9f51342b1501283793f8775a0515252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8.rimg.info/14e5bf1b762ea70b81b966c6cb4f71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езьяна 1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c0bddf7a35999e8fee7e580ac99328d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розовый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26077df12484b96d8f8645d6b1e5a26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60fc440029f6c4d702ec231ca2de48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b0c8cb42c960b5d28b53e0b65635d35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3f776e11cb41d23b3f420e40763fb9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16cacc9cd70c7a0cf3310d3c7b82db8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9.rimg.info/7500d36fa98c374d53d47d9a0e4e878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ниг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5e4da78a599e4848adb5822c215ac63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хидна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00008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ет на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4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игл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жес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животе сумка-склад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ногах – уплощенные к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Рисунок 3" descr="podklass-yajjcekladushie-5-1.jpg"/>
          <p:cNvPicPr/>
          <p:nvPr/>
        </p:nvPicPr>
        <p:blipFill>
          <a:blip r:embed="rId1"/>
          <a:stretch/>
        </p:blipFill>
        <p:spPr>
          <a:xfrm>
            <a:off x="5000760" y="1143000"/>
            <a:ext cx="38368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ris._6_16.jpg"/>
          <p:cNvPicPr/>
          <p:nvPr/>
        </p:nvPicPr>
        <p:blipFill>
          <a:blip r:embed="rId2"/>
          <a:stretch/>
        </p:blipFill>
        <p:spPr>
          <a:xfrm>
            <a:off x="1714680" y="4113360"/>
            <a:ext cx="3000240" cy="274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1352012724_mimimi_dna_0_001.jpg"/>
          <p:cNvPicPr/>
          <p:nvPr/>
        </p:nvPicPr>
        <p:blipFill>
          <a:blip r:embed="rId3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Сумчат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142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, развитие в сум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цента не образуется или развита слаб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Рисунок 4" descr="images.jpg"/>
          <p:cNvPicPr/>
          <p:nvPr/>
        </p:nvPicPr>
        <p:blipFill>
          <a:blip r:embed="rId1"/>
          <a:stretch/>
        </p:blipFill>
        <p:spPr>
          <a:xfrm>
            <a:off x="0" y="300024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s.jpg"/>
          <p:cNvPicPr/>
          <p:nvPr/>
        </p:nvPicPr>
        <p:blipFill>
          <a:blip r:embed="rId2"/>
          <a:stretch/>
        </p:blipFill>
        <p:spPr>
          <a:xfrm>
            <a:off x="3419640" y="4564080"/>
            <a:ext cx="244764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kangaroo_in_pouch.jpg"/>
          <p:cNvPicPr/>
          <p:nvPr/>
        </p:nvPicPr>
        <p:blipFill>
          <a:blip r:embed="rId3"/>
          <a:stretch/>
        </p:blipFill>
        <p:spPr>
          <a:xfrm>
            <a:off x="5867280" y="3068640"/>
            <a:ext cx="32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f880633ce885ee5037951e532996cb5b.gif"/>
          <p:cNvPicPr/>
          <p:nvPr/>
        </p:nvPicPr>
        <p:blipFill>
          <a:blip r:embed="rId4"/>
          <a:stretch/>
        </p:blipFill>
        <p:spPr>
          <a:xfrm>
            <a:off x="7164360" y="66600"/>
            <a:ext cx="167184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асекомояд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ли в поч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и малоактивный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о обоня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 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без 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слаб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Рисунок 3" descr="7e9b7a8f3211455adefe41b7983f408c.gif"/>
          <p:cNvPicPr/>
          <p:nvPr/>
        </p:nvPicPr>
        <p:blipFill>
          <a:blip r:embed="rId1"/>
          <a:stretch/>
        </p:blipFill>
        <p:spPr>
          <a:xfrm>
            <a:off x="7715160" y="35712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06070701.jpg"/>
          <p:cNvPicPr/>
          <p:nvPr/>
        </p:nvPicPr>
        <p:blipFill>
          <a:blip r:embed="rId2"/>
          <a:stretch/>
        </p:blipFill>
        <p:spPr>
          <a:xfrm>
            <a:off x="5000760" y="2357280"/>
            <a:ext cx="41432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Насекомояд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jpg"/>
          <p:cNvPicPr/>
          <p:nvPr/>
        </p:nvPicPr>
        <p:blipFill>
          <a:blip r:embed="rId2"/>
          <a:stretch/>
        </p:blipFill>
        <p:spPr>
          <a:xfrm>
            <a:off x="457200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0" y="395280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images.jpg"/>
          <p:cNvPicPr/>
          <p:nvPr/>
        </p:nvPicPr>
        <p:blipFill>
          <a:blip r:embed="rId4"/>
          <a:stretch/>
        </p:blipFill>
        <p:spPr>
          <a:xfrm>
            <a:off x="4572000" y="1071720"/>
            <a:ext cx="45720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0" y="6396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е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9120" y="3357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хух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ё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56360" y="63961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рукокрыл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2859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 Способны летать. Ведут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лосяной покров хорошо разви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ередней конечности сильно удлиненные пальцы, между которыми кожистая перепон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кил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эхолокац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плох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aabd5b7a70c8aaebd5ee7e2f828c11dc.gif"/>
          <p:cNvPicPr/>
          <p:nvPr/>
        </p:nvPicPr>
        <p:blipFill>
          <a:blip r:embed="rId1"/>
          <a:stretch/>
        </p:blipFill>
        <p:spPr>
          <a:xfrm>
            <a:off x="7358040" y="500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65px-Big-eared-townsend-fledermaus.jpg"/>
          <p:cNvPicPr/>
          <p:nvPr/>
        </p:nvPicPr>
        <p:blipFill>
          <a:blip r:embed="rId2"/>
          <a:stretch/>
        </p:blipFill>
        <p:spPr>
          <a:xfrm>
            <a:off x="5357880" y="3714840"/>
            <a:ext cx="3365280" cy="204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Рукокрыл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278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images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ages.jpg"/>
          <p:cNvPicPr/>
          <p:nvPr/>
        </p:nvPicPr>
        <p:blipFill>
          <a:blip r:embed="rId3"/>
          <a:stretch/>
        </p:blipFill>
        <p:spPr>
          <a:xfrm>
            <a:off x="0" y="4040280"/>
            <a:ext cx="4286160" cy="2817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ndex.jpg"/>
          <p:cNvPicPr/>
          <p:nvPr/>
        </p:nvPicPr>
        <p:blipFill>
          <a:blip r:embed="rId4"/>
          <a:stretch/>
        </p:blipFill>
        <p:spPr>
          <a:xfrm>
            <a:off x="4643280" y="4000680"/>
            <a:ext cx="450072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0" y="1143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ш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14920" y="1143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жая вечер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0" y="639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ч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43280" y="4005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учая лис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6:18:34Z</dcterms:created>
  <dc:creator>Алексей</dc:creator>
  <dc:description/>
  <dc:language>en-US</dc:language>
  <cp:lastModifiedBy>Admin</cp:lastModifiedBy>
  <dcterms:modified xsi:type="dcterms:W3CDTF">2013-03-16T19:55:18Z</dcterms:modified>
  <cp:revision>84</cp:revision>
  <dc:subject/>
  <dc:title>Green Swamp</dc:title>
</cp:coreProperties>
</file>