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387-17EF-4046-ACF3-561A874B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3FB-8BF9-42B4-A699-62DF73AC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2A75-3330-41A3-91B3-759353A7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D66-596B-4814-BA53-2413D6B0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B7F1-8856-4764-99BF-5718BC96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CE52-E597-4589-8B0B-9C04B3CF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6A47-20E6-49E1-84B8-332B1AE1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F447-8098-4BA8-BA52-C5AD58CD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A586-BF1C-4D93-8F7F-DDB2A56A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5FCF-659C-494E-ABE9-04745CD0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C6C8-D699-44E6-9F31-CC6D954B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EB79-B42D-417D-B299-38C82F7C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0F9F-C5BD-4015-9D6D-E3956182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87CE-CDB4-46DB-BCB0-D49B0AF3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0DAB-5703-4244-8E8E-1050150D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33D8-E8B5-416E-B410-C4625C5F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8317-0CA7-47E6-8988-6A637132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C98A-B90C-45D0-B1A0-A4EC1725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41C-20C4-417A-820E-4EA5A392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6992-BEFC-4147-9099-05C447ED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E57-4DAC-44D9-A704-B9AAA883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362-775E-426E-B82B-9CE9BD78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AC4-7803-4746-9274-54FD2AE0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431-9F81-45E8-B419-2ADB4127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7797-BF37-4DFB-87AC-B90D509CDAF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4EF3-DFFE-431C-BF98-F933220B5C1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6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9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14360" y="1139760"/>
            <a:ext cx="8242200" cy="2219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8360" y="5157720"/>
            <a:ext cx="382104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черовская Инна Адольфо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биолог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СОШ №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руппы крови человека контролируются тремя аллелями одного гена(А В О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нообразные аллельные состояния возникают путем мутаций одного локуса хромосомы и комбинируясь в диплоидных клетках образуют 6 генотип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http://im4-tub-ru.yandex.net/i?id=354138086-26-72&amp;n=21"/>
          <p:cNvPicPr/>
          <p:nvPr/>
        </p:nvPicPr>
        <p:blipFill>
          <a:blip r:embed="rId2"/>
          <a:stretch/>
        </p:blipFill>
        <p:spPr>
          <a:xfrm>
            <a:off x="357120" y="2142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http://spage.com.ua/blog/HLIC/87e6f238c5c52fd591b56e54c5337954.gif"/>
          <p:cNvPicPr/>
          <p:nvPr/>
        </p:nvPicPr>
        <p:blipFill>
          <a:blip r:embed="rId3"/>
          <a:stretch/>
        </p:blipFill>
        <p:spPr>
          <a:xfrm>
            <a:off x="4643280" y="1428840"/>
            <a:ext cx="4210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мотрите рисунок и определите тип взаимодействия генов при наследовании формы гребня у кур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Содержимое 4" descr="vg1"/>
          <p:cNvPicPr/>
          <p:nvPr/>
        </p:nvPicPr>
        <p:blipFill>
          <a:blip r:embed="rId2"/>
          <a:stretch/>
        </p:blipFill>
        <p:spPr>
          <a:xfrm>
            <a:off x="5072040" y="1714680"/>
            <a:ext cx="28954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кур имеются четыре формы гребня. Проявление которых связано с взаимодействием двух пар неаллельных генов. Розовидный гребень обусловлен действием доминантного гена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гороховидный – действием доминантного гена другой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У гибридов при наличии двух доминантных  неаллельных генов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образуется ореховидный гребень, а при отсутствии всех доминантных генов, т.е у рецессивных гомозигот по двум неаллельным генам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ав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развивается простой гребень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скрещивания курицы и петуха с ореховидным гребнем получено потомство, где есть цыплята с простыми гребня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генотипы родителей и потом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285840" y="128520"/>
            <a:ext cx="8407440" cy="700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28760" y="78588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 ♀  АаВв               х         ♂ АаВ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роховидный                                                      гороховидны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ребень                                                                 гребень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 ореховидный гребень (А-В-): 3 розовидный гребень (А-вв):3 гороховидный гребень(ааВ-)  1простой гребень( 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Овал 3"/>
          <p:cNvSpPr/>
          <p:nvPr/>
        </p:nvSpPr>
        <p:spPr>
          <a:xfrm>
            <a:off x="1000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Овал 4"/>
          <p:cNvSpPr/>
          <p:nvPr/>
        </p:nvSpPr>
        <p:spPr>
          <a:xfrm>
            <a:off x="171468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Овал 5"/>
          <p:cNvSpPr/>
          <p:nvPr/>
        </p:nvSpPr>
        <p:spPr>
          <a:xfrm>
            <a:off x="25002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6"/>
          <p:cNvSpPr/>
          <p:nvPr/>
        </p:nvSpPr>
        <p:spPr>
          <a:xfrm>
            <a:off x="32148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Овал 7"/>
          <p:cNvSpPr/>
          <p:nvPr/>
        </p:nvSpPr>
        <p:spPr>
          <a:xfrm>
            <a:off x="4429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Овал 8"/>
          <p:cNvSpPr/>
          <p:nvPr/>
        </p:nvSpPr>
        <p:spPr>
          <a:xfrm>
            <a:off x="521496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9"/>
          <p:cNvSpPr/>
          <p:nvPr/>
        </p:nvSpPr>
        <p:spPr>
          <a:xfrm>
            <a:off x="600084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Овал 10"/>
          <p:cNvSpPr/>
          <p:nvPr/>
        </p:nvSpPr>
        <p:spPr>
          <a:xfrm>
            <a:off x="678672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 задач по генетике: учеб. пособие / В. Н. Мишакова, Л. В. Дорогина, И. Б. Агафонова. – М.: Дрофа, 201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ГЭ Биология: Актив – тренинг: решение заданий А,В,С/ под. Ред.Г.А.Калининой. - М.: Национальное образование,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борник задач по общей биологии для поступающих в вузы / И. В. Болгова. – М.: ООО «Издательский дом «ОНИКС 21 век»: ООО «Издательство «Мир и образование»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ы генетики. Петросова Р.А.- М.: Дрофа, 2004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тернет ресурсы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www.allforgame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geneticsinf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крещивании двух разных сортов тыквы с округлыми плодами все гибриды первого поколения имели дисковидные плоды. При скрещивании гибридов первого поколения произошло расщипление признаков и образование следующего сочетания фенотипических групп: 9 дисковидных: 6 округлых:1 грушевид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6021360"/>
            <a:ext cx="183528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♀ ААВВ       х        ♂ аавв</a:t>
            </a:r>
            <a:br>
              <a:rPr sz="28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круглая форма плода                   грушевидная форма плода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АаВв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исковидная форма пло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дисковидных (А-В-): 6 округлых (3А-вв + 3ааВ-): 1 грушевидная тыква (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Овал 9"/>
          <p:cNvSpPr/>
          <p:nvPr/>
        </p:nvSpPr>
        <p:spPr>
          <a:xfrm>
            <a:off x="1357200" y="2857680"/>
            <a:ext cx="8575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10"/>
          <p:cNvSpPr/>
          <p:nvPr/>
        </p:nvSpPr>
        <p:spPr>
          <a:xfrm>
            <a:off x="3786120" y="2857680"/>
            <a:ext cx="71460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Форма тыквы контролируется двумя парами неаллельных генов. Доминантные аллели каждой из пар отдельно определяют развитие округлой формы(А и В), а их рецессивные аллели- развитие грушевидной формы(а и в).Сочетание (АВ) приводит к развитию дисковидной формы тыквы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5" descr="http://geneticsinfo.ru/wp-content/uploads/2012-06-19/komplementarnoe-vzaimodejstvie-tykvy_1.jpg"/>
          <p:cNvPicPr/>
          <p:nvPr/>
        </p:nvPicPr>
        <p:blipFill>
          <a:blip r:embed="rId3"/>
          <a:stretch/>
        </p:blipFill>
        <p:spPr>
          <a:xfrm>
            <a:off x="4643280" y="1643040"/>
            <a:ext cx="38102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человека за цвет кожи отвечает две пары неаллельных генов. Каковы вероятности рождения детей с различным цветом кожи от браков средних мулат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тип взаимодействия ге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285840" y="-79200"/>
            <a:ext cx="8407440" cy="70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571680"/>
            <a:ext cx="84297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: ♀ 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х              ♂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мулатка                                                                                   мулат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de-DE" sz="13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В этой семье возможны дети всех цветов кожи: 1 : 4 : 6 : 4 : 1, т.е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черные – 1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темные – 4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муглые – 6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ветлые – 4/16      белые – 1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Овал 3"/>
          <p:cNvSpPr/>
          <p:nvPr/>
        </p:nvSpPr>
        <p:spPr>
          <a:xfrm>
            <a:off x="1000080" y="1714680"/>
            <a:ext cx="9288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Овал 4"/>
          <p:cNvSpPr/>
          <p:nvPr/>
        </p:nvSpPr>
        <p:spPr>
          <a:xfrm>
            <a:off x="2000160" y="1714680"/>
            <a:ext cx="857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вал 5"/>
          <p:cNvSpPr/>
          <p:nvPr/>
        </p:nvSpPr>
        <p:spPr>
          <a:xfrm>
            <a:off x="292896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 6"/>
          <p:cNvSpPr/>
          <p:nvPr/>
        </p:nvSpPr>
        <p:spPr>
          <a:xfrm>
            <a:off x="3857760" y="1714680"/>
            <a:ext cx="785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Овал 7"/>
          <p:cNvSpPr/>
          <p:nvPr/>
        </p:nvSpPr>
        <p:spPr>
          <a:xfrm>
            <a:off x="507204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Овал 8"/>
          <p:cNvSpPr/>
          <p:nvPr/>
        </p:nvSpPr>
        <p:spPr>
          <a:xfrm>
            <a:off x="6000840" y="1643040"/>
            <a:ext cx="92844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Овал 9"/>
          <p:cNvSpPr/>
          <p:nvPr/>
        </p:nvSpPr>
        <p:spPr>
          <a:xfrm>
            <a:off x="7000920" y="1643040"/>
            <a:ext cx="85716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Овал 10"/>
          <p:cNvSpPr/>
          <p:nvPr/>
        </p:nvSpPr>
        <p:spPr>
          <a:xfrm>
            <a:off x="7929720" y="1643040"/>
            <a:ext cx="78552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Цвет кожи человека определяется взаимодействием нескольких пар генов по типу </a:t>
            </a:r>
            <a:r>
              <a:rPr b="0" lang="ru-RU" sz="2600" spc="-1" strike="noStrike">
                <a:solidFill>
                  <a:srgbClr val="ffc000"/>
                </a:solidFill>
                <a:latin typeface="Times New Roman"/>
              </a:rPr>
              <a:t>полимери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 т.е цвет кожи тем темнее чем больше доминантных генов в генотип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599840"/>
            <a:ext cx="4038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 А1а1А2а2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http://images.habervitrini.com/galeri/org/1237037361xbrvclb.jpg"/>
          <p:cNvPicPr/>
          <p:nvPr/>
        </p:nvPicPr>
        <p:blipFill>
          <a:blip r:embed="rId2"/>
          <a:stretch/>
        </p:blipFill>
        <p:spPr>
          <a:xfrm>
            <a:off x="4357800" y="17859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im7-tub-ru.yandex.net/i?id=427765243-57-72&amp;n=21"/>
          <p:cNvPicPr/>
          <p:nvPr/>
        </p:nvPicPr>
        <p:blipFill>
          <a:blip r:embed="rId3"/>
          <a:stretch/>
        </p:blipFill>
        <p:spPr>
          <a:xfrm>
            <a:off x="6181560" y="2428920"/>
            <a:ext cx="96228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im0-tub-ru.yandex.net/i?id=63074881-67-72&amp;n=21"/>
          <p:cNvPicPr/>
          <p:nvPr/>
        </p:nvPicPr>
        <p:blipFill>
          <a:blip r:embed="rId4"/>
          <a:stretch/>
        </p:blipFill>
        <p:spPr>
          <a:xfrm>
            <a:off x="4714920" y="40719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http://im4-tub-ru.yandex.net/i?id=783366746-46-72&amp;n=21"/>
          <p:cNvPicPr/>
          <p:nvPr/>
        </p:nvPicPr>
        <p:blipFill>
          <a:blip r:embed="rId5"/>
          <a:stretch/>
        </p:blipFill>
        <p:spPr>
          <a:xfrm>
            <a:off x="6643800" y="42148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тели имеют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ы крови, а их сын –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у. Определите генотипы крови родителей и ребенка. Возможны ли переливания крови родителей их ребенку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: ♀ АО       х        ♂В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    АВ  АО  ВО  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данной семейной пары возможны все сочетания групп крови у детей .Переливание крови родителей ребенку с первой гуппой крови невозможно ввиду тканевой несовместим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8"/>
          <p:cNvSpPr/>
          <p:nvPr/>
        </p:nvSpPr>
        <p:spPr>
          <a:xfrm>
            <a:off x="1143000" y="2214720"/>
            <a:ext cx="7858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Овал 9"/>
          <p:cNvSpPr/>
          <p:nvPr/>
        </p:nvSpPr>
        <p:spPr>
          <a:xfrm>
            <a:off x="228600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Овал 10"/>
          <p:cNvSpPr/>
          <p:nvPr/>
        </p:nvSpPr>
        <p:spPr>
          <a:xfrm>
            <a:off x="328608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Овал 11"/>
          <p:cNvSpPr/>
          <p:nvPr/>
        </p:nvSpPr>
        <p:spPr>
          <a:xfrm>
            <a:off x="428616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4:53:23Z</dcterms:created>
  <dc:creator>User</dc:creator>
  <dc:description/>
  <dc:language>en-US</dc:language>
  <cp:lastModifiedBy>Биология</cp:lastModifiedBy>
  <dcterms:modified xsi:type="dcterms:W3CDTF">2013-03-15T13:32:35Z</dcterms:modified>
  <cp:revision>29</cp:revision>
  <dc:subject/>
  <dc:title>Слайд 1</dc:title>
</cp:coreProperties>
</file>