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FCC-92B0-4809-A1E8-0A205814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A6C-7FA6-4E48-A648-40098935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6A3-85A8-4FD7-A49B-9CF68454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DA3-9D40-42A1-8075-49D7B322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2EEF-BE54-4C80-9A4E-BA377876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3C3F-5BE6-4CA3-B159-AC9ACDC2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4A5D-27CD-42DD-8661-AEC68732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0E68-CA01-480F-B08D-C437DC1E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2E5A-EC2E-4C60-891B-1B092BE4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39F8-2D88-40A2-87CE-1FE0D9D0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8415-3BF3-46A7-8BB1-CC2CE5EE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258-C9FF-4DCA-8B67-18027FE0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0CD5-249D-4773-816B-5DD05528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7A6D-D8CB-4610-A2C7-1C359A1E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3F1E-7036-4FB5-B4D7-DF8C5858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CD09-C467-4A48-A622-F42C19C6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71BB-E385-4CC8-930A-93B5A801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84E-5AB1-4AFE-A6E9-D153B25C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F69-23C0-423C-8E41-D0A5E378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7A8-BF80-4020-B0CF-0C590943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21A-9B6F-445A-B0A0-13EC1F9B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E8D-98B5-44BB-B5B3-1306AD81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EF3-4499-463D-814A-13E2FD87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642-C59A-4794-8820-A58EA594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636D-8C50-4DED-A934-4A578082871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C95B-34D6-4739-8C06-020B72B0735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139760"/>
            <a:ext cx="8242200" cy="221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8360" y="5157720"/>
            <a:ext cx="382104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черовская Инна Адольфо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№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руппы крови человека контролируются тремя аллелями одного гена(А В О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нообразные аллельные состояния возникают путем мутаций одного локуса хромосомы и комбинируясь в диплоидных клетках образуют 6 генотип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im4-tub-ru.yandex.net/i?id=354138086-26-72&amp;n=21"/>
          <p:cNvPicPr/>
          <p:nvPr/>
        </p:nvPicPr>
        <p:blipFill>
          <a:blip r:embed="rId2"/>
          <a:stretch/>
        </p:blipFill>
        <p:spPr>
          <a:xfrm>
            <a:off x="357120" y="2142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http://spage.com.ua/blog/HLIC/87e6f238c5c52fd591b56e54c5337954.gif"/>
          <p:cNvPicPr/>
          <p:nvPr/>
        </p:nvPicPr>
        <p:blipFill>
          <a:blip r:embed="rId3"/>
          <a:stretch/>
        </p:blipFill>
        <p:spPr>
          <a:xfrm>
            <a:off x="4643280" y="1428840"/>
            <a:ext cx="4210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мотрите рисунок и определите тип взаимодействия генов при наследовании формы гребня у кур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4" descr="vg1"/>
          <p:cNvPicPr/>
          <p:nvPr/>
        </p:nvPicPr>
        <p:blipFill>
          <a:blip r:embed="rId2"/>
          <a:stretch/>
        </p:blipFill>
        <p:spPr>
          <a:xfrm>
            <a:off x="5072040" y="1714680"/>
            <a:ext cx="28954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кур имеются четыре формы гребня. Проявление которых связано с взаимодействием двух пар неаллельных генов. Розовидный гребень обусловлен действием доминантного гена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гороховидный – действием доминантного гена другой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У гибридов при наличии двух доминантных  неаллельных генов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бразуется ореховидный гребень, а при отсутствии всех доминантных генов, т.е у рецессивных гомозигот по двум неаллельным генам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ав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развивается простой гребень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скрещивания курицы и петуха с ореховидным гребнем получено потомство, где есть цыплята с простыми гребн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генотипы родителей и потом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285840" y="128520"/>
            <a:ext cx="8407440" cy="70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28760" y="78588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 ♀  АаВв               х         ♂ АаВ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роховидный                                                      гороховидны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ебень                                                                 гребень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 ореховидный гребень (А-В-): 3 розовидный гребень (А-вв):3 гороховидный гребень(ааВ-)  1простой гребень( 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1000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171468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>
            <a:off x="25002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>
            <a:off x="32148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>
            <a:off x="4429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521496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>
            <a:off x="600084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0"/>
          <p:cNvSpPr/>
          <p:nvPr/>
        </p:nvSpPr>
        <p:spPr>
          <a:xfrm>
            <a:off x="678672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 задач по генетике: учеб. пособие / В. Н. Мишакова, Л. В. Дорогина, И. Б. Агафонова. – М.: Дрофа, 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Э Биология: Актив – тренинг: решение заданий А,В,С/ под. Ред.Г.А.Калининой. - М.: Национальное образование,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борник задач по общей биологии для поступающих в вузы / И. В. Болгова. – М.: ООО «Издательский дом «ОНИКС 21 век»: ООО «Издательство «Мир и образование»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генетики. Петросова Р.А.- М.: Дрофа, 200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рнет ресурсы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www.allforgame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geneticsinf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крещивании двух разных сортов тыквы с округлыми плодами все гибриды первого поколения имели дисковидные плоды. При скрещивании гибридов первого поколения произошло расщипление признаков и образование следующего сочетания фенотипических групп: 9 дисковидных: 6 округлых:1 грушевид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6021360"/>
            <a:ext cx="183528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♀ ААВВ       х        ♂ аавв</a:t>
            </a: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круглая форма плода                   грушевидная форма плода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АаВв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сковидная форма пл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дисковидных (А-В-): 6 округлых (3А-вв + 3ааВ-): 1 грушевидная тыква (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1357200" y="2857680"/>
            <a:ext cx="8575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3786120" y="2857680"/>
            <a:ext cx="71460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орма тыквы контролируется двумя парами неаллельных генов. Доминантные аллели каждой из пар отдельно определяют развитие округлой формы(А и В), а их рецессивные аллели- развитие грушевидной формы(а и в).Сочетание (АВ) приводит к развитию дисковидной формы тыквы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5" descr="http://geneticsinfo.ru/wp-content/uploads/2012-06-19/komplementarnoe-vzaimodejstvie-tykvy_1.jpg"/>
          <p:cNvPicPr/>
          <p:nvPr/>
        </p:nvPicPr>
        <p:blipFill>
          <a:blip r:embed="rId3"/>
          <a:stretch/>
        </p:blipFill>
        <p:spPr>
          <a:xfrm>
            <a:off x="4643280" y="1643040"/>
            <a:ext cx="3810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человека за цвет кожи отвечает две пары неаллельных генов. Каковы вероятности рождения детей с различным цветом кожи от браков средних мула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тип взаимодействия г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8407440" cy="70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57168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: ♀ 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х              ♂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мулатка                                                                                   мула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de-DE" sz="13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В этой семье возможны дети всех цветов кожи: 1 : 4 : 6 : 4 : 1, т.е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черные – 1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темные – 4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муглые – 6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ветлые – 4/16      белые – 1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000080" y="1714680"/>
            <a:ext cx="9288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4"/>
          <p:cNvSpPr/>
          <p:nvPr/>
        </p:nvSpPr>
        <p:spPr>
          <a:xfrm>
            <a:off x="2000160" y="1714680"/>
            <a:ext cx="857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5"/>
          <p:cNvSpPr/>
          <p:nvPr/>
        </p:nvSpPr>
        <p:spPr>
          <a:xfrm>
            <a:off x="292896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3857760" y="1714680"/>
            <a:ext cx="785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507204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6000840" y="1643040"/>
            <a:ext cx="92844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7000920" y="1643040"/>
            <a:ext cx="85716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7929720" y="1643040"/>
            <a:ext cx="78552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вет кожи человека определяется взаимодействием нескольких пар генов по типу </a:t>
            </a:r>
            <a:r>
              <a:rPr b="0" lang="ru-RU" sz="2600" spc="-1" strike="noStrike">
                <a:solidFill>
                  <a:srgbClr val="ffc000"/>
                </a:solidFill>
                <a:latin typeface="Times New Roman"/>
              </a:rPr>
              <a:t>полимери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т.е цвет кожи тем темнее чем больше доминантных генов в генотип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 А1а1А2а2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http://images.habervitrini.com/galeri/org/1237037361xbrvclb.jpg"/>
          <p:cNvPicPr/>
          <p:nvPr/>
        </p:nvPicPr>
        <p:blipFill>
          <a:blip r:embed="rId2"/>
          <a:stretch/>
        </p:blipFill>
        <p:spPr>
          <a:xfrm>
            <a:off x="4357800" y="1785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im7-tub-ru.yandex.net/i?id=427765243-57-72&amp;n=21"/>
          <p:cNvPicPr/>
          <p:nvPr/>
        </p:nvPicPr>
        <p:blipFill>
          <a:blip r:embed="rId3"/>
          <a:stretch/>
        </p:blipFill>
        <p:spPr>
          <a:xfrm>
            <a:off x="6181560" y="2428920"/>
            <a:ext cx="96228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im0-tub-ru.yandex.net/i?id=63074881-67-72&amp;n=21"/>
          <p:cNvPicPr/>
          <p:nvPr/>
        </p:nvPicPr>
        <p:blipFill>
          <a:blip r:embed="rId4"/>
          <a:stretch/>
        </p:blipFill>
        <p:spPr>
          <a:xfrm>
            <a:off x="4714920" y="407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://im4-tub-ru.yandex.net/i?id=783366746-46-72&amp;n=21"/>
          <p:cNvPicPr/>
          <p:nvPr/>
        </p:nvPicPr>
        <p:blipFill>
          <a:blip r:embed="rId5"/>
          <a:stretch/>
        </p:blipFill>
        <p:spPr>
          <a:xfrm>
            <a:off x="6643800" y="42148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тели имеют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ы крови, а их сын –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у. Определите генотипы крови родителей и ребенка. Возможны ли переливания крови родителей их ребенку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: ♀ АО       х        ♂В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    АВ  АО  ВО  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данной семейной пары возможны все сочетания групп крови у детей .Переливание крови родителей ребенку с первой гуппой крови невозможно ввиду тканевой несовмест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8"/>
          <p:cNvSpPr/>
          <p:nvPr/>
        </p:nvSpPr>
        <p:spPr>
          <a:xfrm>
            <a:off x="1143000" y="2214720"/>
            <a:ext cx="7858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9"/>
          <p:cNvSpPr/>
          <p:nvPr/>
        </p:nvSpPr>
        <p:spPr>
          <a:xfrm>
            <a:off x="228600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10"/>
          <p:cNvSpPr/>
          <p:nvPr/>
        </p:nvSpPr>
        <p:spPr>
          <a:xfrm>
            <a:off x="328608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11"/>
          <p:cNvSpPr/>
          <p:nvPr/>
        </p:nvSpPr>
        <p:spPr>
          <a:xfrm>
            <a:off x="428616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4:53:23Z</dcterms:created>
  <dc:creator>User</dc:creator>
  <dc:description/>
  <dc:language>en-US</dc:language>
  <cp:lastModifiedBy>Биология</cp:lastModifiedBy>
  <dcterms:modified xsi:type="dcterms:W3CDTF">2013-03-15T13:32:35Z</dcterms:modified>
  <cp:revision>29</cp:revision>
  <dc:subject/>
  <dc:title>Слайд 1</dc:title>
</cp:coreProperties>
</file>