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EF44-CBA2-4DE1-B95D-CB7633B73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8C88-847D-4D98-90C7-09B15BC6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0925-5DB6-4FB6-9F3E-22CB623EA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329A-17C7-480D-827F-5C41BC349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1A43-07AB-4F1B-A8FE-74A19AEEA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90BC-C405-4667-99E7-B7BD162C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FE58-E579-4F7E-BB2E-AEA1B683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2C26B-E4A5-47A8-B33A-BBBF54F4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E94F-7DC2-4D85-9E1A-89144E54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0DD76-8A6D-48B1-8850-EB117834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74EF-E751-414A-8908-D14B5574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259A-0F8E-4445-9F4F-D13CC4E4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7159-9F87-414F-9323-C9A8FB82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97F1-C31F-44F9-91B5-1BCC7F3A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9930E-BC59-40BB-A49E-E46DB3D3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4D2E-53E4-40D7-A3FE-DA74AE49F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7EDA-FFB2-49FC-85F4-54FE5CFDB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7ADE-6162-4394-B3EA-E5F9E385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A13E-F2B7-41B2-9982-DB5C6835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4A2E-1766-463C-A497-FF9E69CD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84A4-F0EE-4748-B2C0-53A5628E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1346-74BE-4DE6-B88C-9D52EA39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D9E8-A681-4677-9101-4807A2F7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22CB-5F08-4F03-8255-B9635A24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6C51-D7DB-47FD-9684-5B6E6739DBB8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7CC3-A705-44CF-A6BA-EABF26917207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hyperlink" Target="file:///&#1055;&#1088;&#1077;&#1079;&#1077;&#1085;&#1090;&#1072;&#1094;&#1080;&#1103;1.ppt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6.xml"/><Relationship Id="rId3" Type="http://schemas.openxmlformats.org/officeDocument/2006/relationships/hyperlink" Target="file:///&#1055;&#1088;&#1077;&#1079;&#1077;&#1085;&#1090;&#1072;&#1094;&#1080;&#1103;1.ppt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9.xml"/><Relationship Id="rId3" Type="http://schemas.openxmlformats.org/officeDocument/2006/relationships/hyperlink" Target="file:///&#1055;&#1088;&#1077;&#1079;&#1077;&#1085;&#1090;&#1072;&#1094;&#1080;&#1103;1.ppt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414360" y="1139760"/>
            <a:ext cx="8242200" cy="22194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8360" y="5157720"/>
            <a:ext cx="3821040" cy="15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черовская Инна Адольфов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читель биолог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БОУ СОШ № 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Группы крови человека контролируются тремя аллелями одного гена(А В О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Разнообразные аллельные состояния возникают путем мутаций одного локуса хромосомы и комбинируясь в диплоидных клетках образуют 6 генотип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2" descr="http://im4-tub-ru.yandex.net/i?id=354138086-26-72&amp;n=21"/>
          <p:cNvPicPr/>
          <p:nvPr/>
        </p:nvPicPr>
        <p:blipFill>
          <a:blip r:embed="rId2"/>
          <a:stretch/>
        </p:blipFill>
        <p:spPr>
          <a:xfrm>
            <a:off x="357120" y="21420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4" descr="http://spage.com.ua/blog/HLIC/87e6f238c5c52fd591b56e54c5337954.gif"/>
          <p:cNvPicPr/>
          <p:nvPr/>
        </p:nvPicPr>
        <p:blipFill>
          <a:blip r:embed="rId3"/>
          <a:stretch/>
        </p:blipFill>
        <p:spPr>
          <a:xfrm>
            <a:off x="4643280" y="1428840"/>
            <a:ext cx="42102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ссмотрите рисунок и определите тип взаимодействия генов при наследовании формы гребня у кур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6021360"/>
            <a:ext cx="2266920" cy="836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ешение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17"/>
          <p:cNvSpPr/>
          <p:nvPr/>
        </p:nvSpPr>
        <p:spPr>
          <a:xfrm rot="10800000">
            <a:off x="8280000" y="6498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Содержимое 4" descr="vg1"/>
          <p:cNvPicPr/>
          <p:nvPr/>
        </p:nvPicPr>
        <p:blipFill>
          <a:blip r:embed="rId2"/>
          <a:stretch/>
        </p:blipFill>
        <p:spPr>
          <a:xfrm>
            <a:off x="5072040" y="1714680"/>
            <a:ext cx="289548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 кур имеются четыре формы гребня. Проявление которых связано с взаимодействием двух пар неаллельных генов. Розовидный гребень обусловлен действием доминантного гена аллели –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, гороховидный – действием доминантного гена другой аллели –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У гибридов при наличии двух доминантных  неаллельных генов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А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образуется ореховидный гребень, а при отсутствии всех доминантных генов, т.е у рецессивных гомозигот по двум неаллельным генам –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аав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, развивается простой гребень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8244000" y="6381720"/>
            <a:ext cx="900000" cy="47628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8459640" y="6453360"/>
            <a:ext cx="432000" cy="288720"/>
          </a:xfrm>
          <a:prstGeom prst="leftArrow">
            <a:avLst>
              <a:gd name="adj1" fmla="val 50000"/>
              <a:gd name="adj2" fmla="val 37406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 скрещивания курицы и петуха с ореховидным гребнем получено потомство, где есть цыплята с простыми гребням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еделите генотипы родителей и потомст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6021360"/>
            <a:ext cx="2266920" cy="836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ешение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17"/>
          <p:cNvSpPr/>
          <p:nvPr/>
        </p:nvSpPr>
        <p:spPr>
          <a:xfrm rot="10800000">
            <a:off x="8280000" y="6498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Заголовок 1" descr=""/>
          <p:cNvPicPr/>
          <p:nvPr/>
        </p:nvPicPr>
        <p:blipFill>
          <a:blip r:embed="rId1"/>
          <a:stretch/>
        </p:blipFill>
        <p:spPr>
          <a:xfrm>
            <a:off x="285840" y="128520"/>
            <a:ext cx="8407440" cy="7002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428760" y="78588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:  ♀  АаВв               х         ♂ АаВ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ороховидный                                                      гороховидный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ребень                                                                 гребень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9 ореховидный гребень (А-В-): 3 розовидный гребень (А-вв):3 гороховидный гребень(ааВ-)  1простой гребень( аавв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Овал 3"/>
          <p:cNvSpPr/>
          <p:nvPr/>
        </p:nvSpPr>
        <p:spPr>
          <a:xfrm>
            <a:off x="1000080" y="2143080"/>
            <a:ext cx="71460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Овал 4"/>
          <p:cNvSpPr/>
          <p:nvPr/>
        </p:nvSpPr>
        <p:spPr>
          <a:xfrm>
            <a:off x="1714680" y="2143080"/>
            <a:ext cx="71424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Овал 5"/>
          <p:cNvSpPr/>
          <p:nvPr/>
        </p:nvSpPr>
        <p:spPr>
          <a:xfrm>
            <a:off x="2500200" y="2143080"/>
            <a:ext cx="6429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Овал 6"/>
          <p:cNvSpPr/>
          <p:nvPr/>
        </p:nvSpPr>
        <p:spPr>
          <a:xfrm>
            <a:off x="3214800" y="2143080"/>
            <a:ext cx="6429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Овал 7"/>
          <p:cNvSpPr/>
          <p:nvPr/>
        </p:nvSpPr>
        <p:spPr>
          <a:xfrm>
            <a:off x="4429080" y="2143080"/>
            <a:ext cx="71460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Овал 8"/>
          <p:cNvSpPr/>
          <p:nvPr/>
        </p:nvSpPr>
        <p:spPr>
          <a:xfrm>
            <a:off x="5214960" y="2143080"/>
            <a:ext cx="71424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Овал 9"/>
          <p:cNvSpPr/>
          <p:nvPr/>
        </p:nvSpPr>
        <p:spPr>
          <a:xfrm>
            <a:off x="6000840" y="2143080"/>
            <a:ext cx="6429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Овал 10"/>
          <p:cNvSpPr/>
          <p:nvPr/>
        </p:nvSpPr>
        <p:spPr>
          <a:xfrm>
            <a:off x="6786720" y="2143080"/>
            <a:ext cx="6429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шение задач по генетике: учеб. пособие / В. Н. Мишакова, Л. В. Дорогина, И. Б. Агафонова. – М.: Дрофа, 201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ГЭ Биология: Актив – тренинг: решение заданий А,В,С/ под. Ред.Г.А.Калининой. - М.: Национальное образование,20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борник задач по общей биологии для поступающих в вузы / И. В. Болгова. – М.: ООО «Издательский дом «ОНИКС 21 век»: ООО «Издательство «Мир и образование», 200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новы генетики. Петросова Р.А.- М.: Дрофа, 2004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нтернет ресурсы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ttp://zhenskoenizhneebelyo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ttp://zhenskoenizhneebelyo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ttp://www.allforgame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ttp://geneticsinfo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скрещивании двух разных сортов тыквы с округлыми плодами все гибриды первого поколения имели дисковидные плоды. При скрещивании гибридов первого поколения произошло расщипление признаков и образование следующего сочетания фенотипических групп: 9 дисковидных: 6 округлых:1 грушевидна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6021360"/>
            <a:ext cx="1835280" cy="836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410082"/>
                </a:solidFill>
                <a:uFillTx/>
                <a:latin typeface="Arial"/>
                <a:hlinkClick r:id="rId2" action="ppaction://hlinksldjump"/>
              </a:rPr>
              <a:t>Решение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17">
            <a:hlinkClick r:id="rId3"/>
          </p:cNvPr>
          <p:cNvSpPr/>
          <p:nvPr/>
        </p:nvSpPr>
        <p:spPr>
          <a:xfrm rot="10800000">
            <a:off x="8280000" y="6498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>
            <a:hlinkClick r:id="rId2" action="ppaction://hlinksldjump"/>
          </p:cNvPr>
          <p:cNvSpPr/>
          <p:nvPr/>
        </p:nvSpPr>
        <p:spPr>
          <a:xfrm>
            <a:off x="8244000" y="6381720"/>
            <a:ext cx="900000" cy="47628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8459640" y="6453360"/>
            <a:ext cx="432000" cy="288720"/>
          </a:xfrm>
          <a:prstGeom prst="leftArrow">
            <a:avLst>
              <a:gd name="adj1" fmla="val 50000"/>
              <a:gd name="adj2" fmla="val 37406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: ♀ ААВВ       х        ♂ аавв</a:t>
            </a:r>
            <a:br>
              <a:rPr sz="28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округлая форма плода                   грушевидная форма плода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G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                      АаВв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исковидная форма плод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9дисковидных (А-В-): 6 округлых (3А-вв + 3ааВ-): 1 грушевидная тыква (аавв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Овал 9"/>
          <p:cNvSpPr/>
          <p:nvPr/>
        </p:nvSpPr>
        <p:spPr>
          <a:xfrm>
            <a:off x="1357200" y="2857680"/>
            <a:ext cx="85752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Овал 10"/>
          <p:cNvSpPr/>
          <p:nvPr/>
        </p:nvSpPr>
        <p:spPr>
          <a:xfrm>
            <a:off x="3786120" y="2857680"/>
            <a:ext cx="71460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Форма тыквы контролируется двумя парами неаллельных генов. Доминантные аллели каждой из пар отдельно определяют развитие округлой формы(А и В), а их рецессивные аллели- развитие грушевидной формы(а и в).Сочетание (АВ) приводит к развитию дисковидной формы тыквы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5">
            <a:hlinkClick r:id="rId2" action="ppaction://hlinksldjump"/>
          </p:cNvPr>
          <p:cNvSpPr/>
          <p:nvPr/>
        </p:nvSpPr>
        <p:spPr>
          <a:xfrm>
            <a:off x="8244000" y="6381720"/>
            <a:ext cx="900000" cy="47628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8459640" y="6453360"/>
            <a:ext cx="432000" cy="288720"/>
          </a:xfrm>
          <a:prstGeom prst="leftArrow">
            <a:avLst>
              <a:gd name="adj1" fmla="val 50000"/>
              <a:gd name="adj2" fmla="val 37406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Содержимое 5" descr="http://geneticsinfo.ru/wp-content/uploads/2012-06-19/komplementarnoe-vzaimodejstvie-tykvy_1.jpg"/>
          <p:cNvPicPr/>
          <p:nvPr/>
        </p:nvPicPr>
        <p:blipFill>
          <a:blip r:embed="rId3"/>
          <a:stretch/>
        </p:blipFill>
        <p:spPr>
          <a:xfrm>
            <a:off x="4643280" y="1643040"/>
            <a:ext cx="381024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 человека за цвет кожи отвечает две пары неаллельных генов. Каковы вероятности рождения детей с различным цветом кожи от браков средних мулато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еделите тип взаимодействия ген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6021360"/>
            <a:ext cx="2266920" cy="836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410082"/>
                </a:solidFill>
                <a:uFillTx/>
                <a:latin typeface="Arial"/>
                <a:hlinkClick r:id="rId2" action="ppaction://hlinksldjump"/>
              </a:rPr>
              <a:t>Решение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7">
            <a:hlinkClick r:id="rId3"/>
          </p:cNvPr>
          <p:cNvSpPr/>
          <p:nvPr/>
        </p:nvSpPr>
        <p:spPr>
          <a:xfrm rot="10800000">
            <a:off x="8280000" y="6498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285840" y="-79200"/>
            <a:ext cx="8407440" cy="701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0" y="571680"/>
            <a:ext cx="842976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Р: ♀  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      х              ♂ 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мулатка                                                                                   мулат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Book Antiqua"/>
              </a:rPr>
              <a:t>G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de-DE" sz="1300" spc="-1" strike="noStrike">
                <a:solidFill>
                  <a:srgbClr val="ffffff"/>
                </a:solidFill>
                <a:latin typeface="Book Antiqua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В этой семье возможны дети всех цветов кожи: 1 : 4 : 6 : 4 : 1, т.е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черные – 1/16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темные – 4/16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смуглые – 6/16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светлые – 4/16      белые – 1/16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Овал 3"/>
          <p:cNvSpPr/>
          <p:nvPr/>
        </p:nvSpPr>
        <p:spPr>
          <a:xfrm>
            <a:off x="1000080" y="1714680"/>
            <a:ext cx="92880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Овал 4"/>
          <p:cNvSpPr/>
          <p:nvPr/>
        </p:nvSpPr>
        <p:spPr>
          <a:xfrm>
            <a:off x="2000160" y="1714680"/>
            <a:ext cx="85752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                             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Овал 5"/>
          <p:cNvSpPr/>
          <p:nvPr/>
        </p:nvSpPr>
        <p:spPr>
          <a:xfrm>
            <a:off x="2928960" y="1714680"/>
            <a:ext cx="8571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Овал 6"/>
          <p:cNvSpPr/>
          <p:nvPr/>
        </p:nvSpPr>
        <p:spPr>
          <a:xfrm>
            <a:off x="3857760" y="1714680"/>
            <a:ext cx="78552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Овал 7"/>
          <p:cNvSpPr/>
          <p:nvPr/>
        </p:nvSpPr>
        <p:spPr>
          <a:xfrm>
            <a:off x="5072040" y="1714680"/>
            <a:ext cx="8571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Овал 8"/>
          <p:cNvSpPr/>
          <p:nvPr/>
        </p:nvSpPr>
        <p:spPr>
          <a:xfrm>
            <a:off x="6000840" y="1643040"/>
            <a:ext cx="928440" cy="571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Овал 9"/>
          <p:cNvSpPr/>
          <p:nvPr/>
        </p:nvSpPr>
        <p:spPr>
          <a:xfrm>
            <a:off x="7000920" y="1643040"/>
            <a:ext cx="857160" cy="571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Овал 10"/>
          <p:cNvSpPr/>
          <p:nvPr/>
        </p:nvSpPr>
        <p:spPr>
          <a:xfrm>
            <a:off x="7929720" y="1643040"/>
            <a:ext cx="785520" cy="571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28800" y="2357280"/>
          <a:ext cx="6357960" cy="2928960"/>
        </p:xfrm>
        <a:graphic>
          <a:graphicData uri="http://schemas.openxmlformats.org/drawingml/2006/table">
            <a:tbl>
              <a:tblPr/>
              <a:tblGrid>
                <a:gridCol w="1271520"/>
                <a:gridCol w="1271520"/>
                <a:gridCol w="1271520"/>
                <a:gridCol w="1271520"/>
                <a:gridCol w="1271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♀             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928800" y="2357280"/>
          <a:ext cx="6357960" cy="2928960"/>
        </p:xfrm>
        <a:graphic>
          <a:graphicData uri="http://schemas.openxmlformats.org/drawingml/2006/table">
            <a:tbl>
              <a:tblPr/>
              <a:tblGrid>
                <a:gridCol w="1271520"/>
                <a:gridCol w="1271520"/>
                <a:gridCol w="1271520"/>
                <a:gridCol w="1271520"/>
                <a:gridCol w="1271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♀             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Цвет кожи человека определяется взаимодействием нескольких пар генов по типу </a:t>
            </a:r>
            <a:r>
              <a:rPr b="0" lang="ru-RU" sz="2600" spc="-1" strike="noStrike">
                <a:solidFill>
                  <a:srgbClr val="ffc000"/>
                </a:solidFill>
                <a:latin typeface="Times New Roman"/>
              </a:rPr>
              <a:t>полимерии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, т.е цвет кожи тем темнее чем больше доминантных генов в генотип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599840"/>
            <a:ext cx="40384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2 А1а1А2а2                                                 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2" descr="http://images.habervitrini.com/galeri/org/1237037361xbrvclb.jpg"/>
          <p:cNvPicPr/>
          <p:nvPr/>
        </p:nvPicPr>
        <p:blipFill>
          <a:blip r:embed="rId2"/>
          <a:stretch/>
        </p:blipFill>
        <p:spPr>
          <a:xfrm>
            <a:off x="4357800" y="17859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http://im7-tub-ru.yandex.net/i?id=427765243-57-72&amp;n=21"/>
          <p:cNvPicPr/>
          <p:nvPr/>
        </p:nvPicPr>
        <p:blipFill>
          <a:blip r:embed="rId3"/>
          <a:stretch/>
        </p:blipFill>
        <p:spPr>
          <a:xfrm>
            <a:off x="6181560" y="2428920"/>
            <a:ext cx="962280" cy="1500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http://im0-tub-ru.yandex.net/i?id=63074881-67-72&amp;n=21"/>
          <p:cNvPicPr/>
          <p:nvPr/>
        </p:nvPicPr>
        <p:blipFill>
          <a:blip r:embed="rId4"/>
          <a:stretch/>
        </p:blipFill>
        <p:spPr>
          <a:xfrm>
            <a:off x="4714920" y="40719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http://im4-tub-ru.yandex.net/i?id=783366746-46-72&amp;n=21"/>
          <p:cNvPicPr/>
          <p:nvPr/>
        </p:nvPicPr>
        <p:blipFill>
          <a:blip r:embed="rId5"/>
          <a:stretch/>
        </p:blipFill>
        <p:spPr>
          <a:xfrm>
            <a:off x="6643800" y="421488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дители имеют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группы крови, а их сын –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группу. Определите генотипы крови родителей и ребенка. Возможны ли переливания крови родителей их ребенку.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6021360"/>
            <a:ext cx="2266920" cy="836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410082"/>
                </a:solidFill>
                <a:uFillTx/>
                <a:latin typeface="Arial"/>
                <a:hlinkClick r:id="rId2" action="ppaction://hlinksldjump"/>
              </a:rPr>
              <a:t>Решение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17">
            <a:hlinkClick r:id="rId3"/>
          </p:cNvPr>
          <p:cNvSpPr/>
          <p:nvPr/>
        </p:nvSpPr>
        <p:spPr>
          <a:xfrm rot="10800000">
            <a:off x="8280000" y="6498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: ♀ АО       х        ♂В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Book Antiqua"/>
              </a:rPr>
              <a:t>G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     АВ  АО  ВО  О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 данной семейной пары возможны все сочетания групп крови у детей .Переливание крови родителей ребенку с первой гуппой крови невозможно ввиду тканевой несовместим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4">
            <a:hlinkClick r:id="rId2" action="ppaction://hlinksldjump"/>
          </p:cNvPr>
          <p:cNvSpPr/>
          <p:nvPr/>
        </p:nvSpPr>
        <p:spPr>
          <a:xfrm>
            <a:off x="8244000" y="6381720"/>
            <a:ext cx="900000" cy="47628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8459640" y="6453360"/>
            <a:ext cx="432000" cy="288720"/>
          </a:xfrm>
          <a:prstGeom prst="leftArrow">
            <a:avLst>
              <a:gd name="adj1" fmla="val 50000"/>
              <a:gd name="adj2" fmla="val 37406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Овал 8"/>
          <p:cNvSpPr/>
          <p:nvPr/>
        </p:nvSpPr>
        <p:spPr>
          <a:xfrm>
            <a:off x="1143000" y="2214720"/>
            <a:ext cx="78588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Овал 9"/>
          <p:cNvSpPr/>
          <p:nvPr/>
        </p:nvSpPr>
        <p:spPr>
          <a:xfrm>
            <a:off x="2286000" y="2214720"/>
            <a:ext cx="64296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Овал 10"/>
          <p:cNvSpPr/>
          <p:nvPr/>
        </p:nvSpPr>
        <p:spPr>
          <a:xfrm>
            <a:off x="3286080" y="2214720"/>
            <a:ext cx="64296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Овал 11"/>
          <p:cNvSpPr/>
          <p:nvPr/>
        </p:nvSpPr>
        <p:spPr>
          <a:xfrm>
            <a:off x="4286160" y="2214720"/>
            <a:ext cx="64296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4:53:23Z</dcterms:created>
  <dc:creator>User</dc:creator>
  <dc:description/>
  <dc:language>en-US</dc:language>
  <cp:lastModifiedBy>Биология</cp:lastModifiedBy>
  <dcterms:modified xsi:type="dcterms:W3CDTF">2013-03-15T13:32:35Z</dcterms:modified>
  <cp:revision>29</cp:revision>
  <dc:subject/>
  <dc:title>Слайд 1</dc:title>
</cp:coreProperties>
</file>