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612-D322-4569-BD33-8E7D6E82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F7F-9A96-499A-9666-C25CB6EB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D08-5DEA-45E0-B855-8B985DDA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E4E-D6D7-4DE5-A9CF-ACA9079E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4815-2967-45BA-AE45-4A5FEBBB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486B-9BEB-4D36-8122-FE2782CA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F6E4-33A5-4309-B97E-37705E56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2C39-70B6-419D-8CEE-D1B68C6A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D1F5-3063-4567-B0F0-852E17C8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D9FB-285F-4208-9A01-27115F56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C0BD-F77C-4A94-9F0F-DD0CE646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01C3-0641-4713-BD77-237EE653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CC27-C28E-466A-AF02-1B4E5414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87E7-B6F1-48B1-B62E-F440CB93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D1FF-726C-412C-9900-D35C979C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346E-9A0D-4AE0-B085-E18B5631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6746-90EA-4900-98F8-04E0382D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AC4-9124-4FB4-B1AF-50524A4B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6B1-1D67-4518-BD41-3894C1F3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79E-EC5A-48BB-9011-BA30BE94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1DAB-2F41-4AB9-9AE7-F754E2FF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8F8-D7F6-4099-949B-1671968D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3D4-DE15-4AD9-9593-DDE7E459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FF2-002C-410C-B7A8-2A8C57C0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090E-369B-4F96-BC46-DE1EB814035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2AC6-BDBD-44E8-B637-C80D07719A4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6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9.xm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14360" y="1139760"/>
            <a:ext cx="8242200" cy="2219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8360" y="5157720"/>
            <a:ext cx="382104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черовская Инна Адольфо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биолог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СОШ №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руппы крови человека контролируются тремя аллелями одного гена(А В О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нообразные аллельные состояния возникают путем мутаций одного локуса хромосомы и комбинируясь в диплоидных клетках образуют 6 генотип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http://im4-tub-ru.yandex.net/i?id=354138086-26-72&amp;n=21"/>
          <p:cNvPicPr/>
          <p:nvPr/>
        </p:nvPicPr>
        <p:blipFill>
          <a:blip r:embed="rId2"/>
          <a:stretch/>
        </p:blipFill>
        <p:spPr>
          <a:xfrm>
            <a:off x="357120" y="2142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http://spage.com.ua/blog/HLIC/87e6f238c5c52fd591b56e54c5337954.gif"/>
          <p:cNvPicPr/>
          <p:nvPr/>
        </p:nvPicPr>
        <p:blipFill>
          <a:blip r:embed="rId3"/>
          <a:stretch/>
        </p:blipFill>
        <p:spPr>
          <a:xfrm>
            <a:off x="4643280" y="1428840"/>
            <a:ext cx="4210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смотрите рисунок и определите тип взаимодействия генов при наследовании формы гребня у кур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Содержимое 4" descr="vg1"/>
          <p:cNvPicPr/>
          <p:nvPr/>
        </p:nvPicPr>
        <p:blipFill>
          <a:blip r:embed="rId2"/>
          <a:stretch/>
        </p:blipFill>
        <p:spPr>
          <a:xfrm>
            <a:off x="5072040" y="1714680"/>
            <a:ext cx="28954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кур имеются четыре формы гребня. Проявление которых связано с взаимодействием двух пар неаллельных генов. Розовидный гребень обусловлен действием доминантного гена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гороховидный – действием доминантного гена другой аллели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У гибридов при наличии двух доминантных  неаллельных генов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бразуется ореховидный гребень, а при отсутствии всех доминантных генов, т.е у рецессивных гомозигот по двум неаллельным генам –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</a:rPr>
              <a:t>аав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развивается простой гребень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скрещивания курицы и петуха с ореховидным гребнем получено потомство, где есть цыплята с простыми гребня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генотипы родителей и потом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285840" y="128520"/>
            <a:ext cx="8407440" cy="70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28760" y="78588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 ♀  АаВв               х         ♂ АаВ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роховидный                                                      гороховидный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ребень                                                                 гребень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 ореховидный гребень (А-В-): 3 розовидный гребень (А-вв):3 гороховидный гребень(ааВ-)  1простой гребень( 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Овал 3"/>
          <p:cNvSpPr/>
          <p:nvPr/>
        </p:nvSpPr>
        <p:spPr>
          <a:xfrm>
            <a:off x="1000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>
            <a:off x="171468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Овал 5"/>
          <p:cNvSpPr/>
          <p:nvPr/>
        </p:nvSpPr>
        <p:spPr>
          <a:xfrm>
            <a:off x="25002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6"/>
          <p:cNvSpPr/>
          <p:nvPr/>
        </p:nvSpPr>
        <p:spPr>
          <a:xfrm>
            <a:off x="321480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Овал 7"/>
          <p:cNvSpPr/>
          <p:nvPr/>
        </p:nvSpPr>
        <p:spPr>
          <a:xfrm>
            <a:off x="4429080" y="2143080"/>
            <a:ext cx="7146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Овал 8"/>
          <p:cNvSpPr/>
          <p:nvPr/>
        </p:nvSpPr>
        <p:spPr>
          <a:xfrm>
            <a:off x="5214960" y="2143080"/>
            <a:ext cx="7142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9"/>
          <p:cNvSpPr/>
          <p:nvPr/>
        </p:nvSpPr>
        <p:spPr>
          <a:xfrm>
            <a:off x="600084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10"/>
          <p:cNvSpPr/>
          <p:nvPr/>
        </p:nvSpPr>
        <p:spPr>
          <a:xfrm>
            <a:off x="6786720" y="2143080"/>
            <a:ext cx="6429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 задач по генетике: учеб. пособие / В. Н. Мишакова, Л. В. Дорогина, И. Б. Агафонова. – М.: Дрофа, 201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Э Биология: Актив – тренинг: решение заданий А,В,С/ под. Ред.Г.А.Калининой. - М.: Национальное образование,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борник задач по общей биологии для поступающих в вузы / И. В. Болгова. – М.: ООО «Издательский дом «ОНИКС 21 век»: ООО «Издательство «Мир и образование»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ы генетики. Петросова Р.А.- М.: Дрофа, 2004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тернет ресурсы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zhenskoenizhneebely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www.allforgame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geneticsinfo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крещивании двух разных сортов тыквы с округлыми плодами все гибриды первого поколения имели дисковидные плоды. При скрещивании гибридов первого поколения произошло расщипление признаков и образование следующего сочетания фенотипических групп: 9 дисковидных: 6 округлых:1 грушевид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6021360"/>
            <a:ext cx="183528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: ♀ ААВВ       х        ♂ аавв</a:t>
            </a: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округлая форма плода                   грушевидная форма плода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                      АаВв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исковидная форма пл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9дисковидных (А-В-): 6 округлых (3А-вв + 3ааВ-): 1 грушевидная тыква (аав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Овал 9"/>
          <p:cNvSpPr/>
          <p:nvPr/>
        </p:nvSpPr>
        <p:spPr>
          <a:xfrm>
            <a:off x="1357200" y="2857680"/>
            <a:ext cx="8575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>
            <a:off x="3786120" y="2857680"/>
            <a:ext cx="71460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орма тыквы контролируется двумя парами неаллельных генов. Доминантные аллели каждой из пар отдельно определяют развитие округлой формы(А и В), а их рецессивные аллели- развитие грушевидной формы(а и в).Сочетание (АВ) приводит к развитию дисковидной формы тыквы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5" descr="http://geneticsinfo.ru/wp-content/uploads/2012-06-19/komplementarnoe-vzaimodejstvie-tykvy_1.jpg"/>
          <p:cNvPicPr/>
          <p:nvPr/>
        </p:nvPicPr>
        <p:blipFill>
          <a:blip r:embed="rId3"/>
          <a:stretch/>
        </p:blipFill>
        <p:spPr>
          <a:xfrm>
            <a:off x="4643280" y="1643040"/>
            <a:ext cx="38102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человека за цвет кожи отвечает две пары неаллельных генов. Каковы вероятности рождения детей с различным цветом кожи от браков средних мулат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е тип взаимодействия ге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85840" y="-79200"/>
            <a:ext cx="8407440" cy="70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571680"/>
            <a:ext cx="8429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: ♀ 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х              ♂ 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мулатка                                                                                   мулат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de-DE" sz="13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В этой семье возможны дети всех цветов кожи: 1 : 4 : 6 : 4 : 1, т.е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черные – 1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темные – 4/16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муглые – 6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светлые – 4/16      белые – 1/16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Овал 3"/>
          <p:cNvSpPr/>
          <p:nvPr/>
        </p:nvSpPr>
        <p:spPr>
          <a:xfrm>
            <a:off x="1000080" y="1714680"/>
            <a:ext cx="9288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Овал 4"/>
          <p:cNvSpPr/>
          <p:nvPr/>
        </p:nvSpPr>
        <p:spPr>
          <a:xfrm>
            <a:off x="2000160" y="1714680"/>
            <a:ext cx="857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 5"/>
          <p:cNvSpPr/>
          <p:nvPr/>
        </p:nvSpPr>
        <p:spPr>
          <a:xfrm>
            <a:off x="292896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3857760" y="1714680"/>
            <a:ext cx="7855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вал 7"/>
          <p:cNvSpPr/>
          <p:nvPr/>
        </p:nvSpPr>
        <p:spPr>
          <a:xfrm>
            <a:off x="5072040" y="171468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 8"/>
          <p:cNvSpPr/>
          <p:nvPr/>
        </p:nvSpPr>
        <p:spPr>
          <a:xfrm>
            <a:off x="6000840" y="1643040"/>
            <a:ext cx="92844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7000920" y="1643040"/>
            <a:ext cx="85716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7929720" y="1643040"/>
            <a:ext cx="785520" cy="571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28800" y="2357280"/>
          <a:ext cx="6357960" cy="292896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  <a:gridCol w="1271520"/>
                <a:gridCol w="1271520"/>
                <a:gridCol w="127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♀             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Цвет кожи человека определяется взаимодействием нескольких пар генов по типу </a:t>
            </a:r>
            <a:r>
              <a:rPr b="0" lang="ru-RU" sz="2600" spc="-1" strike="noStrike">
                <a:solidFill>
                  <a:srgbClr val="ffc000"/>
                </a:solidFill>
                <a:latin typeface="Times New Roman"/>
              </a:rPr>
              <a:t>полимери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 т.е цвет кожи тем темнее чем больше доминантных генов в генотип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2 А1а1А2а2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http://images.habervitrini.com/galeri/org/1237037361xbrvclb.jpg"/>
          <p:cNvPicPr/>
          <p:nvPr/>
        </p:nvPicPr>
        <p:blipFill>
          <a:blip r:embed="rId2"/>
          <a:stretch/>
        </p:blipFill>
        <p:spPr>
          <a:xfrm>
            <a:off x="4357800" y="1785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im7-tub-ru.yandex.net/i?id=427765243-57-72&amp;n=21"/>
          <p:cNvPicPr/>
          <p:nvPr/>
        </p:nvPicPr>
        <p:blipFill>
          <a:blip r:embed="rId3"/>
          <a:stretch/>
        </p:blipFill>
        <p:spPr>
          <a:xfrm>
            <a:off x="6181560" y="2428920"/>
            <a:ext cx="96228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im0-tub-ru.yandex.net/i?id=63074881-67-72&amp;n=21"/>
          <p:cNvPicPr/>
          <p:nvPr/>
        </p:nvPicPr>
        <p:blipFill>
          <a:blip r:embed="rId4"/>
          <a:stretch/>
        </p:blipFill>
        <p:spPr>
          <a:xfrm>
            <a:off x="4714920" y="4071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http://im4-tub-ru.yandex.net/i?id=783366746-46-72&amp;n=21"/>
          <p:cNvPicPr/>
          <p:nvPr/>
        </p:nvPicPr>
        <p:blipFill>
          <a:blip r:embed="rId5"/>
          <a:stretch/>
        </p:blipFill>
        <p:spPr>
          <a:xfrm>
            <a:off x="6643800" y="42148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тели имеют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ы крови, а их сын –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руппу. Определите генотипы крови родителей и ребенка. Возможны ли переливания крови родителей их ребенку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6021360"/>
            <a:ext cx="2266920" cy="83664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Решение задач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7">
            <a:hlinkClick r:id="rId3"/>
          </p:cNvPr>
          <p:cNvSpPr/>
          <p:nvPr/>
        </p:nvSpPr>
        <p:spPr>
          <a:xfrm rot="10800000">
            <a:off x="8280000" y="6498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: ♀ АО       х        ♂В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    АВ  АО  ВО  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данной семейной пары возможны все сочетания групп крови у детей .Переливание крови родителей ребенку с первой гуппой крови невозможно ввиду тканевой несовмест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>
            <a:hlinkClick r:id="rId2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459640" y="645336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8"/>
          <p:cNvSpPr/>
          <p:nvPr/>
        </p:nvSpPr>
        <p:spPr>
          <a:xfrm>
            <a:off x="1143000" y="2214720"/>
            <a:ext cx="7858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Овал 9"/>
          <p:cNvSpPr/>
          <p:nvPr/>
        </p:nvSpPr>
        <p:spPr>
          <a:xfrm>
            <a:off x="228600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Овал 10"/>
          <p:cNvSpPr/>
          <p:nvPr/>
        </p:nvSpPr>
        <p:spPr>
          <a:xfrm>
            <a:off x="328608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Овал 11"/>
          <p:cNvSpPr/>
          <p:nvPr/>
        </p:nvSpPr>
        <p:spPr>
          <a:xfrm>
            <a:off x="4286160" y="2214720"/>
            <a:ext cx="64296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4:53:23Z</dcterms:created>
  <dc:creator>User</dc:creator>
  <dc:description/>
  <dc:language>en-US</dc:language>
  <cp:lastModifiedBy>Биология</cp:lastModifiedBy>
  <dcterms:modified xsi:type="dcterms:W3CDTF">2013-03-15T13:32:35Z</dcterms:modified>
  <cp:revision>29</cp:revision>
  <dc:subject/>
  <dc:title>Слайд 1</dc:title>
</cp:coreProperties>
</file>