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68.jpeg" ContentType="image/jpeg"/>
  <Override PartName="/ppt/media/image31.png" ContentType="image/png"/>
  <Override PartName="/ppt/media/image66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png" ContentType="image/png"/>
  <Override PartName="/ppt/media/image67.jpeg" ContentType="image/jpeg"/>
  <Override PartName="/ppt/media/image69.png" ContentType="image/png"/>
  <Override PartName="/ppt/media/image14.png" ContentType="image/png"/>
  <Override PartName="/ppt/media/image2.png" ContentType="image/png"/>
  <Override PartName="/ppt/media/image38.jpeg" ContentType="image/jpeg"/>
  <Override PartName="/ppt/media/image26.png" ContentType="image/pn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29.png" ContentType="image/png"/>
  <Override PartName="/ppt/media/image5.jpeg" ContentType="image/jpe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1.png" ContentType="image/png"/>
  <Override PartName="/ppt/media/image42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FF0E-E057-4A5F-8570-56FFDB1B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1A7C-8DF1-4B0D-8ED2-299D453D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AC3A-2AE2-486C-BE2A-DB9CC3D9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1533-D23E-4F3A-B41F-15523DFA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7167-A8DD-40D3-9656-B2C5D009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3FC3-9838-4F1B-BD95-1D7447E8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8ECD-9E9D-4595-BC46-D750DB0E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6CFA-B57A-4795-914D-B76E7651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127E-7E99-4259-98F7-F456AACE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0B13-2BDF-4D7D-9D78-48FD7AD0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07C8-D487-4844-B0F3-0FBCCE3D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5B28-174E-4996-92AA-3DB112C5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E85A-0068-45D5-AA1D-27B511D3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DA79-7B8B-4285-8DD5-CF0F959E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0C3E-3DEE-4CEC-87A4-681878C8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92BD-6A54-41C2-B02E-67A65641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3777-3208-4937-8980-E3A1C463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BC2F7-8EAD-4649-AAA4-251DD8D1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12DA1-CF1F-4E20-8A8C-BF9EBC92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F924B-A047-4373-8D75-B5EC5F25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59C05-6BCD-40FA-9DCC-65D8ADB2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05035-E1EA-4BC1-B187-8CD75C2A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0BC-776B-484E-8394-145576B8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CC6D7-B993-4730-8C52-30C6DAF5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D046C-CBF2-4BD1-A936-86A2D573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3A80A-35EC-4ED5-84EA-F18097E2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71E56-A3C5-4028-B588-AAF9CDF7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9586C-690C-4397-BE21-26938168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8A328-63B8-480C-9D1E-CB226EAC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BF00D-06AA-4272-97E3-C1658802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64F0B-5D37-4C26-8736-D9169239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B5761-303E-47A5-9495-C697DEC7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7419A-658F-4361-9672-283A0D09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82E7-16FB-4006-88E6-387B2D09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ECEAB-FB23-4A0A-B51B-789C5E7A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0947C-6ABE-4B1B-9327-116FA68E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4A43E-B75D-405D-9579-D5010F4F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5D210-5998-448C-B385-FC281283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2A1C2-A2E4-4040-857E-820D3947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32E3E-E937-4986-9CD6-2BA45114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E1706-8068-4C8E-8808-FA71EFCE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7DC82-DD14-4A41-B486-411B8847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1A263-B33A-44CB-AF17-CEB0FB63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9E947-7835-4EB9-BC44-4A2DFCA6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7DED-7D1F-43B2-A316-F8586DC9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11CCF-AE89-4144-9490-FFD7F24C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722A6-91DC-44AA-BF27-71F9BE20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ADBE6-E2DA-4EB4-A55B-AF3261FC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E27F5-17C1-4713-A986-492D0ECF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2680A-276D-4731-904B-49E6D58F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60618-7CE6-4787-8391-5BACBA3C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593CC-39EE-470A-A8A1-A01595ED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CB447-630C-4636-B5DE-F1BD7986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3AA1E-C2DB-40E5-A29B-A9EBEC71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57A41-EBA5-414C-A2A4-D685CA42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AF04-497D-4E0C-ADC7-72D29B8C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694A8-58A9-44F3-9DAE-A380053B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50A9-03B7-41FE-8F1A-E9887C03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107F-7412-463C-BA34-68DD4A1D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C9E4-7760-4D35-9D80-E61C1378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7E2D-50B9-47EC-A37D-1896E72519D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39D4-8126-4B17-9EAB-72374E8D336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C178-FC32-4226-B514-C42FF5C0717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C5A2-33C6-4949-8624-FEA61E6406B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DC9E-980B-454E-A23F-77699EFE1EB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Тип Членистоног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714680" y="48574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Учитель биологии: 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214720" cy="157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2195640" cy="153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6357960" y="2928960"/>
            <a:ext cx="2195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5. Смешанная полость тела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иксоцель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полости тела находятся внутренние органы, относящиеся 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ищевар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ыха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енос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ерв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ыдел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ловой системам</a:t>
            </a: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92040" y="3786120"/>
            <a:ext cx="8180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54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6. кровеносная система незамкнутая </a:t>
            </a:r>
            <a:br>
              <a:rPr sz="32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Есть сердце (больших размеров и расположено с брюшной стороны)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ь у большинства  членистоногих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есцветная (гемолимфа) или голубого цвета</a:t>
            </a:r>
            <a:br>
              <a:rPr sz="3200"/>
            </a:b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785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1224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7. Нервная система узлового типа.</a:t>
            </a:r>
            <a:br>
              <a:rPr sz="3600"/>
            </a:b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остоит из окологлоточного нервного кольца и брюшной нервной цепочки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9680" y="314280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860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584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Хорошо развиты органы чувств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зре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боняния,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сяза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слуха 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равновес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 rot="10800000">
            <a:off x="714240" y="6432480"/>
            <a:ext cx="8043840" cy="68400"/>
          </a:xfrm>
          <a:prstGeom prst="rect">
            <a:avLst/>
          </a:prstGeom>
          <a:noFill/>
          <a:ln w="0">
            <a:noFill/>
          </a:ln>
        </p:spPr>
        <p:txBody>
          <a:bodyPr lIns="182880" tIns="22680" bIns="-230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3" descr="image95"/>
          <p:cNvPicPr/>
          <p:nvPr/>
        </p:nvPicPr>
        <p:blipFill>
          <a:blip r:embed="rId1"/>
          <a:stretch/>
        </p:blipFill>
        <p:spPr>
          <a:xfrm>
            <a:off x="3143160" y="3571920"/>
            <a:ext cx="2652840" cy="2571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mage93"/>
          <p:cNvPicPr/>
          <p:nvPr/>
        </p:nvPicPr>
        <p:blipFill>
          <a:blip r:embed="rId2"/>
          <a:stretch/>
        </p:blipFill>
        <p:spPr>
          <a:xfrm>
            <a:off x="5572080" y="1285920"/>
            <a:ext cx="3138480" cy="304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image94"/>
          <p:cNvPicPr/>
          <p:nvPr/>
        </p:nvPicPr>
        <p:blipFill>
          <a:blip r:embed="rId3"/>
          <a:stretch/>
        </p:blipFill>
        <p:spPr>
          <a:xfrm>
            <a:off x="428760" y="3571920"/>
            <a:ext cx="2652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змножение и развити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785760" y="1285920"/>
            <a:ext cx="490068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Членистоногие – раздельнополые животны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У многих ярко выражен половой диморфиз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Развитие происходит как с метаморфозом, так и без нег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Некоторые размножаются партеногенезом (дафнии, т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357120" y="1285920"/>
            <a:ext cx="4559400" cy="4571640"/>
            <a:chOff x="357120" y="1285920"/>
            <a:chExt cx="4559400" cy="4571640"/>
          </a:xfrm>
        </p:grpSpPr>
        <p:pic>
          <p:nvPicPr>
            <p:cNvPr id="313" name="Picture 5" descr="image4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4" name="Picture 6" descr="image5"/>
            <p:cNvPicPr/>
            <p:nvPr/>
          </p:nvPicPr>
          <p:blipFill>
            <a:blip r:embed="rId2"/>
            <a:stretch/>
          </p:blipFill>
          <p:spPr>
            <a:xfrm>
              <a:off x="1667880" y="360756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5" name="Rectangle 7"/>
            <p:cNvSpPr/>
            <p:nvPr/>
          </p:nvSpPr>
          <p:spPr>
            <a:xfrm>
              <a:off x="1167480" y="1285920"/>
              <a:ext cx="2436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2506320" y="5478480"/>
              <a:ext cx="24102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Личинка" descr="01.jpg"/>
          <p:cNvPicPr/>
          <p:nvPr/>
        </p:nvPicPr>
        <p:blipFill>
          <a:blip r:embed="rId3"/>
          <a:stretch/>
        </p:blipFill>
        <p:spPr>
          <a:xfrm>
            <a:off x="5214960" y="350028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318" name="Куколка" descr="04.jpg"/>
          <p:cNvPicPr/>
          <p:nvPr/>
        </p:nvPicPr>
        <p:blipFill>
          <a:blip r:embed="rId4"/>
          <a:stretch/>
        </p:blipFill>
        <p:spPr>
          <a:xfrm>
            <a:off x="6429240" y="4500720"/>
            <a:ext cx="2159280" cy="1618920"/>
          </a:xfrm>
          <a:prstGeom prst="rect">
            <a:avLst/>
          </a:prstGeom>
          <a:ln w="0">
            <a:noFill/>
          </a:ln>
        </p:spPr>
      </p:pic>
      <p:sp>
        <p:nvSpPr>
          <p:cNvPr id="319" name="Т Личинка 2"/>
          <p:cNvSpPr/>
          <p:nvPr/>
        </p:nvSpPr>
        <p:spPr>
          <a:xfrm>
            <a:off x="5143680" y="4804920"/>
            <a:ext cx="1433160" cy="337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и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Т Куколка"/>
          <p:cNvSpPr/>
          <p:nvPr/>
        </p:nvSpPr>
        <p:spPr>
          <a:xfrm>
            <a:off x="6786720" y="5947920"/>
            <a:ext cx="1433520" cy="3373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исхождение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Picture 3" descr="image47"/>
          <p:cNvPicPr/>
          <p:nvPr/>
        </p:nvPicPr>
        <p:blipFill>
          <a:blip r:embed="rId1"/>
          <a:stretch/>
        </p:blipFill>
        <p:spPr>
          <a:xfrm>
            <a:off x="571680" y="1571760"/>
            <a:ext cx="3071520" cy="40003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4"/>
          <p:cNvSpPr/>
          <p:nvPr/>
        </p:nvSpPr>
        <p:spPr>
          <a:xfrm>
            <a:off x="4143240" y="164304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ленистоногие – очень древний тип животных. Членистоногие возникли раньше позвоночных. Их предками были древние многощетинковые кольчатые че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428760" y="54291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ервыми членистоногими на Земле были представители двух классов: дожившие до настоящего времени ракообразные и вымершие примерно 250 миллионов лет назад трилоб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image48"/>
          <p:cNvPicPr/>
          <p:nvPr/>
        </p:nvPicPr>
        <p:blipFill>
          <a:blip r:embed="rId2"/>
          <a:stretch/>
        </p:blipFill>
        <p:spPr>
          <a:xfrm>
            <a:off x="5214960" y="3214800"/>
            <a:ext cx="280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42720" y="1143000"/>
            <a:ext cx="4643640" cy="5256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ип  Членистоног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3"/>
          <p:cNvGrpSpPr/>
          <p:nvPr/>
        </p:nvGrpSpPr>
        <p:grpSpPr>
          <a:xfrm>
            <a:off x="3357720" y="1928880"/>
            <a:ext cx="2357280" cy="1906560"/>
            <a:chOff x="3357720" y="1928880"/>
            <a:chExt cx="2357280" cy="1906560"/>
          </a:xfrm>
        </p:grpSpPr>
        <p:sp>
          <p:nvSpPr>
            <p:cNvPr id="329" name="Text Box 14"/>
            <p:cNvSpPr/>
            <p:nvPr/>
          </p:nvSpPr>
          <p:spPr>
            <a:xfrm>
              <a:off x="3357720" y="1928880"/>
              <a:ext cx="235728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Меростом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15" descr="image53"/>
            <p:cNvPicPr/>
            <p:nvPr/>
          </p:nvPicPr>
          <p:blipFill>
            <a:blip r:embed="rId1"/>
            <a:stretch/>
          </p:blipFill>
          <p:spPr>
            <a:xfrm>
              <a:off x="3571920" y="232416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7"/>
          <p:cNvGrpSpPr/>
          <p:nvPr/>
        </p:nvGrpSpPr>
        <p:grpSpPr>
          <a:xfrm>
            <a:off x="714240" y="1857240"/>
            <a:ext cx="1846440" cy="1906560"/>
            <a:chOff x="714240" y="1857240"/>
            <a:chExt cx="1846440" cy="1906560"/>
          </a:xfrm>
        </p:grpSpPr>
        <p:sp>
          <p:nvSpPr>
            <p:cNvPr id="332" name="Text Box 8"/>
            <p:cNvSpPr/>
            <p:nvPr/>
          </p:nvSpPr>
          <p:spPr>
            <a:xfrm>
              <a:off x="736560" y="1857240"/>
              <a:ext cx="180036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рилоб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9" descr="image51"/>
            <p:cNvPicPr/>
            <p:nvPr/>
          </p:nvPicPr>
          <p:blipFill>
            <a:blip r:embed="rId2"/>
            <a:stretch/>
          </p:blipFill>
          <p:spPr>
            <a:xfrm>
              <a:off x="714240" y="225252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19"/>
          <p:cNvGrpSpPr/>
          <p:nvPr/>
        </p:nvGrpSpPr>
        <p:grpSpPr>
          <a:xfrm>
            <a:off x="6500880" y="1928880"/>
            <a:ext cx="1846080" cy="1906560"/>
            <a:chOff x="6500880" y="1928880"/>
            <a:chExt cx="1846080" cy="1906560"/>
          </a:xfrm>
        </p:grpSpPr>
        <p:sp>
          <p:nvSpPr>
            <p:cNvPr id="335" name="Text Box 20"/>
            <p:cNvSpPr/>
            <p:nvPr/>
          </p:nvSpPr>
          <p:spPr>
            <a:xfrm>
              <a:off x="6524640" y="1928880"/>
              <a:ext cx="180000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ногонож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1" descr="image55"/>
            <p:cNvPicPr/>
            <p:nvPr/>
          </p:nvPicPr>
          <p:blipFill>
            <a:blip r:embed="rId3"/>
            <a:stretch/>
          </p:blipFill>
          <p:spPr>
            <a:xfrm>
              <a:off x="6500880" y="2324160"/>
              <a:ext cx="18460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10"/>
          <p:cNvGrpSpPr/>
          <p:nvPr/>
        </p:nvGrpSpPr>
        <p:grpSpPr>
          <a:xfrm>
            <a:off x="500040" y="4214880"/>
            <a:ext cx="2303280" cy="1913040"/>
            <a:chOff x="500040" y="4214880"/>
            <a:chExt cx="2303280" cy="1913040"/>
          </a:xfrm>
        </p:grpSpPr>
        <p:sp>
          <p:nvSpPr>
            <p:cNvPr id="338" name="Text Box 11"/>
            <p:cNvSpPr/>
            <p:nvPr/>
          </p:nvSpPr>
          <p:spPr>
            <a:xfrm>
              <a:off x="529920" y="4214880"/>
              <a:ext cx="224532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Класс Ра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12" descr="image52"/>
            <p:cNvPicPr/>
            <p:nvPr/>
          </p:nvPicPr>
          <p:blipFill>
            <a:blip r:embed="rId4"/>
            <a:stretch/>
          </p:blipFill>
          <p:spPr>
            <a:xfrm>
              <a:off x="500040" y="4616640"/>
              <a:ext cx="23032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16"/>
          <p:cNvGrpSpPr/>
          <p:nvPr/>
        </p:nvGrpSpPr>
        <p:grpSpPr>
          <a:xfrm>
            <a:off x="3429000" y="4214880"/>
            <a:ext cx="2520720" cy="1913040"/>
            <a:chOff x="3429000" y="4214880"/>
            <a:chExt cx="2520720" cy="1913040"/>
          </a:xfrm>
        </p:grpSpPr>
        <p:sp>
          <p:nvSpPr>
            <p:cNvPr id="341" name="Text Box 17"/>
            <p:cNvSpPr/>
            <p:nvPr/>
          </p:nvSpPr>
          <p:spPr>
            <a:xfrm>
              <a:off x="3461400" y="4214880"/>
              <a:ext cx="24584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Пау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8" descr="image54"/>
            <p:cNvPicPr/>
            <p:nvPr/>
          </p:nvPicPr>
          <p:blipFill>
            <a:blip r:embed="rId5"/>
            <a:stretch/>
          </p:blipFill>
          <p:spPr>
            <a:xfrm>
              <a:off x="3429000" y="4616640"/>
              <a:ext cx="252072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4"/>
          <p:cNvGrpSpPr/>
          <p:nvPr/>
        </p:nvGrpSpPr>
        <p:grpSpPr>
          <a:xfrm>
            <a:off x="6500880" y="4214880"/>
            <a:ext cx="2122200" cy="1913040"/>
            <a:chOff x="6500880" y="4214880"/>
            <a:chExt cx="2122200" cy="1913040"/>
          </a:xfrm>
        </p:grpSpPr>
        <p:sp>
          <p:nvSpPr>
            <p:cNvPr id="344" name="Text Box 5"/>
            <p:cNvSpPr/>
            <p:nvPr/>
          </p:nvSpPr>
          <p:spPr>
            <a:xfrm>
              <a:off x="6526080" y="4214880"/>
              <a:ext cx="20696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6" descr="image56"/>
            <p:cNvPicPr/>
            <p:nvPr/>
          </p:nvPicPr>
          <p:blipFill>
            <a:blip r:embed="rId6"/>
            <a:stretch/>
          </p:blipFill>
          <p:spPr>
            <a:xfrm>
              <a:off x="6500880" y="4616640"/>
              <a:ext cx="212220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540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илоби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14240" y="157140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амая древняя, вымершая группа примитивных членистоногих. Их тело, до полуметра длиной, было разделено продольными бороздками на центральную и две боковые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но состояло из множества сегментов, объединенных в три отдела, типичных для членистоногих. На голове располагались фасеточные глаза и антен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3" descr="image71"/>
          <p:cNvPicPr/>
          <p:nvPr/>
        </p:nvPicPr>
        <p:blipFill>
          <a:blip r:embed="rId1"/>
          <a:stretch/>
        </p:blipFill>
        <p:spPr>
          <a:xfrm>
            <a:off x="50004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image67"/>
          <p:cNvPicPr/>
          <p:nvPr/>
        </p:nvPicPr>
        <p:blipFill>
          <a:blip r:embed="rId2"/>
          <a:stretch/>
        </p:blipFill>
        <p:spPr>
          <a:xfrm>
            <a:off x="607212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image70"/>
          <p:cNvPicPr/>
          <p:nvPr/>
        </p:nvPicPr>
        <p:blipFill>
          <a:blip r:embed="rId3"/>
          <a:stretch/>
        </p:blipFill>
        <p:spPr>
          <a:xfrm>
            <a:off x="3214800" y="4000680"/>
            <a:ext cx="252396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ростомовые (Мечехво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8400" y="1000080"/>
            <a:ext cx="83293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амая древняя группа хелицеровых. К ним относятся 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ракоскорпионы 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– наиболее крупные из членистоногих, населявших моря и даже пресные водоемы. Они вымерли около 280 миллионов лет назад. А вот некоторые из мечехвостов – крупных, до метра, морских хелицеровых – дожили до наших дней, практически не изменившись за последние 350 миллионов ле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3" descr="image81"/>
          <p:cNvPicPr/>
          <p:nvPr/>
        </p:nvPicPr>
        <p:blipFill>
          <a:blip r:embed="rId1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image80"/>
          <p:cNvPicPr/>
          <p:nvPr/>
        </p:nvPicPr>
        <p:blipFill>
          <a:blip r:embed="rId2"/>
          <a:stretch/>
        </p:blipFill>
        <p:spPr>
          <a:xfrm>
            <a:off x="5000760" y="3500280"/>
            <a:ext cx="302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онож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57120" y="1142640"/>
            <a:ext cx="825840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Червеобразное тело многоножек расчленено на большое (до 200) число одинаковых члеников, из которых отличаются только передний и последний. Каждый членик снабжен 1 или 2 парами членистых ножек, заканчивающихся коготком. Головной сегмент несет пару нитевидных щупалец и несколько глаз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Picture 4" descr="image87"/>
          <p:cNvPicPr/>
          <p:nvPr/>
        </p:nvPicPr>
        <p:blipFill>
          <a:blip r:embed="rId1"/>
          <a:stretch/>
        </p:blipFill>
        <p:spPr>
          <a:xfrm>
            <a:off x="614376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image89"/>
          <p:cNvPicPr/>
          <p:nvPr/>
        </p:nvPicPr>
        <p:blipFill>
          <a:blip r:embed="rId2"/>
          <a:stretch/>
        </p:blipFill>
        <p:spPr>
          <a:xfrm>
            <a:off x="342900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image90"/>
          <p:cNvPicPr/>
          <p:nvPr/>
        </p:nvPicPr>
        <p:blipFill>
          <a:blip r:embed="rId3"/>
          <a:stretch/>
        </p:blipFill>
        <p:spPr>
          <a:xfrm>
            <a:off x="785880" y="3143160"/>
            <a:ext cx="2293920" cy="2224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7"/>
          <p:cNvSpPr/>
          <p:nvPr/>
        </p:nvSpPr>
        <p:spPr>
          <a:xfrm>
            <a:off x="571680" y="53578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ногоножки живут преимущественно в темных сырых местах, в почве. Питаются разлагающейся органикой или мелкими животными. Наиболее известны из них сколопендры, костянки и кивс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многочисл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распростран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амый процветающий тип животных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3" descr="Членистоногие"/>
          <p:cNvPicPr/>
          <p:nvPr/>
        </p:nvPicPr>
        <p:blipFill>
          <a:blip r:embed="rId1"/>
          <a:stretch/>
        </p:blipFill>
        <p:spPr>
          <a:xfrm>
            <a:off x="2463840" y="16556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Грибы"/>
          <p:cNvPicPr/>
          <p:nvPr/>
        </p:nvPicPr>
        <p:blipFill>
          <a:blip r:embed="rId2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Цветковые растения"/>
          <p:cNvPicPr/>
          <p:nvPr/>
        </p:nvPicPr>
        <p:blipFill>
          <a:blip r:embed="rId3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Простейшие"/>
          <p:cNvPicPr/>
          <p:nvPr/>
        </p:nvPicPr>
        <p:blipFill>
          <a:blip r:embed="rId4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Позвоночные"/>
          <p:cNvPicPr/>
          <p:nvPr/>
        </p:nvPicPr>
        <p:blipFill>
          <a:blip r:embed="rId5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Моллюски"/>
          <p:cNvPicPr/>
          <p:nvPr/>
        </p:nvPicPr>
        <p:blipFill>
          <a:blip r:embed="rId6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Другие"/>
          <p:cNvPicPr/>
          <p:nvPr/>
        </p:nvPicPr>
        <p:blipFill>
          <a:blip r:embed="rId7"/>
          <a:stretch/>
        </p:blipFill>
        <p:spPr>
          <a:xfrm>
            <a:off x="2500200" y="1643040"/>
            <a:ext cx="3929040" cy="39006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9"/>
          <p:cNvSpPr/>
          <p:nvPr/>
        </p:nvSpPr>
        <p:spPr>
          <a:xfrm>
            <a:off x="5214960" y="164304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ветк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0"/>
          <p:cNvSpPr/>
          <p:nvPr/>
        </p:nvSpPr>
        <p:spPr>
          <a:xfrm>
            <a:off x="3888720" y="14288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и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1"/>
          <p:cNvSpPr/>
          <p:nvPr/>
        </p:nvSpPr>
        <p:spPr>
          <a:xfrm>
            <a:off x="6336000" y="300024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тей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143920" y="96120"/>
            <a:ext cx="35064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210320" y="2786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ленистоно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4"/>
          <p:cNvSpPr/>
          <p:nvPr/>
        </p:nvSpPr>
        <p:spPr>
          <a:xfrm>
            <a:off x="6190560" y="4286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607140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6"/>
          <p:cNvSpPr/>
          <p:nvPr/>
        </p:nvSpPr>
        <p:spPr>
          <a:xfrm>
            <a:off x="6286680" y="3571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ру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468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колопенд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2920" y="1143000"/>
            <a:ext cx="5568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Это хищники, нападающие на насекомых и даже мелких позвоночных. Первая пара ног у них превратилась в ногочелюсти с  серповидными когтями и ядовитыми желез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ус крупных тропических сколопендр опасен и для человека. Наша самая крупная сороконожка, обитающая на юге, достигает 10 см в длину и не так опасна: ее укус, особенно весной, болезнен, вызывает отек и повышение температуры, но потом все быстро проходи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Живут они под камнями, в щелях строений. На охоту выходят ночь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Самка сколопендры – заботливая мать: она «высиживает» в норке кучку яиц, постоянно облизывая их и удаляя со скорлупы плесе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Рисунок 5" descr="размеры сколоп.JPG"/>
          <p:cNvPicPr/>
          <p:nvPr/>
        </p:nvPicPr>
        <p:blipFill>
          <a:blip r:embed="rId1"/>
          <a:stretch/>
        </p:blipFill>
        <p:spPr>
          <a:xfrm>
            <a:off x="5931000" y="3714840"/>
            <a:ext cx="2793960" cy="27795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6" descr="Изображение"/>
          <p:cNvPicPr/>
          <p:nvPr/>
        </p:nvPicPr>
        <p:blipFill>
          <a:blip r:embed="rId2"/>
          <a:stretch/>
        </p:blipFill>
        <p:spPr>
          <a:xfrm>
            <a:off x="6000840" y="1214280"/>
            <a:ext cx="2523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571680" y="500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Если сколопендра пробежит по телу, то на коже остается неприятная обжигающая слизь. От ожогов, полученных от тропических сколопендр, может скончаться и взрослый здоровый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их-либо мер по оказанию первой помощи, в случае укуса или ожога ядом сколопендры, нет. Можно протереть пораженное место спиртом и наложить стерильную повязку, но, даже если боль начала стихать, все равно в обязательном порядке нужно обратиться в ближайшую больницу, так как симптомы могут повторитьс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357120" y="392904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Длина: до 30 см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сто обитания: Австралия, Южная Америка, Крым, Средиземноморье и Закавка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Verdana"/>
              </a:rPr>
              <a:t>Гигантская сколопе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7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3429000"/>
            <a:ext cx="385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9" name="Содержимое 3" descr="image59"/>
          <p:cNvPicPr/>
          <p:nvPr/>
        </p:nvPicPr>
        <p:blipFill>
          <a:blip r:embed="rId1"/>
          <a:stretch/>
        </p:blipFill>
        <p:spPr>
          <a:xfrm>
            <a:off x="642960" y="1643040"/>
            <a:ext cx="3286080" cy="3214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4643280" y="207180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новые учеб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§22,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старые учебн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428760" y="4929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одготовить сообщения и презентации по теме «Общая характеристика Членистоног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Закрепление пройденного материал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1142640"/>
            <a:ext cx="7926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500040" y="988560"/>
            <a:ext cx="81439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ylfaen"/>
                <a:ea typeface="Times New Roman"/>
              </a:rPr>
              <a:t>1. Линька у членистоногих происходит в связи с тем, что хитиновый покров по мере роста живо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1) изнаш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2) теряет свою окра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3) становится нерастяжим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4) пропускает в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57120" y="87480"/>
            <a:ext cx="82868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icrosoft San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Усложнение членистоногих по сравнению с кольчатыми червями проявляется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1) многие имеют покровительственную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предостерегающую о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2) появилась кровеносная система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3) у них есть пищеварительная, выделительная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кровеносная, нервная системы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4) наружный скелет состоит из хитина, конечности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чле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357120" y="428760"/>
            <a:ext cx="842976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Чем членистоногие отличаются от других беспозвоночных? </a:t>
            </a: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(выбрать несколько правильных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о состоит из неодинаковых чл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система опоры и движения образована хитиновым покровом и мыш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передвигаются с помощью лопастевидных вы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покровы тела и мышцы образуют кожно-мускульный м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кровеносная система 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конечности расчлен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_  _  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брать правильные отв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3280" y="150012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Членистоногие  животные име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лучевую симмет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трехслойные  те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вторичную полость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гетерономную метаме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незамкнутую кровенос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внутренний ске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узловую нерв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)Кожно-мускульный меш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нашей планете обитает более 1 миллиона видов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Picture 18" descr="image14"/>
          <p:cNvPicPr/>
          <p:nvPr/>
        </p:nvPicPr>
        <p:blipFill>
          <a:blip r:embed="rId1"/>
          <a:stretch/>
        </p:blipFill>
        <p:spPr>
          <a:xfrm>
            <a:off x="785880" y="207180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9" descr="image13"/>
          <p:cNvPicPr/>
          <p:nvPr/>
        </p:nvPicPr>
        <p:blipFill>
          <a:blip r:embed="rId2"/>
          <a:stretch/>
        </p:blipFill>
        <p:spPr>
          <a:xfrm>
            <a:off x="5072040" y="2071800"/>
            <a:ext cx="3114720" cy="29718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6"/>
          <p:cNvSpPr/>
          <p:nvPr/>
        </p:nvSpPr>
        <p:spPr>
          <a:xfrm>
            <a:off x="3357720" y="514368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исленность Членистоногих превосходит Позвоночных в 2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(на 1 позвоночное  приходится  20 членистоног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6797E-006 L 0.39028 0.31832 E">
                                      <p:cBhvr>
                                        <p:cTn id="5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4525E-007 L -0.2474 0.40773 E">
                                      <p:cBhvr>
                                        <p:cTn id="6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Членистые конечност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4" descr="image38"/>
          <p:cNvPicPr/>
          <p:nvPr/>
        </p:nvPicPr>
        <p:blipFill>
          <a:blip r:embed="rId1"/>
          <a:stretch/>
        </p:blipFill>
        <p:spPr>
          <a:xfrm>
            <a:off x="500040" y="271476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3"/>
          <p:cNvSpPr/>
          <p:nvPr/>
        </p:nvSpPr>
        <p:spPr>
          <a:xfrm>
            <a:off x="571680" y="158256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онечности членистоногих подвижно соединяются с телом посредством суставов и сами состоят из нескольких чле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3786120" y="250020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многочисленные рычаги, посредством которых можно плавать, ходить, захватывать добычу, пережевы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6286680" y="3714840"/>
            <a:ext cx="17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Та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вертлуг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е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гол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428760" y="52862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У большинства многоножек,    стрекоз и перепончатокрылых вертлуг двучлен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Сегментированное тело (гетерономная сегментация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Голова"/>
          <p:cNvSpPr/>
          <p:nvPr/>
        </p:nvSpPr>
        <p:spPr>
          <a:xfrm>
            <a:off x="6643800" y="1714680"/>
            <a:ext cx="1763640" cy="369720"/>
          </a:xfrm>
          <a:prstGeom prst="rect">
            <a:avLst/>
          </a:prstGeom>
          <a:solidFill>
            <a:srgbClr val="ff191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Брюшко"/>
          <p:cNvSpPr/>
          <p:nvPr/>
        </p:nvSpPr>
        <p:spPr>
          <a:xfrm>
            <a:off x="2571840" y="178596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Головогрудь"/>
          <p:cNvSpPr/>
          <p:nvPr/>
        </p:nvSpPr>
        <p:spPr>
          <a:xfrm>
            <a:off x="785880" y="1785960"/>
            <a:ext cx="1743120" cy="3366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лово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рудь"/>
          <p:cNvSpPr/>
          <p:nvPr/>
        </p:nvSpPr>
        <p:spPr>
          <a:xfrm>
            <a:off x="6643800" y="2071800"/>
            <a:ext cx="1765080" cy="369720"/>
          </a:xfrm>
          <a:prstGeom prst="rect">
            <a:avLst/>
          </a:prstGeom>
          <a:solidFill>
            <a:srgbClr val="ffb9b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Брюшко"/>
          <p:cNvSpPr/>
          <p:nvPr/>
        </p:nvSpPr>
        <p:spPr>
          <a:xfrm>
            <a:off x="6643800" y="242892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ак полоски" descr="C:\Documents and Settings\Lebedev SN\Рабочий стол\Членистоногие\5.emf"/>
          <p:cNvPicPr/>
          <p:nvPr/>
        </p:nvPicPr>
        <p:blipFill>
          <a:blip r:embed="rId1"/>
          <a:stretch/>
        </p:blipFill>
        <p:spPr>
          <a:xfrm>
            <a:off x="1071720" y="4214880"/>
            <a:ext cx="2482560" cy="879480"/>
          </a:xfrm>
          <a:prstGeom prst="rect">
            <a:avLst/>
          </a:prstGeom>
          <a:ln w="0">
            <a:noFill/>
          </a:ln>
        </p:spPr>
      </p:pic>
      <p:pic>
        <p:nvPicPr>
          <p:cNvPr id="258" name="рак головогрудь" descr="C:\Documents and Settings\Lebedev SN\Рабочий стол\Членистоногие\1.emf"/>
          <p:cNvPicPr/>
          <p:nvPr/>
        </p:nvPicPr>
        <p:blipFill>
          <a:blip r:embed="rId2"/>
          <a:stretch/>
        </p:blipFill>
        <p:spPr>
          <a:xfrm>
            <a:off x="1214280" y="4143240"/>
            <a:ext cx="1246320" cy="530280"/>
          </a:xfrm>
          <a:prstGeom prst="rect">
            <a:avLst/>
          </a:prstGeom>
          <a:ln w="0">
            <a:noFill/>
          </a:ln>
        </p:spPr>
      </p:pic>
      <p:pic>
        <p:nvPicPr>
          <p:cNvPr id="259" name="рак брюшко" descr="C:\Documents and Settings\Lebedev SN\Рабочий стол\Членистоногие\7.emf"/>
          <p:cNvPicPr/>
          <p:nvPr/>
        </p:nvPicPr>
        <p:blipFill>
          <a:blip r:embed="rId3"/>
          <a:stretch/>
        </p:blipFill>
        <p:spPr>
          <a:xfrm>
            <a:off x="2428920" y="4143240"/>
            <a:ext cx="1065240" cy="617760"/>
          </a:xfrm>
          <a:prstGeom prst="rect">
            <a:avLst/>
          </a:prstGeom>
          <a:ln w="0">
            <a:noFill/>
          </a:ln>
        </p:spPr>
      </p:pic>
      <p:pic>
        <p:nvPicPr>
          <p:cNvPr id="260" name="рак ноги" descr="C:\Documents and Settings\Lebedev SN\Рабочий стол\Членистоногие\4.emf"/>
          <p:cNvPicPr/>
          <p:nvPr/>
        </p:nvPicPr>
        <p:blipFill>
          <a:blip r:embed="rId4"/>
          <a:stretch/>
        </p:blipFill>
        <p:spPr>
          <a:xfrm>
            <a:off x="714240" y="4500720"/>
            <a:ext cx="1887840" cy="515880"/>
          </a:xfrm>
          <a:prstGeom prst="rect">
            <a:avLst/>
          </a:prstGeom>
          <a:ln w="0">
            <a:noFill/>
          </a:ln>
        </p:spPr>
      </p:pic>
      <p:pic>
        <p:nvPicPr>
          <p:cNvPr id="261" name="нас контур" descr="D:\Папа\Рабочее место учителя\В работе\Зоология\З28 Членистоногие\Рис\Кто такие членистоногие\Внешнее строение\насекомые\насекомые-контур.png"/>
          <p:cNvPicPr/>
          <p:nvPr/>
        </p:nvPicPr>
        <p:blipFill>
          <a:blip r:embed="rId5"/>
          <a:stretch/>
        </p:blipFill>
        <p:spPr>
          <a:xfrm>
            <a:off x="5286240" y="3643200"/>
            <a:ext cx="3167280" cy="1587600"/>
          </a:xfrm>
          <a:prstGeom prst="rect">
            <a:avLst/>
          </a:prstGeom>
          <a:ln w="0">
            <a:noFill/>
          </a:ln>
        </p:spPr>
      </p:pic>
      <p:pic>
        <p:nvPicPr>
          <p:cNvPr id="262" name="нас грудь" descr="D:\Папа\Рабочее место учителя\В работе\Зоология\З28 Членистоногие\Рис\Кто такие членистоногие\Внешнее строение\насекомые\насекомые-грудь.png"/>
          <p:cNvPicPr/>
          <p:nvPr/>
        </p:nvPicPr>
        <p:blipFill>
          <a:blip r:embed="rId6"/>
          <a:stretch/>
        </p:blipFill>
        <p:spPr>
          <a:xfrm>
            <a:off x="5715000" y="4000680"/>
            <a:ext cx="1155600" cy="545760"/>
          </a:xfrm>
          <a:prstGeom prst="rect">
            <a:avLst/>
          </a:prstGeom>
          <a:ln w="0">
            <a:noFill/>
          </a:ln>
        </p:spPr>
      </p:pic>
      <p:pic>
        <p:nvPicPr>
          <p:cNvPr id="263" name="нас брюшко" descr="D:\Папа\Рабочее место учителя\В работе\Зоология\З28 Членистоногие\Рис\Кто такие членистоногие\Внешнее строение\насекомые\насекомые-брюшко.png"/>
          <p:cNvPicPr/>
          <p:nvPr/>
        </p:nvPicPr>
        <p:blipFill>
          <a:blip r:embed="rId7"/>
          <a:stretch/>
        </p:blipFill>
        <p:spPr>
          <a:xfrm>
            <a:off x="6786720" y="4000680"/>
            <a:ext cx="1546200" cy="696600"/>
          </a:xfrm>
          <a:prstGeom prst="rect">
            <a:avLst/>
          </a:prstGeom>
          <a:ln w="0">
            <a:noFill/>
          </a:ln>
        </p:spPr>
      </p:pic>
      <p:pic>
        <p:nvPicPr>
          <p:cNvPr id="264" name="нас ноги" descr="D:\Папа\Рабочее место учителя\В работе\Зоология\З28 Членистоногие\Рис\Кто такие членистоногие\Внешнее строение\насекомые\насекомые-ноги.png"/>
          <p:cNvPicPr/>
          <p:nvPr/>
        </p:nvPicPr>
        <p:blipFill>
          <a:blip r:embed="rId8"/>
          <a:stretch/>
        </p:blipFill>
        <p:spPr>
          <a:xfrm>
            <a:off x="5286240" y="4357800"/>
            <a:ext cx="3100680" cy="806400"/>
          </a:xfrm>
          <a:prstGeom prst="rect">
            <a:avLst/>
          </a:prstGeom>
          <a:ln w="0">
            <a:noFill/>
          </a:ln>
        </p:spPr>
      </p:pic>
      <p:pic>
        <p:nvPicPr>
          <p:cNvPr id="265" name="нас голова" descr="D:\Папа\Рабочее место учителя\В работе\Зоология\З28 Членистоногие\Рис\Кто такие членистоногие\Внешнее строение\насекомые\насекомые-голова.png"/>
          <p:cNvPicPr/>
          <p:nvPr/>
        </p:nvPicPr>
        <p:blipFill>
          <a:blip r:embed="rId9"/>
          <a:stretch/>
        </p:blipFill>
        <p:spPr>
          <a:xfrm>
            <a:off x="5643720" y="4286160"/>
            <a:ext cx="492120" cy="505080"/>
          </a:xfrm>
          <a:prstGeom prst="rect">
            <a:avLst/>
          </a:prstGeom>
          <a:ln w="0">
            <a:noFill/>
          </a:ln>
        </p:spPr>
      </p:pic>
      <p:pic>
        <p:nvPicPr>
          <p:cNvPr id="266" name="нас полоски" descr="D:\Папа\Рабочее место учителя\В работе\Зоология\З28 Членистоногие\Рис\Кто такие членистоногие\Внешнее строение\насекомые\насекомые-полоски.png"/>
          <p:cNvPicPr/>
          <p:nvPr/>
        </p:nvPicPr>
        <p:blipFill>
          <a:blip r:embed="rId10"/>
          <a:stretch/>
        </p:blipFill>
        <p:spPr>
          <a:xfrm>
            <a:off x="5500800" y="4000680"/>
            <a:ext cx="2936880" cy="1145880"/>
          </a:xfrm>
          <a:prstGeom prst="rect">
            <a:avLst/>
          </a:prstGeom>
          <a:ln w="0">
            <a:noFill/>
          </a:ln>
        </p:spPr>
      </p:pic>
      <p:sp>
        <p:nvSpPr>
          <p:cNvPr id="267" name="Насекомые"/>
          <p:cNvSpPr/>
          <p:nvPr/>
        </p:nvSpPr>
        <p:spPr>
          <a:xfrm>
            <a:off x="6000840" y="5429160"/>
            <a:ext cx="1763640" cy="3700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кообразные"/>
          <p:cNvSpPr/>
          <p:nvPr/>
        </p:nvSpPr>
        <p:spPr>
          <a:xfrm>
            <a:off x="1214280" y="5357880"/>
            <a:ext cx="176400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паук контур" descr="паук-контур.png"/>
          <p:cNvPicPr/>
          <p:nvPr/>
        </p:nvPicPr>
        <p:blipFill>
          <a:blip r:embed="rId11"/>
          <a:stretch/>
        </p:blipFill>
        <p:spPr>
          <a:xfrm>
            <a:off x="928800" y="2500200"/>
            <a:ext cx="3168360" cy="1020960"/>
          </a:xfrm>
          <a:prstGeom prst="rect">
            <a:avLst/>
          </a:prstGeom>
          <a:ln w="0">
            <a:noFill/>
          </a:ln>
        </p:spPr>
      </p:pic>
      <p:pic>
        <p:nvPicPr>
          <p:cNvPr id="270" name="паук ноги" descr="паук-ноги.png"/>
          <p:cNvPicPr/>
          <p:nvPr/>
        </p:nvPicPr>
        <p:blipFill>
          <a:blip r:embed="rId12"/>
          <a:stretch/>
        </p:blipFill>
        <p:spPr>
          <a:xfrm>
            <a:off x="928800" y="2500200"/>
            <a:ext cx="3147840" cy="997200"/>
          </a:xfrm>
          <a:prstGeom prst="rect">
            <a:avLst/>
          </a:prstGeom>
          <a:ln w="0">
            <a:noFill/>
          </a:ln>
        </p:spPr>
      </p:pic>
      <p:pic>
        <p:nvPicPr>
          <p:cNvPr id="271" name="паук головогрудь" descr="паук-головогрдь.png"/>
          <p:cNvPicPr/>
          <p:nvPr/>
        </p:nvPicPr>
        <p:blipFill>
          <a:blip r:embed="rId13"/>
          <a:stretch/>
        </p:blipFill>
        <p:spPr>
          <a:xfrm>
            <a:off x="1500120" y="2643120"/>
            <a:ext cx="1001880" cy="642960"/>
          </a:xfrm>
          <a:prstGeom prst="rect">
            <a:avLst/>
          </a:prstGeom>
          <a:ln w="0">
            <a:noFill/>
          </a:ln>
        </p:spPr>
      </p:pic>
      <p:pic>
        <p:nvPicPr>
          <p:cNvPr id="272" name="паук полоски" descr="паук-полоски.png"/>
          <p:cNvPicPr/>
          <p:nvPr/>
        </p:nvPicPr>
        <p:blipFill>
          <a:blip r:embed="rId14"/>
          <a:stretch/>
        </p:blipFill>
        <p:spPr>
          <a:xfrm>
            <a:off x="1000080" y="2571840"/>
            <a:ext cx="3073320" cy="961920"/>
          </a:xfrm>
          <a:prstGeom prst="rect">
            <a:avLst/>
          </a:prstGeom>
          <a:ln w="0">
            <a:noFill/>
          </a:ln>
        </p:spPr>
      </p:pic>
      <p:pic>
        <p:nvPicPr>
          <p:cNvPr id="273" name="паук брюшко" descr="паук-брюшео.png"/>
          <p:cNvPicPr/>
          <p:nvPr/>
        </p:nvPicPr>
        <p:blipFill>
          <a:blip r:embed="rId15"/>
          <a:stretch/>
        </p:blipFill>
        <p:spPr>
          <a:xfrm>
            <a:off x="2500200" y="2500200"/>
            <a:ext cx="1141560" cy="782640"/>
          </a:xfrm>
          <a:prstGeom prst="rect">
            <a:avLst/>
          </a:prstGeom>
          <a:ln w="0">
            <a:noFill/>
          </a:ln>
        </p:spPr>
      </p:pic>
      <p:sp>
        <p:nvSpPr>
          <p:cNvPr id="274" name="Паукообразные"/>
          <p:cNvSpPr/>
          <p:nvPr/>
        </p:nvSpPr>
        <p:spPr>
          <a:xfrm>
            <a:off x="1000080" y="3571920"/>
            <a:ext cx="197820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онечности"/>
          <p:cNvSpPr/>
          <p:nvPr/>
        </p:nvSpPr>
        <p:spPr>
          <a:xfrm>
            <a:off x="4572000" y="2071800"/>
            <a:ext cx="1714680" cy="4284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Хитиновый пок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7" name="Picture 5" descr="image39"/>
          <p:cNvPicPr/>
          <p:nvPr/>
        </p:nvPicPr>
        <p:blipFill>
          <a:blip r:embed="rId1"/>
          <a:stretch/>
        </p:blipFill>
        <p:spPr>
          <a:xfrm>
            <a:off x="6215040" y="500040"/>
            <a:ext cx="2548080" cy="4546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40"/>
          <p:cNvPicPr/>
          <p:nvPr/>
        </p:nvPicPr>
        <p:blipFill>
          <a:blip r:embed="rId2"/>
          <a:stretch/>
        </p:blipFill>
        <p:spPr>
          <a:xfrm>
            <a:off x="1143000" y="2071800"/>
            <a:ext cx="3571920" cy="28512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6"/>
          <p:cNvSpPr/>
          <p:nvPr/>
        </p:nvSpPr>
        <p:spPr>
          <a:xfrm>
            <a:off x="428760" y="150012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(Хитин-легкое и прочное  вещ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поминающее пластмасс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500040" y="50720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некоторых животных хитиновые пластины сливаются, образуя единый хитиновый покров. В хитиновом панцире краб или жук напоминает закованного в латы средневекового рыцаря. Его тело прикрыто броней, но она позволяет ему быстро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"/>
          <p:cNvSpPr/>
          <p:nvPr/>
        </p:nvSpPr>
        <p:spPr>
          <a:xfrm>
            <a:off x="571680" y="42876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Хитиновый покров очень прочен и выполняет многочисленны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ружного скелета (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к внутренним выростам хитинового  покрова крепятся мышцы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тело членистоногих от различны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ханических и химических повре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епятствует излишней потери вл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от ож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Иногда хитин пропитывается известью, поэтому некоторых крабов трудно разбить даже моло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image73"/>
          <p:cNvPicPr/>
          <p:nvPr/>
        </p:nvPicPr>
        <p:blipFill>
          <a:blip r:embed="rId1"/>
          <a:stretch/>
        </p:blipFill>
        <p:spPr>
          <a:xfrm>
            <a:off x="3286080" y="414324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image76"/>
          <p:cNvPicPr/>
          <p:nvPr/>
        </p:nvPicPr>
        <p:blipFill>
          <a:blip r:embed="rId2"/>
          <a:stretch/>
        </p:blipFill>
        <p:spPr>
          <a:xfrm>
            <a:off x="6000840" y="421488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77"/>
          <p:cNvPicPr/>
          <p:nvPr/>
        </p:nvPicPr>
        <p:blipFill>
          <a:blip r:embed="rId3"/>
          <a:stretch/>
        </p:blipFill>
        <p:spPr>
          <a:xfrm>
            <a:off x="571680" y="4143240"/>
            <a:ext cx="2374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4. Линь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428760" y="121428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хитинового скелета есть недостаток — он не позволяет постоянно расти. Приходится регулярно линять — сбрасывать старые «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4929120" y="857160"/>
            <a:ext cx="3643560" cy="3643560"/>
            <a:chOff x="4929120" y="857160"/>
            <a:chExt cx="3643560" cy="3643560"/>
          </a:xfrm>
        </p:grpSpPr>
        <p:pic>
          <p:nvPicPr>
            <p:cNvPr id="288" name="Picture 6" descr="image44"/>
            <p:cNvPicPr/>
            <p:nvPr/>
          </p:nvPicPr>
          <p:blipFill>
            <a:blip r:embed="rId1"/>
            <a:srcRect l="0" t="0" r="0" b="-22931"/>
            <a:stretch/>
          </p:blipFill>
          <p:spPr>
            <a:xfrm>
              <a:off x="4929120" y="857160"/>
              <a:ext cx="3643560" cy="364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9" name="Rectangle 7"/>
            <p:cNvSpPr/>
            <p:nvPr/>
          </p:nvSpPr>
          <p:spPr>
            <a:xfrm>
              <a:off x="4929120" y="3833640"/>
              <a:ext cx="36435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брошенный при линьке хитиновый покров речного ра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Прямоугольник 11"/>
          <p:cNvSpPr/>
          <p:nvPr/>
        </p:nvSpPr>
        <p:spPr>
          <a:xfrm>
            <a:off x="357120" y="3286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Линька — процесс непростой, ведь из старой брони приходится вытаскивать даже тончайшие 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428760" y="5072040"/>
            <a:ext cx="8286480" cy="1486440"/>
            <a:chOff x="428760" y="5072040"/>
            <a:chExt cx="8286480" cy="1486440"/>
          </a:xfrm>
        </p:grpSpPr>
        <p:pic>
          <p:nvPicPr>
            <p:cNvPr id="292" name="Picture 7" descr="image12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8286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8"/>
            <p:cNvSpPr/>
            <p:nvPr/>
          </p:nvSpPr>
          <p:spPr>
            <a:xfrm>
              <a:off x="675720" y="6190200"/>
              <a:ext cx="2425680" cy="36828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инька кузнеч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186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571680" y="500040"/>
            <a:ext cx="79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тот момент, когда старые покровы сброшены, а новые еще не успели затвердеть, происходит увеличение размеров и объем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030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9:01Z</dcterms:created>
  <dc:creator>Владелец</dc:creator>
  <dc:description/>
  <dc:language>en-US</dc:language>
  <cp:lastModifiedBy>Олег</cp:lastModifiedBy>
  <dcterms:modified xsi:type="dcterms:W3CDTF">2012-10-18T16:55:18Z</dcterms:modified>
  <cp:revision>39</cp:revision>
  <dc:subject/>
  <dc:title>Тип Членистоногие</dc:title>
</cp:coreProperties>
</file>