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52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08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96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852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08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96720" y="297000"/>
            <a:ext cx="7559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52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08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96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852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408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A848-56AC-4BD1-9E2D-A36E8A630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2A9E-BA9B-4CEF-AE5C-6D726A0E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C585-D4BF-434D-B796-6C668F69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6C8B-66EF-4433-8CDB-E2833D78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3FFD-B2E7-4487-92C0-AB3C41F3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296720" y="297000"/>
            <a:ext cx="7559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22FE-27E4-45CD-A9F7-98147F6D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8F69-59F0-4D6F-91DC-FE0B1864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7230-FA23-4E69-A6B2-2EE2EB2A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7696-9DD3-4323-BDB5-1E89BAAF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EDC6-0933-4DB7-B9A1-0ADE66D2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0AB6-D038-4206-8621-9B6EEF7EA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852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408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296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852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408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3B20-0721-4C83-9CC0-C84887F21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96720" y="297000"/>
            <a:ext cx="7559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58920"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1" marL="358920" indent="25056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2" marL="719280" indent="1792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58920"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1" marL="358920" indent="25056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2" marL="719280" indent="1792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58920"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1" marL="358920" indent="25056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2" marL="719280" indent="1792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26D9-053A-4F45-B91C-E7DBEF1074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annas2.ucoz.ru/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divimenia.ru/tag/udivitelnyie-derevya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otanichka.ru/blog/2010/09/22/baobab/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2276640"/>
            <a:ext cx="7772400" cy="19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4a452a"/>
                </a:solidFill>
                <a:latin typeface="Antikvar"/>
                <a:ea typeface="Arial Unicode MS"/>
              </a:rPr>
              <a:t>Самые необычные и удивительные деревья мира.</a:t>
            </a:r>
            <a:endParaRPr b="0" lang="en-US" sz="59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619280" y="5373720"/>
            <a:ext cx="7337520" cy="131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Book Antiqua"/>
              </a:rPr>
              <a:t>Широкова Анна Дорофеевна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Book Antiqua"/>
              </a:rPr>
              <a:t>Учитель биологии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Book Antiqua"/>
              </a:rPr>
              <a:t>МАОУ СОШ №4 им. И.С. Черных г. Томска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2523"/>
                </a:solidFill>
                <a:latin typeface="Book Antiqua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Book Antiqua"/>
                <a:hlinkClick r:id="rId2"/>
              </a:rPr>
              <a:t>http://annas2.ucoz.ru/</a:t>
            </a:r>
            <a:r>
              <a:rPr b="0" lang="en-US" sz="1200" spc="-1" strike="noStrike">
                <a:solidFill>
                  <a:srgbClr val="632523"/>
                </a:solidFill>
                <a:latin typeface="Book Antiqua"/>
              </a:rPr>
              <a:t> </a:t>
            </a:r>
            <a:endParaRPr b="0" lang="en-US" sz="12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4" descr="samoe_samoe_derevo_9.jpg"/>
          <p:cNvPicPr/>
          <p:nvPr/>
        </p:nvPicPr>
        <p:blipFill>
          <a:blip r:embed="rId2"/>
          <a:stretch/>
        </p:blipFill>
        <p:spPr>
          <a:xfrm>
            <a:off x="1835280" y="189000"/>
            <a:ext cx="5688000" cy="3624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29840" y="3860640"/>
            <a:ext cx="87138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Пандо — это колония осинообразного тополя , расположенная в штате Юте в США. Все деревья в этой колонии генетически идентичные. На самое интересное в том, что все они являются единым живым организмом с общей корневой системой. Возраст этого уникального растения оценивается учеными в 80 тысяч лет, а его вес около 6 тысяч тонн. 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Рисунок 4" descr="samoe_samoe_derevo_8-450x600.jpg"/>
          <p:cNvPicPr/>
          <p:nvPr/>
        </p:nvPicPr>
        <p:blipFill>
          <a:blip r:embed="rId2"/>
          <a:stretch/>
        </p:blipFill>
        <p:spPr>
          <a:xfrm>
            <a:off x="1579680" y="189000"/>
            <a:ext cx="6521400" cy="417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4508640"/>
            <a:ext cx="885672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Шен-Шапель является самым известным деревом во Франции. На самом деле, это больше, чем просто дерево: это здание и религиозный памятник. В 1669 году около этого 500 летнего (в то время), пораженного молнией дуба, аббаты решили построить часовню выполнен полым от молнии.  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4000" y="333360"/>
            <a:ext cx="3671640" cy="57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Великий баньян (Колката, Индия)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Деревом с самой большой в мире площадью кроны является великий баньян, который расположен в индийском ботаническом саду. Баньян получил свое название в честь индийских торговцев, которые вели свою торговлю под раскидистой сенью этих деревьев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40" name="Рисунок 6" descr="samoe_samoe_derevo_14-450x325.jpg"/>
          <p:cNvPicPr/>
          <p:nvPr/>
        </p:nvPicPr>
        <p:blipFill>
          <a:blip r:embed="rId2"/>
          <a:stretch/>
        </p:blipFill>
        <p:spPr>
          <a:xfrm>
            <a:off x="4211640" y="692280"/>
            <a:ext cx="4738680" cy="460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4" descr="001rcbkk.jpg"/>
          <p:cNvPicPr/>
          <p:nvPr/>
        </p:nvPicPr>
        <p:blipFill>
          <a:blip r:embed="rId2"/>
          <a:stretch/>
        </p:blipFill>
        <p:spPr>
          <a:xfrm>
            <a:off x="1763640" y="189000"/>
            <a:ext cx="5954760" cy="446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560" y="4723920"/>
            <a:ext cx="8317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Дерево-лес </a:t>
            </a:r>
            <a:br>
              <a:rPr sz="2400"/>
            </a:b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На фото ниже изображён не лес, а одно единственное бразильское дерево Ореха Кешью, которое занимает площадь около 8500 квадратных метров!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4" descr="001qsw6q.jpg"/>
          <p:cNvPicPr/>
          <p:nvPr/>
        </p:nvPicPr>
        <p:blipFill>
          <a:blip r:embed="rId2"/>
          <a:stretch/>
        </p:blipFill>
        <p:spPr>
          <a:xfrm>
            <a:off x="1692360" y="115920"/>
            <a:ext cx="5759280" cy="3994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03280" y="4194000"/>
            <a:ext cx="864072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Дерево жизни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 Одно единственное четырёхвековое дерево акации в гордом одиночестве возвышается среди безжизненной пустыни  в заливе Бахрейн,в северо-западной части Персидского залива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4" descr="001rdcqt.jpg"/>
          <p:cNvPicPr/>
          <p:nvPr/>
        </p:nvPicPr>
        <p:blipFill>
          <a:blip r:embed="rId2"/>
          <a:stretch/>
        </p:blipFill>
        <p:spPr>
          <a:xfrm>
            <a:off x="4572000" y="981000"/>
            <a:ext cx="4392720" cy="4737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-360" y="1052280"/>
            <a:ext cx="4537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Дерево-спрут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Белое хлопковое дерево (шерстяное дерево, капок) у ворот храма Та Пром в Ангкор-Тхом, в столице исчезнувшей Кхмерской Империи. Это дерево, подобно спруту, опутывает входы в храм. (Древная столица Камбоджи , государства в Юго-Восточной Азии)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4" descr="phpThumb_generated_thumbnailjpg.jpg"/>
          <p:cNvPicPr/>
          <p:nvPr/>
        </p:nvPicPr>
        <p:blipFill>
          <a:blip r:embed="rId2"/>
          <a:stretch/>
        </p:blipFill>
        <p:spPr>
          <a:xfrm>
            <a:off x="179280" y="189000"/>
            <a:ext cx="3462480" cy="3139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3357360"/>
            <a:ext cx="6012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Bombax ceiba (</a:t>
            </a: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Бомбакс сейба) Семейство: Мальвовые </a:t>
            </a: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Malvaceae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Названия: Красное хлопковое дерево, Шелковое дерево. Австралия, Тропическая Азия.  Его особенность - большие красные цветы. Причем настолько яркие, что можно подумать, что они сделаны из пластмассы. </a:t>
            </a:r>
            <a:br>
              <a:rPr sz="1800"/>
            </a:br>
            <a:r>
              <a:rPr b="1" lang="ru-RU" sz="1800" spc="-1" strike="noStrike">
                <a:solidFill>
                  <a:srgbClr val="10253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49" name="Рисунок 5" descr="phpThumb_generated_thumbnailjpg.jpg"/>
          <p:cNvPicPr/>
          <p:nvPr/>
        </p:nvPicPr>
        <p:blipFill>
          <a:blip r:embed="rId3"/>
          <a:srcRect l="0" t="0" r="56655" b="0"/>
          <a:stretch/>
        </p:blipFill>
        <p:spPr>
          <a:xfrm>
            <a:off x="6014880" y="3357720"/>
            <a:ext cx="3129120" cy="25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0" name="Рисунок 7" descr="phpThumb_generated_thumbnailjpg.jpg"/>
          <p:cNvPicPr/>
          <p:nvPr/>
        </p:nvPicPr>
        <p:blipFill>
          <a:blip r:embed="rId4"/>
          <a:srcRect l="43350" t="0" r="0" b="0"/>
          <a:stretch/>
        </p:blipFill>
        <p:spPr>
          <a:xfrm>
            <a:off x="4067280" y="333360"/>
            <a:ext cx="4968720" cy="261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99640" y="475920"/>
            <a:ext cx="381636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Самым известным деревом в Мексике (город Оахака) является кипарис, который имеет своё собственное имя - "El Arbol del Tule". Длина окружности ствола этого исполина составляет 54 метра, а высота 40 метров. Диаметр кроны 51 метр. Дерево по приблизительным оценкам весит 600 тонн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52" name="Рисунок 5" descr="001r2rew.jpg"/>
          <p:cNvPicPr/>
          <p:nvPr/>
        </p:nvPicPr>
        <p:blipFill>
          <a:blip r:embed="rId2"/>
          <a:stretch/>
        </p:blipFill>
        <p:spPr>
          <a:xfrm>
            <a:off x="5003640" y="476280"/>
            <a:ext cx="3745080" cy="568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Рисунок 4" descr="00175d5g.jpg"/>
          <p:cNvPicPr/>
          <p:nvPr/>
        </p:nvPicPr>
        <p:blipFill>
          <a:blip r:embed="rId2"/>
          <a:stretch/>
        </p:blipFill>
        <p:spPr>
          <a:xfrm>
            <a:off x="2268360" y="333360"/>
            <a:ext cx="5759640" cy="3367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58560" y="3645000"/>
            <a:ext cx="878508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Фикус Бенгальский (</a:t>
            </a: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Ficus benghalensis)</a:t>
            </a: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 На первый взгляд может показаться, что на фото выше изображён лес. На самом деле - это одно единственное дерево. Фикус Бенгальский образует мощные ветви для поддержки которых отрастают побеги, которые отпускаясь вниз до земли укореняются, образуя мощные колонны-стволы. </a:t>
            </a:r>
            <a:br>
              <a:rPr sz="2000"/>
            </a:b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Рисунок 4" descr="001r3dp7.jpg"/>
          <p:cNvPicPr/>
          <p:nvPr/>
        </p:nvPicPr>
        <p:blipFill>
          <a:blip r:embed="rId2"/>
          <a:stretch/>
        </p:blipFill>
        <p:spPr>
          <a:xfrm>
            <a:off x="2195640" y="333360"/>
            <a:ext cx="5689440" cy="339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50560" y="3644640"/>
            <a:ext cx="8893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Воллемия сосновая (Wollemi Pine) - это дерево рода Хвойных, семейства Араукариевых произрастает в Австралии. Одно из самых древних древесных растений ("сверстник динозавров"), которое было широко распространено на Земле в Юрский период. До недавнего времени считалось вымершим ископаемым видом. Очень редкое растение, внесённое в Красную книгу.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24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Book Antiqua"/>
              </a:rPr>
              <a:t>Какие самые необычные и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Book Antiqua"/>
                <a:hlinkClick r:id="rId2"/>
              </a:rPr>
              <a:t>удивительные деревья</a:t>
            </a:r>
            <a:r>
              <a:rPr b="0" lang="en-US" sz="2800" spc="-1" strike="noStrike">
                <a:solidFill>
                  <a:srgbClr val="254061"/>
                </a:solidFill>
                <a:latin typeface="Book Antiqua"/>
              </a:rPr>
              <a:t> в мире? Где они растут? Сколько живут? Чем они необычны? Оказалось, удивительных деревьев на нашей планете достаточно </a:t>
            </a:r>
            <a:br>
              <a:rPr sz="2800"/>
            </a:br>
            <a:r>
              <a:rPr b="0" lang="en-US" sz="2800" spc="-1" strike="noStrike">
                <a:solidFill>
                  <a:srgbClr val="254061"/>
                </a:solidFill>
                <a:latin typeface="Book Antiqua"/>
              </a:rPr>
              <a:t>много.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20" name="Содержимое 3" descr="танцующий лес в Калининградской области.jpg"/>
          <p:cNvPicPr/>
          <p:nvPr/>
        </p:nvPicPr>
        <p:blipFill>
          <a:blip r:embed="rId3"/>
          <a:stretch/>
        </p:blipFill>
        <p:spPr>
          <a:xfrm>
            <a:off x="1835280" y="2421000"/>
            <a:ext cx="6297480" cy="421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26920" y="189000"/>
            <a:ext cx="410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Пуйя Раймонда (</a:t>
            </a: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Puya raimondii)</a:t>
            </a: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 Пуйя Раймонда семейства Бромелиевых произрастающее в Боливийских и Перуанских Андах имеет самое большое соцветие диаметром 2,5 метра и высотой около 12 метров, состоящее из приблизительно 10000 простых цветков. Очень жаль, что цветёт это удивительное растение только при достижении 150-летнего возраста, а затем погибает.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58" name="Рисунок 4" descr="00179fpk.jpg"/>
          <p:cNvPicPr/>
          <p:nvPr/>
        </p:nvPicPr>
        <p:blipFill>
          <a:blip r:embed="rId2"/>
          <a:stretch/>
        </p:blipFill>
        <p:spPr>
          <a:xfrm>
            <a:off x="5051520" y="692280"/>
            <a:ext cx="3714480" cy="5545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29840" y="3428640"/>
            <a:ext cx="8713800" cy="27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4a7b"/>
                </a:solidFill>
                <a:latin typeface="Book Antiqua"/>
              </a:rPr>
              <a:t>(</a:t>
            </a: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Курупита гвианская) принадлежит к семейству Летицисовых. Растёт в тропических областях Южной Америки«Пушечное дерево» растает в основном в северной части Южной Америки и на Карибах часто сопровождается табличкой с предупреждением: «Берегитесь падающих ядер». Фрукты начинают падать после созревания, и так как каждый из них достигает 25 сантиметров в диаметре, они запросто могут убить человека. 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60" name="Рисунок 4" descr="1.jpg"/>
          <p:cNvPicPr/>
          <p:nvPr/>
        </p:nvPicPr>
        <p:blipFill>
          <a:blip r:embed="rId2"/>
          <a:stretch/>
        </p:blipFill>
        <p:spPr>
          <a:xfrm>
            <a:off x="1619280" y="189000"/>
            <a:ext cx="6661080" cy="315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6" descr="1388565.jpg"/>
          <p:cNvPicPr/>
          <p:nvPr/>
        </p:nvPicPr>
        <p:blipFill>
          <a:blip r:embed="rId2"/>
          <a:stretch/>
        </p:blipFill>
        <p:spPr>
          <a:xfrm>
            <a:off x="1403280" y="189000"/>
            <a:ext cx="6769080" cy="411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258560" y="4365720"/>
            <a:ext cx="7705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Book Antiqua"/>
              </a:rPr>
              <a:t>НО, одно из самых необыкновенных деревьев – берёза. Береза – радостное, нарядное дерево. Само название произошло от старослявянского «брезньнъ», что означало «апрель».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258560" y="404640"/>
            <a:ext cx="756108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Наши далекие предки ласково называли ее «веселкой». В древних языческих обрядах </a:t>
            </a:r>
            <a:r>
              <a:rPr b="1" lang="en-US" sz="2400" spc="-1" strike="noStrike">
                <a:solidFill>
                  <a:srgbClr val="006600"/>
                </a:solidFill>
                <a:latin typeface="Book Antiqua"/>
              </a:rPr>
              <a:t>береза</a:t>
            </a: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 была «майским древом» – праздничным деревом, связанным с зелеными святками. На этот весенний праздник, посвящаемый плодородию и будущему урожаю,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березу украшали разноцветными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лентами, заплетали косы из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тонких, плакучих ветвей, водили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вокруг нее хороводы. Сейчас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этот обычай слился с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празднованием Троицы,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который обычно бывает в июне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64" name="Рисунок 3" descr="4062092_f15a941f.jpg"/>
          <p:cNvPicPr/>
          <p:nvPr/>
        </p:nvPicPr>
        <p:blipFill>
          <a:blip r:embed="rId2"/>
          <a:stretch/>
        </p:blipFill>
        <p:spPr>
          <a:xfrm>
            <a:off x="6372360" y="2924280"/>
            <a:ext cx="2487600" cy="3638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Таблица удивительных растений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95280" y="1052640"/>
          <a:ext cx="8532720" cy="5472000"/>
        </p:xfrm>
        <a:graphic>
          <a:graphicData uri="http://schemas.openxmlformats.org/drawingml/2006/table">
            <a:tbl>
              <a:tblPr/>
              <a:tblGrid>
                <a:gridCol w="2413080"/>
                <a:gridCol w="2584440"/>
                <a:gridCol w="3535200"/>
              </a:tblGrid>
              <a:tr h="6058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Призна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Место произраст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Количественное знач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8539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старое дере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ША, Невада, в горах на высоте 3275 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4900 л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8179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большое дере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ША, Калифор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ысота 83 м, окружность 24,11 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8179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высокое дере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ША, Калифор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ысота 110,33 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1887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толстое дере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ицил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кружность пяти сросшихся стволов в 1875 году 64,2 м, возраст 3600—4000 лет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1876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быстрорастущее раст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осточная и Южная Аз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о 0,75 м в сут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Таблица удивительных растений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58920" y="692280"/>
          <a:ext cx="8389800" cy="5329080"/>
        </p:xfrm>
        <a:graphic>
          <a:graphicData uri="http://schemas.openxmlformats.org/drawingml/2006/table">
            <a:tbl>
              <a:tblPr/>
              <a:tblGrid>
                <a:gridCol w="2373120"/>
                <a:gridCol w="2540160"/>
                <a:gridCol w="3476520"/>
              </a:tblGrid>
              <a:tr h="65232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Призна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Место произраст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Количественное знач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10652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большое водное раст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Южная Амер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азмеры: листа 1,2—2 м, цветка 30-40 с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0652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астение с самыми большими цветам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умат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оперечник цветка 90 см, вес цветка 7 к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4810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астение с самыми большими соцветиям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Болив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оперечник соцветия 2,4 м, высота соцветия 10,7 м, в соцветии до 8000 цветк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0652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маленькое цветковое раст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одоемы умеренного пояса и тропик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0,5—1,2 м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Book Antiqua"/>
              </a:rPr>
              <a:t>Используемые источники.</a:t>
            </a:r>
            <a:endParaRPr b="0" lang="en-US" sz="4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58560" y="105264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Book Antiqua"/>
              </a:rPr>
              <a:t>Шаблон презентации найден в интернете. Буду благодарна -за предоставление сведений об авторе шаблона.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udivimenia.ru/priroda/udivitelnyie-derevya/</a:t>
            </a:r>
            <a:r>
              <a:rPr b="0" lang="ru-RU" sz="1800" spc="-1" strike="noStrike">
                <a:solidFill>
                  <a:srgbClr val="604a7b"/>
                </a:solidFill>
                <a:latin typeface="Book Antiqua"/>
              </a:rPr>
              <a:t>Автор: </a:t>
            </a:r>
            <a:r>
              <a:rPr b="1" lang="ru-RU" sz="1800" spc="-1" strike="noStrike">
                <a:solidFill>
                  <a:srgbClr val="604a7b"/>
                </a:solidFill>
                <a:latin typeface="Book Antiqua"/>
              </a:rPr>
              <a:t>mrwallero 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604a7b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4a7b"/>
                </a:solidFill>
                <a:latin typeface="Book Antiqua"/>
              </a:rPr>
              <a:t>http://lifestripes.ru/world/udivitelnye-derevja-mira.html</a:t>
            </a:r>
            <a:r>
              <a:rPr b="0" lang="ru-RU" sz="1800" spc="-1" strike="noStrike">
                <a:solidFill>
                  <a:srgbClr val="604a7b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www.priroda.su/item/1299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podkofeek.ru/capuchino/571-samie-strannie-i-udivitelnie-derevya.html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www.vsetabl.ru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nnm.ru/blogs/horror1017/russkaya_berezka/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images.yandex.ru/yandsearch?text=%D0%B1%D0%B5%D1%80%D0%B5%D0%B7%D0%B0&amp;noreask=1&amp;pos=11&amp;rpt=simage&amp;lr=67&amp;img_url=http%3A%2F%2Fs.imhonet.ru%2Fuser_files%2F16%2F9f%2F169fef04a13aeb6be3cd6f42b63b7645%2Fimages%2F20_02_11%2F20_03_2011%2F12.jpg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pagan.ru/slowar/b/bereza0.php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www.botanichka.ru/blog/2010/09/22/baobab/</a:t>
            </a:r>
            <a:r>
              <a:rPr b="1" lang="ru-RU" sz="1800" spc="-1" strike="noStrike">
                <a:solidFill>
                  <a:srgbClr val="254061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4220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Book Antiqua"/>
                <a:hlinkClick r:id="rId2"/>
              </a:rPr>
              <a:t>Баобаб</a:t>
            </a:r>
            <a:r>
              <a:rPr b="0" lang="en-US" sz="2400" spc="-1" strike="noStrike" u="sng">
                <a:solidFill>
                  <a:srgbClr val="10253f"/>
                </a:solidFill>
                <a:uFillTx/>
                <a:latin typeface="Book Antiqua"/>
              </a:rPr>
              <a:t> из семейства Мальвовых – одно из самых</a:t>
            </a:r>
            <a:r>
              <a:rPr b="1" i="1" lang="en-US" sz="2400" spc="-1" strike="noStrike">
                <a:solidFill>
                  <a:srgbClr val="10253f"/>
                </a:solidFill>
                <a:latin typeface="Book Antiqua"/>
              </a:rPr>
              <a:t> удивительных деревьев</a:t>
            </a: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. Диаметр Баобаба может достигать более десяти метров – что является рекордом среди деревьев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22" name="Рисунок 4" descr="баобаб.jpg"/>
          <p:cNvPicPr/>
          <p:nvPr/>
        </p:nvPicPr>
        <p:blipFill>
          <a:blip r:embed="rId3"/>
          <a:stretch/>
        </p:blipFill>
        <p:spPr>
          <a:xfrm>
            <a:off x="1403280" y="189000"/>
            <a:ext cx="6624720" cy="4143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3981600" cy="65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Высота дерева может достигать 30 метров. Так как годовалых колец также, точный возраст деревьев установить трудно. Считается что их возраст не менее тысячи лет. Дерево очень живучее, если содрать с него кору – нарастет новая, если дерево упадет на землю и хоть один корень находится в земле – дерево будет продолжает жить и расти.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24" name="Содержимое 3" descr="баобаб2.jpg"/>
          <p:cNvPicPr/>
          <p:nvPr/>
        </p:nvPicPr>
        <p:blipFill>
          <a:blip r:embed="rId2"/>
          <a:stretch/>
        </p:blipFill>
        <p:spPr>
          <a:xfrm>
            <a:off x="4572000" y="549360"/>
            <a:ext cx="4284720" cy="5253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4" descr="баоаб3.jpg"/>
          <p:cNvPicPr/>
          <p:nvPr/>
        </p:nvPicPr>
        <p:blipFill>
          <a:blip r:embed="rId2"/>
          <a:stretch/>
        </p:blipFill>
        <p:spPr>
          <a:xfrm>
            <a:off x="2268360" y="260280"/>
            <a:ext cx="5213520" cy="3141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79280" y="3428640"/>
            <a:ext cx="896472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Растет это удивительное дерево в Африке, в Австралии, а также на тропических островах. В сезон дождей древесина Баобаба впитывает в себя воду как губка. В засушливый период, дерево расходует накопленную воду и сбрасывает с себя всю листву. Местное население вовсю использует Баобабы – делают временные жилища, кладовые, резервуары для запасов воды. Из самых больших устраивают такие заведения как тюрьма, баня, ресторан, автобусная станция. 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4" descr="секвойя.jpg"/>
          <p:cNvPicPr/>
          <p:nvPr/>
        </p:nvPicPr>
        <p:blipFill>
          <a:blip r:embed="rId2"/>
          <a:stretch/>
        </p:blipFill>
        <p:spPr>
          <a:xfrm>
            <a:off x="4788000" y="333360"/>
            <a:ext cx="3925800" cy="561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4751280" cy="66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Секвойя – вечнозеленое растение, которое любит влажность, кора дерева впитывает ее как губка. Кора достаточно толстая, до тридцати см, красно-коричневого цвета. Древесина дерева ценится своими свойствами – она легка, пориста, не гниет, легко обрабатывается.  Растет Секвойя в Калифорнии и в канадской провинции Британская Колумбия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0" descr="samoe_samoe_derevo_5-450x333.jpg"/>
          <p:cNvPicPr/>
          <p:nvPr/>
        </p:nvPicPr>
        <p:blipFill>
          <a:blip r:embed="rId2"/>
          <a:stretch/>
        </p:blipFill>
        <p:spPr>
          <a:xfrm>
            <a:off x="2124000" y="115920"/>
            <a:ext cx="5138640" cy="328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29840" y="3357360"/>
            <a:ext cx="8713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Гигантские секвойи  являются крупнейшими по объему деревьями в мире. Самое большое из них  имеет высоту 84 метра, более 1486 кубических метров объема и более 6000 тонн в весе. Дереву около 2200 лет и оно продолжает расти.  Самое высокое дерево названное Гиперион ,  его высота составляет 115 м.  Помимо этих выдающихся деревьев, в Калифорнии  есть также 4 секвойи, сквозь которые проделаны тоннели для проезда автомобилей. 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58560" y="3976560"/>
            <a:ext cx="878508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Драконовое дерево из семейства Иглицевыех.  Размеры дерева не велики – в высоту до 20 метров, диаметр до 4 метров. Возраст дерева может достигать несколько тысяч лет, точнее определить не возможно, у дерева так же нет годичных колец. Ствол дерева причудливо ветвится, каждая ветвь заканчивается пучком длинных и узких листьев.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32" name="Рисунок 6" descr="драконовое дерево.jpg"/>
          <p:cNvPicPr/>
          <p:nvPr/>
        </p:nvPicPr>
        <p:blipFill>
          <a:blip r:embed="rId2"/>
          <a:stretch/>
        </p:blipFill>
        <p:spPr>
          <a:xfrm>
            <a:off x="2195640" y="189000"/>
            <a:ext cx="4983120" cy="3736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4" descr="драконовое2.jpg"/>
          <p:cNvPicPr/>
          <p:nvPr/>
        </p:nvPicPr>
        <p:blipFill>
          <a:blip r:embed="rId2"/>
          <a:stretch/>
        </p:blipFill>
        <p:spPr>
          <a:xfrm>
            <a:off x="1255680" y="-6480"/>
            <a:ext cx="6566040" cy="4486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79280" y="4292640"/>
            <a:ext cx="878544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Смола дерева – красного цвета, она еще с древних времен применялась в лечебных целях. Местные жители считали Драконовые деревья священными, нередко они устраивали в их больших дуплах алтари. Эти удивительные деревья растут в Африке и Юго – Восточной Азии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15:56:34Z</dcterms:created>
  <dc:creator>Лена</dc:creator>
  <dc:description/>
  <dc:language>en-US</dc:language>
  <cp:lastModifiedBy>Мама</cp:lastModifiedBy>
  <dcterms:modified xsi:type="dcterms:W3CDTF">2013-01-13T06:47:53Z</dcterms:modified>
  <cp:revision>16</cp:revision>
  <dc:subject/>
  <dc:title>Слайд 1</dc:title>
</cp:coreProperties>
</file>