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1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10.jpeg" ContentType="image/jpeg"/>
  <Override PartName="/ppt/media/image35.jpeg" ContentType="image/jpeg"/>
  <Override PartName="/ppt/media/image43.jpeg" ContentType="image/jpeg"/>
  <Override PartName="/ppt/media/image5.png" ContentType="image/png"/>
  <Override PartName="/ppt/media/image29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F0CCF-EE40-4028-B23D-EC824F4EC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42A39-E1CA-49EE-88DA-0C4B9BBB3F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0AD2-050A-41C5-9406-0271B71F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5D2F-67F8-4E18-9417-FFBA3229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685F-9E7F-4B9E-B1BE-2A0C6552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A829-7DD6-4F0F-9DDB-A7F87FB5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1F85F-1C49-46FC-B107-65C523AB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34D0-DDF9-47FD-84EB-3B9A5DCD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59434-E64C-48C5-9B94-6CB1CD64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2355-02F6-472E-A897-C55FF2AA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FBC6-788E-406A-8AB4-F6FA5C76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C1AD-09D6-42F8-8A90-3CD92AD0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09CC-65A4-4D03-B1E8-740A77CC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43E5-1813-455F-9DB9-883191F0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530A-DAEA-4CB4-ADBB-071B4FC0A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7773-B315-4601-9C3B-A99E39156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C5A1-F05B-4663-BD01-7198A7E9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91EB-22A9-4360-BE49-8FE22E49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4ADF-356A-42C9-919A-AA0B4D88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4339-9A48-4027-A31F-681C202E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1F511-DAC1-4B19-8902-9C3A989E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4F673-67E4-4EBF-A16B-F0904B58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FF6C1-EFAA-4A61-A95A-91974B87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A7266-5487-43CF-A494-51F1F8CFB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5D0B-5038-47DD-8D86-8BFA8052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0E0CA-9598-452B-9963-F37B989E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4A11B-EC59-4945-9299-C0007825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B2CF0-8333-47AF-9B82-E4BB1826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8458E-FA38-458C-8131-B5930D5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CB4A-552B-48AC-A1A4-C23608D24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984FD-1DB3-4315-874B-E08EAF5C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96E9-773D-4A34-9CB9-261414436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1170C-7B44-4AC2-9A35-BE13CC29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300A-5431-4991-B9B1-9054468E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9DA44-C077-41B2-B6D8-40B77F55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5B2-76E6-498C-AB75-E1658382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ACBCE-7DCF-4BAA-BEAD-D25F21F5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C0D0-6DE1-4C69-98F6-F9AB767C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A27A9-DB88-435F-9B5D-DD8DCA8A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42221-E2E6-4EC6-AA35-C67A24B61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9D219-6471-4DE8-8274-542B961B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DC1DA-D150-4B01-A563-3C7AF6DD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703B2-1DD3-420F-9170-DC3C7AB4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3A484-19B0-407A-B2DD-899DC0C5E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E75C4-6077-4021-8FA3-6C513967B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EA0C1-5AD8-4769-B856-477F840A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693B-875D-47D3-B974-454673783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DE3C75-B699-436B-A173-7541151CE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37B42-9A00-482B-8B52-3F1B863E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6E097-F5FF-4342-BC08-D1340992A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FCDBF-CFA4-4A89-9A1D-CB71F6F9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2315E-A8C4-479A-8126-4B213F89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3EB25-C02F-4F2A-BDDA-4326D3D2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F6CD9-EC73-4982-A621-D2E03DEF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C8D8F-805C-482E-A9ED-80962D68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9BD63-7323-43F8-9567-A4C0F408A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9ED93-9BAA-43E7-A45F-827C19F6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7DD-6CAA-4C03-B6B8-5F97A22B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E0030-65AC-4DC1-B75F-5AAAE4F9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4A0-91F1-4B1A-AF0E-DF239D2B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3539-89F4-4BCA-8E5F-038A521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F78-4356-44B9-B1F4-2C11F3A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FB86-0417-4A4F-885C-610F052A03C8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B31C-1E80-4FA7-B69F-C295E1D7881F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542B-5447-46CA-A921-D2F614DBBB56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5DD1-4ADD-42A5-A681-67E7A83411B1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d1634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ffff0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ffff0b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8fd1d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099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8CD5-08FC-46B4-9C42-233929F392A1}" type="slidenum">
              <a:rPr b="0" lang="en-US" sz="1000" spc="-1" strike="noStrike">
                <a:solidFill>
                  <a:srgbClr val="90999e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 rot="10800000">
            <a:off x="914400" y="4327200"/>
            <a:ext cx="8229600" cy="1458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100"/>
            </a:br>
            <a:endParaRPr b="1" lang="en-US" sz="41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3643200"/>
            <a:ext cx="3929040" cy="2689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МОУ  СОШ № 13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 углубленным изучением отдельных предме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Учитель биологии 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О.П. Жмае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Прямоугольник 5"/>
          <p:cNvSpPr/>
          <p:nvPr/>
        </p:nvSpPr>
        <p:spPr>
          <a:xfrm>
            <a:off x="1071720" y="857160"/>
            <a:ext cx="714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Verdana"/>
              </a:rPr>
              <a:t>Осторожно!  Клещи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Рисунок 6" descr="конец клещам.gif"/>
          <p:cNvPicPr/>
          <p:nvPr/>
        </p:nvPicPr>
        <p:blipFill>
          <a:blip r:embed="rId1"/>
          <a:stretch/>
        </p:blipFill>
        <p:spPr>
          <a:xfrm>
            <a:off x="5580000" y="3860640"/>
            <a:ext cx="2060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0004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Arial"/>
              </a:rPr>
              <a:t>Выбрав место для укуса, клещ прокусывает кожу и вставляет в ранку хоботок. Слюна клеща обладает обезболивающим эффектом, препятствует свертыванию крови. Хоботок клеща покрыт хитиновыми выростами, а слюна затвердевает и дополнительно цементирует его, поэтому вытащить клеща тяжело.      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914400" y="2785680"/>
            <a:ext cx="7772400" cy="32338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4"/>
          <p:cNvSpPr/>
          <p:nvPr/>
        </p:nvSpPr>
        <p:spPr>
          <a:xfrm>
            <a:off x="4286160" y="28288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Содержимое 3" descr="http://elementy.ru/images/eltpub/ixodes_persulcatus_600.jpg"/>
          <p:cNvPicPr/>
          <p:nvPr/>
        </p:nvPicPr>
        <p:blipFill>
          <a:blip r:embed="rId2"/>
          <a:stretch/>
        </p:blipFill>
        <p:spPr>
          <a:xfrm>
            <a:off x="1071720" y="2786040"/>
            <a:ext cx="7143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400" y="1071360"/>
            <a:ext cx="82580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же если укусил клещ-носитель, то это не значит, что можно подхватить инфекцию. Все зависит от количества слюны, которая попала в организ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рисосавшийся иксодовый клещ напоминает хорошо отлаженный насос: в минуту он делает от 2 до 60 актов всасывания, строго разделенных актами впрыскивания слюны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69" name="Содержимое 3" descr="http://www.ufabike.ru/klesch/kl4.jpg"/>
          <p:cNvPicPr/>
          <p:nvPr/>
        </p:nvPicPr>
        <p:blipFill>
          <a:blip r:embed="rId1"/>
          <a:stretch/>
        </p:blipFill>
        <p:spPr>
          <a:xfrm>
            <a:off x="428760" y="3643200"/>
            <a:ext cx="3571920" cy="254808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6"/>
          <p:cNvSpPr/>
          <p:nvPr/>
        </p:nvSpPr>
        <p:spPr>
          <a:xfrm>
            <a:off x="4214880" y="3429000"/>
            <a:ext cx="45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Сам по себе укус клеща не опасен. Опасны инфекции которые может передать клещ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Но не каждый клещ содержит возбудителей болезн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77240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Самки клещей питаются около 6  суток, поглощая при этом невероятное количество крови, сытая самка становится размером с фалангу мизинца, ее покровы приобретают грязно-серый цвет с металлическим оттенком, а вес увеличивается более чем в сто раз по сравнению с весом голодной особи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2" name="Содержимое 3" descr="http://encephalitis.ru/foto/014.jpg"/>
          <p:cNvPicPr/>
          <p:nvPr/>
        </p:nvPicPr>
        <p:blipFill>
          <a:blip r:embed="rId1"/>
          <a:stretch/>
        </p:blipFill>
        <p:spPr>
          <a:xfrm>
            <a:off x="428760" y="3000240"/>
            <a:ext cx="4786200" cy="28576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"/>
          <p:cNvSpPr/>
          <p:nvPr/>
        </p:nvSpPr>
        <p:spPr>
          <a:xfrm>
            <a:off x="357120" y="5859720"/>
            <a:ext cx="850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c00000"/>
                </a:solidFill>
                <a:latin typeface="Arial"/>
                <a:ea typeface="Times New Roman"/>
              </a:rPr>
              <a:t>Сытые самки, покидая хозяина-прокормителя, ползут в поисках места для откладывания яиц (2000-3000).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Рисунок 4" descr="сытая и голодная.jpg"/>
          <p:cNvPicPr/>
          <p:nvPr/>
        </p:nvPicPr>
        <p:blipFill>
          <a:blip r:embed="rId2"/>
          <a:stretch/>
        </p:blipFill>
        <p:spPr>
          <a:xfrm>
            <a:off x="5572080" y="3214800"/>
            <a:ext cx="296532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84368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добнее всего клеща удалять изогнутым пинцетом или хирургическим зажимом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а захватывают как можно ближе к хоботку. </a:t>
            </a:r>
            <a:br>
              <a:rPr sz="20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76" name="Содержимое 3" descr="правильный захват клеща"/>
          <p:cNvPicPr/>
          <p:nvPr/>
        </p:nvPicPr>
        <p:blipFill>
          <a:blip r:embed="rId1"/>
          <a:stretch/>
        </p:blipFill>
        <p:spPr>
          <a:xfrm>
            <a:off x="714240" y="1500120"/>
            <a:ext cx="3929040" cy="257184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4" descr="Неправильный захват клеща"/>
          <p:cNvPicPr/>
          <p:nvPr/>
        </p:nvPicPr>
        <p:blipFill>
          <a:blip r:embed="rId2"/>
          <a:stretch/>
        </p:blipFill>
        <p:spPr>
          <a:xfrm>
            <a:off x="5429160" y="1500120"/>
            <a:ext cx="2214720" cy="2643120"/>
          </a:xfrm>
          <a:prstGeom prst="rect">
            <a:avLst/>
          </a:prstGeom>
          <a:ln w="0">
            <a:noFill/>
          </a:ln>
        </p:spPr>
      </p:pic>
      <p:sp>
        <p:nvSpPr>
          <p:cNvPr id="278" name="Прямоугольник 5"/>
          <p:cNvSpPr/>
          <p:nvPr/>
        </p:nvSpPr>
        <p:spPr>
          <a:xfrm>
            <a:off x="714240" y="4357800"/>
            <a:ext cx="7858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тем его аккуратно потягивают и при этом вращают вокруг своей оси в удобную сторону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Через 1-3 оборота клещ извлекается целиком вместе с хоботком. Если же клеща пытаться выдернуть, то велика вероятность разры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Если нет инструментов, то можно удалить петлей из грубой нитки. Петлей клещ захватывается как можно ближе к коже и аккуратно, пошатывая в стороны вытягивается.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0" name="Содержимое 3" descr="нитка и клещ.jpg"/>
          <p:cNvPicPr/>
          <p:nvPr/>
        </p:nvPicPr>
        <p:blipFill>
          <a:blip r:embed="rId1"/>
          <a:stretch/>
        </p:blipFill>
        <p:spPr>
          <a:xfrm>
            <a:off x="1071720" y="2357280"/>
            <a:ext cx="3255840" cy="342900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4" descr="извлечение клеща.jpg"/>
          <p:cNvPicPr/>
          <p:nvPr/>
        </p:nvPicPr>
        <p:blipFill>
          <a:blip r:embed="rId2"/>
          <a:stretch/>
        </p:blipFill>
        <p:spPr>
          <a:xfrm>
            <a:off x="5000760" y="2357280"/>
            <a:ext cx="3071520" cy="34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85720" y="499680"/>
            <a:ext cx="542916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При удалении клеща не надо: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едкие жидкости —  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нашатырный спирт, бензин, и другие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   Прижигать клеща сигарет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Резко дергать клеща — он оборветс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Ковыряться в ранке грязной иголкой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Прикладывать к месту укуса различные компрессы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Давить клеща пальц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28760" y="4785840"/>
            <a:ext cx="7643520" cy="1071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Arial"/>
                <a:ea typeface="Times New Roman"/>
              </a:rPr>
              <a:t>Если в ранке осталась голова с хоботком, то страшного в этом ничего нет. Хоботок в ранке не страшнее заноз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0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Рисунок 5" descr="http://mmu2.ru/_ph/24/2/813256022.jpg"/>
          <p:cNvPicPr/>
          <p:nvPr/>
        </p:nvPicPr>
        <p:blipFill>
          <a:blip r:embed="rId1"/>
          <a:stretch/>
        </p:blipFill>
        <p:spPr>
          <a:xfrm>
            <a:off x="357120" y="714240"/>
            <a:ext cx="28576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9680" y="2214720"/>
            <a:ext cx="4643640" cy="371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Клещ извлекается круговым движением (или вывинчиваем), а не вытяжение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0735d"/>
                </a:solidFill>
                <a:latin typeface="Verdana"/>
              </a:rPr>
              <a:t>При этом шипы хоботка свернутся к оси вращения и голова клеща не оторвется. </a:t>
            </a:r>
            <a:br>
              <a:rPr sz="1800"/>
            </a:br>
            <a:br>
              <a:rPr sz="1800"/>
            </a:br>
            <a:br>
              <a:rPr sz="1800"/>
            </a:br>
            <a:endParaRPr b="1" lang="en-US" sz="1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3280" y="530280"/>
            <a:ext cx="8183520" cy="1969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Головка с режущими хелицерами причленена к туловищу очень подвижно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Во время питания она глубоко погружается в кожу и заякоривается там специальным подротовым выростом – гипостомом – с направленными назад зубчиками.</a:t>
            </a:r>
            <a:br>
              <a:rPr sz="1900"/>
            </a:br>
            <a:r>
              <a:rPr b="1" lang="ru-RU" sz="19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Содержимое 3" descr="hipostom.jpg"/>
          <p:cNvPicPr/>
          <p:nvPr/>
        </p:nvPicPr>
        <p:blipFill>
          <a:blip r:embed="rId1"/>
          <a:stretch/>
        </p:blipFill>
        <p:spPr>
          <a:xfrm>
            <a:off x="5072040" y="2357280"/>
            <a:ext cx="34322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400" y="274680"/>
            <a:ext cx="82580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289" name="Содержимое 5" descr="защита от клещей.jpg"/>
          <p:cNvPicPr/>
          <p:nvPr/>
        </p:nvPicPr>
        <p:blipFill>
          <a:blip r:embed="rId1"/>
          <a:stretch/>
        </p:blipFill>
        <p:spPr>
          <a:xfrm>
            <a:off x="428760" y="1071720"/>
            <a:ext cx="5236920" cy="5786280"/>
          </a:xfrm>
          <a:prstGeom prst="rect">
            <a:avLst/>
          </a:prstGeom>
          <a:ln w="0">
            <a:noFill/>
          </a:ln>
        </p:spPr>
      </p:pic>
      <p:sp>
        <p:nvSpPr>
          <p:cNvPr id="290" name="Содержимое 2"/>
          <p:cNvSpPr/>
          <p:nvPr/>
        </p:nvSpPr>
        <p:spPr>
          <a:xfrm>
            <a:off x="1071720" y="428760"/>
            <a:ext cx="7643520" cy="60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Самый мудрый способ защи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2880" indent="-272880" algn="ctr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                                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- не допустить укуса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Содержимое 2"/>
          <p:cNvSpPr/>
          <p:nvPr/>
        </p:nvSpPr>
        <p:spPr>
          <a:xfrm flipV="1">
            <a:off x="0" y="6858000"/>
            <a:ext cx="9144000" cy="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marL="272880" indent="-272880">
              <a:spcBef>
                <a:spcPts val="5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Рисунок 3" descr="защита плакат.jpg"/>
          <p:cNvPicPr/>
          <p:nvPr/>
        </p:nvPicPr>
        <p:blipFill>
          <a:blip r:embed="rId1"/>
          <a:stretch/>
        </p:blipFill>
        <p:spPr>
          <a:xfrm>
            <a:off x="285840" y="357120"/>
            <a:ext cx="8858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3280" y="2928960"/>
            <a:ext cx="8183520" cy="31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       </a:t>
            </a:r>
            <a:r>
              <a:rPr b="0" lang="en-US" sz="1600" spc="-1" strike="noStrike">
                <a:solidFill>
                  <a:srgbClr val="f0735d"/>
                </a:solidFill>
                <a:latin typeface="Verdana"/>
              </a:rPr>
              <a:t>к</a:t>
            </a: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28760" y="428400"/>
            <a:ext cx="8183520" cy="25714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На территории России основными переносчиками </a:t>
            </a: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го энцефалита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являются два вида клещ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Это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таежны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persulcatus) и </a:t>
            </a:r>
            <a:r>
              <a:rPr b="1" i="1" lang="ru-RU" sz="2000" spc="-1" strike="noStrike">
                <a:solidFill>
                  <a:srgbClr val="c00000"/>
                </a:solidFill>
                <a:latin typeface="Verdana"/>
              </a:rPr>
              <a:t>собачий клещ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Ixodes ricinus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Таежный клещ распространен в лесах Сибири и Дальнего Восток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Собачий клещ встречается в Европейской части России и странах Центральной и Северной Европы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Рисунок 3" descr="собачий клещ.jpg"/>
          <p:cNvPicPr/>
          <p:nvPr/>
        </p:nvPicPr>
        <p:blipFill>
          <a:blip r:embed="rId1"/>
          <a:stretch/>
        </p:blipFill>
        <p:spPr>
          <a:xfrm>
            <a:off x="571680" y="3000240"/>
            <a:ext cx="3214440" cy="3000600"/>
          </a:xfrm>
          <a:prstGeom prst="rect">
            <a:avLst/>
          </a:prstGeom>
          <a:ln w="0">
            <a:noFill/>
          </a:ln>
        </p:spPr>
      </p:pic>
      <p:pic>
        <p:nvPicPr>
          <p:cNvPr id="296" name="Рисунок 4" descr="клещ на еже.jpg"/>
          <p:cNvPicPr/>
          <p:nvPr/>
        </p:nvPicPr>
        <p:blipFill>
          <a:blip r:embed="rId2"/>
          <a:stretch/>
        </p:blipFill>
        <p:spPr>
          <a:xfrm>
            <a:off x="4714920" y="3000240"/>
            <a:ext cx="3730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2960" y="49968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Акарология – наука  о клещах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999800" y="1071720"/>
            <a:ext cx="4994280" cy="10713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Тип Членистоног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Класс Паукообразн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86f73"/>
                </a:solidFill>
                <a:latin typeface="Verdana"/>
              </a:rPr>
              <a:t>Отряд Клещи (</a:t>
            </a:r>
            <a:r>
              <a:rPr b="1" lang="en-US" sz="2000" spc="-1" strike="noStrike">
                <a:solidFill>
                  <a:srgbClr val="686f73"/>
                </a:solidFill>
                <a:latin typeface="Verdana"/>
              </a:rPr>
              <a:t>Acarin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686f73"/>
                </a:solidFill>
                <a:uFillTx/>
                <a:latin typeface="Verdana"/>
              </a:rPr>
              <a:t>подотряд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Схема 6" descr=""/>
          <p:cNvPicPr/>
          <p:nvPr/>
        </p:nvPicPr>
        <p:blipFill>
          <a:blip r:embed="rId1"/>
          <a:stretch/>
        </p:blipFill>
        <p:spPr>
          <a:xfrm>
            <a:off x="420840" y="2189160"/>
            <a:ext cx="8351640" cy="3956040"/>
          </a:xfrm>
          <a:prstGeom prst="rect">
            <a:avLst/>
          </a:prstGeom>
          <a:ln w="0">
            <a:noFill/>
          </a:ln>
        </p:spPr>
      </p:pic>
      <p:sp>
        <p:nvSpPr>
          <p:cNvPr id="234" name="Стрелка вниз 15"/>
          <p:cNvSpPr/>
          <p:nvPr/>
        </p:nvSpPr>
        <p:spPr>
          <a:xfrm>
            <a:off x="4500720" y="350028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Стрелка вниз 16"/>
          <p:cNvSpPr/>
          <p:nvPr/>
        </p:nvSpPr>
        <p:spPr>
          <a:xfrm>
            <a:off x="8001000" y="3643200"/>
            <a:ext cx="214200" cy="720720"/>
          </a:xfrm>
          <a:prstGeom prst="downArrow">
            <a:avLst>
              <a:gd name="adj1" fmla="val 50000"/>
              <a:gd name="adj2" fmla="val 50034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Стрелка вниз 17"/>
          <p:cNvSpPr/>
          <p:nvPr/>
        </p:nvSpPr>
        <p:spPr>
          <a:xfrm>
            <a:off x="6072120" y="3571920"/>
            <a:ext cx="214560" cy="72072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d16349"/>
          </a:solidFill>
          <a:ln w="42480">
            <a:solidFill>
              <a:srgbClr val="9947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Рисунок 20" descr="клещи в чашке.jpg"/>
          <p:cNvPicPr/>
          <p:nvPr/>
        </p:nvPicPr>
        <p:blipFill>
          <a:blip r:embed="rId2"/>
          <a:stretch/>
        </p:blipFill>
        <p:spPr>
          <a:xfrm>
            <a:off x="428760" y="3643200"/>
            <a:ext cx="26431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28760" y="47145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0735d"/>
                </a:solidFill>
                <a:latin typeface="Verdana"/>
              </a:rPr>
              <a:t>При этом вирус энцефалита содержится далеко не во всех клещах. То есть, энцефалитный клещ это не особый вид, а зараженный вирусом энцефалита клещ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И лесной, и собачий клещи переносят возбудителей многих болезней. В том числе клещевого энцефалита и боррелиоза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Рисунок 3" descr="энцефалитный клещ.jpg"/>
          <p:cNvPicPr/>
          <p:nvPr/>
        </p:nvPicPr>
        <p:blipFill>
          <a:blip r:embed="rId1"/>
          <a:stretch/>
        </p:blipFill>
        <p:spPr>
          <a:xfrm>
            <a:off x="642960" y="1643040"/>
            <a:ext cx="3809880" cy="3048120"/>
          </a:xfrm>
          <a:prstGeom prst="rect">
            <a:avLst/>
          </a:prstGeom>
          <a:ln w="0">
            <a:noFill/>
          </a:ln>
        </p:spPr>
      </p:pic>
      <p:pic>
        <p:nvPicPr>
          <p:cNvPr id="300" name="Рисунок 4" descr="клещи.jpg"/>
          <p:cNvPicPr/>
          <p:nvPr/>
        </p:nvPicPr>
        <p:blipFill>
          <a:blip r:embed="rId2"/>
          <a:stretch/>
        </p:blipFill>
        <p:spPr>
          <a:xfrm>
            <a:off x="4857840" y="1643040"/>
            <a:ext cx="378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85880" y="928800"/>
            <a:ext cx="7772400" cy="193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Клещевой боррелиоз </a:t>
            </a: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(болезнь Лайма), — инфекционная болезнь, вызываемая бактериями группы Borrelia burgdorferi. Передается только при укусе инфицированного клеща. </a:t>
            </a:r>
            <a:br>
              <a:rPr sz="3200"/>
            </a:b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28760" y="2857680"/>
            <a:ext cx="4357440" cy="30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Боррелиоз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может принимать хроническое течение, проявляясь поражением суставов, кожи, сердца, нервной системы. Но, на ранних стадиях, он хорошо лечится антибиотик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Рисунок 3" descr="борреолез.jpg"/>
          <p:cNvPicPr/>
          <p:nvPr/>
        </p:nvPicPr>
        <p:blipFill>
          <a:blip r:embed="rId1"/>
          <a:stretch/>
        </p:blipFill>
        <p:spPr>
          <a:xfrm>
            <a:off x="5072040" y="2610000"/>
            <a:ext cx="350064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37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Чесотка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алеко не «простая» болезнь, хотя чесоточный клещ, который ее вызывает, известен еще с XII столетия.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Этот самый чесоточный клещ (еще его называют зуднем) чрезвычайно плодовит, из-за чего болезнь очень быстро распространяется по всему телу, а чесотка является заразной болезнью кожи. Человек заражается ею при непосредственном контакте с больным, а также при пользовании его одеждой, полотенцем, игрушками и другими предметами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5" name="Содержимое 3" descr="http://www.dermatolog4you.ru/images/rmj/scabies_1.jpg"/>
          <p:cNvPicPr/>
          <p:nvPr/>
        </p:nvPicPr>
        <p:blipFill>
          <a:blip r:embed="rId1"/>
          <a:stretch/>
        </p:blipFill>
        <p:spPr>
          <a:xfrm>
            <a:off x="1214280" y="4286160"/>
            <a:ext cx="2352960" cy="1762200"/>
          </a:xfrm>
          <a:prstGeom prst="rect">
            <a:avLst/>
          </a:prstGeom>
          <a:ln w="0">
            <a:noFill/>
          </a:ln>
        </p:spPr>
      </p:pic>
      <p:pic>
        <p:nvPicPr>
          <p:cNvPr id="306" name="Рисунок 4" descr="http://www.lenina100.ru/images/chesotka2_big.jpg"/>
          <p:cNvPicPr/>
          <p:nvPr/>
        </p:nvPicPr>
        <p:blipFill>
          <a:blip r:embed="rId2"/>
          <a:stretch/>
        </p:blipFill>
        <p:spPr>
          <a:xfrm>
            <a:off x="4643280" y="4286160"/>
            <a:ext cx="233388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28800" y="42876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Заражение чесоткой в 95% происходит при передаче клеща от больного человека здоровому.  </a:t>
            </a:r>
            <a:r>
              <a:rPr b="1" i="1" lang="en-US" sz="2000" spc="-1" strike="noStrike">
                <a:solidFill>
                  <a:srgbClr val="c00000"/>
                </a:solidFill>
                <a:latin typeface="Verdana"/>
              </a:rPr>
              <a:t>Достаточная редкость непрямого пути заражения объясняется довольно слабой жизнестойкостью клеща во внешней среде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Чаще возбудитель передается при общем пользовании постельными принадлежностями, мочалками, игрушками, письменными принадлежностями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08" name="Содержимое 3" descr="http://www.rmj.ru/data/articles/Image/t11/n17/p9903.jpg"/>
          <p:cNvPicPr/>
          <p:nvPr/>
        </p:nvPicPr>
        <p:blipFill>
          <a:blip r:embed="rId1"/>
          <a:stretch/>
        </p:blipFill>
        <p:spPr>
          <a:xfrm>
            <a:off x="857160" y="3286080"/>
            <a:ext cx="3357720" cy="2714760"/>
          </a:xfrm>
          <a:prstGeom prst="rect">
            <a:avLst/>
          </a:prstGeom>
          <a:ln w="0">
            <a:noFill/>
          </a:ln>
        </p:spPr>
      </p:pic>
      <p:pic>
        <p:nvPicPr>
          <p:cNvPr id="309" name="Рисунок 4" descr="http://www.rmj.ru/data/articles/Image/t11/n17/p9902.jpg"/>
          <p:cNvPicPr/>
          <p:nvPr/>
        </p:nvPicPr>
        <p:blipFill>
          <a:blip r:embed="rId2"/>
          <a:stretch/>
        </p:blipFill>
        <p:spPr>
          <a:xfrm>
            <a:off x="4929120" y="3286080"/>
            <a:ext cx="350064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4720" y="2000160"/>
            <a:ext cx="8183520" cy="40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Признаки заболевания демодекозом: </a:t>
            </a: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зуд, покраснение кожи, прыщи, угри, ссыпь, увеличение размера носа или других участков в случае поражения, бугристая кожа, повышенная жирности лица, расширение пор, преждевременное выпадение волос.</a:t>
            </a:r>
            <a:br>
              <a:rPr sz="16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03280" y="529920"/>
            <a:ext cx="8183520" cy="1755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0000"/>
                </a:solidFill>
                <a:latin typeface="Verdana"/>
              </a:rPr>
              <a:t>Демодекс (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Demodex folliculorum) – микроскопический паразитический подкожный клещ, вызывающий заболевание </a:t>
            </a:r>
            <a:r>
              <a:rPr b="1" i="1" lang="ru-RU" sz="1500" spc="-1" strike="noStrike">
                <a:solidFill>
                  <a:srgbClr val="c00000"/>
                </a:solidFill>
                <a:latin typeface="Verdana"/>
              </a:rPr>
              <a:t>демодекоз</a:t>
            </a: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Клещ имеет продолговатое прозрачно тело, длиной 0.1-0.4мм. Обитает демодекс в сальных железах и волосяных фолликулах и питается их содержимым. </a:t>
            </a:r>
            <a:br>
              <a:rPr sz="1500"/>
            </a:br>
            <a:r>
              <a:rPr b="1" lang="ru-RU" sz="1500" spc="-1" strike="noStrike">
                <a:solidFill>
                  <a:srgbClr val="c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Рисунок 3" descr="http://upload.wikimedia.org/wikipedia/commons/thumb/0/03/Demodex_mite_1.JPG/783px-Demodex_mite_1.JPG"/>
          <p:cNvPicPr/>
          <p:nvPr/>
        </p:nvPicPr>
        <p:blipFill>
          <a:blip r:embed="rId1"/>
          <a:stretch/>
        </p:blipFill>
        <p:spPr>
          <a:xfrm>
            <a:off x="5214960" y="1857240"/>
            <a:ext cx="2714760" cy="2714760"/>
          </a:xfrm>
          <a:prstGeom prst="rect">
            <a:avLst/>
          </a:prstGeom>
          <a:ln w="0">
            <a:noFill/>
          </a:ln>
        </p:spPr>
      </p:pic>
      <p:pic>
        <p:nvPicPr>
          <p:cNvPr id="313" name="Рисунок 4" descr="демодекоз.jpg"/>
          <p:cNvPicPr/>
          <p:nvPr/>
        </p:nvPicPr>
        <p:blipFill>
          <a:blip r:embed="rId2"/>
          <a:stretch/>
        </p:blipFill>
        <p:spPr>
          <a:xfrm>
            <a:off x="857160" y="1928880"/>
            <a:ext cx="32148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0040" y="2857680"/>
            <a:ext cx="818352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         </a:t>
            </a:r>
            <a:r>
              <a:rPr b="1" lang="en-US" sz="2000" spc="-1" strike="noStrike">
                <a:solidFill>
                  <a:srgbClr val="ff0000"/>
                </a:solidFill>
                <a:latin typeface="Verdana"/>
              </a:rPr>
              <a:t>микроскопические пылевые клещи.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503280" y="529920"/>
            <a:ext cx="8183520" cy="23986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Verdana"/>
              </a:rPr>
              <a:t>Домашняя пыль </a:t>
            </a:r>
            <a:r>
              <a:rPr b="1" lang="en-US" sz="1800" spc="-1" strike="noStrike">
                <a:solidFill>
                  <a:srgbClr val="c00000"/>
                </a:solidFill>
                <a:latin typeface="Verdana"/>
              </a:rPr>
              <a:t>может содержать шерсть и перхоть домашних животных, фрагменты перьев, частицы насекомых, волос и кожи человека, споры плесневых грибов, нейлон, стекловолокно, песок, частицы тканей и бумаги, мельчайшие фрагменты материалов, из которых сделаны стены, мебель и предметы обиход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Но основную — до 80% — и наиболее вредоносную часть домашней пыли составляю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6" name="Рисунок 3" descr="http://www.roboclean.org.ua/images/mites_image004.jpg"/>
          <p:cNvPicPr/>
          <p:nvPr/>
        </p:nvPicPr>
        <p:blipFill>
          <a:blip r:embed="rId1"/>
          <a:stretch/>
        </p:blipFill>
        <p:spPr>
          <a:xfrm>
            <a:off x="2286000" y="2857680"/>
            <a:ext cx="35002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00000"/>
                </a:solidFill>
                <a:latin typeface="Verdana"/>
              </a:rPr>
              <a:t>Мелкие фрагменты клещей (от 10 до 40 микрон) и продукты их жизнедеятельности обладают исключительной способностью вызывать аллергию. </a:t>
            </a:r>
            <a:br>
              <a:rPr sz="2200"/>
            </a:br>
            <a:endParaRPr b="1" lang="en-US" sz="2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14400" y="1785600"/>
            <a:ext cx="7772400" cy="4233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1 грам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домашней пыли содержит: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от 2000 до 15000 клещей;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Рисунок 4" descr="пылевые клещи.jpg"/>
          <p:cNvPicPr/>
          <p:nvPr/>
        </p:nvPicPr>
        <p:blipFill>
          <a:blip r:embed="rId1"/>
          <a:stretch/>
        </p:blipFill>
        <p:spPr>
          <a:xfrm>
            <a:off x="2000160" y="2857680"/>
            <a:ext cx="43434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Спасибо</a:t>
            </a:r>
            <a:br>
              <a:rPr sz="6600"/>
            </a:br>
            <a:r>
              <a:rPr b="1" lang="en-US" sz="6600" spc="-1" strike="noStrike">
                <a:solidFill>
                  <a:srgbClr val="f0735d"/>
                </a:solidFill>
                <a:latin typeface="Verdana"/>
              </a:rPr>
              <a:t> за внимание!</a:t>
            </a:r>
            <a:endParaRPr b="1" lang="en-US" sz="6600" spc="-1" strike="noStrike">
              <a:solidFill>
                <a:srgbClr val="f0735d"/>
              </a:solidFill>
              <a:latin typeface="Verdana"/>
            </a:endParaRPr>
          </a:p>
        </p:txBody>
      </p:sp>
      <p:pic>
        <p:nvPicPr>
          <p:cNvPr id="321" name="Содержимое 3" descr="осторожно клещи.jpg"/>
          <p:cNvPicPr/>
          <p:nvPr/>
        </p:nvPicPr>
        <p:blipFill>
          <a:blip r:embed="rId1"/>
          <a:stretch/>
        </p:blipFill>
        <p:spPr>
          <a:xfrm>
            <a:off x="500040" y="428760"/>
            <a:ext cx="3500640" cy="269244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4" descr="паутинный клещ.jpg"/>
          <p:cNvPicPr/>
          <p:nvPr/>
        </p:nvPicPr>
        <p:blipFill>
          <a:blip r:embed="rId2"/>
          <a:stretch/>
        </p:blipFill>
        <p:spPr>
          <a:xfrm>
            <a:off x="3714840" y="1000080"/>
            <a:ext cx="2539800" cy="241308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5" descr="пчелиный клещ.jpeg"/>
          <p:cNvPicPr/>
          <p:nvPr/>
        </p:nvPicPr>
        <p:blipFill>
          <a:blip r:embed="rId3"/>
          <a:stretch/>
        </p:blipFill>
        <p:spPr>
          <a:xfrm>
            <a:off x="6143760" y="2214720"/>
            <a:ext cx="23828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1928880"/>
            <a:ext cx="8183520" cy="32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Паук – крестовик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Скорпион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Таежный клещ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аракурт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Д)Чесоточный зудень</a:t>
            </a: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503280" y="529920"/>
            <a:ext cx="8183520" cy="139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1.Кто из паукообразных переносит возбудителя  энцефал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1999800"/>
            <a:ext cx="8183520" cy="30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А) Е. Н. Павловский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Б) И.П. Павлов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В) Н.И. Вавилов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Г) К.И. Скрябин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3280" y="529920"/>
            <a:ext cx="8183520" cy="1684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2. Кто выяснил роль клещей в переносе энцефалита от диких животных человеку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43280" y="2999880"/>
            <a:ext cx="4057920" cy="36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57120" y="571320"/>
            <a:ext cx="8158320" cy="29286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и – отряд мелких паукообразных (от 0,1 до 30 мм), объединяющий около 20 тысяч вид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Тело состоит из головки слитой с телом и брюшка (туловище цельное)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6 пар конечностей, из которых 4 задних пары у большинства взрослых особей – но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Последний членик ног обычно вооружен коготками и стебельчатыми присосками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Рисунок 5" descr="саец исамка.jpg"/>
          <p:cNvPicPr/>
          <p:nvPr/>
        </p:nvPicPr>
        <p:blipFill>
          <a:blip r:embed="rId1"/>
          <a:stretch/>
        </p:blipFill>
        <p:spPr>
          <a:xfrm>
            <a:off x="642960" y="3500280"/>
            <a:ext cx="3738600" cy="300060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7" descr="строение.jpg"/>
          <p:cNvPicPr/>
          <p:nvPr/>
        </p:nvPicPr>
        <p:blipFill>
          <a:blip r:embed="rId2"/>
          <a:stretch/>
        </p:blipFill>
        <p:spPr>
          <a:xfrm>
            <a:off x="4643280" y="3500280"/>
            <a:ext cx="407196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03280" y="1856880"/>
            <a:ext cx="8183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 При употреблении в пищу мяса больных животных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При употреблении в пищу зараженной рыбы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Через укус клеща</a:t>
            </a:r>
            <a:endParaRPr b="1" lang="en-US" sz="28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03280" y="529920"/>
            <a:ext cx="8183520" cy="1112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3.Как происходит заражение человека энцефалито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2643120"/>
            <a:ext cx="8183520" cy="29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Хищники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 Эктопаразит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 связаны с хозяином только во время питания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 постоянно обитают на поверхности тела хозяина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)кишечник имеет несколько пар слепо замкнутых ответвлени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00040" y="1000080"/>
            <a:ext cx="8183520" cy="15717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4.Особенности питания и пищеварительной системы таежного и собачьего клещей </a:t>
            </a:r>
            <a:r>
              <a:rPr b="0" i="1" lang="en-US" sz="2000" spc="-1" strike="noStrike">
                <a:solidFill>
                  <a:srgbClr val="c00000"/>
                </a:solidFill>
                <a:latin typeface="Verdana"/>
              </a:rPr>
              <a:t>(выбрать несколько ответов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28760" y="1856880"/>
            <a:ext cx="8183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) При контакте с больным человеком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Б)При употреблении в пищу зараженной рыбы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)При употреблении в пищу плохо вымытых овощей и фруктов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Г)При употреблении в пищу мяса больных животных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3280" y="530280"/>
            <a:ext cx="8183520" cy="118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Verdana"/>
              </a:rPr>
              <a:t>5.Как происходит заражение человека чесоточным зуднем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6.Особенности образа жизни чесоточного зудня (</a:t>
            </a:r>
            <a:r>
              <a:rPr b="0" i="1" lang="en-US" sz="2400" spc="-1" strike="noStrike">
                <a:solidFill>
                  <a:srgbClr val="c00000"/>
                </a:solidFill>
                <a:latin typeface="Verdana"/>
              </a:rPr>
              <a:t>выбрать несколько ответов</a:t>
            </a:r>
            <a:r>
              <a:rPr b="1" lang="en-US" sz="2400" spc="-1" strike="noStrike">
                <a:solidFill>
                  <a:srgbClr val="c00000"/>
                </a:solidFill>
                <a:latin typeface="Verdana"/>
              </a:rPr>
              <a:t>)</a:t>
            </a:r>
            <a:br>
              <a:rPr sz="2400"/>
            </a:b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2500200"/>
            <a:ext cx="8183520" cy="3432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)Экто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Б) Внутрикожный паразит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)Прогрызает в коже хозяина ход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Г) Постоянно обитает на поверхности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)Откладывает яйца в ходах кожи хозяин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183520" cy="37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1.В 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2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3.Г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4.БВД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5.А</a:t>
            </a:r>
            <a:br>
              <a:rPr sz="3600"/>
            </a:b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6.БВД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503280" y="530280"/>
            <a:ext cx="8183520" cy="8985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Правильны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3142800"/>
            <a:ext cx="8183520" cy="28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735d"/>
                </a:solidFill>
                <a:latin typeface="Verdana"/>
              </a:rPr>
              <a:t>                         </a:t>
            </a:r>
            <a:endParaRPr b="1" lang="en-US" sz="3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30280"/>
            <a:ext cx="8183520" cy="2612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Две передние пары срастаются и образуют колюще-режущий ротовой аппара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Обычно имеется 4 простых глаз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У представителей некоторых семейств тело мягкое, с кожистыми хитиновыми покровами, у других оно защищено твердыми щитками или панцирем. У самцов он прикрывает все тело, у самок тре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Рисунок 3" descr="пыль клещ.jpg"/>
          <p:cNvPicPr/>
          <p:nvPr/>
        </p:nvPicPr>
        <p:blipFill>
          <a:blip r:embed="rId1"/>
          <a:stretch/>
        </p:blipFill>
        <p:spPr>
          <a:xfrm>
            <a:off x="928800" y="3143160"/>
            <a:ext cx="3571920" cy="297504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857840" y="3214800"/>
            <a:ext cx="364320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Большинство видов – свободноживущие сапрофаги или хищники. Питаясь разлагающейся органикой, они, подобно земляным червям, играют важную роль в образовании почвенного гумус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71680" y="4715280"/>
            <a:ext cx="4929120" cy="14288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Некоторые клещи питаются соком культурных растений и относятся к  вредителям сельского хозяйств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8" name="Рисунок 6" descr="растительный клещ.jpg"/>
          <p:cNvPicPr/>
          <p:nvPr/>
        </p:nvPicPr>
        <p:blipFill>
          <a:blip r:embed="rId1"/>
          <a:stretch/>
        </p:blipFill>
        <p:spPr>
          <a:xfrm>
            <a:off x="5346720" y="4000680"/>
            <a:ext cx="3463920" cy="2143080"/>
          </a:xfrm>
          <a:prstGeom prst="rect">
            <a:avLst/>
          </a:prstGeom>
          <a:ln w="0">
            <a:noFill/>
          </a:ln>
        </p:spPr>
      </p:pic>
      <p:pic>
        <p:nvPicPr>
          <p:cNvPr id="249" name="Содержимое 4" descr="разные клещи.jpg"/>
          <p:cNvPicPr/>
          <p:nvPr/>
        </p:nvPicPr>
        <p:blipFill>
          <a:blip r:embed="rId2"/>
          <a:stretch/>
        </p:blipFill>
        <p:spPr>
          <a:xfrm>
            <a:off x="1785960" y="2500200"/>
            <a:ext cx="485784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2920" y="428400"/>
            <a:ext cx="8211960" cy="27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0735d"/>
                </a:solidFill>
                <a:latin typeface="Verdana"/>
              </a:rPr>
              <a:t>На людей и животных нападают клещи, входящие в семейства: гамазовые клещи, клещи-краснотелки аргасовые клещи, иксодовые клещи.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Verdana"/>
              </a:rPr>
              <a:t>Большинство паразитических клещей эффективно переносят возбудителей инфекционных болезней человека и животных. Спектр переносимых болезней зависит от местности и вида клеща. </a:t>
            </a:r>
            <a:endParaRPr b="1" lang="en-US" sz="20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1" name="Rectangle 1"/>
          <p:cNvSpPr/>
          <p:nvPr/>
        </p:nvSpPr>
        <p:spPr>
          <a:xfrm>
            <a:off x="714240" y="4150440"/>
            <a:ext cx="3786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В России наибольшее значение в качеств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переносчиков инфекционных болезней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имеют клещи семейства Ixodida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Рисунок 5" descr="лесной клещ.jpg"/>
          <p:cNvPicPr/>
          <p:nvPr/>
        </p:nvPicPr>
        <p:blipFill>
          <a:blip r:embed="rId1"/>
          <a:stretch/>
        </p:blipFill>
        <p:spPr>
          <a:xfrm>
            <a:off x="4714920" y="3214800"/>
            <a:ext cx="400032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56800" y="499680"/>
            <a:ext cx="78296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      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Размножение паразитических клещей</a:t>
            </a:r>
            <a:endParaRPr b="1" lang="en-US" sz="24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856800" y="3857760"/>
            <a:ext cx="7829640" cy="21621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Клещи проходят несколько стадий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яйцо → личинка → нимфа → взрослый клещ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На всех стадиях развития  паразитические клещи питаются только кровью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Едят клещи много, но не часто. На каждой стадии развития один раз. (Взрослые самцы клещей питаются несколько раз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i="1" lang="en-US" sz="1600" spc="-1" strike="noStrike">
                <a:solidFill>
                  <a:srgbClr val="c00000"/>
                </a:solidFill>
                <a:latin typeface="Verdana"/>
              </a:rPr>
              <a:t>Для человека опасны только взрослые самки и самцы, в то время как личинки и нимфы угрозы не представляют. 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d1634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Рисунок 3" descr="http://www.ufabike.ru/klesch/etap.jpg"/>
          <p:cNvPicPr/>
          <p:nvPr/>
        </p:nvPicPr>
        <p:blipFill>
          <a:blip r:embed="rId1"/>
          <a:stretch/>
        </p:blipFill>
        <p:spPr>
          <a:xfrm>
            <a:off x="1285920" y="1071720"/>
            <a:ext cx="657216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320" y="642600"/>
            <a:ext cx="8143560" cy="278604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Чаще всего клещей подхватывают в лесу и на дачных участках. «Помочь» в этом могут животные, особенно собаки, и даже цветочные букеты.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поджидают сидя на земле, траве или кустах. Личинки клещей не поднимаются выше 30 сантиметров, нимфы – не выше 1 метра, а взрослые клещи – 1.5 метра. Они реагируют на тепло и запах. 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Verdana"/>
              </a:rPr>
              <a:t>Клещи не прыгают, не летают и не падают на своих жертв с деревьев. Для того, чтобы клещ попал на тело, надо пройти в непосредственной близости от него.</a:t>
            </a:r>
            <a:br>
              <a:rPr sz="1800"/>
            </a:br>
            <a:endParaRPr b="1" lang="en-US" sz="16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3571920"/>
            <a:ext cx="8183520" cy="2473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58" name="photoimg" descr="Паразиты любят тень и приятную прохладу."/>
          <p:cNvPicPr/>
          <p:nvPr/>
        </p:nvPicPr>
        <p:blipFill>
          <a:blip r:embed="rId1"/>
          <a:stretch/>
        </p:blipFill>
        <p:spPr>
          <a:xfrm>
            <a:off x="500040" y="3643200"/>
            <a:ext cx="3571920" cy="285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6" descr="http://www.uralweb.ru/p/257196/Image/kle02.jpg"/>
          <p:cNvPicPr/>
          <p:nvPr/>
        </p:nvPicPr>
        <p:blipFill>
          <a:blip r:embed="rId2"/>
          <a:stretch/>
        </p:blipFill>
        <p:spPr>
          <a:xfrm>
            <a:off x="4214880" y="3643200"/>
            <a:ext cx="450036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42960" y="571320"/>
            <a:ext cx="7826400" cy="3786120"/>
          </a:xfrm>
          <a:prstGeom prst="rect">
            <a:avLst/>
          </a:prstGeom>
          <a:noFill/>
          <a:ln w="0">
            <a:noFill/>
          </a:ln>
        </p:spPr>
        <p:txBody>
          <a:bodyPr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Клещ не торопится, он долго и обстоятельно ищет место укуса. Поэтому можно успеть снять клеща, до того как он укусит.</a:t>
            </a:r>
            <a:br>
              <a:rPr sz="2000"/>
            </a:br>
            <a:r>
              <a:rPr b="1" lang="en-US" sz="2000" spc="-1" strike="noStrike">
                <a:solidFill>
                  <a:srgbClr val="c00000"/>
                </a:solidFill>
                <a:latin typeface="Verdana"/>
              </a:rPr>
              <a:t> У человека чаще всего клещи присасываются на шее, груди, в подмышечных впадинах, паховых складках. На эти места надо обращать особое внимание при осмотрах. </a:t>
            </a: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r>
              <a:rPr b="1" lang="en-US" sz="3200" spc="-1" strike="noStrike">
                <a:solidFill>
                  <a:srgbClr val="c00000"/>
                </a:solidFill>
                <a:latin typeface="Verdana"/>
              </a:rPr>
              <a:t>      </a:t>
            </a:r>
            <a:r>
              <a:rPr b="1" lang="en-US" sz="3200" spc="-1" strike="noStrike">
                <a:solidFill>
                  <a:srgbClr val="686f73"/>
                </a:solidFill>
                <a:latin typeface="Verdana"/>
              </a:rPr>
              <a:t>                 </a:t>
            </a:r>
            <a:br>
              <a:rPr sz="3200"/>
            </a:br>
            <a:endParaRPr b="1" lang="en-US" sz="3200" spc="-1" strike="noStrike">
              <a:solidFill>
                <a:srgbClr val="f0735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68360" y="3428640"/>
            <a:ext cx="8183520" cy="26161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e432e"/>
              </a:solidFill>
              <a:latin typeface="Verdana"/>
            </a:endParaRPr>
          </a:p>
        </p:txBody>
      </p:sp>
      <p:pic>
        <p:nvPicPr>
          <p:cNvPr id="262" name="Рисунок 3" descr="клещ у собаки.jpg"/>
          <p:cNvPicPr/>
          <p:nvPr/>
        </p:nvPicPr>
        <p:blipFill>
          <a:blip r:embed="rId1"/>
          <a:stretch/>
        </p:blipFill>
        <p:spPr>
          <a:xfrm>
            <a:off x="571680" y="3429000"/>
            <a:ext cx="3555720" cy="2857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4" descr="внешн клеща.jpg"/>
          <p:cNvPicPr/>
          <p:nvPr/>
        </p:nvPicPr>
        <p:blipFill>
          <a:blip r:embed="rId2"/>
          <a:stretch/>
        </p:blipFill>
        <p:spPr>
          <a:xfrm>
            <a:off x="4500720" y="3429000"/>
            <a:ext cx="39416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47:27Z</dcterms:created>
  <dc:creator>Владелец</dc:creator>
  <dc:description/>
  <dc:language>en-US</dc:language>
  <cp:lastModifiedBy>Василий</cp:lastModifiedBy>
  <dcterms:modified xsi:type="dcterms:W3CDTF">2012-10-18T15:40:12Z</dcterms:modified>
  <cp:revision>72</cp:revision>
  <dc:subject/>
  <dc:title>Акариология – наука о клещах</dc:title>
</cp:coreProperties>
</file>