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342D-7A87-4F02-BA38-FF21834286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E7F5-6423-478D-9FDC-ADEBCFA0C3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D16-19AE-47F2-9B9B-DF189349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2BE-DB54-441E-B0C0-6D803160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383-C26D-4B24-88CA-FC4386D6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0D0-F886-4D19-A3CD-139508AB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8504-195A-4EDB-A3CD-E923482D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9ECD-BD93-482C-ABEB-4AF73912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F6DF-34F3-46F0-9A9D-B2D7980A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36F9-3478-4289-8B0E-E128DEAE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7D13-E97A-4CF5-A60A-F8040CDA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7750-A694-4065-AC88-C281EFD6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85EF-ED2A-484F-A3AF-E323B7A3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41B-E9AD-4D23-852D-4BF25959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A95E-26AB-4131-91AF-BA2D0738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8D52-6257-4EB7-98BB-6F262DC3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C136-AD51-402A-8F56-8AC41910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3F8B-41F6-450B-8F20-DAEBDA72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0DE5-7CC6-47F9-87B4-F6A94008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48632-DE3B-4A25-B067-73B9F360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155B-1A5E-47E8-A78B-44E9668D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08171-A3E4-4B2B-B853-1E5C642E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DCEFE-24E2-43AD-812E-D1DB2A97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9C955-CB25-4A41-BA82-9F706534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F75-D5C6-4B00-B919-94A67E27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34049-A795-4950-A839-F21B419D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903F0-BD14-4F1A-A24F-14E7EBD1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83649-BF5A-4F73-A6D8-A64ED5AB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B7FE-3DC6-4B1C-9E39-92C45EC6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629A9-A42F-45E6-AE7A-C54A7D05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455FF-C08C-4820-9A47-1207BFA9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C740-98D8-4678-A64D-A18F5661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4C105-18D6-4549-8462-92527447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5E900-20B5-428D-8CE8-9CF21D81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BC65-A210-4C82-9C38-57FB9D31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470-3F6E-4041-84F4-75F37544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A180F-7699-4629-8641-F2D2DAB9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5C98E-45C7-499F-8DAC-03257E8D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249C3-906F-4192-8443-6189B2A5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758C6-AFDA-4E52-B49B-EA0A2EDA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A788A-8307-4E62-9CCB-BD50B23D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6D8C9-BC63-4478-9FAF-D45E63CF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1A4CA-291A-4C01-A3A5-1B9ACF02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DCF7A-8596-454B-96E3-095CD443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EF357-B252-4AD4-BC2E-7982DE46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1FA56-80AB-44C4-B114-31428B98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625-37BB-4A12-8270-9E8A37A4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13B97-3E62-4C57-898D-6151FE89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9B9E3-1EE3-4ACD-9902-A74486E8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4EED3-5C84-481A-8C3F-19842754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FB80E-A2DB-464A-8B61-7AC790C5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C5CBB-8D29-4FCB-A4CF-658E5116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70346-FD6F-4218-B740-AC115EE6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56AA0-E9CB-4684-A99D-8B5A2CA0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712B9-7793-4988-AF5A-9B9C075C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96713-74CE-448C-BF4B-DE006FF4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A6B78-2D0C-4642-912D-8020F987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F74-B4BA-404A-8704-2CD1B470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D5A18-83B4-4892-8CC9-0E498E19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2AD-AB17-4731-8689-6E1ADA7C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9F2-400A-47FC-BC63-54CEED35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CC0-2DF3-4A95-9859-387B9A02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15C9-1E16-4AA0-8521-7C7CF4041357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0925-8343-4EB4-983A-FA3B97FF1823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F65B-DCF5-406E-86F7-2B61248341F7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B429-9ED1-4397-8021-9A945B5C369C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AAA8-3089-4B89-BA36-B4FBF29870C5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 rot="10800000">
            <a:off x="914400" y="432720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1" lang="en-US" sz="41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3643200"/>
            <a:ext cx="3929040" cy="268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 СОШ № 1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Учитель биологии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1071720" y="857160"/>
            <a:ext cx="71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Verdana"/>
              </a:rPr>
              <a:t>Осторожно!  Клещ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6" descr="конец клещам.gif"/>
          <p:cNvPicPr/>
          <p:nvPr/>
        </p:nvPicPr>
        <p:blipFill>
          <a:blip r:embed="rId1"/>
          <a:stretch/>
        </p:blipFill>
        <p:spPr>
          <a:xfrm>
            <a:off x="5580000" y="3860640"/>
            <a:ext cx="2060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Выбрав место для укуса, клещ прокусывает кожу и вставляет в ранку хоботок. Слюна клеща обладает обезболивающим эффектом, препятствует свертыванию крови. Хоботок клеща покрыт хитиновыми выростами, а слюна затвердевает и дополнительно цементирует его, поэтому вытащить клеща тяжело.      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2785680"/>
            <a:ext cx="7772400" cy="3233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4286160" y="28288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Содержимое 3" descr="http://elementy.ru/images/eltpub/ixodes_persulcatus_600.jpg"/>
          <p:cNvPicPr/>
          <p:nvPr/>
        </p:nvPicPr>
        <p:blipFill>
          <a:blip r:embed="rId2"/>
          <a:stretch/>
        </p:blipFill>
        <p:spPr>
          <a:xfrm>
            <a:off x="1071720" y="2786040"/>
            <a:ext cx="7143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82580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же если укусил клещ-носитель, то это не значит, что можно подхватить инфекцию. Все зависит от количества слюны, которая попала в организ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рисосавшийся иксодовый клещ напоминает хорошо отлаженный насос: в минуту он делает от 2 до 60 актов всасывания, строго разделенных актами впрыскивания слюны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9" name="Содержимое 3" descr="http://www.ufabike.ru/klesch/kl4.jpg"/>
          <p:cNvPicPr/>
          <p:nvPr/>
        </p:nvPicPr>
        <p:blipFill>
          <a:blip r:embed="rId1"/>
          <a:stretch/>
        </p:blipFill>
        <p:spPr>
          <a:xfrm>
            <a:off x="428760" y="3643200"/>
            <a:ext cx="3571920" cy="25480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6"/>
          <p:cNvSpPr/>
          <p:nvPr/>
        </p:nvSpPr>
        <p:spPr>
          <a:xfrm>
            <a:off x="4214880" y="3429000"/>
            <a:ext cx="45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Сам по себе укус клеща не опасен. Опасны инфекции которые может передать клещ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о не каждый клещ содержит возбудителей болез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Самки клещей питаются около 6  суток, поглощая при этом невероятное количество крови, сытая самка становится размером с фалангу мизинца, ее покровы приобретают грязно-серый цвет с металлическим оттенком, а вес увеличивается более чем в сто раз по сравнению с весом голодной особи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2" name="Содержимое 3" descr="http://encephalitis.ru/foto/014.jpg"/>
          <p:cNvPicPr/>
          <p:nvPr/>
        </p:nvPicPr>
        <p:blipFill>
          <a:blip r:embed="rId1"/>
          <a:stretch/>
        </p:blipFill>
        <p:spPr>
          <a:xfrm>
            <a:off x="428760" y="3000240"/>
            <a:ext cx="4786200" cy="2857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357120" y="58597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Сытые самки, покидая хозяина-прокормителя, ползут в поисках места для откладывания яиц (2000-3000).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Рисунок 4" descr="сытая и голодная.jpg"/>
          <p:cNvPicPr/>
          <p:nvPr/>
        </p:nvPicPr>
        <p:blipFill>
          <a:blip r:embed="rId2"/>
          <a:stretch/>
        </p:blipFill>
        <p:spPr>
          <a:xfrm>
            <a:off x="5572080" y="3214800"/>
            <a:ext cx="2965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843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добнее всего клеща удалять изогнутым пинцетом или хирургическим зажимо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а захватывают как можно ближе к хоботку. </a:t>
            </a:r>
            <a:br>
              <a:rPr sz="20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6" name="Содержимое 3" descr="правильный захват клеща"/>
          <p:cNvPicPr/>
          <p:nvPr/>
        </p:nvPicPr>
        <p:blipFill>
          <a:blip r:embed="rId1"/>
          <a:stretch/>
        </p:blipFill>
        <p:spPr>
          <a:xfrm>
            <a:off x="714240" y="150012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Неправильный захват клеща"/>
          <p:cNvPicPr/>
          <p:nvPr/>
        </p:nvPicPr>
        <p:blipFill>
          <a:blip r:embed="rId2"/>
          <a:stretch/>
        </p:blipFill>
        <p:spPr>
          <a:xfrm>
            <a:off x="5429160" y="1500120"/>
            <a:ext cx="2214720" cy="264312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714240" y="4357800"/>
            <a:ext cx="78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тем его аккуратно потягивают и при этом вращают вокруг своей оси в удобную сторон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Через 1-3 оборота клещ извлекается целиком вместе с хоботком. Если же клеща пытаться выдернуть, то велика вероятность разры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Если нет инструментов, то можно удалить петлей из грубой нитки. Петлей клещ захватывается как можно ближе к коже и аккуратно, пошатывая в стороны вытягивается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0" name="Содержимое 3" descr="нитка и клещ.jpg"/>
          <p:cNvPicPr/>
          <p:nvPr/>
        </p:nvPicPr>
        <p:blipFill>
          <a:blip r:embed="rId1"/>
          <a:stretch/>
        </p:blipFill>
        <p:spPr>
          <a:xfrm>
            <a:off x="1071720" y="2357280"/>
            <a:ext cx="3255840" cy="34290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извлечение клеща.jpg"/>
          <p:cNvPicPr/>
          <p:nvPr/>
        </p:nvPicPr>
        <p:blipFill>
          <a:blip r:embed="rId2"/>
          <a:stretch/>
        </p:blipFill>
        <p:spPr>
          <a:xfrm>
            <a:off x="5000760" y="2357280"/>
            <a:ext cx="30715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85720" y="499680"/>
            <a:ext cx="542916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 удалении клеща не надо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едкие жидкости —  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ашатырный спирт, бензин, и другие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  Прижигать клеща сигарет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ко дергать клеща — он оборветс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овыряться в ранке грязной иголк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различные компрессы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Давить клеща пальц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4785840"/>
            <a:ext cx="7643520" cy="1071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Если в ранке осталась голова с хоботком, то страшного в этом ничего нет. Хоботок в ранке не страшнее зан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Рисунок 5" descr="http://mmu2.ru/_ph/24/2/813256022.jpg"/>
          <p:cNvPicPr/>
          <p:nvPr/>
        </p:nvPicPr>
        <p:blipFill>
          <a:blip r:embed="rId1"/>
          <a:stretch/>
        </p:blipFill>
        <p:spPr>
          <a:xfrm>
            <a:off x="357120" y="7142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9680" y="2214720"/>
            <a:ext cx="464364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Клещ извлекается круговым движением (или вывинчиваем), а не вытяжение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При этом шипы хоботка свернутся к оси вращения и голова клеща не оторвется.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30280"/>
            <a:ext cx="8183520" cy="196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Головка с режущими хелицерами причленена к туловищу очень подвижно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Во время питания она глубоко погружается в кожу и заякоривается там специальным подротовым выростом – гипостомом – с направленными назад зубчиками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Содержимое 3" descr="hipostom.jpg"/>
          <p:cNvPicPr/>
          <p:nvPr/>
        </p:nvPicPr>
        <p:blipFill>
          <a:blip r:embed="rId1"/>
          <a:stretch/>
        </p:blipFill>
        <p:spPr>
          <a:xfrm>
            <a:off x="5072040" y="2357280"/>
            <a:ext cx="3432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9" name="Содержимое 5" descr="защита от клещей.jpg"/>
          <p:cNvPicPr/>
          <p:nvPr/>
        </p:nvPicPr>
        <p:blipFill>
          <a:blip r:embed="rId1"/>
          <a:stretch/>
        </p:blipFill>
        <p:spPr>
          <a:xfrm>
            <a:off x="428760" y="1071720"/>
            <a:ext cx="5236920" cy="5786280"/>
          </a:xfrm>
          <a:prstGeom prst="rect">
            <a:avLst/>
          </a:prstGeom>
          <a:ln w="0">
            <a:noFill/>
          </a:ln>
        </p:spPr>
      </p:pic>
      <p:sp>
        <p:nvSpPr>
          <p:cNvPr id="290" name="Содержимое 2"/>
          <p:cNvSpPr/>
          <p:nvPr/>
        </p:nvSpPr>
        <p:spPr>
          <a:xfrm>
            <a:off x="1071720" y="428760"/>
            <a:ext cx="76435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Самый мудрый способ защи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- не допустить укуса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одержимое 2"/>
          <p:cNvSpPr/>
          <p:nvPr/>
        </p:nvSpPr>
        <p:spPr>
          <a:xfrm flipV="1">
            <a:off x="0" y="6858000"/>
            <a:ext cx="9144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3" descr="защита плакат.jpg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2928960"/>
            <a:ext cx="818352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к</a:t>
            </a: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428400"/>
            <a:ext cx="8183520" cy="257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 территории России основными переносчиками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го энцефалита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являются два вида клещ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таежны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persulcatus) и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обачи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ricinu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Таежный клещ распространен в лесах Сибири и Дальнего Восто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обачий клещ встречается в Европейской части России и странах Центральной и Северной Европ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Рисунок 3" descr="собачий клещ.jpg"/>
          <p:cNvPicPr/>
          <p:nvPr/>
        </p:nvPicPr>
        <p:blipFill>
          <a:blip r:embed="rId1"/>
          <a:stretch/>
        </p:blipFill>
        <p:spPr>
          <a:xfrm>
            <a:off x="571680" y="3000240"/>
            <a:ext cx="3214440" cy="30006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4" descr="клещ на еже.jpg"/>
          <p:cNvPicPr/>
          <p:nvPr/>
        </p:nvPicPr>
        <p:blipFill>
          <a:blip r:embed="rId2"/>
          <a:stretch/>
        </p:blipFill>
        <p:spPr>
          <a:xfrm>
            <a:off x="4714920" y="3000240"/>
            <a:ext cx="3730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Акарология – наука  о клещах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999800" y="1071720"/>
            <a:ext cx="4994280" cy="1071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Тип Членистоног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Класс Паукообраз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Отряд Клещи (</a:t>
            </a:r>
            <a:r>
              <a:rPr b="1" lang="en-US" sz="2000" spc="-1" strike="noStrike">
                <a:solidFill>
                  <a:srgbClr val="686f73"/>
                </a:solidFill>
                <a:latin typeface="Verdana"/>
              </a:rPr>
              <a:t>Acar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86f73"/>
                </a:solidFill>
                <a:uFillTx/>
                <a:latin typeface="Verdana"/>
              </a:rPr>
              <a:t>подотря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Схема 6" descr=""/>
          <p:cNvPicPr/>
          <p:nvPr/>
        </p:nvPicPr>
        <p:blipFill>
          <a:blip r:embed="rId1"/>
          <a:stretch/>
        </p:blipFill>
        <p:spPr>
          <a:xfrm>
            <a:off x="420840" y="2189160"/>
            <a:ext cx="8351640" cy="395604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низ 15"/>
          <p:cNvSpPr/>
          <p:nvPr/>
        </p:nvSpPr>
        <p:spPr>
          <a:xfrm>
            <a:off x="4500720" y="350028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Стрелка вниз 16"/>
          <p:cNvSpPr/>
          <p:nvPr/>
        </p:nvSpPr>
        <p:spPr>
          <a:xfrm>
            <a:off x="8001000" y="364320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Стрелка вниз 17"/>
          <p:cNvSpPr/>
          <p:nvPr/>
        </p:nvSpPr>
        <p:spPr>
          <a:xfrm>
            <a:off x="6072120" y="3571920"/>
            <a:ext cx="214560" cy="72072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Рисунок 20" descr="клещи в чашке.jpg"/>
          <p:cNvPicPr/>
          <p:nvPr/>
        </p:nvPicPr>
        <p:blipFill>
          <a:blip r:embed="rId2"/>
          <a:stretch/>
        </p:blipFill>
        <p:spPr>
          <a:xfrm>
            <a:off x="428760" y="3643200"/>
            <a:ext cx="26431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47145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735d"/>
                </a:solidFill>
                <a:latin typeface="Verdana"/>
              </a:rPr>
              <a:t>При этом вирус энцефалита содержится далеко не во всех клещах. То есть, энцефалитный клещ это не особый вид, а зараженный вирусом энцефалита клещ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И лесной, и собачий клещи переносят возбудителей многих болезней. В том числе клещевого энцефалита и боррелиоз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Рисунок 3" descr="энцефалитный клещ.jpg"/>
          <p:cNvPicPr/>
          <p:nvPr/>
        </p:nvPicPr>
        <p:blipFill>
          <a:blip r:embed="rId1"/>
          <a:stretch/>
        </p:blipFill>
        <p:spPr>
          <a:xfrm>
            <a:off x="642960" y="164304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4" descr="клещи.jpg"/>
          <p:cNvPicPr/>
          <p:nvPr/>
        </p:nvPicPr>
        <p:blipFill>
          <a:blip r:embed="rId2"/>
          <a:stretch/>
        </p:blipFill>
        <p:spPr>
          <a:xfrm>
            <a:off x="4857840" y="1643040"/>
            <a:ext cx="378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й боррелиоз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болезнь Лайма), — инфекционная болезнь, вызываемая бактериями группы Borrelia burgdorferi. Передается только при укусе инфицированного клеща. 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28760" y="2857680"/>
            <a:ext cx="4357440" cy="30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Боррелиоз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жет принимать хроническое течение, проявляясь поражением суставов, кожи, сердца, нервной системы. Но, на ранних стадиях, он хорошо лечится антибиоти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3" descr="борреолез.jpg"/>
          <p:cNvPicPr/>
          <p:nvPr/>
        </p:nvPicPr>
        <p:blipFill>
          <a:blip r:embed="rId1"/>
          <a:stretch/>
        </p:blipFill>
        <p:spPr>
          <a:xfrm>
            <a:off x="5072040" y="2610000"/>
            <a:ext cx="35006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Чесотка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леко не «простая» болезнь, хотя чесоточный клещ, который ее вызывает, известен еще с XII столети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Этот самый чесоточный клещ (еще его называют зуднем) чрезвычайно плодовит, из-за чего болезнь очень быстро распространяется по всему телу, а чесотка является заразной болезнью кожи. Человек заражается ею при непосредственном контакте с больным, а также при пользовании его одеждой, полотенцем, игрушками и другими предмет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5" name="Содержимое 3" descr="http://www.dermatolog4you.ru/images/rmj/scabies_1.jpg"/>
          <p:cNvPicPr/>
          <p:nvPr/>
        </p:nvPicPr>
        <p:blipFill>
          <a:blip r:embed="rId1"/>
          <a:stretch/>
        </p:blipFill>
        <p:spPr>
          <a:xfrm>
            <a:off x="1214280" y="4286160"/>
            <a:ext cx="2352960" cy="17622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http://www.lenina100.ru/images/chesotka2_big.jpg"/>
          <p:cNvPicPr/>
          <p:nvPr/>
        </p:nvPicPr>
        <p:blipFill>
          <a:blip r:embed="rId2"/>
          <a:stretch/>
        </p:blipFill>
        <p:spPr>
          <a:xfrm>
            <a:off x="4643280" y="4286160"/>
            <a:ext cx="23338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ражение чесоткой в 95% происходит при передаче клеща от больного человека здоровому.  </a:t>
            </a:r>
            <a:r>
              <a:rPr b="1" i="1" lang="en-US" sz="2000" spc="-1" strike="noStrike">
                <a:solidFill>
                  <a:srgbClr val="c00000"/>
                </a:solidFill>
                <a:latin typeface="Verdana"/>
              </a:rPr>
              <a:t>Достаточная редкость непрямого пути заражения объясняется довольно слабой жизнестойкостью клеща во внешней среде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Чаще возбудитель передается при общем пользовании постельными принадлежностями, мочалками, игрушками, письменными принадлежностями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8" name="Содержимое 3" descr="http://www.rmj.ru/data/articles/Image/t11/n17/p9903.jpg"/>
          <p:cNvPicPr/>
          <p:nvPr/>
        </p:nvPicPr>
        <p:blipFill>
          <a:blip r:embed="rId1"/>
          <a:stretch/>
        </p:blipFill>
        <p:spPr>
          <a:xfrm>
            <a:off x="857160" y="3286080"/>
            <a:ext cx="3357720" cy="27147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http://www.rmj.ru/data/articles/Image/t11/n17/p9902.jpg"/>
          <p:cNvPicPr/>
          <p:nvPr/>
        </p:nvPicPr>
        <p:blipFill>
          <a:blip r:embed="rId2"/>
          <a:stretch/>
        </p:blipFill>
        <p:spPr>
          <a:xfrm>
            <a:off x="4929120" y="3286080"/>
            <a:ext cx="3500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2000160"/>
            <a:ext cx="81835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ризнаки заболевания демодекозом: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зуд, покраснение кожи, прыщи, угри, ссыпь, увеличение размера носа или других участков в случае поражения, бугристая кожа, повышенная жирности лица, расширение пор, преждевременное выпадение волос.</a:t>
            </a:r>
            <a:br>
              <a:rPr sz="16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529920"/>
            <a:ext cx="8183520" cy="1755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Verdana"/>
              </a:rPr>
              <a:t>Демодекс (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Demodex folliculorum) – микроскопический паразитический подкожный клещ, вызывающий заболевание </a:t>
            </a:r>
            <a:r>
              <a:rPr b="1" i="1" lang="ru-RU" sz="1500" spc="-1" strike="noStrike">
                <a:solidFill>
                  <a:srgbClr val="c00000"/>
                </a:solidFill>
                <a:latin typeface="Verdana"/>
              </a:rPr>
              <a:t>демодекоз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Клещ имеет продолговатое прозрачно тело, длиной 0.1-0.4мм. Обитает демодекс в сальных железах и волосяных фолликулах и питается их содержимым. </a:t>
            </a:r>
            <a:br>
              <a:rPr sz="1500"/>
            </a:b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Рисунок 3" descr="http://upload.wikimedia.org/wikipedia/commons/thumb/0/03/Demodex_mite_1.JPG/783px-Demodex_mite_1.JPG"/>
          <p:cNvPicPr/>
          <p:nvPr/>
        </p:nvPicPr>
        <p:blipFill>
          <a:blip r:embed="rId1"/>
          <a:stretch/>
        </p:blipFill>
        <p:spPr>
          <a:xfrm>
            <a:off x="5214960" y="18572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демодекоз.jpg"/>
          <p:cNvPicPr/>
          <p:nvPr/>
        </p:nvPicPr>
        <p:blipFill>
          <a:blip r:embed="rId2"/>
          <a:stretch/>
        </p:blipFill>
        <p:spPr>
          <a:xfrm>
            <a:off x="857160" y="19288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0040" y="2857680"/>
            <a:ext cx="81835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микроскопические пылевые клещи.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Домашняя пыль 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может содержать шерсть и перхоть домашних животных, фрагменты перьев, частицы насекомых, волос и кожи человека, споры плесневых грибов, нейлон, стекловолокно, песок, частицы тканей и бумаги, мельчайшие фрагменты материалов, из которых сделаны стены, мебель и предметы обиход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Но основную — до 80% — и наиболее вредоносную часть домашней пыли составляю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Рисунок 3" descr="http://www.roboclean.org.ua/images/mites_image004.jpg"/>
          <p:cNvPicPr/>
          <p:nvPr/>
        </p:nvPicPr>
        <p:blipFill>
          <a:blip r:embed="rId1"/>
          <a:stretch/>
        </p:blipFill>
        <p:spPr>
          <a:xfrm>
            <a:off x="2286000" y="2857680"/>
            <a:ext cx="3500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Verdana"/>
              </a:rPr>
              <a:t>Мелкие фрагменты клещей (от 10 до 40 микрон) и продукты их жизнедеятельности обладают исключительной способностью вызывать аллергию. </a:t>
            </a:r>
            <a:br>
              <a:rPr sz="2200"/>
            </a:br>
            <a:endParaRPr b="1" lang="en-US" sz="2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7856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 грам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домашней пыли содержит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 2000 до 15000 клещей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Рисунок 4" descr="пылевые клещи.jpg"/>
          <p:cNvPicPr/>
          <p:nvPr/>
        </p:nvPicPr>
        <p:blipFill>
          <a:blip r:embed="rId1"/>
          <a:stretch/>
        </p:blipFill>
        <p:spPr>
          <a:xfrm>
            <a:off x="2000160" y="2857680"/>
            <a:ext cx="43434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Спасибо</a:t>
            </a:r>
            <a:br>
              <a:rPr sz="6600"/>
            </a:b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 за внимание!</a:t>
            </a:r>
            <a:endParaRPr b="1" lang="en-US" sz="66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21" name="Содержимое 3" descr="осторожно клещи.jpg"/>
          <p:cNvPicPr/>
          <p:nvPr/>
        </p:nvPicPr>
        <p:blipFill>
          <a:blip r:embed="rId1"/>
          <a:stretch/>
        </p:blipFill>
        <p:spPr>
          <a:xfrm>
            <a:off x="500040" y="428760"/>
            <a:ext cx="3500640" cy="26924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паутинный клещ.jpg"/>
          <p:cNvPicPr/>
          <p:nvPr/>
        </p:nvPicPr>
        <p:blipFill>
          <a:blip r:embed="rId2"/>
          <a:stretch/>
        </p:blipFill>
        <p:spPr>
          <a:xfrm>
            <a:off x="3714840" y="1000080"/>
            <a:ext cx="2539800" cy="24130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пчелиный клещ.jpeg"/>
          <p:cNvPicPr/>
          <p:nvPr/>
        </p:nvPicPr>
        <p:blipFill>
          <a:blip r:embed="rId3"/>
          <a:stretch/>
        </p:blipFill>
        <p:spPr>
          <a:xfrm>
            <a:off x="6143760" y="2214720"/>
            <a:ext cx="23828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1928880"/>
            <a:ext cx="81835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Паук – крестови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Скорпио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Таежный кле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аракур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)Чесоточный зудень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03280" y="529920"/>
            <a:ext cx="8183520" cy="139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1.Кто из паукообразных переносит возбудителя  энцефал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1999800"/>
            <a:ext cx="81835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Е. Н. Павловски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И.П. Павлов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Н.И. Вавил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.И. Скрябин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3280" y="529920"/>
            <a:ext cx="8183520" cy="168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2. Кто выяснил роль клещей в переносе энцефалита от диких животных человек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43280" y="2999880"/>
            <a:ext cx="405792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57120" y="571320"/>
            <a:ext cx="8158320" cy="292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и – отряд мелких паукообразных (от 0,1 до 30 мм), объединяющий около 20 тысяч вид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Тело состоит из головки слитой с телом и брюшка (туловище цельное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6 пар конечностей, из которых 4 задних пары у большинства взрослых особей – но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оследний членик ног обычно вооружен коготками и стебельчатыми присоскам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Рисунок 5" descr="саец исамка.jpg"/>
          <p:cNvPicPr/>
          <p:nvPr/>
        </p:nvPicPr>
        <p:blipFill>
          <a:blip r:embed="rId1"/>
          <a:stretch/>
        </p:blipFill>
        <p:spPr>
          <a:xfrm>
            <a:off x="642960" y="3500280"/>
            <a:ext cx="3738600" cy="3000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7" descr="строение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719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185688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 При употреблении в пищу мяса больных животны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При употреблении в пищу зараженной рыб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Через укус клеща</a:t>
            </a:r>
            <a:endParaRPr b="1" lang="en-US" sz="2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3280" y="529920"/>
            <a:ext cx="8183520" cy="1112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3.Как происходит заражение человека энцефалит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2643120"/>
            <a:ext cx="818352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Хищни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 Эктопаразит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 связаны с хозяином только во время пит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 постоянно обитают на поверхности тела хозяи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)кишечник имеет несколько пар слепо замкнутых ответвлени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0040" y="1000080"/>
            <a:ext cx="8183520" cy="1571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4.Особенности питания и пищеварительной системы таежного и собачьего клещей </a:t>
            </a:r>
            <a:r>
              <a:rPr b="0" i="1" lang="en-US" sz="2000" spc="-1" strike="noStrike">
                <a:solidFill>
                  <a:srgbClr val="c00000"/>
                </a:solidFill>
                <a:latin typeface="Verdana"/>
              </a:rPr>
              <a:t>(выбрать несколько ответ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18352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При контакте с больным человеко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При употреблении в пищу зараженной рыб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При употреблении в пищу мяса больных животных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5.Как происходит заражение человека чесоточным зудн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6.Особенности образа жизни чесоточного зудня (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выбрать несколько ответов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00040" y="2500200"/>
            <a:ext cx="8183520" cy="3432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Экто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Внутрикожный 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огрызает в коже хозяина х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 Постоянно обитает на поверхности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)Откладывает яйца в ходах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1835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1.В 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2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3.Г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4.БВД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5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6.БВД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30280"/>
            <a:ext cx="8183520" cy="898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Правильны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3142800"/>
            <a:ext cx="818352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                         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30280"/>
            <a:ext cx="8183520" cy="261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ве передние пары срастаются и образуют колюще-режущий ротовой аппар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4 простых глаз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 представителей некоторых семейств тело мягкое, с кожистыми хитиновыми покровами, у других оно защищено твердыми щитками или панцирем. У самцов он прикрывает все тело, у самок тре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пыль клещ.jpg"/>
          <p:cNvPicPr/>
          <p:nvPr/>
        </p:nvPicPr>
        <p:blipFill>
          <a:blip r:embed="rId1"/>
          <a:stretch/>
        </p:blipFill>
        <p:spPr>
          <a:xfrm>
            <a:off x="928800" y="3143160"/>
            <a:ext cx="3571920" cy="29750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857840" y="3214800"/>
            <a:ext cx="36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Большинство видов – свободноживущие сапрофаги или хищники. Питаясь разлагающейся органикой, они, подобно земляным червям, играют важную роль в образовании почвенного гумус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4715280"/>
            <a:ext cx="4929120" cy="1428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Некоторые клещи питаются соком культурных растений и относятся к  вредителям сельского хозяй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Рисунок 6" descr="растительный клещ.jpg"/>
          <p:cNvPicPr/>
          <p:nvPr/>
        </p:nvPicPr>
        <p:blipFill>
          <a:blip r:embed="rId1"/>
          <a:stretch/>
        </p:blipFill>
        <p:spPr>
          <a:xfrm>
            <a:off x="5346720" y="4000680"/>
            <a:ext cx="3463920" cy="214308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4" descr="разные клещи.jpg"/>
          <p:cNvPicPr/>
          <p:nvPr/>
        </p:nvPicPr>
        <p:blipFill>
          <a:blip r:embed="rId2"/>
          <a:stretch/>
        </p:blipFill>
        <p:spPr>
          <a:xfrm>
            <a:off x="1785960" y="2500200"/>
            <a:ext cx="48578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2920" y="428400"/>
            <a:ext cx="82119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35d"/>
                </a:solidFill>
                <a:latin typeface="Verdana"/>
              </a:rPr>
              <a:t>На людей и животных нападают клещи, входящие в семейства: гамазовые клещи, клещи-краснотелки аргасовые клещи, иксодовые клещ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ольшинство паразитических клещей эффективно переносят возбудителей инфекционных болезней человека и животных. Спектр переносимых болезней зависит от местности и вида клещ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714240" y="4150440"/>
            <a:ext cx="37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 России наибольшее значение в качеств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еносчиков инфекционных болезн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меют клещи семейства Ixodida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Рисунок 5" descr="лесной клещ.jpg"/>
          <p:cNvPicPr/>
          <p:nvPr/>
        </p:nvPicPr>
        <p:blipFill>
          <a:blip r:embed="rId1"/>
          <a:stretch/>
        </p:blipFill>
        <p:spPr>
          <a:xfrm>
            <a:off x="4714920" y="32148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6800" y="499680"/>
            <a:ext cx="78296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  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змножение паразитических клеще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56800" y="3857760"/>
            <a:ext cx="7829640" cy="216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Клещи проходят несколько стадий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яйцо → личинка → нимфа → взрослый клещ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На всех стадиях развития  паразитические клещи питаются только кров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Едят клещи много, но не часто. На каждой стадии развития один раз. (Взрослые самцы клещей питаются несколько раз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Для человека опасны только взрослые самки и самцы, в то время как личинки и нимфы угрозы не представляют. 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3" descr="http://www.ufabike.ru/klesch/etap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721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143560" cy="27860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Чаще всего клещей подхватывают в лесу и на дачных участках. «Помочь» в этом могут животные, особенно собаки, и даже цветочные букеты.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поджидают сидя на земле, траве или кустах. Личинки клещей не поднимаются выше 30 сантиметров, нимфы – не выше 1 метра, а взрослые клещи – 1.5 метра. Они реагируют на тепло и запах. 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не прыгают, не летают и не падают на своих жертв с деревьев. Для того, чтобы клещ попал на тело, надо пройти в непосредственной близости от него.</a:t>
            </a:r>
            <a:br>
              <a:rPr sz="18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3571920"/>
            <a:ext cx="8183520" cy="2473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58" name="photoimg" descr="Паразиты любят тень и приятную прохладу."/>
          <p:cNvPicPr/>
          <p:nvPr/>
        </p:nvPicPr>
        <p:blipFill>
          <a:blip r:embed="rId1"/>
          <a:stretch/>
        </p:blipFill>
        <p:spPr>
          <a:xfrm>
            <a:off x="500040" y="364320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http://www.uralweb.ru/p/257196/Image/kle02.jpg"/>
          <p:cNvPicPr/>
          <p:nvPr/>
        </p:nvPicPr>
        <p:blipFill>
          <a:blip r:embed="rId2"/>
          <a:stretch/>
        </p:blipFill>
        <p:spPr>
          <a:xfrm>
            <a:off x="4214880" y="3643200"/>
            <a:ext cx="4500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26400" cy="3786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 не торопится, он долго и обстоятельно ищет место укуса. Поэтому можно успеть снять клеща, до того как он укусит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У человека чаще всего клещи присасываются на шее, груди, в подмышечных впадинах, паховых складках. На эти места надо обращать особое внимание при осмотрах. 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183520" cy="261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62" name="Рисунок 3" descr="клещ у собаки.jpg"/>
          <p:cNvPicPr/>
          <p:nvPr/>
        </p:nvPicPr>
        <p:blipFill>
          <a:blip r:embed="rId1"/>
          <a:stretch/>
        </p:blipFill>
        <p:spPr>
          <a:xfrm>
            <a:off x="571680" y="3429000"/>
            <a:ext cx="3555720" cy="28576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500720" y="3429000"/>
            <a:ext cx="3941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47:27Z</dcterms:created>
  <dc:creator>Владелец</dc:creator>
  <dc:description/>
  <dc:language>en-US</dc:language>
  <cp:lastModifiedBy>Василий</cp:lastModifiedBy>
  <dcterms:modified xsi:type="dcterms:W3CDTF">2012-10-18T15:40:12Z</dcterms:modified>
  <cp:revision>72</cp:revision>
  <dc:subject/>
  <dc:title>Акариология – наука о клещах</dc:title>
</cp:coreProperties>
</file>