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4.png" ContentType="image/png"/>
  <Override PartName="/ppt/media/image11.jpeg" ContentType="image/jpeg"/>
  <Override PartName="/ppt/media/image1.png" ContentType="image/png"/>
  <Override PartName="/ppt/media/image25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10.jpeg" ContentType="image/jpeg"/>
  <Override PartName="/ppt/media/image35.jpeg" ContentType="image/jpeg"/>
  <Override PartName="/ppt/media/image43.jpeg" ContentType="image/jpeg"/>
  <Override PartName="/ppt/media/image5.png" ContentType="image/png"/>
  <Override PartName="/ppt/media/image29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36.jpeg" ContentType="image/jpeg"/>
  <Override PartName="/ppt/media/image9.jpeg" ContentType="image/jpeg"/>
  <Override PartName="/ppt/media/image37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40.jpeg" ContentType="image/jpeg"/>
  <Override PartName="/ppt/media/image13.jpeg" ContentType="image/jpeg"/>
  <Override PartName="/ppt/media/image23.png" ContentType="image/png"/>
  <Override PartName="/ppt/media/image12.jpeg" ContentType="image/jpeg"/>
  <Override PartName="/ppt/media/image4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0735d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C294D-6CA8-4A8C-9769-0E3B8D961DE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DFABC-72DA-4CB7-BB6C-39484D56697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95BE-F80B-4822-B074-BC060417A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46D9-36B1-4487-B3E4-486307377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332D-DCC2-4D19-AA4D-C9F1A8409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E1CE-D8E8-4D78-8511-6744DDFCA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914D4-FC48-4ABF-866D-022FAA19C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07D52-51BA-4790-83EC-F576489AD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6EE44-7D93-44C1-B389-DE6B599E2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46015-7434-40D5-B42A-301DA551C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CC126-DCED-4EAD-BCEB-4E144347A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E53F4-9683-4001-B7B5-4382BA8C4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5D347-39EA-41A4-AB20-F80577DA4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F604-4C8D-4595-B721-76700AFBD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8BED3-9C65-4949-90BF-4BCA615C6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58EC5-4FE0-43EC-984A-F01289501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B5F2A-F6D7-46BD-821F-85DB98D9D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CAF33-7997-4DA6-ABFB-5071E2DEC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C65E7-94DD-453C-A061-E6C8F0D54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B91143-3EA0-47DC-968C-E558D6504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2E9FDE-AE92-4AA1-B91B-9EC7CCAE8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94D53B-21B3-42E8-BADA-0BF81D6FE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BA75D9-63E9-482F-8FA8-9357348BB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CC0356-50F3-42AF-AD49-37FC72155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0AD1-A834-4F66-9C56-299412A38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E8C3D2-D754-4408-B673-19C558671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27ECFB-5D41-437F-885B-9BC76C97F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8ECC3E-AFFA-4FCC-B4DA-A7DFCF3F4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E98E18-499A-40ED-893E-BEEFA1EC0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3DB26C-7133-4DE8-B68F-8B22BB3F9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98AA14-398E-42A2-B899-CD1253154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EC5F5F-F967-4D9C-8C3F-9F1DC897D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307664-931D-43D2-8BD7-2743F4162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9434A3-087D-4AEB-A48A-B83DBEAF8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FA60C4-C0B9-414E-89B0-D36E76681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4361-F599-4EEA-AD8C-E1060E6E6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672EF7-7E9C-4AA0-8DDE-DACFB4824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E901E5-F1BC-4062-9580-2933453B7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901A9A-8DED-4829-9F4C-8E3BC7EEA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D80329-DCCC-4EC8-8C74-A9C4AE1F6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A52775-8B80-4174-B296-B37DF8578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6156BD-372D-4F4F-AAEB-F7DF7B01C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F6A67D-BD98-4776-8C29-7860D8974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06A7B4-EE1D-46BE-A3AD-8DD65C2D8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C766BE-82EE-45D9-8EE4-8E4A87946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571A0F-77EC-4879-86A8-EC60098A4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200B-0926-4C20-BA01-17DAC3035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DB658B-2EEA-4531-9A38-6F03CF9B2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74791E-BDFA-4AD8-B5F1-381662982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E983E9-B22B-4EE8-83E2-7468E3688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16F016-9B15-42CD-9FC2-AFCA7A4AC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9274C1-6D73-40BD-9F26-3B5787A8E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631EE5-1400-4D21-8877-11616A290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17DC27-8FF3-4CF6-94A3-30CA216F1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E9DF10-7ED8-47F2-B43B-587F074E3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BDBAAC-3152-441C-ABDB-4FA7DA14C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8C734F-E38C-4482-AC6C-E7AF456F7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E9BB-348F-4FD4-80AB-7DBAD28ED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C41183-24A5-462D-9640-71EE3F58B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2F25-E62E-4672-A097-11C0B0F5E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8060-38FA-4AC3-8A40-B5F8B2D07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C0D7-1D50-4CAF-9343-3E914B9AC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0735d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ff0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ff0b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8fd1d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099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0999e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099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23D04-75B6-4FB1-9A04-9E709709391A}" type="slidenum">
              <a:rPr b="0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14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6" name="Скругленный прямоугольник 9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9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0735d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ff0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ff0b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8fd1d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099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0999e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099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F75A0-83BC-4C5A-AB04-5E7AFEBA875D}" type="slidenum">
              <a:rPr b="0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13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0735d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ff0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ff0b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8fd1d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099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0999e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099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F919B-3B28-4EF0-B238-37F301826C2E}" type="slidenum">
              <a:rPr b="0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0735d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ff0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ff0b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8fd1d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099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0999e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099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898C8-37D4-45E8-9857-1CF2EC071CE4}" type="slidenum">
              <a:rPr b="0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14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0735d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ff0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ff0b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8fd1d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099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0999e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099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2AE52-7CE0-4552-B4E5-75128008BF46}" type="slidenum">
              <a:rPr b="0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 rot="10800000">
            <a:off x="914400" y="4327200"/>
            <a:ext cx="8229600" cy="1458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100"/>
            </a:br>
            <a:endParaRPr b="1" lang="en-US" sz="41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500040" y="3643200"/>
            <a:ext cx="3929040" cy="268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0" bIns="46800" anchor="t">
            <a:noAutofit/>
          </a:bodyPr>
          <a:p>
            <a:pPr marL="36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Verdana"/>
              </a:rPr>
              <a:t>МОУ  СОШ № 13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Verdana"/>
              </a:rPr>
              <a:t>с углубленным изучением отдельных предмет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Учитель биологии 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О.П. Жмаев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Прямоугольник 5"/>
          <p:cNvSpPr/>
          <p:nvPr/>
        </p:nvSpPr>
        <p:spPr>
          <a:xfrm>
            <a:off x="1071720" y="857160"/>
            <a:ext cx="7143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00000"/>
                </a:solidFill>
                <a:latin typeface="Verdana"/>
              </a:rPr>
              <a:t>Осторожно!  Клещи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0" name="Рисунок 6" descr="конец клещам.gif"/>
          <p:cNvPicPr/>
          <p:nvPr/>
        </p:nvPicPr>
        <p:blipFill>
          <a:blip r:embed="rId1"/>
          <a:stretch/>
        </p:blipFill>
        <p:spPr>
          <a:xfrm>
            <a:off x="5580000" y="3860640"/>
            <a:ext cx="2060640" cy="18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50004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Arial"/>
              </a:rPr>
              <a:t>Выбрав место для укуса, клещ прокусывает кожу и вставляет в ранку хоботок. Слюна клеща обладает обезболивающим эффектом, препятствует свертыванию крови. Хоботок клеща покрыт хитиновыми выростами, а слюна затвердевает и дополнительно цементирует его, поэтому вытащить клеща тяжело.      </a:t>
            </a:r>
            <a:endParaRPr b="1" lang="en-US" sz="2000" spc="-1" strike="noStrike">
              <a:solidFill>
                <a:srgbClr val="f0735d"/>
              </a:solidFill>
              <a:latin typeface="Verdana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914400" y="2785680"/>
            <a:ext cx="7772400" cy="3233880"/>
          </a:xfrm>
          <a:prstGeom prst="rect">
            <a:avLst/>
          </a:prstGeom>
          <a:ln w="0">
            <a:noFill/>
          </a:ln>
        </p:spPr>
      </p:pic>
      <p:sp>
        <p:nvSpPr>
          <p:cNvPr id="266" name="Прямоугольник 4"/>
          <p:cNvSpPr/>
          <p:nvPr/>
        </p:nvSpPr>
        <p:spPr>
          <a:xfrm>
            <a:off x="4286160" y="2828880"/>
            <a:ext cx="45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7" name="Содержимое 3" descr="http://elementy.ru/images/eltpub/ixodes_persulcatus_600.jpg"/>
          <p:cNvPicPr/>
          <p:nvPr/>
        </p:nvPicPr>
        <p:blipFill>
          <a:blip r:embed="rId2"/>
          <a:stretch/>
        </p:blipFill>
        <p:spPr>
          <a:xfrm>
            <a:off x="1071720" y="2786040"/>
            <a:ext cx="714348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28400" y="1071360"/>
            <a:ext cx="825804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Даже если укусил клещ-носитель, то это не значит, что можно подхватить инфекцию. Все зависит от количества слюны, которая попала в организм. </a:t>
            </a:r>
            <a:br>
              <a:rPr sz="2000"/>
            </a:b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Присосавшийся иксодовый клещ напоминает хорошо отлаженный насос: в минуту он делает от 2 до 60 актов всасывания, строго разделенных актами впрыскивания слюны.</a:t>
            </a:r>
            <a:br>
              <a:rPr sz="3200"/>
            </a:br>
            <a:endParaRPr b="1" lang="en-US" sz="2000" spc="-1" strike="noStrike">
              <a:solidFill>
                <a:srgbClr val="f0735d"/>
              </a:solidFill>
              <a:latin typeface="Verdana"/>
            </a:endParaRPr>
          </a:p>
        </p:txBody>
      </p:sp>
      <p:pic>
        <p:nvPicPr>
          <p:cNvPr id="269" name="Содержимое 3" descr="http://www.ufabike.ru/klesch/kl4.jpg"/>
          <p:cNvPicPr/>
          <p:nvPr/>
        </p:nvPicPr>
        <p:blipFill>
          <a:blip r:embed="rId1"/>
          <a:stretch/>
        </p:blipFill>
        <p:spPr>
          <a:xfrm>
            <a:off x="428760" y="3643200"/>
            <a:ext cx="3571920" cy="2548080"/>
          </a:xfrm>
          <a:prstGeom prst="rect">
            <a:avLst/>
          </a:prstGeom>
          <a:ln w="0">
            <a:noFill/>
          </a:ln>
        </p:spPr>
      </p:pic>
      <p:sp>
        <p:nvSpPr>
          <p:cNvPr id="270" name="Прямоугольник 6"/>
          <p:cNvSpPr/>
          <p:nvPr/>
        </p:nvSpPr>
        <p:spPr>
          <a:xfrm>
            <a:off x="4214880" y="3429000"/>
            <a:ext cx="4500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Сам по себе укус клеща не опасен. Опасны инфекции которые может передать клещ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Но не каждый клещ содержит возбудителей болезн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0040" y="428760"/>
            <a:ext cx="7772400" cy="29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Самки клещей питаются около 6  суток, поглощая при этом невероятное количество крови, сытая самка становится размером с фалангу мизинца, ее покровы приобретают грязно-серый цвет с металлическим оттенком, а вес увеличивается более чем в сто раз по сравнению с весом голодной особи.</a:t>
            </a:r>
            <a:br>
              <a:rPr sz="3200"/>
            </a:br>
            <a:endParaRPr b="1" lang="en-US" sz="2000" spc="-1" strike="noStrike">
              <a:solidFill>
                <a:srgbClr val="f0735d"/>
              </a:solidFill>
              <a:latin typeface="Verdana"/>
            </a:endParaRPr>
          </a:p>
        </p:txBody>
      </p:sp>
      <p:pic>
        <p:nvPicPr>
          <p:cNvPr id="272" name="Содержимое 3" descr="http://encephalitis.ru/foto/014.jpg"/>
          <p:cNvPicPr/>
          <p:nvPr/>
        </p:nvPicPr>
        <p:blipFill>
          <a:blip r:embed="rId1"/>
          <a:stretch/>
        </p:blipFill>
        <p:spPr>
          <a:xfrm>
            <a:off x="428760" y="3000240"/>
            <a:ext cx="4786200" cy="2857680"/>
          </a:xfrm>
          <a:prstGeom prst="rect">
            <a:avLst/>
          </a:prstGeom>
          <a:ln w="0">
            <a:noFill/>
          </a:ln>
        </p:spPr>
      </p:pic>
      <p:sp>
        <p:nvSpPr>
          <p:cNvPr id="273" name="Rectangle 1"/>
          <p:cNvSpPr/>
          <p:nvPr/>
        </p:nvSpPr>
        <p:spPr>
          <a:xfrm>
            <a:off x="357120" y="5859720"/>
            <a:ext cx="8501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00000"/>
                </a:solidFill>
                <a:latin typeface="Arial"/>
                <a:ea typeface="Times New Roman"/>
              </a:rPr>
              <a:t>Сытые самки, покидая хозяина-прокормителя, ползут в поисках места для откладывания яиц (2000-3000).  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4" name="Рисунок 4" descr="сытая и голодная.jpg"/>
          <p:cNvPicPr/>
          <p:nvPr/>
        </p:nvPicPr>
        <p:blipFill>
          <a:blip r:embed="rId2"/>
          <a:stretch/>
        </p:blipFill>
        <p:spPr>
          <a:xfrm>
            <a:off x="5572080" y="3214800"/>
            <a:ext cx="296532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85880" y="499680"/>
            <a:ext cx="784368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Удобнее всего клеща удалять изогнутым пинцетом или хирургическим зажимом. </a:t>
            </a:r>
            <a:br>
              <a:rPr sz="2000"/>
            </a:b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Клеща захватывают как можно ближе к хоботку. </a:t>
            </a:r>
            <a:br>
              <a:rPr sz="2000"/>
            </a:br>
            <a:endParaRPr b="1" lang="en-US" sz="2000" spc="-1" strike="noStrike">
              <a:solidFill>
                <a:srgbClr val="f0735d"/>
              </a:solidFill>
              <a:latin typeface="Verdana"/>
            </a:endParaRPr>
          </a:p>
        </p:txBody>
      </p:sp>
      <p:pic>
        <p:nvPicPr>
          <p:cNvPr id="276" name="Содержимое 3" descr="правильный захват клеща"/>
          <p:cNvPicPr/>
          <p:nvPr/>
        </p:nvPicPr>
        <p:blipFill>
          <a:blip r:embed="rId1"/>
          <a:stretch/>
        </p:blipFill>
        <p:spPr>
          <a:xfrm>
            <a:off x="714240" y="1500120"/>
            <a:ext cx="3929040" cy="2571840"/>
          </a:xfrm>
          <a:prstGeom prst="rect">
            <a:avLst/>
          </a:prstGeom>
          <a:ln w="0">
            <a:noFill/>
          </a:ln>
        </p:spPr>
      </p:pic>
      <p:pic>
        <p:nvPicPr>
          <p:cNvPr id="277" name="Рисунок 4" descr="Неправильный захват клеща"/>
          <p:cNvPicPr/>
          <p:nvPr/>
        </p:nvPicPr>
        <p:blipFill>
          <a:blip r:embed="rId2"/>
          <a:stretch/>
        </p:blipFill>
        <p:spPr>
          <a:xfrm>
            <a:off x="5429160" y="1500120"/>
            <a:ext cx="2214720" cy="2643120"/>
          </a:xfrm>
          <a:prstGeom prst="rect">
            <a:avLst/>
          </a:prstGeom>
          <a:ln w="0">
            <a:noFill/>
          </a:ln>
        </p:spPr>
      </p:pic>
      <p:sp>
        <p:nvSpPr>
          <p:cNvPr id="278" name="Прямоугольник 5"/>
          <p:cNvSpPr/>
          <p:nvPr/>
        </p:nvSpPr>
        <p:spPr>
          <a:xfrm>
            <a:off x="714240" y="4357800"/>
            <a:ext cx="7858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Затем его аккуратно потягивают и при этом вращают вокруг своей оси в удобную сторону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Через 1-3 оборота клещ извлекается целиком вместе с хоботком. Если же клеща пытаться выдернуть, то велика вероятность разрыва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28800" y="571680"/>
            <a:ext cx="7772400" cy="19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Если нет инструментов, то можно удалить петлей из грубой нитки. Петлей клещ захватывается как можно ближе к коже и аккуратно, пошатывая в стороны вытягивается.</a:t>
            </a:r>
            <a:br>
              <a:rPr sz="3200"/>
            </a:br>
            <a:endParaRPr b="1" lang="en-US" sz="2000" spc="-1" strike="noStrike">
              <a:solidFill>
                <a:srgbClr val="f0735d"/>
              </a:solidFill>
              <a:latin typeface="Verdana"/>
            </a:endParaRPr>
          </a:p>
        </p:txBody>
      </p:sp>
      <p:pic>
        <p:nvPicPr>
          <p:cNvPr id="280" name="Содержимое 3" descr="нитка и клещ.jpg"/>
          <p:cNvPicPr/>
          <p:nvPr/>
        </p:nvPicPr>
        <p:blipFill>
          <a:blip r:embed="rId1"/>
          <a:stretch/>
        </p:blipFill>
        <p:spPr>
          <a:xfrm>
            <a:off x="1071720" y="2357280"/>
            <a:ext cx="3255840" cy="3429000"/>
          </a:xfrm>
          <a:prstGeom prst="rect">
            <a:avLst/>
          </a:prstGeom>
          <a:ln w="0">
            <a:noFill/>
          </a:ln>
        </p:spPr>
      </p:pic>
      <p:pic>
        <p:nvPicPr>
          <p:cNvPr id="281" name="Рисунок 4" descr="извлечение клеща.jpg"/>
          <p:cNvPicPr/>
          <p:nvPr/>
        </p:nvPicPr>
        <p:blipFill>
          <a:blip r:embed="rId2"/>
          <a:stretch/>
        </p:blipFill>
        <p:spPr>
          <a:xfrm>
            <a:off x="5000760" y="2357280"/>
            <a:ext cx="3071520" cy="34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285720" y="499680"/>
            <a:ext cx="5429160" cy="37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При удалении клеща не надо: 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Прикладывать к месту укуса едкие жидкости —   </a:t>
            </a:r>
            <a:br>
              <a:rPr sz="2000"/>
            </a:b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нашатырный спирт, бензин, и другие. </a:t>
            </a:r>
            <a:br>
              <a:rPr sz="2000"/>
            </a:b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   Прижигать клеща сигаретой. </a:t>
            </a:r>
            <a:br>
              <a:rPr sz="2000"/>
            </a:b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Резко дергать клеща — он оборвется. </a:t>
            </a:r>
            <a:br>
              <a:rPr sz="2000"/>
            </a:b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Ковыряться в ранке грязной иголкой. </a:t>
            </a:r>
            <a:br>
              <a:rPr sz="2000"/>
            </a:b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Прикладывать к месту укуса различные компрессы. </a:t>
            </a:r>
            <a:br>
              <a:rPr sz="2000"/>
            </a:b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Давить клеща пальцами</a:t>
            </a:r>
            <a:endParaRPr b="1" lang="en-US" sz="20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28760" y="4785840"/>
            <a:ext cx="7643520" cy="10717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Если в ранке осталась голова с хоботком, то страшного в этом ничего нет. Хоботок в ранке не страшнее занозы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4" name="Рисунок 5" descr="http://mmu2.ru/_ph/24/2/813256022.jpg"/>
          <p:cNvPicPr/>
          <p:nvPr/>
        </p:nvPicPr>
        <p:blipFill>
          <a:blip r:embed="rId1"/>
          <a:stretch/>
        </p:blipFill>
        <p:spPr>
          <a:xfrm>
            <a:off x="357120" y="714240"/>
            <a:ext cx="285768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99680" y="2214720"/>
            <a:ext cx="4643640" cy="37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f0735d"/>
                </a:solidFill>
                <a:latin typeface="Verdana"/>
              </a:rPr>
              <a:t>Клещ извлекается круговым движением (или вывинчиваем), а не вытяжением.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f0735d"/>
                </a:solidFill>
                <a:latin typeface="Verdana"/>
              </a:rPr>
              <a:t>При этом шипы хоботка свернутся к оси вращения и голова клеща не оторвется. </a:t>
            </a:r>
            <a:br>
              <a:rPr sz="1800"/>
            </a:br>
            <a:br>
              <a:rPr sz="1800"/>
            </a:br>
            <a:br>
              <a:rPr sz="1800"/>
            </a:br>
            <a:endParaRPr b="1" lang="en-US" sz="18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03280" y="530280"/>
            <a:ext cx="8183520" cy="19699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c00000"/>
                </a:solidFill>
                <a:latin typeface="Verdana"/>
              </a:rPr>
              <a:t>Головка с режущими хелицерами причленена к туловищу очень подвижно.</a:t>
            </a:r>
            <a:br>
              <a:rPr sz="1900"/>
            </a:br>
            <a:r>
              <a:rPr b="1" lang="ru-RU" sz="1900" spc="-1" strike="noStrike">
                <a:solidFill>
                  <a:srgbClr val="c00000"/>
                </a:solidFill>
                <a:latin typeface="Verdana"/>
              </a:rPr>
              <a:t>Во время питания она глубоко погружается в кожу и заякоривается там специальным подротовым выростом – гипостомом – с направленными назад зубчиками.</a:t>
            </a:r>
            <a:br>
              <a:rPr sz="1900"/>
            </a:br>
            <a:r>
              <a:rPr b="1" lang="ru-RU" sz="1900" spc="-1" strike="noStrike">
                <a:solidFill>
                  <a:srgbClr val="c00000"/>
                </a:solidFill>
                <a:latin typeface="Verdana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7" name="Содержимое 3" descr="hipostom.jpg"/>
          <p:cNvPicPr/>
          <p:nvPr/>
        </p:nvPicPr>
        <p:blipFill>
          <a:blip r:embed="rId1"/>
          <a:stretch/>
        </p:blipFill>
        <p:spPr>
          <a:xfrm>
            <a:off x="5072040" y="2357280"/>
            <a:ext cx="34322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28400" y="274680"/>
            <a:ext cx="82580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1" lang="en-US" sz="3200" spc="-1" strike="noStrike">
              <a:solidFill>
                <a:srgbClr val="f0735d"/>
              </a:solidFill>
              <a:latin typeface="Verdana"/>
            </a:endParaRPr>
          </a:p>
        </p:txBody>
      </p:sp>
      <p:pic>
        <p:nvPicPr>
          <p:cNvPr id="289" name="Содержимое 5" descr="защита от клещей.jpg"/>
          <p:cNvPicPr/>
          <p:nvPr/>
        </p:nvPicPr>
        <p:blipFill>
          <a:blip r:embed="rId1"/>
          <a:stretch/>
        </p:blipFill>
        <p:spPr>
          <a:xfrm>
            <a:off x="428760" y="1071720"/>
            <a:ext cx="5236920" cy="5786280"/>
          </a:xfrm>
          <a:prstGeom prst="rect">
            <a:avLst/>
          </a:prstGeom>
          <a:ln w="0">
            <a:noFill/>
          </a:ln>
        </p:spPr>
      </p:pic>
      <p:sp>
        <p:nvSpPr>
          <p:cNvPr id="290" name="Содержимое 2"/>
          <p:cNvSpPr/>
          <p:nvPr/>
        </p:nvSpPr>
        <p:spPr>
          <a:xfrm>
            <a:off x="1071720" y="428760"/>
            <a:ext cx="7643520" cy="60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ctr"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Verdana"/>
              </a:rPr>
              <a:t>Самый мудрый способ защит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 algn="ctr"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Verdana"/>
              </a:rPr>
              <a:t>                                 </a:t>
            </a:r>
            <a:r>
              <a:rPr b="1" lang="en-US" sz="2400" spc="-1" strike="noStrike">
                <a:solidFill>
                  <a:srgbClr val="c00000"/>
                </a:solidFill>
                <a:latin typeface="Verdana"/>
              </a:rPr>
              <a:t>- не допустить укуса</a:t>
            </a:r>
            <a:br>
              <a:rPr sz="2400"/>
            </a:br>
            <a:r>
              <a:rPr b="1" lang="en-US" sz="2400" spc="-1" strike="noStrike">
                <a:solidFill>
                  <a:srgbClr val="c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Содержимое 2"/>
          <p:cNvSpPr/>
          <p:nvPr/>
        </p:nvSpPr>
        <p:spPr>
          <a:xfrm flipV="1">
            <a:off x="0" y="6858000"/>
            <a:ext cx="914400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 marL="272880" indent="-272880"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i="1" lang="en-US" sz="20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Рисунок 3" descr="защита плакат.jpg"/>
          <p:cNvPicPr/>
          <p:nvPr/>
        </p:nvPicPr>
        <p:blipFill>
          <a:blip r:embed="rId1"/>
          <a:stretch/>
        </p:blipFill>
        <p:spPr>
          <a:xfrm>
            <a:off x="285840" y="357120"/>
            <a:ext cx="885816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3280" y="2928960"/>
            <a:ext cx="8183520" cy="31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0735d"/>
                </a:solidFill>
                <a:latin typeface="Verdana"/>
              </a:rPr>
              <a:t>       </a:t>
            </a:r>
            <a:r>
              <a:rPr b="0" lang="en-US" sz="1600" spc="-1" strike="noStrike">
                <a:solidFill>
                  <a:srgbClr val="f0735d"/>
                </a:solidFill>
                <a:latin typeface="Verdana"/>
              </a:rPr>
              <a:t>к</a:t>
            </a:r>
            <a:endParaRPr b="1" lang="en-US" sz="1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28760" y="428400"/>
            <a:ext cx="8183520" cy="2571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На территории России основными переносчиками </a:t>
            </a:r>
            <a:r>
              <a:rPr b="1" lang="ru-RU" sz="2000" spc="-1" strike="noStrike">
                <a:solidFill>
                  <a:srgbClr val="ff0000"/>
                </a:solidFill>
                <a:latin typeface="Verdana"/>
              </a:rPr>
              <a:t>клещевого энцефалита </a:t>
            </a: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являются два вида клещей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Это </a:t>
            </a:r>
            <a:r>
              <a:rPr b="1" i="1" lang="ru-RU" sz="2000" spc="-1" strike="noStrike">
                <a:solidFill>
                  <a:srgbClr val="c00000"/>
                </a:solidFill>
                <a:latin typeface="Verdana"/>
              </a:rPr>
              <a:t>таежный клещ </a:t>
            </a: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(Ixodes persulcatus) и </a:t>
            </a:r>
            <a:r>
              <a:rPr b="1" i="1" lang="ru-RU" sz="2000" spc="-1" strike="noStrike">
                <a:solidFill>
                  <a:srgbClr val="c00000"/>
                </a:solidFill>
                <a:latin typeface="Verdana"/>
              </a:rPr>
              <a:t>собачий клещ </a:t>
            </a: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(Ixodes ricinus)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Таежный клещ распространен в лесах Сибири и Дальнего Востока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Собачий клещ встречается в Европейской части России и странах Центральной и Северной Европы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5" name="Рисунок 3" descr="собачий клещ.jpg"/>
          <p:cNvPicPr/>
          <p:nvPr/>
        </p:nvPicPr>
        <p:blipFill>
          <a:blip r:embed="rId1"/>
          <a:stretch/>
        </p:blipFill>
        <p:spPr>
          <a:xfrm>
            <a:off x="571680" y="3000240"/>
            <a:ext cx="3214440" cy="3000600"/>
          </a:xfrm>
          <a:prstGeom prst="rect">
            <a:avLst/>
          </a:prstGeom>
          <a:ln w="0">
            <a:noFill/>
          </a:ln>
        </p:spPr>
      </p:pic>
      <p:pic>
        <p:nvPicPr>
          <p:cNvPr id="296" name="Рисунок 4" descr="клещ на еже.jpg"/>
          <p:cNvPicPr/>
          <p:nvPr/>
        </p:nvPicPr>
        <p:blipFill>
          <a:blip r:embed="rId2"/>
          <a:stretch/>
        </p:blipFill>
        <p:spPr>
          <a:xfrm>
            <a:off x="4714920" y="3000240"/>
            <a:ext cx="373068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42960" y="49968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Verdana"/>
              </a:rPr>
              <a:t>Акарология – наука  о клещах</a:t>
            </a:r>
            <a:endParaRPr b="1" lang="en-US" sz="32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1999800" y="1071720"/>
            <a:ext cx="4994280" cy="10713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0" bIns="46800" anchor="t">
            <a:noAutofit/>
          </a:bodyPr>
          <a:p>
            <a:pPr marL="3636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86f73"/>
                </a:solidFill>
                <a:latin typeface="Verdana"/>
              </a:rPr>
              <a:t>Тип Членистоноги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86f73"/>
                </a:solidFill>
                <a:latin typeface="Verdana"/>
              </a:rPr>
              <a:t>Класс Паукообразны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86f73"/>
                </a:solidFill>
                <a:latin typeface="Verdana"/>
              </a:rPr>
              <a:t>Отряд Клещи (</a:t>
            </a:r>
            <a:r>
              <a:rPr b="1" lang="en-US" sz="2000" spc="-1" strike="noStrike">
                <a:solidFill>
                  <a:srgbClr val="686f73"/>
                </a:solidFill>
                <a:latin typeface="Verdana"/>
              </a:rPr>
              <a:t>Acarina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686f73"/>
                </a:solidFill>
                <a:uFillTx/>
                <a:latin typeface="Verdana"/>
              </a:rPr>
              <a:t>подотряд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3" name="Схема 6" descr=""/>
          <p:cNvPicPr/>
          <p:nvPr/>
        </p:nvPicPr>
        <p:blipFill>
          <a:blip r:embed="rId1"/>
          <a:stretch/>
        </p:blipFill>
        <p:spPr>
          <a:xfrm>
            <a:off x="420840" y="2189160"/>
            <a:ext cx="8351640" cy="3956040"/>
          </a:xfrm>
          <a:prstGeom prst="rect">
            <a:avLst/>
          </a:prstGeom>
          <a:ln w="0">
            <a:noFill/>
          </a:ln>
        </p:spPr>
      </p:pic>
      <p:sp>
        <p:nvSpPr>
          <p:cNvPr id="234" name="Стрелка вниз 15"/>
          <p:cNvSpPr/>
          <p:nvPr/>
        </p:nvSpPr>
        <p:spPr>
          <a:xfrm>
            <a:off x="4500720" y="3500280"/>
            <a:ext cx="214200" cy="720720"/>
          </a:xfrm>
          <a:prstGeom prst="downArrow">
            <a:avLst>
              <a:gd name="adj1" fmla="val 50000"/>
              <a:gd name="adj2" fmla="val 50034"/>
            </a:avLst>
          </a:prstGeom>
          <a:solidFill>
            <a:srgbClr val="d16349"/>
          </a:solidFill>
          <a:ln w="4248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Стрелка вниз 16"/>
          <p:cNvSpPr/>
          <p:nvPr/>
        </p:nvSpPr>
        <p:spPr>
          <a:xfrm>
            <a:off x="8001000" y="3643200"/>
            <a:ext cx="214200" cy="720720"/>
          </a:xfrm>
          <a:prstGeom prst="downArrow">
            <a:avLst>
              <a:gd name="adj1" fmla="val 50000"/>
              <a:gd name="adj2" fmla="val 50034"/>
            </a:avLst>
          </a:prstGeom>
          <a:solidFill>
            <a:srgbClr val="d16349"/>
          </a:solidFill>
          <a:ln w="4248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Стрелка вниз 17"/>
          <p:cNvSpPr/>
          <p:nvPr/>
        </p:nvSpPr>
        <p:spPr>
          <a:xfrm>
            <a:off x="6072120" y="3571920"/>
            <a:ext cx="214560" cy="720720"/>
          </a:xfrm>
          <a:prstGeom prst="downArrow">
            <a:avLst>
              <a:gd name="adj1" fmla="val 50000"/>
              <a:gd name="adj2" fmla="val 49950"/>
            </a:avLst>
          </a:prstGeom>
          <a:solidFill>
            <a:srgbClr val="d16349"/>
          </a:solidFill>
          <a:ln w="4248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7" name="Рисунок 20" descr="клещи в чашке.jpg"/>
          <p:cNvPicPr/>
          <p:nvPr/>
        </p:nvPicPr>
        <p:blipFill>
          <a:blip r:embed="rId2"/>
          <a:stretch/>
        </p:blipFill>
        <p:spPr>
          <a:xfrm>
            <a:off x="428760" y="3643200"/>
            <a:ext cx="2643120" cy="25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28760" y="4714560"/>
            <a:ext cx="828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0735d"/>
                </a:solidFill>
                <a:latin typeface="Verdana"/>
              </a:rPr>
              <a:t>При этом вирус энцефалита содержится далеко не во всех клещах. То есть, энцефалитный клещ это не особый вид, а зараженный вирусом энцефалита клещ</a:t>
            </a:r>
            <a:endParaRPr b="1" lang="en-US" sz="20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503280" y="530280"/>
            <a:ext cx="8183520" cy="11844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И лесной, и собачий клещи переносят возбудителей многих болезней. В том числе клещевого энцефалита и боррелиоза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9" name="Рисунок 3" descr="энцефалитный клещ.jpg"/>
          <p:cNvPicPr/>
          <p:nvPr/>
        </p:nvPicPr>
        <p:blipFill>
          <a:blip r:embed="rId1"/>
          <a:stretch/>
        </p:blipFill>
        <p:spPr>
          <a:xfrm>
            <a:off x="642960" y="1643040"/>
            <a:ext cx="3809880" cy="3048120"/>
          </a:xfrm>
          <a:prstGeom prst="rect">
            <a:avLst/>
          </a:prstGeom>
          <a:ln w="0">
            <a:noFill/>
          </a:ln>
        </p:spPr>
      </p:pic>
      <p:pic>
        <p:nvPicPr>
          <p:cNvPr id="300" name="Рисунок 4" descr="клещи.jpg"/>
          <p:cNvPicPr/>
          <p:nvPr/>
        </p:nvPicPr>
        <p:blipFill>
          <a:blip r:embed="rId2"/>
          <a:stretch/>
        </p:blipFill>
        <p:spPr>
          <a:xfrm>
            <a:off x="4857840" y="1643040"/>
            <a:ext cx="378936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785880" y="928800"/>
            <a:ext cx="7772400" cy="19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Verdana"/>
              </a:rPr>
              <a:t>Клещевой боррелиоз </a:t>
            </a: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(болезнь Лайма), — инфекционная болезнь, вызываемая бактериями группы Borrelia burgdorferi. Передается только при укусе инфицированного клеща. </a:t>
            </a:r>
            <a:br>
              <a:rPr sz="3200"/>
            </a:br>
            <a:endParaRPr b="1" lang="en-US" sz="20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28760" y="2857680"/>
            <a:ext cx="4357440" cy="3000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Verdana"/>
              </a:rPr>
              <a:t>Боррелиоз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может принимать хроническое течение, проявляясь поражением суставов, кожи, сердца, нервной системы. Но, на ранних стадиях, он хорошо лечится антибиотиками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3" name="Рисунок 3" descr="борреолез.jpg"/>
          <p:cNvPicPr/>
          <p:nvPr/>
        </p:nvPicPr>
        <p:blipFill>
          <a:blip r:embed="rId1"/>
          <a:stretch/>
        </p:blipFill>
        <p:spPr>
          <a:xfrm>
            <a:off x="5072040" y="2610000"/>
            <a:ext cx="3500640" cy="37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37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Чесотка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далеко не «простая» болезнь, хотя чесоточный клещ, который ее вызывает, известен еще с XII столетия. </a:t>
            </a:r>
            <a:br>
              <a:rPr sz="2000"/>
            </a:b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Этот самый чесоточный клещ (еще его называют зуднем) чрезвычайно плодовит, из-за чего болезнь очень быстро распространяется по всему телу, а чесотка является заразной болезнью кожи. Человек заражается ею при непосредственном контакте с больным, а также при пользовании его одеждой, полотенцем, игрушками и другими предметами</a:t>
            </a:r>
            <a:endParaRPr b="1" lang="en-US" sz="2000" spc="-1" strike="noStrike">
              <a:solidFill>
                <a:srgbClr val="f0735d"/>
              </a:solidFill>
              <a:latin typeface="Verdana"/>
            </a:endParaRPr>
          </a:p>
        </p:txBody>
      </p:sp>
      <p:pic>
        <p:nvPicPr>
          <p:cNvPr id="305" name="Содержимое 3" descr="http://www.dermatolog4you.ru/images/rmj/scabies_1.jpg"/>
          <p:cNvPicPr/>
          <p:nvPr/>
        </p:nvPicPr>
        <p:blipFill>
          <a:blip r:embed="rId1"/>
          <a:stretch/>
        </p:blipFill>
        <p:spPr>
          <a:xfrm>
            <a:off x="1214280" y="4286160"/>
            <a:ext cx="2352960" cy="1762200"/>
          </a:xfrm>
          <a:prstGeom prst="rect">
            <a:avLst/>
          </a:prstGeom>
          <a:ln w="0">
            <a:noFill/>
          </a:ln>
        </p:spPr>
      </p:pic>
      <p:pic>
        <p:nvPicPr>
          <p:cNvPr id="306" name="Рисунок 4" descr="http://www.lenina100.ru/images/chesotka2_big.jpg"/>
          <p:cNvPicPr/>
          <p:nvPr/>
        </p:nvPicPr>
        <p:blipFill>
          <a:blip r:embed="rId2"/>
          <a:stretch/>
        </p:blipFill>
        <p:spPr>
          <a:xfrm>
            <a:off x="4643280" y="4286160"/>
            <a:ext cx="233388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28800" y="428760"/>
            <a:ext cx="7772400" cy="27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Заражение чесоткой в 95% происходит при передаче клеща от больного человека здоровому.  </a:t>
            </a:r>
            <a:r>
              <a:rPr b="1" i="1" lang="en-US" sz="2000" spc="-1" strike="noStrike">
                <a:solidFill>
                  <a:srgbClr val="c00000"/>
                </a:solidFill>
                <a:latin typeface="Verdana"/>
              </a:rPr>
              <a:t>Достаточная редкость непрямого пути заражения объясняется довольно слабой жизнестойкостью клеща во внешней среде.</a:t>
            </a:r>
            <a:br>
              <a:rPr sz="2000"/>
            </a:b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 Чаще возбудитель передается при общем пользовании постельными принадлежностями, мочалками, игрушками, письменными принадлежностями. </a:t>
            </a:r>
            <a:endParaRPr b="1" lang="en-US" sz="2000" spc="-1" strike="noStrike">
              <a:solidFill>
                <a:srgbClr val="f0735d"/>
              </a:solidFill>
              <a:latin typeface="Verdana"/>
            </a:endParaRPr>
          </a:p>
        </p:txBody>
      </p:sp>
      <p:pic>
        <p:nvPicPr>
          <p:cNvPr id="308" name="Содержимое 3" descr="http://www.rmj.ru/data/articles/Image/t11/n17/p9903.jpg"/>
          <p:cNvPicPr/>
          <p:nvPr/>
        </p:nvPicPr>
        <p:blipFill>
          <a:blip r:embed="rId1"/>
          <a:stretch/>
        </p:blipFill>
        <p:spPr>
          <a:xfrm>
            <a:off x="857160" y="3286080"/>
            <a:ext cx="3357720" cy="2714760"/>
          </a:xfrm>
          <a:prstGeom prst="rect">
            <a:avLst/>
          </a:prstGeom>
          <a:ln w="0">
            <a:noFill/>
          </a:ln>
        </p:spPr>
      </p:pic>
      <p:pic>
        <p:nvPicPr>
          <p:cNvPr id="309" name="Рисунок 4" descr="http://www.rmj.ru/data/articles/Image/t11/n17/p9902.jpg"/>
          <p:cNvPicPr/>
          <p:nvPr/>
        </p:nvPicPr>
        <p:blipFill>
          <a:blip r:embed="rId2"/>
          <a:stretch/>
        </p:blipFill>
        <p:spPr>
          <a:xfrm>
            <a:off x="4929120" y="3286080"/>
            <a:ext cx="350064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4720" y="2000160"/>
            <a:ext cx="8183520" cy="40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Verdana"/>
              </a:rPr>
              <a:t>Признаки заболевания демодекозом: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Verdana"/>
              </a:rPr>
              <a:t>зуд, покраснение кожи, прыщи, угри, ссыпь, увеличение размера носа или других участков в случае поражения, бугристая кожа, повышенная жирности лица, расширение пор, преждевременное выпадение волос.</a:t>
            </a:r>
            <a:br>
              <a:rPr sz="1600"/>
            </a:br>
            <a:endParaRPr b="1" lang="en-US" sz="1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03280" y="529920"/>
            <a:ext cx="8183520" cy="17557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0000"/>
                </a:solidFill>
                <a:latin typeface="Verdana"/>
              </a:rPr>
              <a:t>Демодекс (</a:t>
            </a:r>
            <a:r>
              <a:rPr b="1" lang="ru-RU" sz="1500" spc="-1" strike="noStrike">
                <a:solidFill>
                  <a:srgbClr val="c00000"/>
                </a:solidFill>
                <a:latin typeface="Verdana"/>
              </a:rPr>
              <a:t>Demodex folliculorum) – микроскопический паразитический подкожный клещ, вызывающий заболевание </a:t>
            </a:r>
            <a:r>
              <a:rPr b="1" i="1" lang="ru-RU" sz="1500" spc="-1" strike="noStrike">
                <a:solidFill>
                  <a:srgbClr val="c00000"/>
                </a:solidFill>
                <a:latin typeface="Verdana"/>
              </a:rPr>
              <a:t>демодекоз</a:t>
            </a:r>
            <a:r>
              <a:rPr b="1" lang="ru-RU" sz="1500" spc="-1" strike="noStrike">
                <a:solidFill>
                  <a:srgbClr val="c00000"/>
                </a:solidFill>
                <a:latin typeface="Verdana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c00000"/>
                </a:solidFill>
                <a:latin typeface="Verdana"/>
              </a:rPr>
              <a:t>Клещ имеет продолговатое прозрачно тело, длиной 0.1-0.4мм. Обитает демодекс в сальных железах и волосяных фолликулах и питается их содержимым. </a:t>
            </a:r>
            <a:br>
              <a:rPr sz="1500"/>
            </a:br>
            <a:r>
              <a:rPr b="1" lang="ru-RU" sz="1500" spc="-1" strike="noStrike">
                <a:solidFill>
                  <a:srgbClr val="c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2" name="Рисунок 3" descr="http://upload.wikimedia.org/wikipedia/commons/thumb/0/03/Demodex_mite_1.JPG/783px-Demodex_mite_1.JPG"/>
          <p:cNvPicPr/>
          <p:nvPr/>
        </p:nvPicPr>
        <p:blipFill>
          <a:blip r:embed="rId1"/>
          <a:stretch/>
        </p:blipFill>
        <p:spPr>
          <a:xfrm>
            <a:off x="5214960" y="1857240"/>
            <a:ext cx="2714760" cy="2714760"/>
          </a:xfrm>
          <a:prstGeom prst="rect">
            <a:avLst/>
          </a:prstGeom>
          <a:ln w="0">
            <a:noFill/>
          </a:ln>
        </p:spPr>
      </p:pic>
      <p:pic>
        <p:nvPicPr>
          <p:cNvPr id="313" name="Рисунок 4" descr="демодекоз.jpg"/>
          <p:cNvPicPr/>
          <p:nvPr/>
        </p:nvPicPr>
        <p:blipFill>
          <a:blip r:embed="rId2"/>
          <a:stretch/>
        </p:blipFill>
        <p:spPr>
          <a:xfrm>
            <a:off x="857160" y="1928880"/>
            <a:ext cx="32148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0040" y="2857680"/>
            <a:ext cx="8183520" cy="31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         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микроскопические пылевые клещи.</a:t>
            </a:r>
            <a:endParaRPr b="1" lang="en-US" sz="20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503280" y="5299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Домашняя пыль </a:t>
            </a:r>
            <a:r>
              <a:rPr b="1" lang="en-US" sz="1800" spc="-1" strike="noStrike">
                <a:solidFill>
                  <a:srgbClr val="c00000"/>
                </a:solidFill>
                <a:latin typeface="Verdana"/>
              </a:rPr>
              <a:t>может содержать шерсть и перхоть домашних животных, фрагменты перьев, частицы насекомых, волос и кожи человека, споры плесневых грибов, нейлон, стекловолокно, песок, частицы тканей и бумаги, мельчайшие фрагменты материалов, из которых сделаны стены, мебель и предметы обихода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Но основную — до 80% — и наиболее вредоносную часть домашней пыли составляю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6" name="Рисунок 3" descr="http://www.roboclean.org.ua/images/mites_image004.jpg"/>
          <p:cNvPicPr/>
          <p:nvPr/>
        </p:nvPicPr>
        <p:blipFill>
          <a:blip r:embed="rId1"/>
          <a:stretch/>
        </p:blipFill>
        <p:spPr>
          <a:xfrm>
            <a:off x="2286000" y="2857680"/>
            <a:ext cx="350028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00000"/>
                </a:solidFill>
                <a:latin typeface="Verdana"/>
              </a:rPr>
              <a:t>Мелкие фрагменты клещей (от 10 до 40 микрон) и продукты их жизнедеятельности обладают исключительной способностью вызывать аллергию. </a:t>
            </a:r>
            <a:br>
              <a:rPr sz="2200"/>
            </a:br>
            <a:endParaRPr b="1" lang="en-US" sz="22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914400" y="1785600"/>
            <a:ext cx="7772400" cy="42339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 грамм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домашней пыли содержит: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от 2000 до 15000 клещей;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9" name="Рисунок 4" descr="пылевые клещи.jpg"/>
          <p:cNvPicPr/>
          <p:nvPr/>
        </p:nvPicPr>
        <p:blipFill>
          <a:blip r:embed="rId1"/>
          <a:stretch/>
        </p:blipFill>
        <p:spPr>
          <a:xfrm>
            <a:off x="2000160" y="2857680"/>
            <a:ext cx="4343400" cy="32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0735d"/>
                </a:solidFill>
                <a:latin typeface="Verdana"/>
              </a:rPr>
              <a:t>Спасибо</a:t>
            </a:r>
            <a:br>
              <a:rPr sz="6600"/>
            </a:br>
            <a:r>
              <a:rPr b="1" lang="en-US" sz="6600" spc="-1" strike="noStrike">
                <a:solidFill>
                  <a:srgbClr val="f0735d"/>
                </a:solidFill>
                <a:latin typeface="Verdana"/>
              </a:rPr>
              <a:t> за внимание!</a:t>
            </a:r>
            <a:endParaRPr b="1" lang="en-US" sz="6600" spc="-1" strike="noStrike">
              <a:solidFill>
                <a:srgbClr val="f0735d"/>
              </a:solidFill>
              <a:latin typeface="Verdana"/>
            </a:endParaRPr>
          </a:p>
        </p:txBody>
      </p:sp>
      <p:pic>
        <p:nvPicPr>
          <p:cNvPr id="321" name="Содержимое 3" descr="осторожно клещи.jpg"/>
          <p:cNvPicPr/>
          <p:nvPr/>
        </p:nvPicPr>
        <p:blipFill>
          <a:blip r:embed="rId1"/>
          <a:stretch/>
        </p:blipFill>
        <p:spPr>
          <a:xfrm>
            <a:off x="500040" y="428760"/>
            <a:ext cx="3500640" cy="2692440"/>
          </a:xfrm>
          <a:prstGeom prst="rect">
            <a:avLst/>
          </a:prstGeom>
          <a:ln w="0">
            <a:noFill/>
          </a:ln>
        </p:spPr>
      </p:pic>
      <p:pic>
        <p:nvPicPr>
          <p:cNvPr id="322" name="Рисунок 4" descr="паутинный клещ.jpg"/>
          <p:cNvPicPr/>
          <p:nvPr/>
        </p:nvPicPr>
        <p:blipFill>
          <a:blip r:embed="rId2"/>
          <a:stretch/>
        </p:blipFill>
        <p:spPr>
          <a:xfrm>
            <a:off x="3714840" y="1000080"/>
            <a:ext cx="2539800" cy="2413080"/>
          </a:xfrm>
          <a:prstGeom prst="rect">
            <a:avLst/>
          </a:prstGeom>
          <a:ln w="0">
            <a:noFill/>
          </a:ln>
        </p:spPr>
      </p:pic>
      <p:pic>
        <p:nvPicPr>
          <p:cNvPr id="323" name="Рисунок 5" descr="пчелиный клещ.jpeg"/>
          <p:cNvPicPr/>
          <p:nvPr/>
        </p:nvPicPr>
        <p:blipFill>
          <a:blip r:embed="rId3"/>
          <a:stretch/>
        </p:blipFill>
        <p:spPr>
          <a:xfrm>
            <a:off x="6143760" y="2214720"/>
            <a:ext cx="2382840" cy="20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3280" y="1928880"/>
            <a:ext cx="8183520" cy="32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А) Паук – крестовик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Б) Скорпион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В) Таежный клещ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Г) Каракурт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Д)Чесоточный зудень</a:t>
            </a:r>
            <a:endParaRPr b="1" lang="en-US" sz="32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503280" y="529920"/>
            <a:ext cx="8183520" cy="13986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Verdana"/>
              </a:rPr>
              <a:t>1.Кто из паукообразных переносит возбудителя  энцефали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03280" y="1999800"/>
            <a:ext cx="8183520" cy="30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А) Е. Н. Павловский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Б) И.П. Павлов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В) Н.И. Вавилов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Г) К.И. Скрябин</a:t>
            </a:r>
            <a:br>
              <a:rPr sz="3200"/>
            </a:br>
            <a:br>
              <a:rPr sz="3200"/>
            </a:br>
            <a:endParaRPr b="1" lang="en-US" sz="32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503280" y="529920"/>
            <a:ext cx="8183520" cy="16844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Verdana"/>
              </a:rPr>
              <a:t>2. Кто выяснил роль клещей в переносе энцефалита от диких животных человеку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43280" y="2999880"/>
            <a:ext cx="4057920" cy="36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357120" y="571320"/>
            <a:ext cx="8158320" cy="29286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Клещи – отряд мелких паукообразных (от 0,1 до 30 мм), объединяющий около 20 тысяч вид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Тело состоит из головки слитой с телом и брюшка (туловище цельное)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Обычно имеется 6 пар конечностей, из которых 4 задних пары у большинства взрослых особей – ноги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Последний членик ног обычно вооружен коготками и стебельчатыми присосками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.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0" name="Рисунок 5" descr="саец исамка.jpg"/>
          <p:cNvPicPr/>
          <p:nvPr/>
        </p:nvPicPr>
        <p:blipFill>
          <a:blip r:embed="rId1"/>
          <a:stretch/>
        </p:blipFill>
        <p:spPr>
          <a:xfrm>
            <a:off x="642960" y="3500280"/>
            <a:ext cx="3738600" cy="3000600"/>
          </a:xfrm>
          <a:prstGeom prst="rect">
            <a:avLst/>
          </a:prstGeom>
          <a:ln w="0">
            <a:noFill/>
          </a:ln>
        </p:spPr>
      </p:pic>
      <p:pic>
        <p:nvPicPr>
          <p:cNvPr id="241" name="Рисунок 7" descr="строение.jpg"/>
          <p:cNvPicPr/>
          <p:nvPr/>
        </p:nvPicPr>
        <p:blipFill>
          <a:blip r:embed="rId2"/>
          <a:stretch/>
        </p:blipFill>
        <p:spPr>
          <a:xfrm>
            <a:off x="4643280" y="3500280"/>
            <a:ext cx="4071960" cy="31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03280" y="1856880"/>
            <a:ext cx="81835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А) При употреблении в пищу мяса больных животных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Б) При употреблении в пищу зараженной рыбы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В)При употреблении в пищу плохо вымытых овощей и фруктов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Г)Через укус клеща</a:t>
            </a:r>
            <a:endParaRPr b="1" lang="en-US" sz="28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503280" y="529920"/>
            <a:ext cx="8183520" cy="11127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Verdana"/>
              </a:rPr>
              <a:t>3.Как происходит заражение человека энцефалитом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3280" y="2643120"/>
            <a:ext cx="8183520" cy="29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А) Хищники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Б) Эктопаразиты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В) связаны с хозяином только во время питания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Г) постоянно обитают на поверхности тела хозяина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Д)кишечник имеет несколько пар слепо замкнутых ответвлений</a:t>
            </a:r>
            <a:endParaRPr b="1" lang="en-US" sz="24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500040" y="1000080"/>
            <a:ext cx="8183520" cy="15717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Verdana"/>
              </a:rPr>
              <a:t>4.Особенности питания и пищеварительной системы таежного и собачьего клещей </a:t>
            </a:r>
            <a:r>
              <a:rPr b="0" i="1" lang="en-US" sz="2000" spc="-1" strike="noStrike">
                <a:solidFill>
                  <a:srgbClr val="c00000"/>
                </a:solidFill>
                <a:latin typeface="Verdana"/>
              </a:rPr>
              <a:t>(выбрать несколько ответов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28760" y="1856880"/>
            <a:ext cx="8183520" cy="30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А) При контакте с больным человеком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Б)При употреблении в пищу зараженной рыбы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В)При употреблении в пищу плохо вымытых овощей и фруктов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Г)При употреблении в пищу мяса больных животных</a:t>
            </a:r>
            <a:endParaRPr b="1" lang="en-US" sz="24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503280" y="530280"/>
            <a:ext cx="8183520" cy="11844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Verdana"/>
              </a:rPr>
              <a:t>5.Как происходит заражение человека чесоточным зуднем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114264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2400" spc="-1" strike="noStrike">
                <a:solidFill>
                  <a:srgbClr val="c00000"/>
                </a:solidFill>
                <a:latin typeface="Verdana"/>
              </a:rPr>
              <a:t>6.Особенности образа жизни чесоточного зудня (</a:t>
            </a:r>
            <a:r>
              <a:rPr b="0" i="1" lang="en-US" sz="2400" spc="-1" strike="noStrike">
                <a:solidFill>
                  <a:srgbClr val="c00000"/>
                </a:solidFill>
                <a:latin typeface="Verdana"/>
              </a:rPr>
              <a:t>выбрать несколько ответов</a:t>
            </a:r>
            <a:r>
              <a:rPr b="1" lang="en-US" sz="2400" spc="-1" strike="noStrike">
                <a:solidFill>
                  <a:srgbClr val="c00000"/>
                </a:solidFill>
                <a:latin typeface="Verdana"/>
              </a:rPr>
              <a:t>)</a:t>
            </a:r>
            <a:br>
              <a:rPr sz="2400"/>
            </a:br>
            <a:endParaRPr b="1" lang="en-US" sz="24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500040" y="2500200"/>
            <a:ext cx="8183520" cy="3432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А)Эктопаразит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Б) Внутрикожный паразит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В)Прогрызает в коже хозяина ходы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Г) Постоянно обитает на поверхности кожи хозяин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Д)Откладывает яйца в ходах кожи хозяин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28760" y="1714320"/>
            <a:ext cx="8183520" cy="37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0735d"/>
                </a:solidFill>
                <a:latin typeface="Verdana"/>
              </a:rPr>
              <a:t>1.В </a:t>
            </a:r>
            <a:br>
              <a:rPr sz="3600"/>
            </a:br>
            <a:r>
              <a:rPr b="1" lang="en-US" sz="3600" spc="-1" strike="noStrike">
                <a:solidFill>
                  <a:srgbClr val="f0735d"/>
                </a:solidFill>
                <a:latin typeface="Verdana"/>
              </a:rPr>
              <a:t>2.А</a:t>
            </a:r>
            <a:br>
              <a:rPr sz="3600"/>
            </a:br>
            <a:r>
              <a:rPr b="1" lang="en-US" sz="3600" spc="-1" strike="noStrike">
                <a:solidFill>
                  <a:srgbClr val="f0735d"/>
                </a:solidFill>
                <a:latin typeface="Verdana"/>
              </a:rPr>
              <a:t>3.Г</a:t>
            </a:r>
            <a:br>
              <a:rPr sz="3600"/>
            </a:br>
            <a:r>
              <a:rPr b="1" lang="en-US" sz="3600" spc="-1" strike="noStrike">
                <a:solidFill>
                  <a:srgbClr val="f0735d"/>
                </a:solidFill>
                <a:latin typeface="Verdana"/>
              </a:rPr>
              <a:t>4.БВД</a:t>
            </a:r>
            <a:br>
              <a:rPr sz="3600"/>
            </a:br>
            <a:r>
              <a:rPr b="1" lang="en-US" sz="3600" spc="-1" strike="noStrike">
                <a:solidFill>
                  <a:srgbClr val="f0735d"/>
                </a:solidFill>
                <a:latin typeface="Verdana"/>
              </a:rPr>
              <a:t>5.А</a:t>
            </a:r>
            <a:br>
              <a:rPr sz="3600"/>
            </a:br>
            <a:r>
              <a:rPr b="1" lang="en-US" sz="3600" spc="-1" strike="noStrike">
                <a:solidFill>
                  <a:srgbClr val="f0735d"/>
                </a:solidFill>
                <a:latin typeface="Verdana"/>
              </a:rPr>
              <a:t>6.БВД</a:t>
            </a: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503280" y="530280"/>
            <a:ext cx="8183520" cy="8985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Verdana"/>
              </a:rPr>
              <a:t>Правильные отве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3280" y="3142800"/>
            <a:ext cx="8183520" cy="28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0735d"/>
                </a:solidFill>
                <a:latin typeface="Verdana"/>
              </a:rPr>
              <a:t>                         </a:t>
            </a: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503280" y="530280"/>
            <a:ext cx="8183520" cy="2612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Две передние пары срастаются и образуют колюще-режущий ротовой аппарат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Обычно имеется 4 простых глазк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У представителей некоторых семейств тело мягкое, с кожистыми хитиновыми покровами, у других оно защищено твердыми щитками или панцирем. У самцов он прикрывает все тело, у самок треть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4" name="Рисунок 3" descr="пыль клещ.jpg"/>
          <p:cNvPicPr/>
          <p:nvPr/>
        </p:nvPicPr>
        <p:blipFill>
          <a:blip r:embed="rId1"/>
          <a:stretch/>
        </p:blipFill>
        <p:spPr>
          <a:xfrm>
            <a:off x="928800" y="3143160"/>
            <a:ext cx="3571920" cy="2975040"/>
          </a:xfrm>
          <a:prstGeom prst="rect">
            <a:avLst/>
          </a:prstGeom>
          <a:ln w="0">
            <a:noFill/>
          </a:ln>
        </p:spPr>
      </p:pic>
      <p:pic>
        <p:nvPicPr>
          <p:cNvPr id="245" name="Рисунок 4" descr="внешн клеща.jpg"/>
          <p:cNvPicPr/>
          <p:nvPr/>
        </p:nvPicPr>
        <p:blipFill>
          <a:blip r:embed="rId2"/>
          <a:stretch/>
        </p:blipFill>
        <p:spPr>
          <a:xfrm>
            <a:off x="4857840" y="3214800"/>
            <a:ext cx="364320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Большинство видов – свободноживущие сапрофаги или хищники. Питаясь разлагающейся органикой, они, подобно земляным червям, играют важную роль в образовании почвенного гумуса. </a:t>
            </a:r>
            <a:endParaRPr b="1" lang="en-US" sz="20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71680" y="4715280"/>
            <a:ext cx="4929120" cy="1428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Некоторые клещи питаются соком культурных растений и относятся к  вредителям сельского хозяйства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8" name="Рисунок 6" descr="растительный клещ.jpg"/>
          <p:cNvPicPr/>
          <p:nvPr/>
        </p:nvPicPr>
        <p:blipFill>
          <a:blip r:embed="rId1"/>
          <a:stretch/>
        </p:blipFill>
        <p:spPr>
          <a:xfrm>
            <a:off x="5346720" y="4000680"/>
            <a:ext cx="3463920" cy="2143080"/>
          </a:xfrm>
          <a:prstGeom prst="rect">
            <a:avLst/>
          </a:prstGeom>
          <a:ln w="0">
            <a:noFill/>
          </a:ln>
        </p:spPr>
      </p:pic>
      <p:pic>
        <p:nvPicPr>
          <p:cNvPr id="249" name="Содержимое 4" descr="разные клещи.jpg"/>
          <p:cNvPicPr/>
          <p:nvPr/>
        </p:nvPicPr>
        <p:blipFill>
          <a:blip r:embed="rId2"/>
          <a:stretch/>
        </p:blipFill>
        <p:spPr>
          <a:xfrm>
            <a:off x="1785960" y="2500200"/>
            <a:ext cx="4857840" cy="21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2920" y="428400"/>
            <a:ext cx="8211960" cy="27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0735d"/>
                </a:solidFill>
                <a:latin typeface="Verdana"/>
              </a:rPr>
              <a:t>На людей и животных нападают клещи, входящие в семейства: гамазовые клещи, клещи-краснотелки аргасовые клещи, иксодовые клещи.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Большинство паразитических клещей эффективно переносят возбудителей инфекционных болезней человека и животных. Спектр переносимых болезней зависит от местности и вида клеща. </a:t>
            </a:r>
            <a:endParaRPr b="1" lang="en-US" sz="20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51" name="Rectangle 1"/>
          <p:cNvSpPr/>
          <p:nvPr/>
        </p:nvSpPr>
        <p:spPr>
          <a:xfrm>
            <a:off x="714240" y="4150440"/>
            <a:ext cx="3786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Arial"/>
                <a:ea typeface="Times New Roman"/>
              </a:rPr>
              <a:t>В России наибольшее значение в качестве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Arial"/>
                <a:ea typeface="Times New Roman"/>
              </a:rPr>
              <a:t>переносчиков инфекционных болезней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Arial"/>
                <a:ea typeface="Times New Roman"/>
              </a:rPr>
              <a:t>имеют клещи семейства Ixodida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2" name="Рисунок 5" descr="лесной клещ.jpg"/>
          <p:cNvPicPr/>
          <p:nvPr/>
        </p:nvPicPr>
        <p:blipFill>
          <a:blip r:embed="rId1"/>
          <a:stretch/>
        </p:blipFill>
        <p:spPr>
          <a:xfrm>
            <a:off x="4714920" y="3214800"/>
            <a:ext cx="400032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56800" y="499680"/>
            <a:ext cx="782964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       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Размножение паразитических клещей</a:t>
            </a:r>
            <a:endParaRPr b="1" lang="en-US" sz="24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856800" y="3857760"/>
            <a:ext cx="7829640" cy="21621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c00000"/>
                </a:solidFill>
                <a:latin typeface="Verdana"/>
              </a:rPr>
              <a:t>Клещи проходят несколько стадий развития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i="1" lang="en-US" sz="1600" spc="-1" strike="noStrike">
                <a:solidFill>
                  <a:srgbClr val="c00000"/>
                </a:solidFill>
                <a:latin typeface="Verdana"/>
              </a:rPr>
              <a:t>яйцо → личинка → нимфа → взрослый клещ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c00000"/>
                </a:solidFill>
                <a:latin typeface="Verdana"/>
              </a:rPr>
              <a:t>На всех стадиях развития  паразитические клещи питаются только кровью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i="1" lang="en-US" sz="1600" spc="-1" strike="noStrike">
                <a:solidFill>
                  <a:srgbClr val="c00000"/>
                </a:solidFill>
                <a:latin typeface="Verdana"/>
              </a:rPr>
              <a:t>Едят клещи много, но не часто. На каждой стадии развития один раз. (Взрослые самцы клещей питаются несколько раз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i="1" lang="en-US" sz="1600" spc="-1" strike="noStrike">
                <a:solidFill>
                  <a:srgbClr val="c00000"/>
                </a:solidFill>
                <a:latin typeface="Verdana"/>
              </a:rPr>
              <a:t>Для человека опасны только взрослые самки и самцы, в то время как личинки и нимфы угрозы не представляют.   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5" name="Рисунок 3" descr="http://www.ufabike.ru/klesch/etap.jpg"/>
          <p:cNvPicPr/>
          <p:nvPr/>
        </p:nvPicPr>
        <p:blipFill>
          <a:blip r:embed="rId1"/>
          <a:stretch/>
        </p:blipFill>
        <p:spPr>
          <a:xfrm>
            <a:off x="1285920" y="1071720"/>
            <a:ext cx="6572160" cy="27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1320" y="642600"/>
            <a:ext cx="8143560" cy="278604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Verdana"/>
              </a:rPr>
              <a:t>Чаще всего клещей подхватывают в лесу и на дачных участках. «Помочь» в этом могут животные, особенно собаки, и даже цветочные букеты.</a:t>
            </a:r>
            <a:br>
              <a:rPr sz="1600"/>
            </a:br>
            <a:r>
              <a:rPr b="1" lang="en-US" sz="1600" spc="-1" strike="noStrike">
                <a:solidFill>
                  <a:srgbClr val="c00000"/>
                </a:solidFill>
                <a:latin typeface="Verdana"/>
              </a:rPr>
              <a:t>Клещи поджидают сидя на земле, траве или кустах. Личинки клещей не поднимаются выше 30 сантиметров, нимфы – не выше 1 метра, а взрослые клещи – 1.5 метра. Они реагируют на тепло и запах. </a:t>
            </a:r>
            <a:br>
              <a:rPr sz="1600"/>
            </a:br>
            <a:r>
              <a:rPr b="1" lang="en-US" sz="1600" spc="-1" strike="noStrike">
                <a:solidFill>
                  <a:srgbClr val="c00000"/>
                </a:solidFill>
                <a:latin typeface="Verdana"/>
              </a:rPr>
              <a:t>Клещи не прыгают, не летают и не падают на своих жертв с деревьев. Для того, чтобы клещ попал на тело, надо пройти в непосредственной близости от него.</a:t>
            </a:r>
            <a:br>
              <a:rPr sz="1800"/>
            </a:br>
            <a:endParaRPr b="1" lang="en-US" sz="1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68360" y="3571920"/>
            <a:ext cx="8183520" cy="2473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e432e"/>
              </a:solidFill>
              <a:latin typeface="Verdana"/>
            </a:endParaRPr>
          </a:p>
        </p:txBody>
      </p:sp>
      <p:pic>
        <p:nvPicPr>
          <p:cNvPr id="258" name="photoimg" descr="Паразиты любят тень и приятную прохладу."/>
          <p:cNvPicPr/>
          <p:nvPr/>
        </p:nvPicPr>
        <p:blipFill>
          <a:blip r:embed="rId1"/>
          <a:stretch/>
        </p:blipFill>
        <p:spPr>
          <a:xfrm>
            <a:off x="500040" y="3643200"/>
            <a:ext cx="3571920" cy="2857680"/>
          </a:xfrm>
          <a:prstGeom prst="rect">
            <a:avLst/>
          </a:prstGeom>
          <a:ln w="0">
            <a:noFill/>
          </a:ln>
        </p:spPr>
      </p:pic>
      <p:pic>
        <p:nvPicPr>
          <p:cNvPr id="259" name="Рисунок 6" descr="http://www.uralweb.ru/p/257196/Image/kle02.jpg"/>
          <p:cNvPicPr/>
          <p:nvPr/>
        </p:nvPicPr>
        <p:blipFill>
          <a:blip r:embed="rId2"/>
          <a:stretch/>
        </p:blipFill>
        <p:spPr>
          <a:xfrm>
            <a:off x="4214880" y="3643200"/>
            <a:ext cx="450036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42960" y="571320"/>
            <a:ext cx="7826400" cy="378612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Клещ не торопится, он долго и обстоятельно ищет место укуса. Поэтому можно успеть снять клеща, до того как он укусит.</a:t>
            </a:r>
            <a:br>
              <a:rPr sz="2000"/>
            </a:b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 У человека чаще всего клещи присасываются на шее, груди, в подмышечных впадинах, паховых складках. На эти места надо обращать особое внимание при осмотрах. </a:t>
            </a:r>
            <a:r>
              <a:rPr b="1" lang="en-US" sz="3200" spc="-1" strike="noStrike">
                <a:solidFill>
                  <a:srgbClr val="c00000"/>
                </a:solidFill>
                <a:latin typeface="Verdana"/>
              </a:rPr>
              <a:t>          </a:t>
            </a:r>
            <a:r>
              <a:rPr b="1" lang="en-US" sz="3200" spc="-1" strike="noStrike">
                <a:solidFill>
                  <a:srgbClr val="686f73"/>
                </a:solidFill>
                <a:latin typeface="Verdana"/>
              </a:rPr>
              <a:t>                 </a:t>
            </a:r>
            <a:br>
              <a:rPr sz="3200"/>
            </a:br>
            <a:r>
              <a:rPr b="1" lang="en-US" sz="3200" spc="-1" strike="noStrike">
                <a:solidFill>
                  <a:srgbClr val="c00000"/>
                </a:solidFill>
                <a:latin typeface="Verdana"/>
              </a:rPr>
              <a:t>      </a:t>
            </a:r>
            <a:r>
              <a:rPr b="1" lang="en-US" sz="3200" spc="-1" strike="noStrike">
                <a:solidFill>
                  <a:srgbClr val="686f73"/>
                </a:solidFill>
                <a:latin typeface="Verdana"/>
              </a:rPr>
              <a:t>                 </a:t>
            </a:r>
            <a:br>
              <a:rPr sz="3200"/>
            </a:br>
            <a:endParaRPr b="1" lang="en-US" sz="32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68360" y="3428640"/>
            <a:ext cx="8183520" cy="26161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e432e"/>
              </a:solidFill>
              <a:latin typeface="Verdana"/>
            </a:endParaRPr>
          </a:p>
        </p:txBody>
      </p:sp>
      <p:pic>
        <p:nvPicPr>
          <p:cNvPr id="262" name="Рисунок 3" descr="клещ у собаки.jpg"/>
          <p:cNvPicPr/>
          <p:nvPr/>
        </p:nvPicPr>
        <p:blipFill>
          <a:blip r:embed="rId1"/>
          <a:stretch/>
        </p:blipFill>
        <p:spPr>
          <a:xfrm>
            <a:off x="571680" y="3429000"/>
            <a:ext cx="3555720" cy="2857680"/>
          </a:xfrm>
          <a:prstGeom prst="rect">
            <a:avLst/>
          </a:prstGeom>
          <a:ln w="0">
            <a:noFill/>
          </a:ln>
        </p:spPr>
      </p:pic>
      <p:pic>
        <p:nvPicPr>
          <p:cNvPr id="263" name="Рисунок 4" descr="внешн клеща.jpg"/>
          <p:cNvPicPr/>
          <p:nvPr/>
        </p:nvPicPr>
        <p:blipFill>
          <a:blip r:embed="rId2"/>
          <a:stretch/>
        </p:blipFill>
        <p:spPr>
          <a:xfrm>
            <a:off x="4500720" y="3429000"/>
            <a:ext cx="394164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4T17:47:27Z</dcterms:created>
  <dc:creator>Владелец</dc:creator>
  <dc:description/>
  <dc:language>en-US</dc:language>
  <cp:lastModifiedBy>Василий</cp:lastModifiedBy>
  <dcterms:modified xsi:type="dcterms:W3CDTF">2012-10-18T15:40:12Z</dcterms:modified>
  <cp:revision>72</cp:revision>
  <dc:subject/>
  <dc:title>Акариология – наука о клещах</dc:title>
</cp:coreProperties>
</file>