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9.png" ContentType="image/png"/>
  <Override PartName="/ppt/media/image1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png" ContentType="image/png"/>
  <Override PartName="/ppt/media/image4.png" ContentType="image/png"/>
  <Override PartName="/ppt/media/image13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FEF4F-7B25-4935-A41E-C0CC28452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7EA5C-B693-4312-B8A8-F861CA42A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745B1-9F5F-48C4-B1BC-14FC3E998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8896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6880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8896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6880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FBF46-2F2E-4767-9779-BF60B4A9F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40990-5AAB-4114-9F69-4D8E5D615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C924B-38DD-419B-BC18-A02BCB037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EE590-F102-48DD-994C-A1FB4DFBA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E89F7-D9AC-448E-9C24-35CF80C6C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D61EF-986A-4A70-8C91-EE895B870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7925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DEB66-FBD9-4325-9621-FD6251356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5E092-9FD3-46E0-8D5F-1CC56D533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700B4-3393-47AD-A58B-30DF695D7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98EED-F4EB-46B9-9C69-D00D31F8B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2E04C-6069-47A6-AB59-ED0607239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DC8DE-D182-4E6A-8C83-83D9462CE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52993-894A-49F0-A742-B5C80D09F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8896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6880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8896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6880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EED0E-99CF-4B44-A9B6-B5DB31B54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EF44CD-2EA2-4D52-8929-7C2AF008A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FCF105-EC5F-4737-8D9A-CDB725BA9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C8F405-AEEA-4E6C-A8A7-143F9D0AB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2F5968-AE8C-4E95-A041-480289AD5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9B4BA9-AA63-4C31-A093-89EA3A6DD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4291A-1F20-48EC-B8E0-68AFBC75B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7925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5B9F0C-20DE-43AB-AABC-3967B519C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A13A08-E8A6-47BC-B6C8-70E64126B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F477A6-C7A5-42FF-9566-D5F909BCE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D2965D-1312-4084-BA01-4E481389F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E9E44A-0F21-4634-A87C-A0C4CDBA4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65B918-64D2-4342-89BE-90B1B214F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8896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96880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8896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596880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26ADD3-A65E-489A-8156-28770F39C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76D34F-33B1-479A-808F-5271471E3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E5C8E2-69A2-4B64-BC68-0E3EC5F4A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9CB6E2-27B0-4B04-AEFE-6412B4AA1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E2850-DAF1-4A03-88DB-9991F56F5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00C68E-7B05-410A-95B1-442EA5B27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4A2B9D-ACD9-479A-9C4E-FC467AF6C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7925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F87FFD-26CD-4458-BA85-50BE879F0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504313-F41C-470D-B9A7-CE8183BA5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AF171A-5BC3-4E10-9899-178ED14E0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CF93CF-8C05-4182-A92F-D7DC40D03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F35C03-ECF7-4B58-8390-F06EFD7F4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F8A846-4FD6-41DD-BA75-B0F69E270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8896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96880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8896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96880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E72B92-485D-4EDF-8CE8-83D07D8FC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239FC-73A1-48AF-8B02-51B57DF1B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7925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1341D-1272-4907-B6B4-5ED91C3BB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4F77C-2D91-422A-862E-F232F7B87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28E16-D377-4574-9D92-5AE22B2AB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5D8AB-4E2B-4947-9188-4FC437C17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horizon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3" marL="16002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4" marL="20574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5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6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5714640" y="6356520"/>
            <a:ext cx="152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609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543800" y="6356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0EC90-C54B-4AAD-9779-8251945A7136}" type="slidenum"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6" descr="horizon.png"/>
          <p:cNvPicPr/>
          <p:nvPr/>
        </p:nvPicPr>
        <p:blipFill>
          <a:blip r:embed="rId2"/>
          <a:srcRect l="0" t="33333" r="0" b="0"/>
          <a:stretch/>
        </p:blipFill>
        <p:spPr>
          <a:xfrm>
            <a:off x="0" y="0"/>
            <a:ext cx="9144000" cy="4572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3" marL="16002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4" marL="20574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5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6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5714640" y="6356520"/>
            <a:ext cx="152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609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7543800" y="6356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C65F6-C58D-44FD-A5FA-7D8498026291}" type="slidenum"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3" marL="16002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4" marL="20574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5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6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5714640" y="6356520"/>
            <a:ext cx="152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609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7543800" y="6356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4801E-ECB0-4670-9058-1F79AD20F65B}" type="slidenum"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10" descr="horizon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3" marL="16002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4" marL="20574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5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6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5714640" y="6356520"/>
            <a:ext cx="152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609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7543800" y="6356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D1AC4-A8BD-4278-BAF1-7558ED88EFFD}" type="slidenum"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cultinfo.ru/fulltext/1/001/008/086/342.htm" TargetMode="Externa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antropogenez.ru/catalog/" TargetMode="External"/><Relationship Id="rId2" Type="http://schemas.openxmlformats.org/officeDocument/2006/relationships/hyperlink" Target="http://antropogenez.ru/catalog/" TargetMode="External"/><Relationship Id="rId3" Type="http://schemas.openxmlformats.org/officeDocument/2006/relationships/hyperlink" Target="http://antropogenez.ru/catalog/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154764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 Narrow"/>
              </a:rPr>
              <a:t>МБОУ «ФИЗИКО-МАТЕМАТИЧЕСКИЙ ЛИЦЕЙ»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 Narrow"/>
              </a:rPr>
              <a:t>СЕРГИЕВ ПОСАД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 Narrow"/>
              </a:rPr>
              <a:t>Учитель химии-биологии Перепелкин О.В.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684360" y="1412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Narrow"/>
              </a:rPr>
              <a:t>ОСНОВНЫЕ ЭТАПЫ АНТРОПОГЕНЕЗА</a:t>
            </a:r>
            <a:endParaRPr b="0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95280" y="2340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 Narrow"/>
              </a:rPr>
              <a:t>ЧЕЛОВЕК ПРЯМОХОДЯЩИЙ ( </a:t>
            </a: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HOMO ERECTUS </a:t>
            </a:r>
            <a:r>
              <a:rPr b="0" lang="ru-RU" sz="3000" spc="-1" strike="noStrike">
                <a:solidFill>
                  <a:srgbClr val="ffffff"/>
                </a:solidFill>
                <a:latin typeface="Arial Narrow"/>
              </a:rPr>
              <a:t>)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558000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АРХАНТРОП 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Эректус жил от 1,5 до 0,2 млн. лет назад.«Человекообразная обезьяна с острова Ява» была первым первобытным человеком,окаменевшие останки которого были найдены во второй половине XIX в. 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Эректусы обладали средним ростом (1,5—1,8 м), прямой походкой и архаическим строением черепа (толстые стенки, низкая лобная кость, выступающие надглазничные валики, скошенный подбородок). Объём мозга у некарликовых форм достигал 900—1200 см³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97" name="Picture 6" descr=""/>
          <p:cNvPicPr/>
          <p:nvPr/>
        </p:nvPicPr>
        <p:blipFill>
          <a:blip r:embed="rId1"/>
          <a:stretch/>
        </p:blipFill>
        <p:spPr>
          <a:xfrm>
            <a:off x="6021360" y="1828800"/>
            <a:ext cx="1330200" cy="4038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0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 Narrow"/>
              </a:rPr>
              <a:t>ЧЕЛОВЕК ПРЯМОХОДЯЩИЙ ( </a:t>
            </a: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HOMO ERECTUS</a:t>
            </a:r>
            <a:r>
              <a:rPr b="0" lang="ru-RU" sz="3000" spc="-1" strike="noStrike">
                <a:solidFill>
                  <a:srgbClr val="ffffff"/>
                </a:solidFill>
                <a:latin typeface="Arial Narrow"/>
              </a:rPr>
              <a:t> )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Эректусы активно изготовливали каменные орудия (ашёльская культура), использовали шкуры в качестве одежды, жили в пещерах, пользовались огнём и практиковали каннибализм.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Начали готовить пищу на огне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00" name="Объект 4" descr=""/>
          <p:cNvPicPr/>
          <p:nvPr/>
        </p:nvPicPr>
        <p:blipFill>
          <a:blip r:embed="rId1"/>
          <a:stretch/>
        </p:blipFill>
        <p:spPr>
          <a:xfrm>
            <a:off x="5022720" y="1828800"/>
            <a:ext cx="379584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39280" y="-1717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 Narrow"/>
              </a:rPr>
              <a:t>ЧЕЛОВЕК ПРЯМОХОДЯЩИЙ ( </a:t>
            </a: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HOMO ERECTUS</a:t>
            </a:r>
            <a:r>
              <a:rPr b="0" lang="ru-RU" sz="3000" spc="-1" strike="noStrike">
                <a:solidFill>
                  <a:srgbClr val="ffffff"/>
                </a:solidFill>
                <a:latin typeface="Arial Narrow"/>
              </a:rPr>
              <a:t> )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052640"/>
            <a:ext cx="400032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Narrow"/>
              </a:rPr>
              <a:t>Эректусы были сравнительно широко распространены по Старому Свету. За африканским подвидом закрепилось название Homo ergaster, хотя к африканским эректусам относят также атлантропа и родезийского человека. За европейским подвидом закрепилось название гейдельбергского человека, хотя существовали и «догейдельбергские» эректусы. В Восточной Азии обитали два подвида: более прогрессивные синантропы из Китая и более примитивные питекантропы из Индонезии.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03" name="Объект 4" descr=""/>
          <p:cNvPicPr/>
          <p:nvPr/>
        </p:nvPicPr>
        <p:blipFill>
          <a:blip r:embed="rId1"/>
          <a:stretch/>
        </p:blipFill>
        <p:spPr>
          <a:xfrm>
            <a:off x="4811760" y="1844640"/>
            <a:ext cx="4359240" cy="39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39280" y="115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 Narrow"/>
              </a:rPr>
              <a:t>НЕАНДЕРТАЛЬЦЫ 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Arial Narrow"/>
              </a:rPr>
              <a:t>( </a:t>
            </a:r>
            <a:r>
              <a:rPr b="0" lang="en-US" sz="4000" spc="-1" strike="noStrike">
                <a:solidFill>
                  <a:srgbClr val="ffffff"/>
                </a:solidFill>
                <a:latin typeface="Arial Narrow"/>
              </a:rPr>
              <a:t>HOMO NEANDERTHALENSIS</a:t>
            </a:r>
            <a:r>
              <a:rPr b="0" lang="ru-RU" sz="4000" spc="-1" strike="noStrike">
                <a:solidFill>
                  <a:srgbClr val="ffffff"/>
                </a:solidFill>
                <a:latin typeface="Arial Narrow"/>
              </a:rPr>
              <a:t> )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686480" y="1197000"/>
            <a:ext cx="445752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Narrow"/>
              </a:rPr>
              <a:t>Палеоантропы (от </a:t>
            </a:r>
            <a:r>
              <a:rPr b="0" i="1" lang="ru-RU" sz="3200" spc="-1" strike="noStrike" u="sng">
                <a:solidFill>
                  <a:srgbClr val="ffffff"/>
                </a:solidFill>
                <a:uFillTx/>
                <a:latin typeface="Arial Narrow"/>
              </a:rPr>
              <a:t>палео-древний</a:t>
            </a:r>
            <a:r>
              <a:rPr b="0" lang="ru-RU" sz="3200" spc="-1" strike="noStrike" u="sng">
                <a:solidFill>
                  <a:srgbClr val="646464"/>
                </a:solidFill>
                <a:uFillTx/>
                <a:latin typeface="Arial Narrow"/>
                <a:hlinkClick r:id="rId1"/>
              </a:rPr>
              <a:t>..</a:t>
            </a:r>
            <a:r>
              <a:rPr b="0" lang="ru-RU" sz="3200" spc="-1" strike="noStrike">
                <a:solidFill>
                  <a:srgbClr val="ffffff"/>
                </a:solidFill>
                <a:latin typeface="Arial Narrow"/>
              </a:rPr>
              <a:t> и греч. anthropos — человек), обобщённое (не систематическое) название ископаемых людей, обитавших в Азии, Африке и Европе 250—35 тыс. лет назад. 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06" name="Picture 5" descr="C:\Documents and Settings\Ghostdog\Рабочий стол\антропогенез\evolution-primitive-man.jpg"/>
          <p:cNvPicPr/>
          <p:nvPr/>
        </p:nvPicPr>
        <p:blipFill>
          <a:blip r:embed="rId2"/>
          <a:stretch/>
        </p:blipFill>
        <p:spPr>
          <a:xfrm>
            <a:off x="468360" y="1413000"/>
            <a:ext cx="4032360" cy="410364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0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39280" y="115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Narrow"/>
              </a:rPr>
              <a:t>НЕАНДЕРТАЛЬЦЫ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 Narrow"/>
              </a:rPr>
              <a:t>( 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HOMO NEANDERTHALENSIS</a:t>
            </a:r>
            <a:r>
              <a:rPr b="0" lang="ru-RU" sz="3200" spc="-1" strike="noStrike">
                <a:solidFill>
                  <a:srgbClr val="ffffff"/>
                </a:solidFill>
                <a:latin typeface="Arial Narrow"/>
              </a:rPr>
              <a:t> )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928760" y="1143000"/>
            <a:ext cx="400068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Неандертальцы обладали средним ростом (около 165 см), массивным телосложением и большой головой необычной формы. По объёму черепной коробки (1400—1740 см³) они даже превосходили современных людей. Их отличали мощные надбровные дуги, выступающий широкий нос и очень маленький подбородок.Голова наклонена вперёд.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09" name="Объект 6" descr=""/>
          <p:cNvPicPr/>
          <p:nvPr/>
        </p:nvPicPr>
        <p:blipFill>
          <a:blip r:embed="rId1"/>
          <a:stretch/>
        </p:blipFill>
        <p:spPr>
          <a:xfrm>
            <a:off x="250920" y="2205000"/>
            <a:ext cx="4752720" cy="35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Narrow"/>
              </a:rPr>
              <a:t>НЕАНДЕРТАЛЬЦЫ И КРОМАНЬОНЦЫ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11" name="Фильм 1.wmv" descr=""/>
          <p:cNvPicPr/>
          <p:nvPr/>
        </p:nvPicPr>
        <p:blipFill>
          <a:blip r:embed="rId1"/>
          <a:stretch/>
        </p:blipFill>
        <p:spPr>
          <a:xfrm>
            <a:off x="1619280" y="1773360"/>
            <a:ext cx="5832360" cy="4824360"/>
          </a:xfrm>
          <a:prstGeom prst="rect">
            <a:avLst/>
          </a:prstGeom>
          <a:ln w="0">
            <a:noFill/>
          </a:ln>
        </p:spPr>
      </p:pic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68648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restart="whenNotActive" nodeType="interactiveSeq" fill="hold">
                <p:stCondLst>
                  <p:cond evt="onClick">
                    <p:tgtEl>
                      <p:spTgt spid="211"/>
                    </p:tgtEl>
                  </p:cond>
                </p:stCondLst>
                <p:childTnLst>
                  <p:par>
                    <p:cTn id="131" nodeType="clickEffect" fill="hold">
                      <p:stCondLst>
                        <p:cond evt="onClick">
                          <p:tgtEl>
                            <p:spTgt spid="211"/>
                          </p:tgtEl>
                        </p:cond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34" dur="1" fill="hold"/>
                                        <p:tgtEl>
                                          <p:spTgt spid="2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 Narrow"/>
              </a:rPr>
              <a:t>КРОМАНЬОНЦЫ ( </a:t>
            </a: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HOMO SAPIENS )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0" y="1483920"/>
            <a:ext cx="48592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Narrow"/>
              </a:rPr>
              <a:t>Неоантропы (буквально — новые люди, от греч. néos — новый и ánthropos — человек), обобщенное название людей современного вида (Homo sapiens), ископаемых и ныне живущих Соответствуют ситематическому названию </a:t>
            </a:r>
            <a:r>
              <a:rPr b="0" i="1" lang="ru-RU" sz="3200" spc="-1" strike="noStrike">
                <a:solidFill>
                  <a:srgbClr val="ffffff"/>
                </a:solidFill>
                <a:latin typeface="Arial Narrow"/>
              </a:rPr>
              <a:t>Homo sapiens sapiens</a:t>
            </a:r>
            <a:r>
              <a:rPr b="0" lang="ru-RU" sz="3200" spc="-1" strike="noStrike">
                <a:solidFill>
                  <a:srgbClr val="ffffff"/>
                </a:solidFill>
                <a:latin typeface="Arial Narrow"/>
              </a:rPr>
              <a:t>, появились около 40 тысяч лет назад.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15" name="Picture 6" descr=""/>
          <p:cNvPicPr/>
          <p:nvPr/>
        </p:nvPicPr>
        <p:blipFill>
          <a:blip r:embed="rId1"/>
          <a:stretch/>
        </p:blipFill>
        <p:spPr>
          <a:xfrm>
            <a:off x="5148360" y="1484280"/>
            <a:ext cx="3600360" cy="45259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0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898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898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39280" y="2340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 Narrow"/>
              </a:rPr>
              <a:t>КРОМАНЬОНЦЫ ( </a:t>
            </a: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HOMO SAPIENS )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40006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Narrow"/>
              </a:rPr>
              <a:t>Объём головного мозга равен 1600—1800 см³ (больше, чем у среднего современного европейца). Рост около 180 см. и выше.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339480" indent="-339480">
              <a:spcBef>
                <a:spcPts val="499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Narrow"/>
              </a:rPr>
              <a:t>Название происходит от грота Кро-Маньон во Франции, где в 1868 году было обнаружено несколько скелетов людей вместе с орудиями позднего палеолита.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339480" indent="-339480">
              <a:spcBef>
                <a:spcPts val="499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Narrow"/>
              </a:rPr>
              <a:t>Жили общинами по 15—30 человек и впервые в истории создали поселения. Жилищем были пещеры, шатры из шкур, в Восточной Европе встречаются землянки.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18" name="Объект 4" descr=""/>
          <p:cNvPicPr/>
          <p:nvPr/>
        </p:nvPicPr>
        <p:blipFill>
          <a:blip r:embed="rId1"/>
          <a:stretch/>
        </p:blipFill>
        <p:spPr>
          <a:xfrm>
            <a:off x="4643280" y="1844640"/>
            <a:ext cx="448812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9280" y="18864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 Narrow"/>
              </a:rPr>
              <a:t>КРОМАНЬОНЦЫ (</a:t>
            </a:r>
            <a:r>
              <a:rPr b="0" lang="en-US" sz="4000" spc="-1" strike="noStrike">
                <a:solidFill>
                  <a:srgbClr val="ffffff"/>
                </a:solidFill>
                <a:latin typeface="Arial Narrow"/>
              </a:rPr>
              <a:t> HOMO SAPIENS )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68648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22" name="кроманьонцы.wmv" descr=""/>
          <p:cNvPicPr/>
          <p:nvPr/>
        </p:nvPicPr>
        <p:blipFill>
          <a:blip r:embed="rId1"/>
          <a:stretch/>
        </p:blipFill>
        <p:spPr>
          <a:xfrm>
            <a:off x="826920" y="1628640"/>
            <a:ext cx="777744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restart="whenNotActive" nodeType="interactiveSeq" fill="hold">
                <p:stCondLst>
                  <p:cond evt="onClick">
                    <p:tgtEl>
                      <p:spTgt spid="222"/>
                    </p:tgtEl>
                  </p:cond>
                </p:stCondLst>
                <p:childTnLst>
                  <p:par>
                    <p:cTn id="155" nodeType="clickEffect" fill="hold">
                      <p:stCondLst>
                        <p:cond evt="onClick">
                          <p:tgtEl>
                            <p:spTgt spid="222"/>
                          </p:tgtEl>
                        </p:cond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58" dur="1" fill="hold"/>
                                        <p:tgtEl>
                                          <p:spTgt spid="2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9280" y="115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СОВРЕМЕННЫЙ ВЗГЛЯД НА АНТРОПОГЕНЕЗ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В последние несколько десятилетий найдено огромное количество новых ископаемых гоминид. И ученым ещё предстоит разобраться в их родственных связях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25" name="Объект 4" descr=""/>
          <p:cNvPicPr/>
          <p:nvPr/>
        </p:nvPicPr>
        <p:blipFill>
          <a:blip r:embed="rId1"/>
          <a:stretch/>
        </p:blipFill>
        <p:spPr>
          <a:xfrm>
            <a:off x="5008680" y="981000"/>
            <a:ext cx="4105080" cy="558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4360" y="1155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ФИЛОГЕНЕТИЧЕСКИЙ РЯД ЧЕЛОВЕКА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-4680" y="1844640"/>
            <a:ext cx="35049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Антропогенез </a:t>
            </a:r>
            <a:r>
              <a:rPr b="0" lang="en-US" sz="2700" spc="-1" strike="noStrike">
                <a:solidFill>
                  <a:srgbClr val="ffffff"/>
                </a:solidFill>
                <a:latin typeface="Arial Narrow"/>
              </a:rPr>
              <a:t>- процесс эволюционного развития человека</a:t>
            </a:r>
            <a:endParaRPr b="0" lang="en-US" sz="27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71" name="Объект 2" descr=""/>
          <p:cNvPicPr/>
          <p:nvPr/>
        </p:nvPicPr>
        <p:blipFill>
          <a:blip r:embed="rId1"/>
          <a:stretch/>
        </p:blipFill>
        <p:spPr>
          <a:xfrm>
            <a:off x="3492360" y="1484280"/>
            <a:ext cx="5400720" cy="5257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9280" y="-3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Narrow"/>
              </a:rPr>
              <a:t>ВЫВОДЫ</a:t>
            </a:r>
            <a:endParaRPr b="0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33520" y="1000080"/>
            <a:ext cx="400032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c9e1f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В процессе антропогенеза увеличивался объем головного мозга.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c9e1f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Уменьшалась роль биологических факторов, увеличивалась роль социальных.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c9e1f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Развивались анатомо-морфологические особенности,связанные с прямохождением и трудовой деятельностью.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28" name="Объект 6" descr=""/>
          <p:cNvPicPr/>
          <p:nvPr/>
        </p:nvPicPr>
        <p:blipFill>
          <a:blip r:embed="rId1"/>
          <a:stretch/>
        </p:blipFill>
        <p:spPr>
          <a:xfrm>
            <a:off x="4716360" y="1413000"/>
            <a:ext cx="423072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5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" dur="50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" dur="500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ИСПОЛЬЗОВАЛИСЬ МАТЕРИАЛЫ САЙТОВ: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Arial Narrow"/>
              </a:rPr>
              <a:t>1.</a:t>
            </a: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en-US" sz="1700" spc="-1" strike="noStrike" u="sng">
                <a:solidFill>
                  <a:srgbClr val="646464"/>
                </a:solidFill>
                <a:uFillTx/>
                <a:latin typeface="Arial Narrow"/>
                <a:hlinkClick r:id="rId1"/>
              </a:rPr>
              <a:t>http://</a:t>
            </a:r>
            <a:r>
              <a:rPr b="0" lang="en-US" sz="1700" spc="-1" strike="noStrike" u="sng">
                <a:solidFill>
                  <a:srgbClr val="646464"/>
                </a:solidFill>
                <a:uFillTx/>
                <a:latin typeface="Arial Narrow"/>
                <a:hlinkClick r:id="rId2"/>
              </a:rPr>
              <a:t>antropogenez.ru</a:t>
            </a:r>
            <a:r>
              <a:rPr b="0" lang="en-US" sz="1700" spc="-1" strike="noStrike" u="sng">
                <a:solidFill>
                  <a:srgbClr val="646464"/>
                </a:solidFill>
                <a:uFillTx/>
                <a:latin typeface="Arial Narrow"/>
                <a:hlinkClick r:id="rId3"/>
              </a:rPr>
              <a:t>/catalog/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Arial Narrow"/>
              </a:rPr>
              <a:t>2.</a:t>
            </a: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http://ru.wikipedia.org/wiki/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Arial Narrow"/>
              </a:rPr>
              <a:t>3.</a:t>
            </a: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 http://www.evolbiol.ru/human.htm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68648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39280" y="2599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СТАДИИ  АНТРОПОГЕНЕЗА     (КЛАССИЧЕСКОЕ ПРЕДСТАВЛЕНИЕ)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73" name="Picture 6" descr=""/>
          <p:cNvPicPr/>
          <p:nvPr/>
        </p:nvPicPr>
        <p:blipFill>
          <a:blip r:embed="rId1"/>
          <a:stretch/>
        </p:blipFill>
        <p:spPr>
          <a:xfrm>
            <a:off x="0" y="1628640"/>
            <a:ext cx="4932360" cy="396108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148000" y="1600200"/>
            <a:ext cx="3671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8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 Narrow"/>
              </a:rPr>
              <a:t>Австралопитеки</a:t>
            </a:r>
            <a:endParaRPr b="0" lang="en-US" sz="33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8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 Narrow"/>
              </a:rPr>
              <a:t>Человек умелый</a:t>
            </a:r>
            <a:endParaRPr b="0" lang="en-US" sz="33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8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 Narrow"/>
              </a:rPr>
              <a:t>Архантропы (Человек прямоходящий)</a:t>
            </a:r>
            <a:endParaRPr b="0" lang="en-US" sz="33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8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 Narrow"/>
              </a:rPr>
              <a:t>Палеоантропы (Неандерталец)</a:t>
            </a:r>
            <a:endParaRPr b="0" lang="en-US" sz="33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8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 Narrow"/>
              </a:rPr>
              <a:t>Неоантропы (Кроманьонец)</a:t>
            </a:r>
            <a:endParaRPr b="0" lang="en-US" sz="33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825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9280" y="115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 Narrow"/>
              </a:rPr>
              <a:t>ДРИОПИТЕКИ (</a:t>
            </a:r>
            <a:r>
              <a:rPr b="0" lang="en-US" sz="4400" spc="-1" strike="noStrike">
                <a:solidFill>
                  <a:srgbClr val="ffffff"/>
                </a:solidFill>
                <a:latin typeface="Arial Narrow"/>
              </a:rPr>
              <a:t>DRYOPITHECUS</a:t>
            </a:r>
            <a:r>
              <a:rPr b="0" lang="ru-RU" sz="4400" spc="-1" strike="noStrike">
                <a:solidFill>
                  <a:srgbClr val="ffffff"/>
                </a:solidFill>
                <a:latin typeface="Arial Narrow"/>
              </a:rPr>
              <a:t>)</a:t>
            </a:r>
            <a:endParaRPr b="0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539280" y="1196640"/>
            <a:ext cx="40006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Narrow"/>
              </a:rPr>
              <a:t>Дриопите́к — род вымерших антропоморфных приматов, известный по ряду остатков, найденных в Восточной Африке и Евразии. Жил примерно 12 - 9 миллионов лет назад. Общий предок горилл, шимпанзе и людей. Представляли собой приматов,размером с  шимпанзе. В длину достигали 60 см и по способу передвижения напоминали современных орангутанов. масса тела - 20-35 кг.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788000" y="155736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78" name="Picture 2" descr="C:\Documents and Settings\Ghostdog\Рабочий стол\антропогенез\дриопитек\dryopithecus.jpg"/>
          <p:cNvPicPr/>
          <p:nvPr/>
        </p:nvPicPr>
        <p:blipFill>
          <a:blip r:embed="rId1"/>
          <a:stretch/>
        </p:blipFill>
        <p:spPr>
          <a:xfrm>
            <a:off x="4788000" y="1989000"/>
            <a:ext cx="417672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39280" y="-3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 Narrow"/>
              </a:rPr>
              <a:t>ДРИОПИТЕКИ (</a:t>
            </a: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DRYOPITHECUS</a:t>
            </a:r>
            <a:r>
              <a:rPr b="0" lang="ru-RU" sz="3600" spc="-1" strike="noStrike">
                <a:solidFill>
                  <a:srgbClr val="ffffff"/>
                </a:solidFill>
                <a:latin typeface="Arial Narrow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53352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Дриопитек обитал на деревьях и питался, вероятно, ягодами и фруктами, т.к. найденные коренные зубы покрыты очень тонким слоем эмали.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 Чтобы выжить, дриопитеки собирались в стаи по 25-30 животных в каждой.Объем мозга до 500 куб.см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68648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82" name="Picture 3" descr="C:\Documents and Settings\Ghostdog\Рабочий стол\антропогенез\дриопитек\dryopithecus_1.jpg"/>
          <p:cNvPicPr/>
          <p:nvPr/>
        </p:nvPicPr>
        <p:blipFill>
          <a:blip r:embed="rId1"/>
          <a:stretch/>
        </p:blipFill>
        <p:spPr>
          <a:xfrm>
            <a:off x="4859280" y="1628640"/>
            <a:ext cx="4148280" cy="47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9280" y="18864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 Narrow"/>
              </a:rPr>
              <a:t>АВСТРАЛОПИТЕКИ                       (</a:t>
            </a: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AUSTRALOPITHECUS AFARENSIS</a:t>
            </a:r>
            <a:r>
              <a:rPr b="0" lang="ru-RU" sz="3000" spc="-1" strike="noStrike">
                <a:solidFill>
                  <a:srgbClr val="ffffff"/>
                </a:solidFill>
                <a:latin typeface="Arial Narrow"/>
              </a:rPr>
              <a:t>)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0" y="1484280"/>
            <a:ext cx="453384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Narrow"/>
              </a:rPr>
              <a:t>(австралопитековые) (от лат. australis — южный и греч. pithekos — обезьяна), вымершие двуногие обезьяны. Австралопитеки жили примерно с 4 млн лет назад, до менее миллиона лет назад. Головной мозг до 530 см³.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85" name="Picture 6" descr=""/>
          <p:cNvPicPr/>
          <p:nvPr/>
        </p:nvPicPr>
        <p:blipFill>
          <a:blip r:embed="rId1"/>
          <a:stretch/>
        </p:blipFill>
        <p:spPr>
          <a:xfrm>
            <a:off x="5307120" y="1828800"/>
            <a:ext cx="2759040" cy="4038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39280" y="28440"/>
            <a:ext cx="40006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Narrow"/>
              </a:rPr>
              <a:t>Как австралопитеки перешли к прямохождению, пока не ясно. Среди рассматриваемых причин называют необходимость хватать объекты, такие как пищу и детенышей, передними лапами, и осматривать окрестности поверх высокой травы в поисках пищи или чтобы вовремя заметить опасность. 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88" name="Объект 6" descr=""/>
          <p:cNvPicPr/>
          <p:nvPr/>
        </p:nvPicPr>
        <p:blipFill>
          <a:blip r:embed="rId1"/>
          <a:stretch/>
        </p:blipFill>
        <p:spPr>
          <a:xfrm>
            <a:off x="5148360" y="836640"/>
            <a:ext cx="367164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 Narrow"/>
              </a:rPr>
              <a:t>ЧЕЛОВЕК УМЕЛЫЙ (</a:t>
            </a: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HOMO HABILIS</a:t>
            </a:r>
            <a:r>
              <a:rPr b="0" lang="ru-RU" sz="3000" spc="-1" strike="noStrike">
                <a:solidFill>
                  <a:srgbClr val="ffffff"/>
                </a:solidFill>
                <a:latin typeface="Arial Narrow"/>
              </a:rPr>
              <a:t>)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90" name="Picture 5" descr=""/>
          <p:cNvPicPr/>
          <p:nvPr/>
        </p:nvPicPr>
        <p:blipFill>
          <a:blip r:embed="rId1"/>
          <a:stretch/>
        </p:blipFill>
        <p:spPr>
          <a:xfrm>
            <a:off x="23760" y="1700280"/>
            <a:ext cx="4619520" cy="4265640"/>
          </a:xfrm>
          <a:prstGeom prst="rect">
            <a:avLst/>
          </a:prstGeom>
          <a:ln w="0">
            <a:noFill/>
          </a:ln>
        </p:spPr>
      </p:pic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686480" y="1557000"/>
            <a:ext cx="427824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Arial Narrow"/>
              </a:rPr>
              <a:t>(      </a:t>
            </a:r>
            <a:r>
              <a:rPr b="0" lang="ru-RU" sz="2800" spc="-1" strike="noStrike">
                <a:solidFill>
                  <a:srgbClr val="ffffff"/>
                </a:solidFill>
                <a:latin typeface="Arial Narrow"/>
              </a:rPr>
              <a:t>Homo habilis) древний тип человека способный к прямохождению, способен выполнять ряд трудовых операций.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 Narrow"/>
              </a:rPr>
              <a:t>Существовал 2,6—2,5 млн. лет назад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Narrow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Arial Narrow"/>
              </a:rPr>
              <a:t>Размер мозга Человека умелого — 650-1100 см³. Рост составлял 1,0—1,5 м, вес — около 30—50 кг.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0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5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0" dur="5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5" dur="500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0" dur="500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HOMO HABILIS (</a:t>
            </a:r>
            <a:r>
              <a:rPr b="0" lang="ru-RU" sz="3000" spc="-1" strike="noStrike">
                <a:solidFill>
                  <a:srgbClr val="ffffff"/>
                </a:solidFill>
                <a:latin typeface="Arial Narrow"/>
              </a:rPr>
              <a:t>ЧЕЛОВЕК УМЕЛЫЙ)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93" name="Объект 4" descr=""/>
          <p:cNvPicPr/>
          <p:nvPr/>
        </p:nvPicPr>
        <p:blipFill>
          <a:blip r:embed="rId1"/>
          <a:stretch/>
        </p:blipFill>
        <p:spPr>
          <a:xfrm>
            <a:off x="395280" y="1773360"/>
            <a:ext cx="3429000" cy="4572000"/>
          </a:xfrm>
          <a:prstGeom prst="rect">
            <a:avLst/>
          </a:prstGeom>
          <a:ln w="0">
            <a:noFill/>
          </a:ln>
        </p:spPr>
      </p:pic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716000" y="1412640"/>
            <a:ext cx="40006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 Narrow"/>
              </a:rPr>
              <a:t>Человек умелый — по-видимому, первое существо, сознательно изготовившее орудия труда и охоты: первые ещё грубо обработанные каменные гальки </a:t>
            </a:r>
            <a:endParaRPr b="0" lang="en-US" sz="2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400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 Narrow"/>
              </a:rPr>
              <a:t>Именно Человек умелый перешагнул невидимую границу, отделяющую род Homo от всех других биологических существ — он сделал первый шаг по пути подчинения себе окружающ</a:t>
            </a:r>
            <a:r>
              <a:rPr b="0" lang="ru-RU" sz="1600" spc="-1" strike="noStrike">
                <a:solidFill>
                  <a:srgbClr val="ffffff"/>
                </a:solidFill>
                <a:latin typeface="Arial Narrow"/>
              </a:rPr>
              <a:t>ей </a:t>
            </a: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природы.</a:t>
            </a:r>
            <a:r>
              <a:rPr b="0" lang="ru-RU" sz="16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3T17:43:04Z</dcterms:created>
  <dc:creator>Personal</dc:creator>
  <dc:description/>
  <dc:language>en-US</dc:language>
  <cp:lastModifiedBy>Василий</cp:lastModifiedBy>
  <dcterms:modified xsi:type="dcterms:W3CDTF">2012-11-16T16:22:40Z</dcterms:modified>
  <cp:revision>55</cp:revision>
  <dc:subject/>
  <dc:title>Антропогенез</dc:title>
</cp:coreProperties>
</file>