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DCC-AAA1-441C-B882-BB3E63F5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9280-55DF-49D4-9E8B-71D62E0A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680-45D0-4122-861E-B9C1E1FF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E2F-37A1-4A4B-B4CB-029510CE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AEA8-F2F0-42EF-801B-D1E773AA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F434-E83C-46E5-8945-CC20B282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089E-478F-42A0-A7FA-DB97E1DD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2A98-4780-49B0-913B-1DFD477E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CFF3-E12E-4E92-AFC1-3786C064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1DE6-2420-4598-8C19-CCAC7209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0773-F648-4270-A263-0F02240D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0FC-3233-4487-9F88-CC063636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B2D6-072C-4753-AF67-C6F71AF8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7BE7-1544-4BC8-BBC0-0150E8AD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C147-3907-4D19-A1BB-EA7B2731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56D0-6C29-4109-ADC8-C5BB3351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7DB6-9E49-443A-81B6-89DDD608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ED45C-9B82-4067-912B-4770F9C1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7A99B-4E6A-4C8C-A014-0A4ED607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1C2B9-695F-4BC1-9170-6E04CB9E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A1B43-965C-4CDD-9AA0-98783D15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75858-5CD9-4468-A90F-6F03B556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812-DAAC-49E1-B813-06C020F8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FA82-FDA7-4E7F-A565-F80D6642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9FBD5-60D4-4016-9170-594A9382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5DE8A-C148-44A1-B144-88B63A2B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A6188-F04F-4D46-86D0-024EC0DF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C501B-1A77-4C8A-83FE-1C7A3B55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0271F-6799-4EE6-B12C-92FD7D5B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97E70-E58F-4A58-BA38-0D4A2760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6556C-3AC5-42F0-B0DE-6BA80052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17B33-D0DD-46F2-9048-92DEF978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38A04-2D1E-47D1-A01E-1C580F2A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92B-EAF6-4AC7-9FE7-807F471A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C0720-8786-4EC5-8084-3DB7F61E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9F7C9-47CE-491B-B417-8495F458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5E81D-35FE-47CC-B751-ECB2E3F6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E7B73-3620-4133-B686-7135A206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9992E-5F5F-4863-A0AB-C4518F31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5296A-A445-4EB2-9E84-F8038C7D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7E20B-4B8B-4070-8425-15A6FC68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C9735-D14B-4B24-B810-45ABDB10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D5672-AF5C-4448-97EA-40291BCF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0E7C-9F5F-4C6B-9849-0CC4D829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DC7A-9A39-4029-B2CF-0FFA881E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AFFF-C0DD-417B-B242-604345EB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712-5085-4399-814D-A3637633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7D2C-29C5-480B-8820-E1F7ABB3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02DC-1D94-444C-B516-0BD883F6B626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3538-A9B5-404D-A8FA-A7FEBD82EFC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1CCA-0BEE-495D-9F76-A2297E362C1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9878-6349-4783-B2B9-578CC6D364E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ultinfo.ru/fulltext/1/001/008/086/342.htm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antropogenez.ru/catalog/" TargetMode="External"/><Relationship Id="rId2" Type="http://schemas.openxmlformats.org/officeDocument/2006/relationships/hyperlink" Target="http://antropogenez.ru/catalog/" TargetMode="External"/><Relationship Id="rId3" Type="http://schemas.openxmlformats.org/officeDocument/2006/relationships/hyperlink" Target="http://antropogenez.ru/catalog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547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МБОУ «ФИЗИКО-МАТЕМАТИЧЕСКИЙ ЛИЦЕЙ»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СЕРГИЕВ ПОСАД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Учитель химии-биологии Перепелкин О.В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ОСНОВНЫЕ ЭТАПЫ АНТРОПОГЕНЕЗА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234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 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580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АРХАНТРОП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 жил от 1,5 до 0,2 млн. лет назад.«Человекообразная обезьяна с острова Ява» была первым первобытным человеком,окаменевшие останки которого были найдены во второй половине XIX в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ы обладали средним ростом (1,5—1,8 м), прямой походкой и архаическим строением черепа (толстые стенки, низкая лобная кость, выступающие надглазничные валики, скошенный подбородок). Объём мозга у некарликовых форм достигал 900—1200 см³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6021360" y="1828800"/>
            <a:ext cx="133020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ы активно изготовливали каменные орудия (ашёльская культура), использовали шкуры в качестве одежды, жили в пещерах, пользовались огнём и практиковали каннибализм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ачали готовить пищу на огне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0" name="Объект 4" descr=""/>
          <p:cNvPicPr/>
          <p:nvPr/>
        </p:nvPicPr>
        <p:blipFill>
          <a:blip r:embed="rId1"/>
          <a:stretch/>
        </p:blipFill>
        <p:spPr>
          <a:xfrm>
            <a:off x="5022720" y="1828800"/>
            <a:ext cx="37958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-1717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003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Эректусы были сравнительно широко распространены по Старому Свету. За африканским подвидом закрепилось название Homo ergaster, хотя к африканским эректусам относят также атлантропа и родезийского человека. За европейским подвидом закрепилось название гейдельбергского человека, хотя существовали и «догейдельбергские» эректусы. В Восточной Азии обитали два подвида: более прогрессивные синантропы из Китая и более примитивные питекантропы из Индонези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3" name="Объект 4" descr=""/>
          <p:cNvPicPr/>
          <p:nvPr/>
        </p:nvPicPr>
        <p:blipFill>
          <a:blip r:embed="rId1"/>
          <a:stretch/>
        </p:blipFill>
        <p:spPr>
          <a:xfrm>
            <a:off x="4811760" y="1844640"/>
            <a:ext cx="4359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НЕАНДЕРТАЛЬЦ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HOMO NEANDERTHALENSIS</a:t>
            </a: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6480" y="1197000"/>
            <a:ext cx="4457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Палеоантропы (о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 Narrow"/>
              </a:rPr>
              <a:t>палео-древний</a:t>
            </a:r>
            <a:r>
              <a:rPr b="0" lang="ru-RU" sz="3200" spc="-1" strike="noStrike" u="sng">
                <a:solidFill>
                  <a:srgbClr val="646464"/>
                </a:solidFill>
                <a:uFillTx/>
                <a:latin typeface="Arial Narrow"/>
                <a:hlinkClick r:id="rId1"/>
              </a:rPr>
              <a:t>..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и греч. anthropos — человек), обобщённое (не систематическое) название ископаемых людей, обитавших в Азии, Африке и Европе 250—35 тыс. лет назад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6" name="Picture 5" descr="C:\Documents and Settings\Ghostdog\Рабочий стол\антропогенез\evolution-primitive-man.jpg"/>
          <p:cNvPicPr/>
          <p:nvPr/>
        </p:nvPicPr>
        <p:blipFill>
          <a:blip r:embed="rId2"/>
          <a:stretch/>
        </p:blipFill>
        <p:spPr>
          <a:xfrm>
            <a:off x="468360" y="1413000"/>
            <a:ext cx="4032360" cy="410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ЕАНДЕРТАЛЬЦ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OMO NEANDERTHALENSIS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28760" y="1143000"/>
            <a:ext cx="40006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еандертальцы обладали средним ростом (около 165 см), массивным телосложением и большой головой необычной формы. По объёму черепной коробки (1400—1740 см³) они даже превосходили современных людей. Их отличали мощные надбровные дуги, выступающий широкий нос и очень маленький подбородок.Голова наклонена вперёд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9" name="Объект 6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47527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НЕАНДЕРТАЛЬЦЫ И КРОМАНЬОНЦ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1" name="Фильм 1.wmv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832360" cy="4824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МАНЬОНЦЫ (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859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еоантропы (буквально — новые люди, от греч. néos — новый и ánthropos — человек), обобщенное название людей современного вида (Homo sapiens), ископаемых и ныне живущих Соответствуют ситематическому названию </a:t>
            </a: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Homo sapiens sapiens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, появились около 40 тысяч лет назад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6003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2340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МАНЬОНЦЫ (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40006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бъём головного мозга равен 1600—1800 см³ (больше, чем у среднего современного европейца). Рост около 180 см. и выше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Название происходит от грота Кро-Маньон во Франции, где в 1868 году было обнаружено несколько скелетов людей вместе с орудиями позднего палеолита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Жили общинами по 15—30 человек и впервые в истории создали поселения. Жилищем были пещеры, шатры из шкур, в Восточной Европе встречаются землянк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8" name="Объект 4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44881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РОМАНЬОНЦЫ (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2" name="кроманьонцы.wmv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7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8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СОВРЕМЕННЫЙ ВЗГЛЯД НА АНТРОПОГЕНЕЗ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В последние несколько десятилетий найдено огромное количество новых ископаемых гоминид. И ученым ещё предстоит разобраться в их родственных связях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Объект 4" descr=""/>
          <p:cNvPicPr/>
          <p:nvPr/>
        </p:nvPicPr>
        <p:blipFill>
          <a:blip r:embed="rId1"/>
          <a:stretch/>
        </p:blipFill>
        <p:spPr>
          <a:xfrm>
            <a:off x="5008680" y="981000"/>
            <a:ext cx="41050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ФИЛОГЕНЕТИЧЕСКИЙ РЯД ЧЕЛОВЕКА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4680" y="1844640"/>
            <a:ext cx="350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Антропогенез </a:t>
            </a:r>
            <a:r>
              <a:rPr b="0" lang="en-US" sz="2700" spc="-1" strike="noStrike">
                <a:solidFill>
                  <a:srgbClr val="ffffff"/>
                </a:solidFill>
                <a:latin typeface="Arial Narrow"/>
              </a:rPr>
              <a:t>- процесс эволюционного развития человека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1" name="Объект 2" descr=""/>
          <p:cNvPicPr/>
          <p:nvPr/>
        </p:nvPicPr>
        <p:blipFill>
          <a:blip r:embed="rId1"/>
          <a:stretch/>
        </p:blipFill>
        <p:spPr>
          <a:xfrm>
            <a:off x="3492360" y="1484280"/>
            <a:ext cx="540072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000080"/>
            <a:ext cx="4000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процессе антропогенеза увеличивался объем головного мозга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Уменьшалась роль биологических факторов, увеличивалась роль социальных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азвивались анатомо-морфологические особенности,связанные с прямохождением и трудовой деятельностью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8" name="Объект 6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423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ИСПОЛЬЗОВАЛИСЬ МАТЕРИАЛЫ САЙТОВ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1"/>
              </a:rPr>
              <a:t>http://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2"/>
              </a:rPr>
              <a:t>antropogenez.ru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3"/>
              </a:rPr>
              <a:t>/catalog/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http://ru.wikipedia.org/wiki/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http://www.evolbiol.ru/human.htm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СТАДИИ  АНТРОПОГЕНЕЗА     (КЛАССИЧЕСКОЕ ПРЕДСТАВЛЕНИЕ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0" y="1628640"/>
            <a:ext cx="4932360" cy="3961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67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Австралопитеки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Человек умелый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Архантропы (Человек прямоходящий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Палеоантропы (Неандерталец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Неоантропы (Кроманьонец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ДРИОПИТЕКИ (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DRYOPITHECUS</a:t>
            </a: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280" y="1196640"/>
            <a:ext cx="4000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Дриопите́к — род вымерших антропоморфных приматов, известный по ряду остатков, найденных в Восточной Африке и Евразии. Жил примерно 12 - 9 миллионов лет назад. Общий предок горилл, шимпанзе и людей. Представляли собой приматов,размером с  шимпанзе. В длину достигали 60 см и по способу передвижения напоминали современных орангутанов. масса тела - 20-35 кг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788000" y="155736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8" name="Picture 2" descr="C:\Documents and Settings\Ghostdog\Рабочий стол\антропогенез\дриопитек\dryopithecus.jpg"/>
          <p:cNvPicPr/>
          <p:nvPr/>
        </p:nvPicPr>
        <p:blipFill>
          <a:blip r:embed="rId1"/>
          <a:stretch/>
        </p:blipFill>
        <p:spPr>
          <a:xfrm>
            <a:off x="4788000" y="198900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ДРИОПИТЕКИ (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DRYOPITHECUS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риопитек обитал на деревьях и питался, вероятно, ягодами и фруктами, т.к. найденные коренные зубы покрыты очень тонким слоем эмал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Чтобы выжить, дриопитеки собирались в стаи по 25-30 животных в каждой.Объем мозга до 500 куб.см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2" name="Picture 3" descr="C:\Documents and Settings\Ghostdog\Рабочий стол\антропогенез\дриопитек\dryopithecus_1.jpg"/>
          <p:cNvPicPr/>
          <p:nvPr/>
        </p:nvPicPr>
        <p:blipFill>
          <a:blip r:embed="rId1"/>
          <a:stretch/>
        </p:blipFill>
        <p:spPr>
          <a:xfrm>
            <a:off x="4859280" y="1628640"/>
            <a:ext cx="41482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АВСТРАЛОПИТЕКИ                       (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USTRALOPITHECUS AFARENSI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5338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(австралопитековые) (от лат. australis — южный и греч. pithekos — обезьяна), вымершие двуногие обезьяны. Австралопитеки жили примерно с 4 млн лет назад, до менее миллиона лет назад. Головной мозг до 530 см³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5307120" y="1828800"/>
            <a:ext cx="275904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28440"/>
            <a:ext cx="40006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Как австралопитеки перешли к прямохождению, пока не ясно. Среди рассматриваемых причин называют необходимость хватать объекты, такие как пищу и детенышей, передними лапами, и осматривать окрестности поверх высокой травы в поисках пищи или чтобы вовремя заметить опасность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8" name="Объект 6" descr=""/>
          <p:cNvPicPr/>
          <p:nvPr/>
        </p:nvPicPr>
        <p:blipFill>
          <a:blip r:embed="rId1"/>
          <a:stretch/>
        </p:blipFill>
        <p:spPr>
          <a:xfrm>
            <a:off x="5148360" y="836640"/>
            <a:ext cx="3671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УМЕЛЫЙ (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HABILI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23760" y="1700280"/>
            <a:ext cx="4619520" cy="4265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6480" y="1557000"/>
            <a:ext cx="42782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(  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Homo habilis) древний тип человека способный к прямохождению, способен выполнять ряд трудовых операций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Существовал 2,6—2,5 млн. лет назад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Размер мозга Человека умелого — 650-1100 см³. Рост составлял 1,0—1,5 м, вес — около 30—50 кг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HABILIS (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УМЕЛЫЙ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3" name="Объект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716000" y="1412640"/>
            <a:ext cx="4000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Человек умелый — по-видимому, первое существо, сознательно изготовившее орудия труда и охоты: первые ещё грубо обработанные каменные гальки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Именно Человек умелый перешагнул невидимую границу, отделяющую род Homo от всех других биологических существ — он сделал первый шаг по пути подчинения себе окружающ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ей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ироды.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7:43:04Z</dcterms:created>
  <dc:creator>Personal</dc:creator>
  <dc:description/>
  <dc:language>en-US</dc:language>
  <cp:lastModifiedBy>Василий</cp:lastModifiedBy>
  <dcterms:modified xsi:type="dcterms:W3CDTF">2012-11-16T16:22:40Z</dcterms:modified>
  <cp:revision>55</cp:revision>
  <dc:subject/>
  <dc:title>Антропогенез</dc:title>
</cp:coreProperties>
</file>