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4755-F61B-4266-AAA8-63C1DF73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3E4B-9C1F-4662-AEF4-D796BCF5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858F-43E7-4060-9A93-849B519B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925-1278-4077-A467-CB286C40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CAD7-ADD6-4C8A-9155-218C0481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783E-55B2-41E6-B264-8279B3E4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9F08-C453-4A9B-AAF9-84E37121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2218-B585-4029-9FAD-9A4670B4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05B9-C141-4CDF-BDBE-C698BF5E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3A41-6AF2-4D9F-844E-E18882F1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C442-7E3A-4104-81F5-19078451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83DA-4200-4B6E-BDB0-F563FB0C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7121-F40E-4D3B-A0A9-0B997E68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EEEF-870D-47CB-942D-59F6FA5D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479F-57EC-4A07-B28D-95F11DEB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E19B-E393-496A-8868-ACE91BA5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62CE-5149-423C-BB4B-53FBAFCA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6ED3D-135C-4442-9370-E45264F8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AD7B1-6E30-4286-B96D-1B4D9B8D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18809-17F2-4BB2-BC91-AEBC7F3D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0E5DE-34D1-4B3C-8B26-96C72B15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BF31A-41A1-4F7F-87EF-3C5516CE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0155-67FE-435A-B57F-5A79E65A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466F5-1853-4B9C-B0EA-D48D195A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65029-60C7-4B7D-B17E-40AB689A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97530-8A28-489D-A82B-D2737C30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17C65-EB46-49B0-A310-58C1535C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5553A-3DA8-4BCF-8639-2B7DC6ED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B0819-74A9-4110-B388-53521F43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AC466-6026-4474-9EDB-69726DB4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3129D-D238-4851-B0A1-6B974889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CC98C-24EC-4377-9330-ACA17D12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7E7BC-AC09-4169-AF64-38594C3F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8090-E1BC-4D8F-B020-AF84692A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686B5-5ED8-450C-BA67-65DBA4CB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386E9-B475-4806-A3E2-272D68B7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8C028-C1CA-4A05-9F4D-BF5A25EA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E6EA8-ECEC-43A0-8A8C-240A875B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287E7-F444-473D-B7C4-E3E06FCB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4C43B-52FF-4C3C-A8B0-EB448F76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68FF2-5DFD-40B6-A7E2-C4206DBD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17BFA-D5A0-4B94-A578-E18F59DC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2EE1C-CF6A-4B76-A3A5-7F5CE569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2274-9D41-432D-9D5F-76409EF9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096B-51F6-4386-9AD2-E8FF3BF1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001D-BD85-4875-A70F-3DF6B9B7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469F-CC57-48F4-B4B7-C2596D4A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2348-4C08-4C94-B669-19EF43CE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7897-70B2-4B42-B26F-6727D9B70E41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6C1F-CED7-47C8-BDB8-E7FEA9A2CB26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89C0-85DC-434B-BCE3-314ABF0089E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77EF-1456-4056-9F1C-295B7F4A5752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ultinfo.ru/fulltext/1/001/008/086/342.htm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antropogenez.ru/catalog/" TargetMode="External"/><Relationship Id="rId2" Type="http://schemas.openxmlformats.org/officeDocument/2006/relationships/hyperlink" Target="http://antropogenez.ru/catalog/" TargetMode="External"/><Relationship Id="rId3" Type="http://schemas.openxmlformats.org/officeDocument/2006/relationships/hyperlink" Target="http://antropogenez.ru/catalog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547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МБОУ «ФИЗИКО-МАТЕМАТИЧЕСКИЙ ЛИЦЕЙ»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СЕРГИЕВ ПОСАД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Учитель химии-биологии Перепелкин О.В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ОСНОВНЫЕ ЭТАПЫ АНТРОПОГЕНЕЗА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234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 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580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АРХАНТРОП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 жил от 1,5 до 0,2 млн. лет назад.«Человекообразная обезьяна с острова Ява» была первым первобытным человеком,окаменевшие останки которого были найдены во второй половине XIX в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ы обладали средним ростом (1,5—1,8 м), прямой походкой и архаическим строением черепа (толстые стенки, низкая лобная кость, выступающие надглазничные валики, скошенный подбородок). Объём мозга у некарликовых форм достигал 900—1200 см³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6021360" y="1828800"/>
            <a:ext cx="133020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ы активно изготовливали каменные орудия (ашёльская культура), использовали шкуры в качестве одежды, жили в пещерах, пользовались огнём и практиковали каннибализм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Начали готовить пищу на огне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0" name="Объект 4" descr=""/>
          <p:cNvPicPr/>
          <p:nvPr/>
        </p:nvPicPr>
        <p:blipFill>
          <a:blip r:embed="rId1"/>
          <a:stretch/>
        </p:blipFill>
        <p:spPr>
          <a:xfrm>
            <a:off x="5022720" y="1828800"/>
            <a:ext cx="37958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-1717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003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Эректусы были сравнительно широко распространены по Старому Свету. За африканским подвидом закрепилось название Homo ergaster, хотя к африканским эректусам относят также атлантропа и родезийского человека. За европейским подвидом закрепилось название гейдельбергского человека, хотя существовали и «догейдельбергские» эректусы. В Восточной Азии обитали два подвида: более прогрессивные синантропы из Китая и более примитивные питекантропы из Индонезии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3" name="Объект 4" descr=""/>
          <p:cNvPicPr/>
          <p:nvPr/>
        </p:nvPicPr>
        <p:blipFill>
          <a:blip r:embed="rId1"/>
          <a:stretch/>
        </p:blipFill>
        <p:spPr>
          <a:xfrm>
            <a:off x="4811760" y="1844640"/>
            <a:ext cx="4359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НЕАНДЕРТАЛЬЦ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( 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HOMO NEANDERTHALENSIS</a:t>
            </a: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6480" y="1197000"/>
            <a:ext cx="4457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Палеоантропы (от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 Narrow"/>
              </a:rPr>
              <a:t>палео-древний</a:t>
            </a:r>
            <a:r>
              <a:rPr b="0" lang="ru-RU" sz="3200" spc="-1" strike="noStrike" u="sng">
                <a:solidFill>
                  <a:srgbClr val="646464"/>
                </a:solidFill>
                <a:uFillTx/>
                <a:latin typeface="Arial Narrow"/>
                <a:hlinkClick r:id="rId1"/>
              </a:rPr>
              <a:t>..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и греч. anthropos — человек), обобщённое (не систематическое) название ископаемых людей, обитавших в Азии, Африке и Европе 250—35 тыс. лет назад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6" name="Picture 5" descr="C:\Documents and Settings\Ghostdog\Рабочий стол\антропогенез\evolution-primitive-man.jpg"/>
          <p:cNvPicPr/>
          <p:nvPr/>
        </p:nvPicPr>
        <p:blipFill>
          <a:blip r:embed="rId2"/>
          <a:stretch/>
        </p:blipFill>
        <p:spPr>
          <a:xfrm>
            <a:off x="468360" y="1413000"/>
            <a:ext cx="4032360" cy="4103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ЕАНДЕРТАЛЬЦ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OMO NEANDERTHALENSIS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28760" y="1143000"/>
            <a:ext cx="40006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Неандертальцы обладали средним ростом (около 165 см), массивным телосложением и большой головой необычной формы. По объёму черепной коробки (1400—1740 см³) они даже превосходили современных людей. Их отличали мощные надбровные дуги, выступающий широкий нос и очень маленький подбородок.Голова наклонена вперёд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9" name="Объект 6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47527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НЕАНДЕРТАЛЬЦЫ И КРОМАНЬОНЦ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1" name="Фильм 1.wmv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832360" cy="4824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4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РОМАНЬОНЦЫ (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859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еоантропы (буквально — новые люди, от греч. néos — новый и ánthropos — человек), обобщенное название людей современного вида (Homo sapiens), ископаемых и ныне живущих Соответствуют ситематическому названию </a:t>
            </a: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Homo sapiens sapiens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, появились около 40 тысяч лет назад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360036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2340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РОМАНЬОНЦЫ (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40006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бъём головного мозга равен 1600—1800 см³ (больше, чем у среднего современного европейца). Рост около 180 см. и выше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Название происходит от грота Кро-Маньон во Франции, где в 1868 году было обнаружено несколько скелетов людей вместе с орудиями позднего палеолита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Жили общинами по 15—30 человек и впервые в истории создали поселения. Жилищем были пещеры, шатры из шкур, в Восточной Европе встречаются землянки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8" name="Объект 4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44881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КРОМАНЬОНЦЫ (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2" name="кроманьонцы.wmv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77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8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СОВРЕМЕННЫЙ ВЗГЛЯД НА АНТРОПОГЕНЕЗ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В последние несколько десятилетий найдено огромное количество новых ископаемых гоминид. И ученым ещё предстоит разобраться в их родственных связях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Объект 4" descr=""/>
          <p:cNvPicPr/>
          <p:nvPr/>
        </p:nvPicPr>
        <p:blipFill>
          <a:blip r:embed="rId1"/>
          <a:stretch/>
        </p:blipFill>
        <p:spPr>
          <a:xfrm>
            <a:off x="5008680" y="981000"/>
            <a:ext cx="41050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ФИЛОГЕНЕТИЧЕСКИЙ РЯД ЧЕЛОВЕКА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4680" y="1844640"/>
            <a:ext cx="350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Антропогенез </a:t>
            </a:r>
            <a:r>
              <a:rPr b="0" lang="en-US" sz="2700" spc="-1" strike="noStrike">
                <a:solidFill>
                  <a:srgbClr val="ffffff"/>
                </a:solidFill>
                <a:latin typeface="Arial Narrow"/>
              </a:rPr>
              <a:t>- процесс эволюционного развития человека</a:t>
            </a: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1" name="Объект 2" descr=""/>
          <p:cNvPicPr/>
          <p:nvPr/>
        </p:nvPicPr>
        <p:blipFill>
          <a:blip r:embed="rId1"/>
          <a:stretch/>
        </p:blipFill>
        <p:spPr>
          <a:xfrm>
            <a:off x="3492360" y="1484280"/>
            <a:ext cx="540072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000080"/>
            <a:ext cx="40003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процессе антропогенеза увеличивался объем головного мозга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Уменьшалась роль биологических факторов, увеличивалась роль социальных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азвивались анатомо-морфологические особенности,связанные с прямохождением и трудовой деятельностью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8" name="Объект 6" descr=""/>
          <p:cNvPicPr/>
          <p:nvPr/>
        </p:nvPicPr>
        <p:blipFill>
          <a:blip r:embed="rId1"/>
          <a:stretch/>
        </p:blipFill>
        <p:spPr>
          <a:xfrm>
            <a:off x="4716360" y="1413000"/>
            <a:ext cx="423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ИСПОЛЬЗОВАЛИСЬ МАТЕРИАЛЫ САЙТОВ: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1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1"/>
              </a:rPr>
              <a:t>http://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2"/>
              </a:rPr>
              <a:t>antropogenez.ru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3"/>
              </a:rPr>
              <a:t>/catalog/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2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http://ru.wikipedia.org/wiki/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3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http://www.evolbiol.ru/human.htm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СТАДИИ  АНТРОПОГЕНЕЗА     (КЛАССИЧЕСКОЕ ПРЕДСТАВЛЕНИЕ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0" y="1628640"/>
            <a:ext cx="4932360" cy="39610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8000" y="1600200"/>
            <a:ext cx="367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Австралопитеки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Человек умелый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Архантропы (Человек прямоходящий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Палеоантропы (Неандерталец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Неоантропы (Кроманьонец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ДРИОПИТЕКИ (</a:t>
            </a: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DRYOPITHECUS</a:t>
            </a: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9280" y="1196640"/>
            <a:ext cx="4000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Дриопите́к — род вымерших антропоморфных приматов, известный по ряду остатков, найденных в Восточной Африке и Евразии. Жил примерно 12 - 9 миллионов лет назад. Общий предок горилл, шимпанзе и людей. Представляли собой приматов,размером с  шимпанзе. В длину достигали 60 см и по способу передвижения напоминали современных орангутанов. масса тела - 20-35 кг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788000" y="155736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8" name="Picture 2" descr="C:\Documents and Settings\Ghostdog\Рабочий стол\антропогенез\дриопитек\dryopithecus.jpg"/>
          <p:cNvPicPr/>
          <p:nvPr/>
        </p:nvPicPr>
        <p:blipFill>
          <a:blip r:embed="rId1"/>
          <a:stretch/>
        </p:blipFill>
        <p:spPr>
          <a:xfrm>
            <a:off x="4788000" y="198900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ДРИОПИТЕКИ (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DRYOPITHECUS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Дриопитек обитал на деревьях и питался, вероятно, ягодами и фруктами, т.к. найденные коренные зубы покрыты очень тонким слоем эмал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Чтобы выжить, дриопитеки собирались в стаи по 25-30 животных в каждой.Объем мозга до 500 куб.см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2" name="Picture 3" descr="C:\Documents and Settings\Ghostdog\Рабочий стол\антропогенез\дриопитек\dryopithecus_1.jpg"/>
          <p:cNvPicPr/>
          <p:nvPr/>
        </p:nvPicPr>
        <p:blipFill>
          <a:blip r:embed="rId1"/>
          <a:stretch/>
        </p:blipFill>
        <p:spPr>
          <a:xfrm>
            <a:off x="4859280" y="1628640"/>
            <a:ext cx="41482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АВСТРАЛОПИТЕКИ                       (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AUSTRALOPITHECUS AFARENSI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5338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(австралопитековые) (от лат. australis — южный и греч. pithekos — обезьяна), вымершие двуногие обезьяны. Австралопитеки жили примерно с 4 млн лет назад, до менее миллиона лет назад. Головной мозг до 530 см³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5307120" y="1828800"/>
            <a:ext cx="275904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280" y="28440"/>
            <a:ext cx="40006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Как австралопитеки перешли к прямохождению, пока не ясно. Среди рассматриваемых причин называют необходимость хватать объекты, такие как пищу и детенышей, передними лапами, и осматривать окрестности поверх высокой травы в поисках пищи или чтобы вовремя заметить опасность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8" name="Объект 6" descr=""/>
          <p:cNvPicPr/>
          <p:nvPr/>
        </p:nvPicPr>
        <p:blipFill>
          <a:blip r:embed="rId1"/>
          <a:stretch/>
        </p:blipFill>
        <p:spPr>
          <a:xfrm>
            <a:off x="5148360" y="836640"/>
            <a:ext cx="3671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УМЕЛЫЙ (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HABILI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23760" y="1700280"/>
            <a:ext cx="4619520" cy="4265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6480" y="1557000"/>
            <a:ext cx="42782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(   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Homo habilis) древний тип человека способный к прямохождению, способен выполнять ряд трудовых операций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Существовал 2,6—2,5 млн. лет назад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Размер мозга Человека умелого — 650-1100 см³. Рост составлял 1,0—1,5 м, вес — около 30—50 кг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HABILIS (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УМЕЛЫЙ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3" name="Объект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716000" y="1412640"/>
            <a:ext cx="4000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Человек умелый — по-видимому, первое существо, сознательно изготовившее орудия труда и охоты: первые ещё грубо обработанные каменные гальки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Именно Человек умелый перешагнул невидимую границу, отделяющую род Homo от всех других биологических существ — он сделал первый шаг по пути подчинения себе окружающ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ей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ироды.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7:43:04Z</dcterms:created>
  <dc:creator>Personal</dc:creator>
  <dc:description/>
  <dc:language>en-US</dc:language>
  <cp:lastModifiedBy>Василий</cp:lastModifiedBy>
  <dcterms:modified xsi:type="dcterms:W3CDTF">2012-11-16T16:22:40Z</dcterms:modified>
  <cp:revision>55</cp:revision>
  <dc:subject/>
  <dc:title>Антропогенез</dc:title>
</cp:coreProperties>
</file>