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0BD-B4EA-4947-A028-BC86CA06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EC1-3C9D-454B-9BA3-324E2012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430-3830-406A-A636-E88D1A9C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BA4-D2D0-4D5F-8565-0CAC7CCA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16CB-AF5D-4D0E-838F-34135158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251F-C85F-4B2E-801A-D200AA2A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98A5-599F-4D1A-A06C-1E184ADF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F1DB-857D-4B5A-92A7-15531CFB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FD3A-6F4F-428C-85BA-401D8FCA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C630-880E-4731-A36E-BFBF4A71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C96C-1EA5-4226-99F0-926173C9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022-A2D9-4D77-8F65-2C289956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9F83-1875-4BC9-BDF9-054224DE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B55C-AE33-4F81-8060-38967C34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19C8-99FA-452B-BF89-FB8D1B85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BE84-5DD6-4483-A27E-03AF37A6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7D30-BB43-47C9-92CC-C5121621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40DE0-BFC7-409C-A11F-BB3E9249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FF6E-E79B-4371-92C3-C5E0BAA2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90433-847D-437C-8A2F-C00C9EE4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77A3-CB78-4671-B207-B9B12F35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27F2-CA6C-4D22-9D52-6491E7B0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A91-DC4A-4C8B-9A5F-AF1C8A88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108D3-D8AA-4E8D-B8F5-E2B62B7B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8950-80C6-43CB-A336-94E7D8EE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A5905-6A00-4F01-BCA1-3919E93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20AB-35A3-4847-8B63-84698B6C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BA98D-04CD-44C7-8E81-E9503182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75CC2-B229-4D0E-AAFB-A662D461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2524-87DC-47D6-9EAE-EE919F7C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071F8-7F03-4DDB-8CC4-23A56DA0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96BE4-B420-461D-98C4-64B0E746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D2D6A-FD3C-472F-8A9B-7333B234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CCC-EDA0-44CA-ACC3-A5FF9B7C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B59C9-A042-4087-8486-38D1F5EC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4E688-FA6F-4635-9481-3FCC1621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CA1AB-AABC-4AA1-B991-23CA4B3B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DFF75-7813-46E8-9484-955EF0DA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A1C1F-0E71-4A9E-BF72-9ADC87E2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99E6E-F47D-48D0-BC2C-7F10A9BD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6E90-1CEE-4C68-8184-A21FD997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B846A-4563-4DE3-B504-84097BE5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0A55A-29AB-443D-8CD7-0D9174A5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2D2-06E9-465B-8AF3-29C5EB06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3F0-B087-4928-B37C-7D0B0634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CB5-6440-4CDE-A2C8-3B17BB90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E99-0704-4A8A-A7B1-BE17E577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5E5-D874-4E06-BD1C-DBEEA730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13A5-39FA-4BBF-9FC6-F6E1ED3F92D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081D-989D-4822-9035-5F8EBBB6D63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9ED0-1606-4419-9989-9BCE04A63A6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9D8E-4C38-4CA6-AEEB-8865A0D7210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8/086/342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ntropogenez.ru/catalog/" TargetMode="External"/><Relationship Id="rId2" Type="http://schemas.openxmlformats.org/officeDocument/2006/relationships/hyperlink" Target="http://antropogenez.ru/catalog/" TargetMode="External"/><Relationship Id="rId3" Type="http://schemas.openxmlformats.org/officeDocument/2006/relationships/hyperlink" Target="http://antropogenez.ru/catalo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МБОУ «ФИЗИКО-МАТЕМАТИЧЕСКИЙ ЛИЦЕЙ»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СЕРГИЕВ ПОСАД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Учитель химии-биологии Перепелкин О.В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ОСНОВНЫЕ ЭТАПЫ АНТРОПОГЕНЕЗА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34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58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АРХАНТРОП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 жил от 1,5 до 0,2 млн. лет назад.«Человекообразная обезьяна с острова Ява» была первым первобытным человеком,окаменевшие останки которого были найдены во второй половине XIX в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обладали средним ростом (1,5—1,8 м), прямой походкой и архаическим строением черепа (толстые стенки, низкая лобная кость, выступающие надглазничные валики, скошенный подбородок). Объём мозга у некарликовых форм достигал 900—1200 см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021360" y="1828800"/>
            <a:ext cx="13302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активно изготовливали каменные орудия (ашёльская культура), использовали шкуры в качестве одежды, жили в пещерах, пользовались огнём и практиковали каннибализм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чали готовить пищу на огн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5022720" y="1828800"/>
            <a:ext cx="3795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-171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003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Эректусы были сравнительно широко распространены по Старому Свету. За африканским подвидом закрепилось название Homo ergaster, хотя к африканским эректусам относят также атлантропа и родезийского человека. За европейским подвидом закрепилось название гейдельбергского человека, хотя существовали и «догейдельбергские» эректусы. В Восточной Азии обитали два подвида: более прогрессивные синантропы из Китая и более примитивные питекантропы из Индонези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4811760" y="1844640"/>
            <a:ext cx="4359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6480" y="1197000"/>
            <a:ext cx="445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Палеоантропы (о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 Narrow"/>
              </a:rPr>
              <a:t>палео-древний</a:t>
            </a:r>
            <a:r>
              <a:rPr b="0" lang="ru-RU" sz="32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.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и греч. anthropos — человек), обобщённое (не систематическое) название ископаемых людей, обитавших в Азии, Африке и Европе 250—35 тыс. лет назад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5" descr="C:\Documents and Settings\Ghostdog\Рабочий стол\антропогенез\evolution-primitive-man.jpg"/>
          <p:cNvPicPr/>
          <p:nvPr/>
        </p:nvPicPr>
        <p:blipFill>
          <a:blip r:embed="rId2"/>
          <a:stretch/>
        </p:blipFill>
        <p:spPr>
          <a:xfrm>
            <a:off x="468360" y="1413000"/>
            <a:ext cx="403236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28760" y="1143000"/>
            <a:ext cx="40006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еандертальцы обладали средним ростом (около 165 см), массивным телосложением и большой головой необычной формы. По объёму черепной коробки (1400—1740 см³) они даже превосходили современных людей. Их отличали мощные надбровные дуги, выступающий широкий нос и очень маленький подбородок.Голова наклонена вперёд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Объект 6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752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НЕАНДЕРТАЛЬЦЫ И КРОМАНЬОНЦ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1" name="Фильм 1.wmv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832360" cy="4824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8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оантропы (буквально — новые люди, от греч. néos — новый и ánthropos — человек), обобщенное название людей современного вида (Homo sapiens), ископаемых и ныне живущих Соответствуют ситематическому названию 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Homo sapiens sapien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, появились около 40 тысяч лет назад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0006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бъём головного мозга равен 1600—1800 см³ (больше, чем у среднего современного европейца). Рост около 180 см. и выше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Название происходит от грота Кро-Маньон во Франции, где в 1868 году было обнаружено несколько скелетов людей вместе с орудиями позднего палеолита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Жили общинами по 15—30 человек и впервые в истории создали поселения. Жилищем были пещеры, шатры из шкур, в Восточной Европе встречаются землянк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8" name="Объект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488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РОМАНЬОНЦЫ (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2" name="кроманьонцы.wmv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СОВРЕМЕННЫЙ ВЗГЛЯД НА АНТРОПОГЕНЕЗ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В последние несколько десятилетий найдено огромное количество новых ископаемых гоминид. И ученым ещё предстоит разобраться в их родственных связях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5008680" y="981000"/>
            <a:ext cx="4105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ФИЛОГЕНЕТИЧЕСКИЙ РЯД ЧЕЛОВЕК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4680" y="184464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Антропогенез </a:t>
            </a: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- процесс эволюционного развития человека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Объект 2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5400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00008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роцессе антропогенеза увеличивался объем головного мозг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меньшалась роль биологических факторов, увеличивалась роль социальных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звивались анатомо-морфологические особенности,связанные с прямохождением и трудовой деятельность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8" name="Объект 6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23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ИСПОЛЬЗОВАЛИСЬ МАТЕРИАЛЫ САЙТОВ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2"/>
              </a:rPr>
              <a:t>antropogenez.ru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3"/>
              </a:rPr>
              <a:t>/catalog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http://ru.wikipedia.org/wiki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http://www.evolbiol.ru/human.htm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СТАДИИ  АНТРОПОГЕНЕЗА     (КЛАССИЧЕСКОЕ ПРЕДСТАВЛЕНИЕ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4932360" cy="3961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67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встралопитеки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Человек умелый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рхантропы (Человек прямоходящий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Палеоантропы (Неандертал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Неоантропы (Кроманьон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196640"/>
            <a:ext cx="4000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риопите́к — род вымерших антропоморфных приматов, известный по ряду остатков, найденных в Восточной Африке и Евразии. Жил примерно 12 - 9 миллионов лет назад. Общий предок горилл, шимпанзе и людей. Представляли собой приматов,размером с  шимпанзе. В длину достигали 60 см и по способу передвижения напоминали современных орангутанов. масса тела - 20-35 кг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Picture 2" descr="C:\Documents and Settings\Ghostdog\Рабочий стол\антропогенез\дриопитек\dryopithecus.jpg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риопитек обитал на деревьях и питался, вероятно, ягодами и фруктами, т.к. найденные коренные зубы покрыты очень тонким слоем эмал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Чтобы выжить, дриопитеки собирались в стаи по 25-30 животных в каждой.Объем мозга до 500 куб.см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3" descr="C:\Documents and Settings\Ghostdog\Рабочий стол\антропогенез\дриопитек\dryopithecus_1.jpg"/>
          <p:cNvPicPr/>
          <p:nvPr/>
        </p:nvPicPr>
        <p:blipFill>
          <a:blip r:embed="rId1"/>
          <a:stretch/>
        </p:blipFill>
        <p:spPr>
          <a:xfrm>
            <a:off x="4859280" y="1628640"/>
            <a:ext cx="41482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АВСТРАЛОПИТЕКИ                      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USTRALOPITHECUS AFARENS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5338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австралопитековые) (от лат. australis — южный и греч. pithekos — обезьяна), вымершие двуногие обезьяны. Австралопитеки жили примерно с 4 млн лет назад, до менее миллиона лет назад. Головной мозг до 530 см³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5307120" y="1828800"/>
            <a:ext cx="27590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28440"/>
            <a:ext cx="4000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ак австралопитеки перешли к прямохождению, пока не ясно. Среди рассматриваемых причин называют необходимость хватать объекты, такие как пищу и детенышей, передними лапами, и осматривать окрестности поверх высокой травы в поисках пищи или чтобы вовремя заметить опасность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Объект 6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67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3760" y="1700280"/>
            <a:ext cx="4619520" cy="4265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6480" y="1557000"/>
            <a:ext cx="4278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  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Homo habilis) древний тип человека способный к прямохождению, способен выполнять ряд трудовых операци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уществовал 2,6—2,5 млн. лет назад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змер мозга Человека умелого — 650-1100 см³. Рост составлял 1,0—1,5 м, вес — около 30—50 кг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 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000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Человек умелый — по-видимому, первое существо, сознательно изготовившее орудия труда и охоты: первые ещё грубо обработанные каменные гальки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Именно Человек умелый перешагнул невидимую границу, отделяющую род Homo от всех других биологических существ — он сделал первый шаг по пути подчинения себе окружающ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ей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роды.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04Z</dcterms:created>
  <dc:creator>Personal</dc:creator>
  <dc:description/>
  <dc:language>en-US</dc:language>
  <cp:lastModifiedBy>Василий</cp:lastModifiedBy>
  <dcterms:modified xsi:type="dcterms:W3CDTF">2012-11-16T16:22:40Z</dcterms:modified>
  <cp:revision>55</cp:revision>
  <dc:subject/>
  <dc:title>Антропогенез</dc:title>
</cp:coreProperties>
</file>